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5416-824B-4988-B213-28E0302634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 a  1hr 15 mins lecture, the following slides were o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reliable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lementation of FIFO multicast over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IS algorithm for totally ordered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one of these topics could have been included in the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rect in an asynchronous nsystem - no timing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fficient - each message is sent |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error in book Figure in 1st i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ict range of a multicast by setting the time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sons for doing this are: 1) for efficiency 2) to prevent sending to another group  elsewhere with the sam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rdering is also FIFO because the sender’s messages arrive in order at seque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not ca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may become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is a critical point of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can improve this by storing message at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 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+ 1 nodes before delivering, so as  to tolerate up to 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embers inform it as to the latest sequence number they have seen (piggybac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If a member stops multicasting, the sequencer will not know what they have received. To solve this problem, members send 'heartbeat messages'  containing sequnc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-multicasts a message to members of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processes propose numbers and return them to the se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uses proposed numbers to generate agreed nu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 has delivered from pj Vi[j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j has delivered Vj[k] need to wait until Vi[k]=&gt;Vj[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CO-deliver to self immediately after B-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means delivery to all loc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discuss reliability of 1-1 channels in a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bitrary failures - e.g. sending false messages such as untrue a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n belong to more than one group - but to simplify often restrict it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s, IP multicast does support both open and closed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k implosions - multicaster is sent acks by members and so many arrive that it may drop somne of them, so it retransmits and gets yet more 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0B5-99F2-45A4-9C3C-C48FAB67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26B-D766-4CF6-B850-48368134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8F6-7C10-41E5-9353-F013B511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A8A-4480-451C-BF68-A7D90672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4076-90BC-417D-9DF6-095D4888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808-6913-4B73-9892-6ABD37CD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461-F50F-4AB5-9775-46A2926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142-EB6A-443A-9555-1B9264F5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AC24-700A-4A67-8E90-C4297EF8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6C78-A8F6-4622-B358-264BF1A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3EAF-05D5-4F62-8B77-BCEE094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294-4B5F-4775-8C8B-6C438333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7A8-E8F8-4069-8E63-7B8948A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4DA-A244-4398-BA02-DA05995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50F-2CAB-47A5-9D20-5A0EDF5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450-0BB7-413D-950D-7DFD698D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313-E8F8-4C6A-8799-A13FDAB5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CA4-A90A-4A8C-9ABF-E4D9159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0FD-05B2-45F9-A37D-DBA83D80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9FF-6263-4219-A62C-06F376F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279-0E39-4F3A-B83C-4408EDD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74A-C0F0-4D3F-962D-8721FB7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960-48B1-4D50-9B87-0CF97C09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020-2637-4B92-825F-0B9E81AC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A96-E347-4084-8985-3E363FA99EB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1DF-279A-4C30-A2EF-5F75D0F016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6C8-EE78-471A-B885-77C2E4F34F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252900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1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    Multicast communica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this chapter covers other types of coordination and agreement such as mutual exclusion, elections and consensus. We will study only multicast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10000"/>
              </a:lnSpc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But we will study the two-phase commit protocol for transactions in Chapter 12, which is an example of consensus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We also omit the discussion of failure detectors which is relevant to replication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algorithm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326960"/>
            <a:ext cx="885960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can belong to several closed group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5240" y="2286000"/>
            <a:ext cx="7605720" cy="4176720"/>
            <a:chOff x="1065240" y="2286000"/>
            <a:chExt cx="7605720" cy="4176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065240" y="2286000"/>
              <a:ext cx="760572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2560" y="2478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90520" y="3427560"/>
            <a:ext cx="5400720" cy="2276280"/>
            <a:chOff x="3890520" y="3427560"/>
            <a:chExt cx="5400720" cy="2276280"/>
          </a:xfrm>
        </p:grpSpPr>
        <p:sp>
          <p:nvSpPr>
            <p:cNvPr id="144" name=""/>
            <p:cNvSpPr/>
            <p:nvPr/>
          </p:nvSpPr>
          <p:spPr>
            <a:xfrm>
              <a:off x="5104080" y="4416480"/>
              <a:ext cx="41871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itives R-multicast and R-del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90520" y="3427560"/>
              <a:ext cx="1754280" cy="987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911400" y="4797360"/>
              <a:ext cx="1833480" cy="906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94080" y="1351080"/>
            <a:ext cx="6732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-multicast a message, a process  B-multicasts it to processes in the group including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11000" y="2828880"/>
            <a:ext cx="6841080" cy="1206720"/>
            <a:chOff x="2511000" y="2828880"/>
            <a:chExt cx="6841080" cy="1206720"/>
          </a:xfrm>
        </p:grpSpPr>
        <p:sp>
          <p:nvSpPr>
            <p:cNvPr id="149" name=""/>
            <p:cNvSpPr/>
            <p:nvPr/>
          </p:nvSpPr>
          <p:spPr>
            <a:xfrm>
              <a:off x="2619360" y="2828880"/>
              <a:ext cx="6732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messag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 B-delivere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he recipi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 to the group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. Duplicates are detect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511000" y="3584520"/>
              <a:ext cx="1101960" cy="45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57200" y="493560"/>
            <a:ext cx="7807320" cy="39888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- a correct process will B-deliver to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480960"/>
            <a:ext cx="7926480" cy="70380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ity - because the reliable 1-1 channels used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guarantee integ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040" y="185760"/>
            <a:ext cx="8836200" cy="100872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- every correct pro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essage to the others. 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-deli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this is because it didn’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deli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ecause no others did ei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156360"/>
            <a:ext cx="716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you say about the  performance of this algorith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6157800"/>
            <a:ext cx="711684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is algorithm correct in an asynchronous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6600" y="5851440"/>
            <a:ext cx="711684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le multicast can be implemented efficiently over IP multicast  by holding back messages until every member can receive them. We skip t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over IP multicast (page 440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4360" y="1171440"/>
            <a:ext cx="8639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assumes groups are closed.  It use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ed acknowledgement messag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egative acknowledgements when messages are mis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message sequence number for each group it belongs to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quence number of latest message receiv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essag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 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and +ve acks for messages received in the form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multicasts the message 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increments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960" y="4567320"/>
            <a:ext cx="86140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process on receipt by of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-deliver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essage 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crement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iscard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 1 or 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for enclosed ack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n it has missed messages and requests them with negative acknowledg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uts new message in hold-back queue for later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640" y="2413080"/>
            <a:ext cx="83232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hold back queue is not necessary for reliability as in the implementation using IP muilticast, but it simplifies the protocol, allowing sequence numbers to represent sets of messages. Hold-back queues are also used for ordering protocol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4520" y="3198960"/>
            <a:ext cx="5813280" cy="3303360"/>
            <a:chOff x="344520" y="3198960"/>
            <a:chExt cx="5813280" cy="33033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324080" y="3198960"/>
              <a:ext cx="483372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44520" y="51246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properties of reliable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plicate messages detected and rejected.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P multicast uses checksums to reject corrup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e to IP multicast in which sender delivers to itself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processes can detect missing messages. They must keep copies of messages they have delivered so that they can re-transmit them to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discarding of copies of messages that are no longer needed 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en piggybacked acknowledgements arrive, note which processes have received messages. When all processes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have the message, discard it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blem of a process that stops sending - use ‘heartbeat’ message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has been implemented in a practical way in Psynch and Trans (refs. on p442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3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basic multicast algorithm delivers messages to processes in an arbitrary order. A variety of orderings may be implemented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IFO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issu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nd the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then ever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aus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wher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the happened-before relation between messages in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ot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delivers messag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i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other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 is expensive in delivery latency and bandwidth consump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040" y="4786200"/>
            <a:ext cx="3056040" cy="1163880"/>
          </a:xfrm>
          <a:prstGeom prst="rect">
            <a:avLst/>
          </a:prstGeom>
          <a:solidFill>
            <a:srgbClr val="ffb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definitions do not imply reliability, but we can defin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tomic multica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- reliable and totally order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9880" y="1347840"/>
            <a:ext cx="5302440" cy="5056560"/>
            <a:chOff x="3809880" y="1347840"/>
            <a:chExt cx="5302440" cy="50565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809880" y="1347840"/>
              <a:ext cx="530244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454440" y="60055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7960" y="1378080"/>
            <a:ext cx="3032280" cy="162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opposite to real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der can be arbit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need not be FIFO or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00" y="3090960"/>
            <a:ext cx="2827440" cy="614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8480" y="3879720"/>
            <a:ext cx="2737080" cy="89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14840" y="2647800"/>
            <a:ext cx="5315040" cy="1067400"/>
          </a:xfrm>
          <a:prstGeom prst="rect">
            <a:avLst/>
          </a:prstGeom>
          <a:solidFill>
            <a:srgbClr val="ff7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ed multicast delivery is expensive in bandwidth and latency. Therefore the less expensive orderings (e.g. FIFO or causal) are chosen for applications for which they are sui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play from a bulletin board progra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576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6040" y="31352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576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6040" y="542592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42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344240"/>
            <a:ext cx="885960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sers run bulletin board applications which multicast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multicast group per topic (e.g.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s.interesting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quire reliable multicast - so that all members receive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43160" y="3309840"/>
            <a:ext cx="6815160" cy="3127320"/>
            <a:chOff x="2243160" y="3309840"/>
            <a:chExt cx="6815160" cy="3127320"/>
          </a:xfrm>
        </p:grpSpPr>
        <p:grpSp>
          <p:nvGrpSpPr>
            <p:cNvPr id="194" name=""/>
            <p:cNvGrpSpPr/>
            <p:nvPr/>
          </p:nvGrpSpPr>
          <p:grpSpPr>
            <a:xfrm>
              <a:off x="2243160" y="3309840"/>
              <a:ext cx="6815160" cy="3127320"/>
              <a:chOff x="2243160" y="3309840"/>
              <a:chExt cx="6815160" cy="3127320"/>
            </a:xfrm>
          </p:grpSpPr>
          <p:sp>
            <p:nvSpPr>
              <p:cNvPr id="195" name=""/>
              <p:cNvSpPr/>
              <p:nvPr/>
            </p:nvSpPr>
            <p:spPr>
              <a:xfrm>
                <a:off x="4335120" y="34196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ulletin board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15280" y="3398760"/>
                <a:ext cx="119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 </a:t>
                </a: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os.interestin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43160" y="3309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63680" y="3309840"/>
                <a:ext cx="6575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58160" y="3309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3160" y="3328920"/>
                <a:ext cx="144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58160" y="3328920"/>
                <a:ext cx="180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09760" y="3865680"/>
                <a:ext cx="37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05720" y="38559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36000" y="3855960"/>
                <a:ext cx="61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bje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43160" y="36687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3680" y="36687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0720" y="36687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7192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92800" y="36687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85816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316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164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7192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5816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7600" y="431496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9720" y="431496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01080" y="4314960"/>
                <a:ext cx="46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3884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9896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4316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63680" y="41259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164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60720" y="41259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7192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2800" y="41259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5816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3160" y="414648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1640" y="414648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1920" y="414648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58160" y="414648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07600" y="46926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69720" y="4692600"/>
                <a:ext cx="752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.Josep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02880" y="4692600"/>
                <a:ext cx="1082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3160" y="452448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1640" y="452448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71920" y="452448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858160" y="452448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7600" y="5072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69720" y="50720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03240" y="5072040"/>
                <a:ext cx="1415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: 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43160" y="490392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41640" y="490392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71920" y="490392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58160" y="490392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07600" y="5450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160" y="5450040"/>
                <a:ext cx="1064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.L’Heure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02880" y="5450040"/>
                <a:ext cx="1459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PC perform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43160" y="528156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1640" y="528156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1920" y="528156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858160" y="528156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07600" y="582948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71880" y="5829480"/>
                <a:ext cx="828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.Wal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1440" y="5829480"/>
                <a:ext cx="794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: 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43160" y="5661000"/>
                <a:ext cx="144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41640" y="566100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71920" y="566100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58160" y="5661000"/>
                <a:ext cx="180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72680" y="618156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43160" y="603900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43160" y="6416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63680" y="6416640"/>
                <a:ext cx="757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1640" y="603900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1640" y="6416640"/>
                <a:ext cx="1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6416640"/>
                <a:ext cx="22906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71920" y="603900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71920" y="6416640"/>
                <a:ext cx="18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92800" y="6416640"/>
                <a:ext cx="34462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58160" y="603900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858160" y="6416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878680" y="6416640"/>
                <a:ext cx="179640" cy="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053120" y="58453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0" y="3205080"/>
            <a:ext cx="2278080" cy="1313640"/>
            <a:chOff x="0" y="3205080"/>
            <a:chExt cx="2278080" cy="1313640"/>
          </a:xfrm>
        </p:grpSpPr>
        <p:sp>
          <p:nvSpPr>
            <p:cNvPr id="274" name=""/>
            <p:cNvSpPr/>
            <p:nvPr/>
          </p:nvSpPr>
          <p:spPr>
            <a:xfrm>
              <a:off x="0" y="3205080"/>
              <a:ext cx="1752480" cy="1313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total (makes the numbers the same at all si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3951360"/>
              <a:ext cx="585720" cy="482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51120" y="4493880"/>
            <a:ext cx="3027600" cy="2115360"/>
            <a:chOff x="2751120" y="4493880"/>
            <a:chExt cx="3027600" cy="2115360"/>
          </a:xfrm>
        </p:grpSpPr>
        <p:sp>
          <p:nvSpPr>
            <p:cNvPr id="277" name=""/>
            <p:cNvSpPr/>
            <p:nvPr/>
          </p:nvSpPr>
          <p:spPr>
            <a:xfrm>
              <a:off x="2751120" y="6210360"/>
              <a:ext cx="30276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FIFO (gives sender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092480" y="4493880"/>
              <a:ext cx="1168560" cy="1733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071600" y="517968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32200" y="3765600"/>
            <a:ext cx="3208320" cy="1414440"/>
            <a:chOff x="6532200" y="3765600"/>
            <a:chExt cx="3208320" cy="1414440"/>
          </a:xfrm>
        </p:grpSpPr>
        <p:sp>
          <p:nvSpPr>
            <p:cNvPr id="281" name=""/>
            <p:cNvSpPr/>
            <p:nvPr/>
          </p:nvSpPr>
          <p:spPr>
            <a:xfrm>
              <a:off x="7056000" y="3765600"/>
              <a:ext cx="268452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causal (makes replies come after original mes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32200" y="4616280"/>
              <a:ext cx="543960" cy="18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5840" y="4716360"/>
              <a:ext cx="644400" cy="46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FIFO ordering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38564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discuss FIFO ordered multicast with operations </a:t>
            </a:r>
            <a:br>
              <a:rPr sz="2400"/>
            </a:b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non-overlapping groups. It can be implemented on top of any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p hold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count of messages sent by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e sequence number of the latest message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delivered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the message,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 and incr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receipt of a message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sequence numb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hecks whether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. If so, 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 the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 places message in hold-back queue until intervening messages have been delivered. (note tha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oes eventually deliver messages unless the sender crash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tot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general approach is to attach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otally ordered identifier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o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receiving process makes ordering decisions based on the identifier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milar to the FIFO algorithm, but processes keep group specific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perations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deliv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present two approaches to implementing total ordered multicast over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using a sequencer (only for non-overlapping group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 processes in a group collectively agree on a sequence number for each messag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774720" y="1359000"/>
            <a:ext cx="5678640" cy="5146920"/>
            <a:chOff x="774720" y="1359000"/>
            <a:chExt cx="5678640" cy="5146920"/>
          </a:xfrm>
        </p:grpSpPr>
        <p:grpSp>
          <p:nvGrpSpPr>
            <p:cNvPr id="292" name=""/>
            <p:cNvGrpSpPr/>
            <p:nvPr/>
          </p:nvGrpSpPr>
          <p:grpSpPr>
            <a:xfrm>
              <a:off x="774720" y="1359000"/>
              <a:ext cx="5678640" cy="5146920"/>
              <a:chOff x="774720" y="1359000"/>
              <a:chExt cx="5678640" cy="514692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4720" y="1359000"/>
                <a:ext cx="5678640" cy="50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2849400" y="6107040"/>
                <a:ext cx="161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170000" y="229716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0160" y="404172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446640" y="1386000"/>
            <a:ext cx="6139800" cy="850680"/>
            <a:chOff x="3446640" y="1386000"/>
            <a:chExt cx="6139800" cy="850680"/>
          </a:xfrm>
        </p:grpSpPr>
        <p:sp>
          <p:nvSpPr>
            <p:cNvPr id="299" name=""/>
            <p:cNvSpPr/>
            <p:nvPr/>
          </p:nvSpPr>
          <p:spPr>
            <a:xfrm>
              <a:off x="3446640" y="1386000"/>
              <a:ext cx="6139800" cy="58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process wishing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-multicas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ttaches a unique id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d(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 and sends it to the sequencer and th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777920" y="1935000"/>
              <a:ext cx="2440440" cy="301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431880" y="5098680"/>
            <a:ext cx="6412320" cy="991440"/>
            <a:chOff x="3431880" y="5098680"/>
            <a:chExt cx="6412320" cy="991440"/>
          </a:xfrm>
        </p:grpSpPr>
        <p:sp>
          <p:nvSpPr>
            <p:cNvPr id="302" name=""/>
            <p:cNvSpPr/>
            <p:nvPr/>
          </p:nvSpPr>
          <p:spPr>
            <a:xfrm>
              <a:off x="4324320" y="5122800"/>
              <a:ext cx="5519880" cy="96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 keeps sequence number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or group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hen i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he message it multicasts an ‘order’ message to members of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increment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431880" y="5098680"/>
              <a:ext cx="865080" cy="36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394160" y="2276640"/>
            <a:ext cx="5016600" cy="657000"/>
            <a:chOff x="4394160" y="2276640"/>
            <a:chExt cx="5016600" cy="657000"/>
          </a:xfrm>
        </p:grpSpPr>
        <p:sp>
          <p:nvSpPr>
            <p:cNvPr id="305" name=""/>
            <p:cNvSpPr/>
            <p:nvPr/>
          </p:nvSpPr>
          <p:spPr>
            <a:xfrm>
              <a:off x="6253200" y="2276640"/>
              <a:ext cx="3157560" cy="657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processes: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&gt; in hold-back que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94160" y="2600280"/>
              <a:ext cx="1774800" cy="262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13480" y="3447720"/>
            <a:ext cx="3849480" cy="1468080"/>
            <a:chOff x="5613480" y="3447720"/>
            <a:chExt cx="3849480" cy="1468080"/>
          </a:xfrm>
        </p:grpSpPr>
        <p:sp>
          <p:nvSpPr>
            <p:cNvPr id="308" name=""/>
            <p:cNvSpPr/>
            <p:nvPr/>
          </p:nvSpPr>
          <p:spPr>
            <a:xfrm>
              <a:off x="5613480" y="3705120"/>
              <a:ext cx="3849480" cy="121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rder message, g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rom orde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ait till &lt;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&gt; in queue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= 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O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s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129000" y="3447720"/>
              <a:ext cx="1630440" cy="28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sion of IP multicast (section 4.5.1 page15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P multicast – an implementation of group commun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uilt on top of IP (note IP packets are addressed to computers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llows the sender to transmit a single IP packet to a set of computers that form a multicast group (a class D internet address with first 4 bits 1110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ynamic membership of groups. Can send to a group  with or without joining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multicast, send a UDP datagram with a multicast addres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join, make a socket join a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(s.join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Fig 4.17) enabling it to receive messages to the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rout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Local messages use local multicast capability. Routers make it efficient by choosing other routers on the way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ailure model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ome but not all members may receive a message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e.g. a recipient may drop message, or a multicast router may fail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packets may not arrive in sender order, group members can  receive messages in different ord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4560" y="484200"/>
            <a:ext cx="8059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strict a multicast to the local area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4680" y="595440"/>
            <a:ext cx="791676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wo reasons for restricting the scope of a multicas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sequencer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7920" y="1406160"/>
            <a:ext cx="8859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ce sequence numbers are defined by a sequencer, we have total ordering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ike B-multicast, if the sender does not crash, all members receive the messag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200" y="4408560"/>
            <a:ext cx="8458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Kaashoek’s protocol uses hardware-based mult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nder transmits one message to sequencer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quencer multicasts the sequence number and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ut IP multicast is not as reliable as B-multicast so the sequencer stores messages in its history buffer for retransmission on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embers notice messages are missing by inspecting sequenc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080" y="3192480"/>
            <a:ext cx="6940800" cy="106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Arial"/>
              </a:rPr>
              <a:t>What are the potential problems with using a single sequencer?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3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8720" y="536400"/>
            <a:ext cx="90428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the sequencer do about its history buffer becoming fu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000" y="614520"/>
            <a:ext cx="905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piggyback on their messages the latest sequence number they have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200" y="581040"/>
            <a:ext cx="9142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some member stops multicas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5200" y="555480"/>
            <a:ext cx="90568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that do not multicast send heartbeat messages (with a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4000" y="1366920"/>
            <a:ext cx="8859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s protocol is for open or closed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95440" y="1184040"/>
            <a:ext cx="7042680" cy="6665400"/>
            <a:chOff x="2395440" y="1184040"/>
            <a:chExt cx="7042680" cy="6665400"/>
          </a:xfrm>
        </p:grpSpPr>
        <p:grpSp>
          <p:nvGrpSpPr>
            <p:cNvPr id="324" name=""/>
            <p:cNvGrpSpPr/>
            <p:nvPr/>
          </p:nvGrpSpPr>
          <p:grpSpPr>
            <a:xfrm>
              <a:off x="2395440" y="1184040"/>
              <a:ext cx="7003080" cy="6665400"/>
              <a:chOff x="2395440" y="1184040"/>
              <a:chExt cx="7003080" cy="6665400"/>
            </a:xfrm>
          </p:grpSpPr>
          <p:sp>
            <p:nvSpPr>
              <p:cNvPr id="325" name=""/>
              <p:cNvSpPr/>
              <p:nvPr/>
            </p:nvSpPr>
            <p:spPr>
              <a:xfrm>
                <a:off x="5757840" y="3751200"/>
                <a:ext cx="620640" cy="6476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29440" y="2719800"/>
                <a:ext cx="65016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2" y="11628"/>
                    </a:moveTo>
                    <a:arcTo wR="10800" hR="10800" stAng="10536107" swAng="2371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2" y="11628"/>
                    </a:moveTo>
                    <a:arcTo wR="10800" hR="10800" stAng="10536107" swAng="237166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54480" y="2895480"/>
                <a:ext cx="3215160" cy="24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6"/>
                    </a:moveTo>
                    <a:arcTo wR="10800" hR="10800" stAng="-10795487" swAng="63486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6"/>
                    </a:moveTo>
                    <a:arcTo wR="10800" hR="10800" stAng="-10795487" swAng="6348687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53040" y="3663000"/>
                <a:ext cx="61884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74" y="3859"/>
                    </a:moveTo>
                    <a:arcTo wR="10800" hR="10800" stAng="-2399649" swAng="23996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74" y="3859"/>
                    </a:moveTo>
                    <a:arcTo wR="10800" hR="10800" stAng="-2399649" swAng="239964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65600" y="3278520"/>
                <a:ext cx="61956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2413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2413352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35280" y="3130560"/>
                <a:ext cx="3095640" cy="115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78" y="14116"/>
                    </a:moveTo>
                    <a:arcTo wR="10800" hR="10800" stAng="1072705" swAng="6555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78" y="14116"/>
                    </a:moveTo>
                    <a:arcTo wR="10800" hR="10800" stAng="1072705" swAng="6555716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5280" y="203976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29040" y="2040480"/>
                <a:ext cx="621720" cy="65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24" y="7976"/>
                    </a:moveTo>
                    <a:arcTo wR="10800" hR="10800" stAng="-909614" swAng="24040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24" y="7976"/>
                    </a:moveTo>
                    <a:arcTo wR="10800" hR="10800" stAng="-909614" swAng="240404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95440" y="2363400"/>
                <a:ext cx="3688920" cy="345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90" y="103"/>
                    </a:moveTo>
                    <a:arcTo wR="10800" hR="10800" stAng="-4924215" swAng="4924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90" y="103"/>
                    </a:moveTo>
                    <a:arcTo wR="10800" hR="10800" stAng="-4924215" swAng="492421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4200" y="2334960"/>
                <a:ext cx="621000" cy="6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200" y="20153"/>
                    </a:moveTo>
                    <a:arcTo wR="10800" hR="10800" stAng="3599920" swAng="23852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200" y="20153"/>
                    </a:moveTo>
                    <a:arcTo wR="10800" hR="10800" stAng="3599920" swAng="238522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0360" y="1184040"/>
                <a:ext cx="4245840" cy="292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21600"/>
                    </a:moveTo>
                    <a:arcTo wR="10800" hR="10800" stAng="5402570" swAng="47964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21600"/>
                    </a:moveTo>
                    <a:arcTo wR="10800" hR="10800" stAng="5402570" swAng="4796452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3360" y="3485880"/>
                <a:ext cx="648360" cy="64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0" y="7249"/>
                    </a:moveTo>
                    <a:arcTo wR="10800" hR="10800" stAng="-9648403" swAng="23868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0" y="7249"/>
                    </a:moveTo>
                    <a:arcTo wR="10800" hR="10800" stAng="-9648403" swAng="2386863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58920" y="2363760"/>
                <a:ext cx="1563840" cy="1239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70000" y="227628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76640" y="5903640"/>
                <a:ext cx="64908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2760" y="4076280"/>
                <a:ext cx="619200" cy="64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52" y="21068"/>
                    </a:moveTo>
                    <a:arcTo wR="10800" hR="10800" stAng="6483440" swAng="2412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52" y="21068"/>
                    </a:moveTo>
                    <a:arcTo wR="10800" hR="10800" stAng="6483440" swAng="2412701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72200" y="5933880"/>
                <a:ext cx="650160" cy="64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48" y="5392"/>
                    </a:moveTo>
                    <a:arcTo wR="10800" hR="10800" stAng="-1803110" swAng="24030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48" y="5392"/>
                    </a:moveTo>
                    <a:arcTo wR="10800" hR="10800" stAng="-1803110" swAng="240305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81400" y="1891440"/>
                <a:ext cx="2831400" cy="436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48063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4806389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19400" y="5638680"/>
                <a:ext cx="64692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07" y="367"/>
                    </a:moveTo>
                    <a:arcTo wR="10800" hR="10800" stAng="-6299126" swAng="23797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07" y="367"/>
                    </a:moveTo>
                    <a:arcTo wR="10800" hR="10800" stAng="-6299126" swAng="237973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44840" y="4074840"/>
                <a:ext cx="3418920" cy="37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1" y="9482"/>
                    </a:moveTo>
                    <a:arcTo wR="10800" hR="10800" stAng="-10379538" swAng="49763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1" y="9482"/>
                    </a:moveTo>
                    <a:arcTo wR="10800" hR="10800" stAng="-10379538" swAng="497634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994360" y="401616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40120" y="3171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41960" y="4222440"/>
                <a:ext cx="649080" cy="79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29040" y="6227640"/>
                <a:ext cx="353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5720" y="3130200"/>
                <a:ext cx="1476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25720" y="3130200"/>
                <a:ext cx="177840" cy="2955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38280" y="355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03600" y="4590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09880" y="3144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91040" y="50036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44920" y="2836800"/>
                <a:ext cx="88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44920" y="2836800"/>
                <a:ext cx="119160" cy="1760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2080" y="2589120"/>
                <a:ext cx="1180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 Messag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470800">
                <a:off x="6571440" y="3285720"/>
                <a:ext cx="1635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 Proposed Se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8640" y="3898800"/>
                <a:ext cx="354240" cy="29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38640" y="3898800"/>
                <a:ext cx="382680" cy="3236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61880" y="22888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18840" y="2398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74800" y="61545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31760" y="626256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63760" y="5062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21080" y="51703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133920" y="3144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291240" y="3252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38640" y="4133520"/>
                <a:ext cx="23508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38640" y="4133520"/>
                <a:ext cx="265320" cy="1191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94400" y="292392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430520" y="4606920"/>
                <a:ext cx="1209600" cy="159192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13160" y="6140160"/>
                <a:ext cx="176040" cy="1764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612840" y="3219120"/>
                <a:ext cx="1917720" cy="649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530920" y="3160440"/>
                <a:ext cx="147600" cy="17784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7440" y="3219120"/>
                <a:ext cx="32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64920" y="4325760"/>
                <a:ext cx="1474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3 Agreed Seq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26000" y="5416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32240" y="28209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27840" y="59659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41200" y="2846520"/>
            <a:ext cx="33069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the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1  B-multica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message to members 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360" y="5095800"/>
            <a:ext cx="366876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sender uses the proposed numbers to generate an  agreed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8200" y="3807000"/>
            <a:ext cx="37767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the  receiving processes propose numbers and return them to the 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IS total ordering - agreement of sequence numb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keep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largest agreed sequence number it has seen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s own largest proposed sequence numb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wher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unique identifier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plies to the send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a proposal for the message’s agreed sequence number of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, 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 + 1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ssigns the proposed sequence number to the message and places it in its hold-back queu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ollects all the proposed sequence numbers and selects the largest as the next agreed sequence number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Recipients 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) , attac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the message and re-order hold-back queu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ordering in ISIS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ld-back queu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rdered with the message with the smallest sequence number at the front of the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agreed number is added to a message, the queue is re-ordere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message at the front has an agreed id, it is transferred to the delivery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ven if agreed, those not at the front of the queue are not transferr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very process agrees on the same order and delivers messages in that order, therefore we have total ordering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tency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3 messages are sent in sequence, therefore it has a higher latency than sequencer metho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s ordering may not be causal or FIFO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47880" y="1406520"/>
            <a:ext cx="48578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of total ordering on page 4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We present an algorithm of Birman 1991 for causally ordered multicast in non-overlapping, closed groups. It uses th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happened before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relation (on multicast messages only)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at is, ordering imposed by one-to-one messages is not taken into accou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t uses vector timestamps - that count the number of multicast messages from each process that happened before the next message to be multicas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93760" y="1798560"/>
            <a:ext cx="7799400" cy="4728240"/>
            <a:chOff x="293760" y="1798560"/>
            <a:chExt cx="7799400" cy="4728240"/>
          </a:xfrm>
        </p:grpSpPr>
        <p:grpSp>
          <p:nvGrpSpPr>
            <p:cNvPr id="397" name=""/>
            <p:cNvGrpSpPr/>
            <p:nvPr/>
          </p:nvGrpSpPr>
          <p:grpSpPr>
            <a:xfrm>
              <a:off x="293760" y="1798560"/>
              <a:ext cx="7799400" cy="4728240"/>
              <a:chOff x="293760" y="1798560"/>
              <a:chExt cx="7799400" cy="4728240"/>
            </a:xfrm>
          </p:grpSpPr>
          <p:pic>
            <p:nvPicPr>
              <p:cNvPr id="3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760" y="1798560"/>
                <a:ext cx="7799400" cy="42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3552840" y="5823000"/>
                <a:ext cx="160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826920" y="3405240"/>
              <a:ext cx="1349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6360" y="5634000"/>
              <a:ext cx="1349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2520" y="1116000"/>
            <a:ext cx="2901600" cy="1484280"/>
            <a:chOff x="452520" y="1116000"/>
            <a:chExt cx="2901600" cy="1484280"/>
          </a:xfrm>
        </p:grpSpPr>
        <p:sp>
          <p:nvSpPr>
            <p:cNvPr id="403" name=""/>
            <p:cNvSpPr/>
            <p:nvPr/>
          </p:nvSpPr>
          <p:spPr>
            <a:xfrm>
              <a:off x="452520" y="1116000"/>
              <a:ext cx="29016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process has its own vector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20360" y="1673280"/>
              <a:ext cx="222480" cy="927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709800" y="1287360"/>
            <a:ext cx="5921640" cy="2017800"/>
            <a:chOff x="3709800" y="1287360"/>
            <a:chExt cx="5921640" cy="2017800"/>
          </a:xfrm>
        </p:grpSpPr>
        <p:sp>
          <p:nvSpPr>
            <p:cNvPr id="406" name=""/>
            <p:cNvSpPr/>
            <p:nvPr/>
          </p:nvSpPr>
          <p:spPr>
            <a:xfrm>
              <a:off x="4178160" y="1287360"/>
              <a:ext cx="54532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CO-multicas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a process adds 1 to its entry in the vector timestamp and </a:t>
              </a:r>
              <a:br>
                <a:rPr sz="2000"/>
              </a:b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and the vector timest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709800" y="221616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106440" y="2535120"/>
            <a:ext cx="6462720" cy="1919520"/>
            <a:chOff x="3106440" y="2535120"/>
            <a:chExt cx="6462720" cy="1919520"/>
          </a:xfrm>
        </p:grpSpPr>
        <p:sp>
          <p:nvSpPr>
            <p:cNvPr id="409" name=""/>
            <p:cNvSpPr/>
            <p:nvPr/>
          </p:nvSpPr>
          <p:spPr>
            <a:xfrm>
              <a:off x="4252680" y="2535120"/>
              <a:ext cx="53164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proces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it places it in a hold-back queue until messages earlier in the causal ordering have been delivered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106440" y="3506760"/>
              <a:ext cx="1128600" cy="947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770280" y="3755880"/>
            <a:ext cx="5886360" cy="1524240"/>
            <a:chOff x="3770280" y="3755880"/>
            <a:chExt cx="5886360" cy="1524240"/>
          </a:xfrm>
        </p:grpSpPr>
        <p:sp>
          <p:nvSpPr>
            <p:cNvPr id="412" name=""/>
            <p:cNvSpPr/>
            <p:nvPr/>
          </p:nvSpPr>
          <p:spPr>
            <a:xfrm>
              <a:off x="3770280" y="3755880"/>
              <a:ext cx="5886360" cy="1137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) earlier messages from same sender have been deliver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any messages that the sender had delivered when it sent the multicast message  have been deliv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60800" y="4836960"/>
              <a:ext cx="825480" cy="44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90560" y="5764320"/>
            <a:ext cx="6066360" cy="721800"/>
            <a:chOff x="3490560" y="5764320"/>
            <a:chExt cx="6066360" cy="721800"/>
          </a:xfrm>
        </p:grpSpPr>
        <p:sp>
          <p:nvSpPr>
            <p:cNvPr id="415" name=""/>
            <p:cNvSpPr/>
            <p:nvPr/>
          </p:nvSpPr>
          <p:spPr>
            <a:xfrm>
              <a:off x="5648400" y="5843520"/>
              <a:ext cx="3908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n it CO-delivers the message and updates its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490560" y="5764320"/>
              <a:ext cx="2217960" cy="34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0" y="6114960"/>
            <a:ext cx="56037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a process can immediate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-del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tself its own messages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4000" y="138708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fter delivering a message from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, process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updates its vector timestamp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y adding 1 to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of its timestamp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compare the vector clock rule where </a:t>
            </a:r>
            <a:br>
              <a:rPr sz="2800"/>
            </a:b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,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) for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=1, 2, ...N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this algorithm we know that only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will increas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for an outline of the proof see page 44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us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instead of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then the protocol is reliable as well as causally ordered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combine it with the sequencer algorithm we get total and causal ordering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 on multicast protoco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have protocols for overlapping groups because applications do need to subscribe to several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efinitions of ‘global FIFO ordering’ etc on page 450 and some references to papers on th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ulticast in synchronous and asynchronous system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ll of our algorithms do work in both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eliable and totally ordered multicast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an be implemented in a synchronous system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is impossible in an asynchronous system (reasons discussed in consensus section - paper by Fischer et al.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communication can specify requirements for reliability and ordering, in terms of integrity, validity and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rrect process will eventually deliver a message provided the multicaster does not crash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liable 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 which the correct processes agree on the set of messages to be delivered;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showed two  implementations: over B-multicast and IP multica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, total  and causal delivery ordering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 ordering by means of senders’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tal ordering by means of a sequencer or  by agreement of sequence numbers between processes in a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usal ordering by means of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old-back queue is a useful component in implementing multicast protoco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roduction to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ulticast communication requires coordination and agreement. The aim is for members of a group to receive copies of messages sent to the group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any different delivery guarantees are possib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.g. agree on the set of messages received or on 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process can multicast by the use of a single operation instead of a send to each membe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or example in IP multicas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Socket.send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Messag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ingle operation allows for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fficienc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.e. send once on each link, using hardware multicast when available, e.g. multicast from a computer in London to two in Beij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elivery guarante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e.g. can’t make a guarantee if multicast is implemented as multiple sends and the sender fails. Can also do order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84200"/>
            <a:ext cx="7932960" cy="42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any projects - Amoeba, Isis, Transis, Horus (refs p4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498600"/>
            <a:ext cx="825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hat is meant by[the ter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road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ystem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775720" cy="5095800"/>
          </a:xfrm>
          <a:prstGeom prst="rect">
            <a:avLst/>
          </a:prstGeom>
          <a:solidFill>
            <a:srgbClr val="94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system consists of a collection of processes which can communicat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reliabl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ver 1-1 channe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fail only by crashing (no arbitrary failur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are members of groups - which are the destinations of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 general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n belong to more than one grou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peration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sends message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to all members of process group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deliver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is called to get a multicast message delivered. It is different from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s it may be delayed to allow for ordering or reliabilit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ulticast messag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rries the id of the sending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and the id of the destination group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assume there is no falsification of the origin and destination of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osed group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nly members can send to group, a member delivers to itself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coordination of groups of cooperating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notification of events to groups of interested process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20800" y="3597120"/>
            <a:ext cx="6728040" cy="2754360"/>
            <a:chOff x="1720800" y="3597120"/>
            <a:chExt cx="6728040" cy="2754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20800" y="3597120"/>
              <a:ext cx="60055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980400" y="580860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240" y="500040"/>
            <a:ext cx="71589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IP multicast support open and closed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of one-to-one communication(Ch.2 page 57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3446280"/>
          </a:xfrm>
          <a:prstGeom prst="rect">
            <a:avLst/>
          </a:prstGeom>
          <a:solidFill>
            <a:srgbClr val="91c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term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reliable 1-1 communicatio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is defined in terms of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y message in the outgoing message buffer is eventually delivered to the incoming message buffer;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message received is identical to one sent, and no messages are delivered twice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72880"/>
            <a:ext cx="912492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valid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920" y="5718240"/>
            <a:ext cx="5955120" cy="90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integ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by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use checksums, reject duplicates (e.g. due to retrie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allowing for malicious users, use security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880"/>
            <a:ext cx="8902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integr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" y="5099040"/>
            <a:ext cx="5164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validity -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by use of acknowledgements and r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1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2520" y="1424160"/>
            <a:ext cx="8859600" cy="36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correct process will eventually deliver the message provided the </a:t>
            </a: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multicaster does not crash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ote that IP multicast does not give this guarante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imitives are calle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straightforward but ineffective method of implement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use a reliable  1-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i.e. with integrity and validity as abov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: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each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deliv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blem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the number of processes is large, the protocol will suffer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ck-implos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160" y="460440"/>
            <a:ext cx="36860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ack-implo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3320" y="5070600"/>
            <a:ext cx="81471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actical implementation of Basic Multicast may be achieved over IP multicast (on next slide, but no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basic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 sequence number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for each group it belongs to an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, the sequence number of the latest message it has deliver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a message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t piggybacks 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p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message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m,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using IP multicast to send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piggybacked sequence numbers allow recipients to learn about messages they have not receiv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receive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, S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) at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S =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B-deliver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nd increment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l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reject the message because it has been delivered befor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g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note that a message is missing, request missing message from sender. (will use a hold-back queue to be discussed later 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f the sender crashes, then a message may be delivered to some members of the group but not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2 Reliable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336320"/>
            <a:ext cx="885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otocol is correct even if the multicaster crash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satisfies criteria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, 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provides operation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orrect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t most once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as supplied to a  multicast operation b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multicas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hen all correct processes i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560" y="5194440"/>
            <a:ext cx="4755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grity as for 1-1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840" y="5710320"/>
            <a:ext cx="7785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alidity -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implify by choosing sender as the o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3720" y="6215040"/>
            <a:ext cx="8908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greement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l or nothing - atomicity, even if multicaster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5:13Z</dcterms:modified>
  <cp:revision>231</cp:revision>
  <dc:subject/>
  <dc:title>Figure 15.1 A distributed multimedia system</dc:title>
</cp:coreProperties>
</file>