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B0A9-D7E0-4FE0-8991-6809944E75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vision lecture took 1 hour 15 minutes to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ntion that uniqueness is formed from first 3 fil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 brings in the text at the 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son structure (type used in arguments in the 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Java RMI it would have been defined as a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 CORBA may be used by non object-oriented languages e.g. C that don’t have cla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face PersonList specifies methods available for 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in and out on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attribute - really like another method, can get the value from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ind them of request-reply protocol - single request message and reply message. Maybe execu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transmit requests until we get a reply - at least o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replies for re-transmission - at-most-o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imation - First just shows the figure 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bring in descriptions of communication and remote reference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ext on RMI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proxy, skeleton and 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D6C8-E927-4CBA-82BC-B4A13348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0555-9FEF-4A6A-917E-4197E8A8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2060-CE66-41AB-BE28-98FFFBD8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5D77-0883-4011-81E7-CB6A8936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240D-FBA1-4B2F-8A9C-12333AA0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262E-BF8E-45F4-9816-29173447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D478-6A54-4E13-98D7-7147670F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047B-3A2B-4D2A-8BA1-9DD57D75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A7DF-0035-4372-A227-67BCFA29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39200" y="228600"/>
            <a:ext cx="8888760" cy="34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D25B-EC12-4858-95F7-7FA89C63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3C33-5D44-41E2-B7C4-E24FAD44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DBB4-314E-4EDF-91A3-D0068222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BE52-4431-4F10-AD82-4D70604F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A66D-50D6-422F-B828-DB77973D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7F71-8B2F-45D2-846F-581A10D3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357F-AD03-4ACE-8C2A-418125D3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890C-F616-40FC-A4D3-573972C5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8B56-2C45-43C0-B643-9F570714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9BDB-5374-4DBC-803E-3C3049DA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715-0300-4E49-93CE-07D0E52B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600"/>
            <a:ext cx="8888760" cy="34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038A-4A86-46D8-8DB4-D11165B2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5BA-CB65-4771-A69A-6E54725E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2E0F-4A8B-4FC7-AD30-78496BD8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0672-3548-483E-8EA5-D4C2093E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5C67-B4BA-4308-8BC1-38D23487F2F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C376-539E-4AD6-9CF5-6148C45960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68080" y="68544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8E16-B948-46F6-9B8D-AB6B4990BD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2833560"/>
            <a:ext cx="2013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pyright © George Coulouris, Jean Dollimore, Tim Kindberg 2001 email: 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uthors@cdk2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material is made available for private study and for direct use by individual teac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may not be included in any product or employed in any service without the written permission of the auth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4600" y="519120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0217"/>
                </a:solidFill>
                <a:latin typeface="Times New Roman"/>
              </a:rPr>
              <a:t>Viewing: These slides must be viewed in slide show mo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9800" y="1352520"/>
            <a:ext cx="1130400" cy="1434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8280" y="304920"/>
            <a:ext cx="1592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ing material based on Distributed Systems: Concepts and Design, Edition 3, Addison-Wesley 200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8080" y="68544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stributed Systems Course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Topics in distributed objects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27200" y="2744640"/>
            <a:ext cx="722016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Ideas needed to understand CORBA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Revise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1.4 heterogeneity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4.3 external data representation 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5.4 distributed objects &amp; RMI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5.5 Java RMI case study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presentation of a remote object reference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692280" y="1476360"/>
            <a:ext cx="8393040" cy="1074600"/>
            <a:chOff x="692280" y="1476360"/>
            <a:chExt cx="8393040" cy="1074600"/>
          </a:xfrm>
        </p:grpSpPr>
        <p:sp>
          <p:nvSpPr>
            <p:cNvPr id="318" name=""/>
            <p:cNvSpPr/>
            <p:nvPr/>
          </p:nvSpPr>
          <p:spPr>
            <a:xfrm>
              <a:off x="692280" y="1851120"/>
              <a:ext cx="8393040" cy="69984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80680" y="1851120"/>
              <a:ext cx="1080" cy="67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44240" y="1851120"/>
              <a:ext cx="1440" cy="67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32640" y="1851120"/>
              <a:ext cx="1440" cy="67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19960" y="1851120"/>
              <a:ext cx="1080" cy="67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7880" y="2055960"/>
              <a:ext cx="1532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et addr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51680" y="2055960"/>
              <a:ext cx="1186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port numb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55560" y="2055960"/>
              <a:ext cx="429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47480" y="2055960"/>
              <a:ext cx="1386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object numb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49920" y="1935000"/>
              <a:ext cx="1166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face of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9920" y="2176560"/>
              <a:ext cx="1319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remote objec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17160" y="1476360"/>
              <a:ext cx="64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32 b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73880" y="1476360"/>
              <a:ext cx="64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32 b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14400" y="1476360"/>
              <a:ext cx="64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32 b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65800" y="1476360"/>
              <a:ext cx="64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32 b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98600" y="2778120"/>
            <a:ext cx="861696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a remote object reference must be unique in the distributed system and over time. It should not be reused after the object is deleted.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hy not?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he first two fields locate the object unless migration or re-activation  in a new process can happen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he fourth field identifies the object within the proces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ts interface tells the receiver what methods it has (e.g. class 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Method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a remote object reference is created by a remote reference module when a reference is passed as argument or result to another proces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it will be stored in the corresponding proxy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it will be passed in request messages to identify the remote object whose method is to be invoked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12682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hared whiteboard example (p 19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In the RMI and CORBA case studies, we use a shared whiteboard as an example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is is a distributed program that allows a group of users to share a common view of a drawing surface containing graphical objects, each of which has been drawn by one of the users. 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The server maintains the current state of a drawing and it provides operations for clients to: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add a shape, retrieve a shape or retrieve all the shapes, 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retrieve its version number  or the version number of a shap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Java Remote interfaces </a:t>
            </a:r>
            <a:r>
              <a:rPr b="0" i="1" lang="en-GB" sz="2800" spc="-1" strike="noStrike">
                <a:solidFill>
                  <a:srgbClr val="ff3300"/>
                </a:solidFill>
                <a:latin typeface="Arial"/>
              </a:rPr>
              <a:t>Shape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ff3300"/>
                </a:solidFill>
                <a:latin typeface="Arial"/>
              </a:rPr>
              <a:t>ShapeLi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47560" y="2584440"/>
            <a:ext cx="8566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mport java.rmi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mport java.util.Vec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Shap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extends Remot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t getVersion() throws Remote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808000"/>
                </a:solidFill>
                <a:latin typeface="Times New Roman"/>
              </a:rPr>
              <a:t>GraphicalObject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 getAllState() throws RemoteException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ShapeList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extends Remot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hape newShape(</a:t>
            </a:r>
            <a:r>
              <a:rPr b="0" i="1" lang="en-GB" sz="2400" spc="-1" strike="noStrike">
                <a:solidFill>
                  <a:srgbClr val="808000"/>
                </a:solidFill>
                <a:latin typeface="Times New Roman"/>
              </a:rPr>
              <a:t>GraphicalObject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g) throws RemoteException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ector allShapes() throws Remote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t getVersion() throws Remote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9600" y="1251000"/>
            <a:ext cx="8859960" cy="9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Note the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interface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808000"/>
                </a:solidFill>
                <a:latin typeface="Arial"/>
              </a:rPr>
              <a:t>argument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GraphicalObjec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is a class that implement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erializable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59720" y="255744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Java class </a:t>
            </a:r>
            <a:r>
              <a:rPr b="0" i="1" lang="en-GB" sz="2800" spc="-1" strike="noStrike">
                <a:solidFill>
                  <a:srgbClr val="ff3300"/>
                </a:solidFill>
                <a:latin typeface="Arial"/>
              </a:rPr>
              <a:t>ShapeListServer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with </a:t>
            </a:r>
            <a:r>
              <a:rPr b="0" i="1" lang="en-GB" sz="2800" spc="-1" strike="noStrike">
                <a:solidFill>
                  <a:srgbClr val="ff3300"/>
                </a:solidFill>
                <a:latin typeface="Arial"/>
              </a:rPr>
              <a:t>main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method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42320" y="1620720"/>
            <a:ext cx="8538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class ShapeListServer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tatic void main(String args[]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ystem.setSecurityManager(new RMISecurityManager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hapeList aShapeList = new ShapeListServant(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aming.rebind("Shape List", aShapeList 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ystem.out.println("ShapeList server ready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catch(Exception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ystem.out.println("ShapeList server main " + e.getMessage()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Probably skip this one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78720" y="203364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Java class </a:t>
            </a:r>
            <a:r>
              <a:rPr b="0" i="1" lang="en-GB" sz="2800" spc="-1" strike="noStrike">
                <a:solidFill>
                  <a:srgbClr val="ff3300"/>
                </a:solidFill>
                <a:latin typeface="Arial"/>
              </a:rPr>
              <a:t>ShapeListServant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implements interface </a:t>
            </a:r>
            <a:r>
              <a:rPr b="0" i="1" lang="en-GB" sz="2800" spc="-1" strike="noStrike">
                <a:solidFill>
                  <a:srgbClr val="ff3300"/>
                </a:solidFill>
                <a:latin typeface="Arial"/>
              </a:rPr>
              <a:t>ShapeLi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67840" y="1500120"/>
            <a:ext cx="9452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server.UnicastRemote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util.Vect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class ShapeListServant extends UnicastRemoteObject implements ShapeLis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rivate Vector theList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// contains the list of Shapes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rivate int vers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hapeListServant()throws RemoteException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hape newShape(GraphicalObject g) throws RemoteException {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ersion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hape s = new ShapeServant( g, version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heList.addElement(s);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turn 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 Vector allShapes()throws RemoteException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int getVersion() throws RemoteException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75920" y="1166400"/>
            <a:ext cx="885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Probably skip this one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327800" y="1774800"/>
            <a:ext cx="17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igure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5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Java client of </a:t>
            </a:r>
            <a:r>
              <a:rPr b="0" i="1" lang="en-GB" sz="2800" spc="-1" strike="noStrike">
                <a:solidFill>
                  <a:srgbClr val="ff3300"/>
                </a:solidFill>
                <a:latin typeface="Arial"/>
              </a:rPr>
              <a:t>ShapeLi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63000" y="1415880"/>
            <a:ext cx="8538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server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util.Vect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class ShapeListClient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tatic void main(String args[]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ystem.setSecurityManager(new RMISecurityManager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hapeList aShapeList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ShapeList  = (ShapeList) Naming.lookup("//bruno.ShapeList")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ector sList = aShapeList.allShapes(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 catch(RemoteException e) {System.out.println(e.getMessag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catch(Exception e) {System.out.println("Client: " + e.getMessage()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Probably skip this one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21640" y="18730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22360" y="1285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Heterogeneity is an important challenge to designers 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Distributed systems must be constructed from a variety of different networks, operating systems, computer hardware and programming languages.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The Internet communication protocols mask the difference in networks</a:t>
            </a:r>
            <a:br>
              <a:rPr sz="1600"/>
            </a:b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and middleware can deal with the other differences.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External data representation and marshalling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ORBA marshals data for use by recipients that have prior knowledge of the types of its components. It uses an IDL specification of the data types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Java serializes data to include information about the types of its contents, allowing the recipient to reconstruct it.  It uses reflection to do this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RMI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each object has a (global) remote object reference and a remote interface that specifies which of its operations can be invoked remotely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local method invocations provide exactly-once semantics; the best RMI can guarantee is at-most-once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Middleware components (proxies, skeletons and dispatchers) hide details of marshalling, message passing and object location from programmers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eterogeneity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Applies to all of the following: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network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nternet protocols mask the differences between network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computer hardwar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.g. data types such as integers can be  represented differently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operating system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.g. the API to IP differs from one OS to another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programming language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data structures (arrays, records) can be represented differently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implementations by different developer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hey need agreed standards so as to be able to interwork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Middleware provides a programming abstraction and masks the heterogeneity of networks etc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iddleware programming model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Distributed objects and remote object invocation is the model explained in Chapter 5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llustrated by Java RMI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ORBA is in Chapter 17. We will study it shortly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t provides remote object invocation between a client program written in one language and a server program written in another languag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our book uses Java CORBA to illustrate the use of CORB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another language commonly used in CORBA is C++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Other programming models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remote event notification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remote SQL acces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distributed transaction processing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ternal data representation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is was presented in Chapter 4. It masks the differences due to different computer hardware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CORBA CDR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only defined in CORBA 2.0 in 1998, before that, each implementation of CORBA had an external data representation, but they could not generally work with one another. That is: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the heterogeneity of hardware was masked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but not the heterogeneity due to different programmers (until CORBA 2)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CORBA CDR represents simple and constructed data types (sequence, string, array, struct, enum and union)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note that it does not deal with objects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t requires an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IDL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specification of data to be serialised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Java object serialisation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represents both objects and primitive data value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t uses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reflection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to serialise and deserialise objects– it does not need an IDL specification of the object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RBA IDL example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9040" y="1252440"/>
            <a:ext cx="5308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ruct Pers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ring nam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ring pl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ong ye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nterface PersonLis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eadonly attribute string listnam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void 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addPerson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(in Person p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void 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getPerson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(in string name, out Person 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ong 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number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4511160"/>
            <a:ext cx="885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Remote interface: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pecifies the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ethod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of an object available for remote invocation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n interface definition language (or IDL) is used to specify remote interfaces. E.g. the above in CORBA IDL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Java RMI would have a class for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erson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but CORBA has a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truc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13600" y="142884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454280" y="3720960"/>
            <a:ext cx="3976920" cy="851400"/>
            <a:chOff x="4454280" y="3720960"/>
            <a:chExt cx="3976920" cy="851400"/>
          </a:xfrm>
        </p:grpSpPr>
        <p:sp>
          <p:nvSpPr>
            <p:cNvPr id="111" name=""/>
            <p:cNvSpPr/>
            <p:nvPr/>
          </p:nvSpPr>
          <p:spPr>
            <a:xfrm>
              <a:off x="4842000" y="4173480"/>
              <a:ext cx="358920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ameters are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or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in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4454280" y="3749760"/>
              <a:ext cx="887400" cy="441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5876640" y="3720960"/>
              <a:ext cx="887400" cy="441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022640" y="2048040"/>
            <a:ext cx="3115440" cy="766440"/>
            <a:chOff x="4022640" y="2048040"/>
            <a:chExt cx="3115440" cy="766440"/>
          </a:xfrm>
        </p:grpSpPr>
        <p:sp>
          <p:nvSpPr>
            <p:cNvPr id="115" name=""/>
            <p:cNvSpPr/>
            <p:nvPr/>
          </p:nvSpPr>
          <p:spPr>
            <a:xfrm>
              <a:off x="5117760" y="2048040"/>
              <a:ext cx="202032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mote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4022640" y="2347920"/>
              <a:ext cx="1128960" cy="466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950080" y="2705040"/>
            <a:ext cx="3956040" cy="806400"/>
            <a:chOff x="5950080" y="2705040"/>
            <a:chExt cx="3956040" cy="806400"/>
          </a:xfrm>
        </p:grpSpPr>
        <p:sp>
          <p:nvSpPr>
            <p:cNvPr id="118" name=""/>
            <p:cNvSpPr/>
            <p:nvPr/>
          </p:nvSpPr>
          <p:spPr>
            <a:xfrm>
              <a:off x="6764400" y="2705040"/>
              <a:ext cx="3141720" cy="703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mote interface defines methods for RM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950080" y="3225960"/>
              <a:ext cx="785520" cy="285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043320" y="2935440"/>
              <a:ext cx="663480" cy="1029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17360" y="1491840"/>
            <a:ext cx="2476440" cy="737280"/>
            <a:chOff x="117360" y="1491840"/>
            <a:chExt cx="2476440" cy="737280"/>
          </a:xfrm>
        </p:grpSpPr>
        <p:sp>
          <p:nvSpPr>
            <p:cNvPr id="122" name=""/>
            <p:cNvSpPr/>
            <p:nvPr/>
          </p:nvSpPr>
          <p:spPr>
            <a:xfrm>
              <a:off x="117360" y="1830240"/>
              <a:ext cx="247644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RBA has a str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128600" y="1491840"/>
              <a:ext cx="706680" cy="322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stributed object model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01480" y="1706400"/>
            <a:ext cx="8769240" cy="1884240"/>
            <a:chOff x="501480" y="1706400"/>
            <a:chExt cx="8769240" cy="1884240"/>
          </a:xfrm>
        </p:grpSpPr>
        <p:sp>
          <p:nvSpPr>
            <p:cNvPr id="127" name=""/>
            <p:cNvSpPr/>
            <p:nvPr/>
          </p:nvSpPr>
          <p:spPr>
            <a:xfrm>
              <a:off x="5752800" y="1957320"/>
              <a:ext cx="227160" cy="326880"/>
            </a:xfrm>
            <a:custGeom>
              <a:avLst/>
              <a:gdLst>
                <a:gd name="textAreaLeft" fmla="*/ 30960 w 227160"/>
                <a:gd name="textAreaRight" fmla="*/ 196200 w 227160"/>
                <a:gd name="textAreaTop" fmla="*/ 30960 h 326880"/>
                <a:gd name="textAreaBottom" fmla="*/ 295920 h 326880"/>
              </a:gdLst>
              <a:ahLst/>
              <a:rect l="textAreaLeft" t="textAreaTop" r="textAreaRight" b="textAreaBottom"/>
              <a:pathLst>
                <a:path w="21600" h="31067">
                  <a:moveTo>
                    <a:pt x="10120" y="0"/>
                  </a:moveTo>
                  <a:arcTo wR="10120" hR="10120" stAng="16200000" swAng="-5400000"/>
                  <a:lnTo>
                    <a:pt x="0" y="20947"/>
                  </a:lnTo>
                  <a:arcTo wR="10120" hR="10120" stAng="10800000" swAng="-5400000"/>
                  <a:lnTo>
                    <a:pt x="11480" y="31067"/>
                  </a:lnTo>
                  <a:arcTo wR="10120" hR="10120" stAng="5400000" swAng="-5400000"/>
                  <a:lnTo>
                    <a:pt x="21600" y="10120"/>
                  </a:lnTo>
                  <a:arcTo wR="10120" hR="1012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52800" y="1957320"/>
              <a:ext cx="250920" cy="352440"/>
            </a:xfrm>
            <a:custGeom>
              <a:avLst/>
              <a:gdLst>
                <a:gd name="textAreaLeft" fmla="*/ 30960 w 250920"/>
                <a:gd name="textAreaRight" fmla="*/ 219960 w 25092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27">
                  <a:moveTo>
                    <a:pt x="9159" y="0"/>
                  </a:moveTo>
                  <a:arcTo wR="9159" hR="9159" stAng="16200000" swAng="-5400000"/>
                  <a:lnTo>
                    <a:pt x="0" y="21168"/>
                  </a:lnTo>
                  <a:arcTo wR="9159" hR="9159" stAng="10800000" swAng="-5400000"/>
                  <a:lnTo>
                    <a:pt x="12441" y="30327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78360" y="1957320"/>
              <a:ext cx="201600" cy="1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78360" y="1957320"/>
              <a:ext cx="225360" cy="2016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52800" y="1957320"/>
              <a:ext cx="250920" cy="352440"/>
            </a:xfrm>
            <a:custGeom>
              <a:avLst/>
              <a:gdLst>
                <a:gd name="textAreaLeft" fmla="*/ 30960 w 250920"/>
                <a:gd name="textAreaRight" fmla="*/ 219960 w 25092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27">
                  <a:moveTo>
                    <a:pt x="9159" y="0"/>
                  </a:moveTo>
                  <a:arcTo wR="9159" hR="9159" stAng="16200000" swAng="-5400000"/>
                  <a:lnTo>
                    <a:pt x="0" y="21168"/>
                  </a:lnTo>
                  <a:arcTo wR="9159" hR="9159" stAng="10800000" swAng="-5400000"/>
                  <a:lnTo>
                    <a:pt x="12441" y="30327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52800" y="2133360"/>
              <a:ext cx="2271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95440" y="1706400"/>
              <a:ext cx="5075280" cy="1884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6280" y="1806480"/>
              <a:ext cx="2965320" cy="1684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1480" y="1706400"/>
              <a:ext cx="2135160" cy="1884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040" y="2033280"/>
              <a:ext cx="1710000" cy="1256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72880" y="229536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89160" y="229536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53160" y="204444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37240" y="2033280"/>
              <a:ext cx="1682640" cy="1256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08520" y="259704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75840" y="242064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41360" y="1958760"/>
              <a:ext cx="41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50960" y="2235240"/>
              <a:ext cx="41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11160" y="2822400"/>
              <a:ext cx="41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92400" y="252252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03360" y="310032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75360" y="28242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04320" y="27223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23960" y="19684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46240" y="31496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37760" y="2170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64280" y="2622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31720" y="2384280"/>
              <a:ext cx="225360" cy="32688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26880"/>
                <a:gd name="textAreaBottom" fmla="*/ 295920 h 326880"/>
              </a:gdLst>
              <a:ahLst/>
              <a:rect l="textAreaLeft" t="textAreaTop" r="textAreaRight" b="textAreaBottom"/>
              <a:pathLst>
                <a:path w="21600" h="31315">
                  <a:moveTo>
                    <a:pt x="10192" y="0"/>
                  </a:moveTo>
                  <a:arcTo wR="10192" hR="10192" stAng="16200000" swAng="-5400000"/>
                  <a:lnTo>
                    <a:pt x="0" y="21123"/>
                  </a:lnTo>
                  <a:arcTo wR="10192" hR="10192" stAng="10800000" swAng="-5400000"/>
                  <a:lnTo>
                    <a:pt x="11408" y="31315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31720" y="2384280"/>
              <a:ext cx="250560" cy="352440"/>
            </a:xfrm>
            <a:custGeom>
              <a:avLst/>
              <a:gdLst>
                <a:gd name="textAreaLeft" fmla="*/ 30960 w 250560"/>
                <a:gd name="textAreaRight" fmla="*/ 219600 w 25056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70">
                  <a:moveTo>
                    <a:pt x="9159" y="0"/>
                  </a:moveTo>
                  <a:arcTo wR="9159" hR="9159" stAng="16200000" swAng="-5400000"/>
                  <a:lnTo>
                    <a:pt x="0" y="21211"/>
                  </a:lnTo>
                  <a:arcTo wR="9159" hR="9159" stAng="10800000" swAng="-5400000"/>
                  <a:lnTo>
                    <a:pt x="12441" y="30370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31720" y="2384280"/>
              <a:ext cx="225360" cy="1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31720" y="2384280"/>
              <a:ext cx="250560" cy="2016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31720" y="2384280"/>
              <a:ext cx="250560" cy="352440"/>
            </a:xfrm>
            <a:custGeom>
              <a:avLst/>
              <a:gdLst>
                <a:gd name="textAreaLeft" fmla="*/ 30960 w 250560"/>
                <a:gd name="textAreaRight" fmla="*/ 219600 w 25056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70">
                  <a:moveTo>
                    <a:pt x="9159" y="0"/>
                  </a:moveTo>
                  <a:arcTo wR="9159" hR="9159" stAng="16200000" swAng="-5400000"/>
                  <a:lnTo>
                    <a:pt x="0" y="21211"/>
                  </a:lnTo>
                  <a:arcTo wR="9159" hR="9159" stAng="10800000" swAng="-5400000"/>
                  <a:lnTo>
                    <a:pt x="12441" y="30370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31720" y="2560680"/>
              <a:ext cx="2253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95520" y="2485800"/>
              <a:ext cx="150840" cy="100080"/>
            </a:xfrm>
            <a:custGeom>
              <a:avLst/>
              <a:gdLst/>
              <a:ahLst/>
              <a:rect l="l" t="t" r="r" b="b"/>
              <a:pathLst>
                <a:path w="95" h="63">
                  <a:moveTo>
                    <a:pt x="0" y="31"/>
                  </a:moveTo>
                  <a:lnTo>
                    <a:pt x="16" y="0"/>
                  </a:lnTo>
                  <a:lnTo>
                    <a:pt x="95" y="31"/>
                  </a:lnTo>
                  <a:lnTo>
                    <a:pt x="16" y="6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57000" y="2535120"/>
              <a:ext cx="2763720" cy="101520"/>
            </a:xfrm>
            <a:custGeom>
              <a:avLst/>
              <a:gdLst/>
              <a:ahLst/>
              <a:rect l="l" t="t" r="r" b="b"/>
              <a:pathLst>
                <a:path w="1741" h="64">
                  <a:moveTo>
                    <a:pt x="0" y="64"/>
                  </a:moveTo>
                  <a:lnTo>
                    <a:pt x="506" y="16"/>
                  </a:lnTo>
                  <a:lnTo>
                    <a:pt x="174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7120" y="2360520"/>
              <a:ext cx="200160" cy="325440"/>
            </a:xfrm>
            <a:custGeom>
              <a:avLst/>
              <a:gdLst>
                <a:gd name="textAreaLeft" fmla="*/ 29160 w 200160"/>
                <a:gd name="textAreaRight" fmla="*/ 171000 w 200160"/>
                <a:gd name="textAreaTop" fmla="*/ 29160 h 325440"/>
                <a:gd name="textAreaBottom" fmla="*/ 296280 h 325440"/>
              </a:gdLst>
              <a:ahLst/>
              <a:rect l="textAreaLeft" t="textAreaTop" r="textAreaRight" b="textAreaBottom"/>
              <a:pathLst>
                <a:path w="21600" h="35095">
                  <a:moveTo>
                    <a:pt x="10800" y="0"/>
                  </a:moveTo>
                  <a:arcTo wR="10800" hR="10800" stAng="16200000" swAng="-5400000"/>
                  <a:lnTo>
                    <a:pt x="0" y="24295"/>
                  </a:lnTo>
                  <a:arcTo wR="10800" hR="10800" stAng="10800000" swAng="-5400000"/>
                  <a:lnTo>
                    <a:pt x="10800" y="3509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7120" y="2360520"/>
              <a:ext cx="225360" cy="35064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50640"/>
                <a:gd name="textAreaBottom" fmla="*/ 319680 h 350640"/>
              </a:gdLst>
              <a:ahLst/>
              <a:rect l="textAreaLeft" t="textAreaTop" r="textAreaRight" b="textAreaBottom"/>
              <a:pathLst>
                <a:path w="21600" h="33589">
                  <a:moveTo>
                    <a:pt x="10192" y="0"/>
                  </a:moveTo>
                  <a:arcTo wR="10192" hR="10192" stAng="16200000" swAng="-5400000"/>
                  <a:lnTo>
                    <a:pt x="0" y="23397"/>
                  </a:lnTo>
                  <a:arcTo wR="10192" hR="10192" stAng="10800000" swAng="-5400000"/>
                  <a:lnTo>
                    <a:pt x="11408" y="33589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97120" y="2360520"/>
              <a:ext cx="20016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97120" y="2360520"/>
              <a:ext cx="225360" cy="1746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97120" y="2360520"/>
              <a:ext cx="225360" cy="35064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50640"/>
                <a:gd name="textAreaBottom" fmla="*/ 319680 h 350640"/>
              </a:gdLst>
              <a:ahLst/>
              <a:rect l="textAreaLeft" t="textAreaTop" r="textAreaRight" b="textAreaBottom"/>
              <a:pathLst>
                <a:path w="21600" h="33589">
                  <a:moveTo>
                    <a:pt x="10192" y="0"/>
                  </a:moveTo>
                  <a:arcTo wR="10192" hR="10192" stAng="16200000" swAng="-5400000"/>
                  <a:lnTo>
                    <a:pt x="0" y="23397"/>
                  </a:lnTo>
                  <a:arcTo wR="10192" hR="10192" stAng="10800000" swAng="-5400000"/>
                  <a:lnTo>
                    <a:pt x="11408" y="33589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97120" y="2511360"/>
              <a:ext cx="2001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27520" y="2082600"/>
              <a:ext cx="150840" cy="76320"/>
            </a:xfrm>
            <a:custGeom>
              <a:avLst/>
              <a:gdLst/>
              <a:ahLst/>
              <a:rect l="l" t="t" r="r" b="b"/>
              <a:pathLst>
                <a:path w="95" h="48">
                  <a:moveTo>
                    <a:pt x="0" y="32"/>
                  </a:moveTo>
                  <a:lnTo>
                    <a:pt x="16" y="0"/>
                  </a:lnTo>
                  <a:lnTo>
                    <a:pt x="95" y="32"/>
                  </a:lnTo>
                  <a:lnTo>
                    <a:pt x="16" y="4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73160" y="2133360"/>
              <a:ext cx="954360" cy="427320"/>
            </a:xfrm>
            <a:custGeom>
              <a:avLst/>
              <a:gdLst/>
              <a:ahLst/>
              <a:rect l="l" t="t" r="r" b="b"/>
              <a:pathLst>
                <a:path w="601" h="269">
                  <a:moveTo>
                    <a:pt x="0" y="269"/>
                  </a:moveTo>
                  <a:lnTo>
                    <a:pt x="47" y="174"/>
                  </a:lnTo>
                  <a:lnTo>
                    <a:pt x="174" y="79"/>
                  </a:lnTo>
                  <a:lnTo>
                    <a:pt x="364" y="32"/>
                  </a:lnTo>
                  <a:lnTo>
                    <a:pt x="60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3560" y="1982520"/>
              <a:ext cx="225360" cy="32724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27240"/>
                <a:gd name="textAreaBottom" fmla="*/ 296280 h 327240"/>
              </a:gdLst>
              <a:ahLst/>
              <a:rect l="textAreaLeft" t="textAreaTop" r="textAreaRight" b="textAreaBottom"/>
              <a:pathLst>
                <a:path w="21600" h="31349">
                  <a:moveTo>
                    <a:pt x="10192" y="0"/>
                  </a:moveTo>
                  <a:arcTo wR="10192" hR="10192" stAng="16200000" swAng="-5400000"/>
                  <a:lnTo>
                    <a:pt x="0" y="21157"/>
                  </a:lnTo>
                  <a:arcTo wR="10192" hR="10192" stAng="10800000" swAng="-5400000"/>
                  <a:lnTo>
                    <a:pt x="11408" y="31349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03560" y="1982520"/>
              <a:ext cx="250920" cy="352440"/>
            </a:xfrm>
            <a:custGeom>
              <a:avLst/>
              <a:gdLst>
                <a:gd name="textAreaLeft" fmla="*/ 30960 w 250920"/>
                <a:gd name="textAreaRight" fmla="*/ 219960 w 25092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27">
                  <a:moveTo>
                    <a:pt x="9159" y="0"/>
                  </a:moveTo>
                  <a:arcTo wR="9159" hR="9159" stAng="16200000" swAng="-5400000"/>
                  <a:lnTo>
                    <a:pt x="0" y="21168"/>
                  </a:lnTo>
                  <a:arcTo wR="9159" hR="9159" stAng="10800000" swAng="-5400000"/>
                  <a:lnTo>
                    <a:pt x="12441" y="30327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120" y="1982520"/>
              <a:ext cx="19980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29120" y="1982520"/>
              <a:ext cx="225360" cy="1764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03560" y="1982520"/>
              <a:ext cx="250920" cy="352440"/>
            </a:xfrm>
            <a:custGeom>
              <a:avLst/>
              <a:gdLst>
                <a:gd name="textAreaLeft" fmla="*/ 30960 w 250920"/>
                <a:gd name="textAreaRight" fmla="*/ 219960 w 25092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27">
                  <a:moveTo>
                    <a:pt x="9159" y="0"/>
                  </a:moveTo>
                  <a:arcTo wR="9159" hR="9159" stAng="16200000" swAng="-5400000"/>
                  <a:lnTo>
                    <a:pt x="0" y="21168"/>
                  </a:lnTo>
                  <a:arcTo wR="9159" hR="9159" stAng="10800000" swAng="-5400000"/>
                  <a:lnTo>
                    <a:pt x="12441" y="30327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03560" y="2133360"/>
              <a:ext cx="2253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08600" y="2511360"/>
              <a:ext cx="150840" cy="74520"/>
            </a:xfrm>
            <a:custGeom>
              <a:avLst/>
              <a:gdLst/>
              <a:ahLst/>
              <a:rect l="l" t="t" r="r" b="b"/>
              <a:pathLst>
                <a:path w="95" h="47">
                  <a:moveTo>
                    <a:pt x="0" y="15"/>
                  </a:moveTo>
                  <a:lnTo>
                    <a:pt x="15" y="0"/>
                  </a:lnTo>
                  <a:lnTo>
                    <a:pt x="95" y="15"/>
                  </a:lnTo>
                  <a:lnTo>
                    <a:pt x="15" y="4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73480" y="2225520"/>
              <a:ext cx="735120" cy="309600"/>
            </a:xfrm>
            <a:custGeom>
              <a:avLst/>
              <a:gdLst/>
              <a:ahLst/>
              <a:rect l="l" t="t" r="r" b="b"/>
              <a:pathLst>
                <a:path w="539" h="221">
                  <a:moveTo>
                    <a:pt x="539" y="221"/>
                  </a:moveTo>
                  <a:lnTo>
                    <a:pt x="333" y="206"/>
                  </a:lnTo>
                  <a:lnTo>
                    <a:pt x="159" y="158"/>
                  </a:lnTo>
                  <a:lnTo>
                    <a:pt x="48" y="79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59440" y="2409840"/>
              <a:ext cx="225360" cy="32688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26880"/>
                <a:gd name="textAreaBottom" fmla="*/ 295920 h 326880"/>
              </a:gdLst>
              <a:ahLst/>
              <a:rect l="textAreaLeft" t="textAreaTop" r="textAreaRight" b="textAreaBottom"/>
              <a:pathLst>
                <a:path w="21600" h="31315">
                  <a:moveTo>
                    <a:pt x="10192" y="0"/>
                  </a:moveTo>
                  <a:arcTo wR="10192" hR="10192" stAng="16200000" swAng="-5400000"/>
                  <a:lnTo>
                    <a:pt x="0" y="21123"/>
                  </a:lnTo>
                  <a:arcTo wR="10192" hR="10192" stAng="10800000" swAng="-5400000"/>
                  <a:lnTo>
                    <a:pt x="11408" y="31315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59440" y="2409840"/>
              <a:ext cx="250560" cy="352440"/>
            </a:xfrm>
            <a:custGeom>
              <a:avLst/>
              <a:gdLst>
                <a:gd name="textAreaLeft" fmla="*/ 30960 w 250560"/>
                <a:gd name="textAreaRight" fmla="*/ 219600 w 25056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70">
                  <a:moveTo>
                    <a:pt x="9159" y="0"/>
                  </a:moveTo>
                  <a:arcTo wR="9159" hR="9159" stAng="16200000" swAng="-5400000"/>
                  <a:lnTo>
                    <a:pt x="0" y="21211"/>
                  </a:lnTo>
                  <a:arcTo wR="9159" hR="9159" stAng="10800000" swAng="-5400000"/>
                  <a:lnTo>
                    <a:pt x="12441" y="30370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9440" y="2409840"/>
              <a:ext cx="22536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59440" y="2409840"/>
              <a:ext cx="250560" cy="17604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59440" y="2409840"/>
              <a:ext cx="250560" cy="352440"/>
            </a:xfrm>
            <a:custGeom>
              <a:avLst/>
              <a:gdLst>
                <a:gd name="textAreaLeft" fmla="*/ 30960 w 250560"/>
                <a:gd name="textAreaRight" fmla="*/ 219600 w 25056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70">
                  <a:moveTo>
                    <a:pt x="9159" y="0"/>
                  </a:moveTo>
                  <a:arcTo wR="9159" hR="9159" stAng="16200000" swAng="-5400000"/>
                  <a:lnTo>
                    <a:pt x="0" y="21211"/>
                  </a:lnTo>
                  <a:arcTo wR="9159" hR="9159" stAng="10800000" swAng="-5400000"/>
                  <a:lnTo>
                    <a:pt x="12441" y="30370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59440" y="2560680"/>
              <a:ext cx="2253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16720" y="2887560"/>
              <a:ext cx="150840" cy="74520"/>
            </a:xfrm>
            <a:custGeom>
              <a:avLst/>
              <a:gdLst/>
              <a:ahLst/>
              <a:rect l="l" t="t" r="r" b="b"/>
              <a:pathLst>
                <a:path w="95" h="47">
                  <a:moveTo>
                    <a:pt x="0" y="32"/>
                  </a:moveTo>
                  <a:lnTo>
                    <a:pt x="16" y="0"/>
                  </a:lnTo>
                  <a:lnTo>
                    <a:pt x="95" y="32"/>
                  </a:lnTo>
                  <a:lnTo>
                    <a:pt x="16" y="47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59240" y="2636640"/>
              <a:ext cx="1257480" cy="301680"/>
            </a:xfrm>
            <a:custGeom>
              <a:avLst/>
              <a:gdLst/>
              <a:ahLst/>
              <a:rect l="l" t="t" r="r" b="b"/>
              <a:pathLst>
                <a:path w="792" h="190">
                  <a:moveTo>
                    <a:pt x="792" y="190"/>
                  </a:moveTo>
                  <a:lnTo>
                    <a:pt x="222" y="126"/>
                  </a:lnTo>
                  <a:lnTo>
                    <a:pt x="64" y="6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79760" y="2938320"/>
              <a:ext cx="227160" cy="325440"/>
            </a:xfrm>
            <a:custGeom>
              <a:avLst/>
              <a:gdLst>
                <a:gd name="textAreaLeft" fmla="*/ 30960 w 227160"/>
                <a:gd name="textAreaRight" fmla="*/ 196200 w 227160"/>
                <a:gd name="textAreaTop" fmla="*/ 30960 h 325440"/>
                <a:gd name="textAreaBottom" fmla="*/ 294480 h 325440"/>
              </a:gdLst>
              <a:ahLst/>
              <a:rect l="textAreaLeft" t="textAreaTop" r="textAreaRight" b="textAreaBottom"/>
              <a:pathLst>
                <a:path w="21600" h="30930">
                  <a:moveTo>
                    <a:pt x="10120" y="0"/>
                  </a:moveTo>
                  <a:arcTo wR="10120" hR="10120" stAng="16200000" swAng="-5400000"/>
                  <a:lnTo>
                    <a:pt x="0" y="20810"/>
                  </a:lnTo>
                  <a:arcTo wR="10120" hR="10120" stAng="10800000" swAng="-5400000"/>
                  <a:lnTo>
                    <a:pt x="11480" y="30930"/>
                  </a:lnTo>
                  <a:arcTo wR="10120" hR="10120" stAng="5400000" swAng="-5400000"/>
                  <a:lnTo>
                    <a:pt x="21600" y="10120"/>
                  </a:lnTo>
                  <a:arcTo wR="10120" hR="1012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79760" y="2938320"/>
              <a:ext cx="252360" cy="351000"/>
            </a:xfrm>
            <a:custGeom>
              <a:avLst/>
              <a:gdLst>
                <a:gd name="textAreaLeft" fmla="*/ 30960 w 252360"/>
                <a:gd name="textAreaRight" fmla="*/ 221400 w 252360"/>
                <a:gd name="textAreaTop" fmla="*/ 30960 h 351000"/>
                <a:gd name="textAreaBottom" fmla="*/ 320040 h 351000"/>
              </a:gdLst>
              <a:ahLst/>
              <a:rect l="textAreaLeft" t="textAreaTop" r="textAreaRight" b="textAreaBottom"/>
              <a:pathLst>
                <a:path w="21600" h="30031">
                  <a:moveTo>
                    <a:pt x="9102" y="0"/>
                  </a:moveTo>
                  <a:arcTo wR="9102" hR="9102" stAng="16200000" swAng="-5400000"/>
                  <a:lnTo>
                    <a:pt x="0" y="20929"/>
                  </a:lnTo>
                  <a:arcTo wR="9102" hR="9102" stAng="10800000" swAng="-5400000"/>
                  <a:lnTo>
                    <a:pt x="12498" y="30031"/>
                  </a:lnTo>
                  <a:arcTo wR="9102" hR="9102" stAng="5400000" swAng="-5400000"/>
                  <a:lnTo>
                    <a:pt x="21600" y="9102"/>
                  </a:lnTo>
                  <a:arcTo wR="9102" hR="9102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5320" y="2938320"/>
              <a:ext cx="20160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05320" y="2938320"/>
              <a:ext cx="226800" cy="20016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9760" y="2938320"/>
              <a:ext cx="252360" cy="351000"/>
            </a:xfrm>
            <a:custGeom>
              <a:avLst/>
              <a:gdLst>
                <a:gd name="textAreaLeft" fmla="*/ 30960 w 252360"/>
                <a:gd name="textAreaRight" fmla="*/ 221400 w 252360"/>
                <a:gd name="textAreaTop" fmla="*/ 30960 h 351000"/>
                <a:gd name="textAreaBottom" fmla="*/ 320040 h 351000"/>
              </a:gdLst>
              <a:ahLst/>
              <a:rect l="textAreaLeft" t="textAreaTop" r="textAreaRight" b="textAreaBottom"/>
              <a:pathLst>
                <a:path w="21600" h="30031">
                  <a:moveTo>
                    <a:pt x="9102" y="0"/>
                  </a:moveTo>
                  <a:arcTo wR="9102" hR="9102" stAng="16200000" swAng="-5400000"/>
                  <a:lnTo>
                    <a:pt x="0" y="20929"/>
                  </a:lnTo>
                  <a:arcTo wR="9102" hR="9102" stAng="10800000" swAng="-5400000"/>
                  <a:lnTo>
                    <a:pt x="12498" y="30031"/>
                  </a:lnTo>
                  <a:arcTo wR="9102" hR="9102" stAng="5400000" swAng="-5400000"/>
                  <a:lnTo>
                    <a:pt x="21600" y="9102"/>
                  </a:lnTo>
                  <a:arcTo wR="9102" hR="9102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79760" y="3112920"/>
              <a:ext cx="2271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54160" y="2778120"/>
              <a:ext cx="7488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15" y="31"/>
                  </a:moveTo>
                  <a:lnTo>
                    <a:pt x="0" y="47"/>
                  </a:lnTo>
                  <a:lnTo>
                    <a:pt x="15" y="0"/>
                  </a:lnTo>
                  <a:lnTo>
                    <a:pt x="47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2080" y="2771640"/>
              <a:ext cx="1508400" cy="426960"/>
            </a:xfrm>
            <a:custGeom>
              <a:avLst/>
              <a:gdLst/>
              <a:ahLst/>
              <a:rect l="l" t="t" r="r" b="b"/>
              <a:pathLst>
                <a:path w="950" h="269">
                  <a:moveTo>
                    <a:pt x="950" y="269"/>
                  </a:moveTo>
                  <a:lnTo>
                    <a:pt x="602" y="253"/>
                  </a:lnTo>
                  <a:lnTo>
                    <a:pt x="301" y="190"/>
                  </a:lnTo>
                  <a:lnTo>
                    <a:pt x="95" y="111"/>
                  </a:lnTo>
                  <a:lnTo>
                    <a:pt x="32" y="6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516520" y="2762280"/>
              <a:ext cx="201600" cy="32688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326880"/>
                <a:gd name="textAreaBottom" fmla="*/ 297360 h 326880"/>
              </a:gdLst>
              <a:ahLst/>
              <a:rect l="textAreaLeft" t="textAreaTop" r="textAreaRight" b="textAreaBottom"/>
              <a:pathLst>
                <a:path w="21600" h="34999">
                  <a:moveTo>
                    <a:pt x="10800" y="0"/>
                  </a:moveTo>
                  <a:arcTo wR="10800" hR="10800" stAng="16200000" swAng="-5400000"/>
                  <a:lnTo>
                    <a:pt x="0" y="24199"/>
                  </a:lnTo>
                  <a:arcTo wR="10800" hR="10800" stAng="10800000" swAng="-5400000"/>
                  <a:lnTo>
                    <a:pt x="10800" y="3499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516520" y="2762280"/>
              <a:ext cx="227160" cy="350640"/>
            </a:xfrm>
            <a:custGeom>
              <a:avLst/>
              <a:gdLst>
                <a:gd name="textAreaLeft" fmla="*/ 30960 w 227160"/>
                <a:gd name="textAreaRight" fmla="*/ 196200 w 227160"/>
                <a:gd name="textAreaTop" fmla="*/ 30960 h 350640"/>
                <a:gd name="textAreaBottom" fmla="*/ 319680 h 350640"/>
              </a:gdLst>
              <a:ahLst/>
              <a:rect l="textAreaLeft" t="textAreaTop" r="textAreaRight" b="textAreaBottom"/>
              <a:pathLst>
                <a:path w="21600" h="33323">
                  <a:moveTo>
                    <a:pt x="10120" y="0"/>
                  </a:moveTo>
                  <a:arcTo wR="10120" hR="10120" stAng="16200000" swAng="-5400000"/>
                  <a:lnTo>
                    <a:pt x="0" y="23203"/>
                  </a:lnTo>
                  <a:arcTo wR="10120" hR="10120" stAng="10800000" swAng="-5400000"/>
                  <a:lnTo>
                    <a:pt x="11480" y="33323"/>
                  </a:lnTo>
                  <a:arcTo wR="10120" hR="10120" stAng="5400000" swAng="-5400000"/>
                  <a:lnTo>
                    <a:pt x="21600" y="10120"/>
                  </a:lnTo>
                  <a:arcTo wR="10120" hR="10120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516520" y="2762280"/>
              <a:ext cx="201600" cy="1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516520" y="2762280"/>
              <a:ext cx="227160" cy="1998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516520" y="2762280"/>
              <a:ext cx="227160" cy="350640"/>
            </a:xfrm>
            <a:custGeom>
              <a:avLst/>
              <a:gdLst>
                <a:gd name="textAreaLeft" fmla="*/ 30960 w 227160"/>
                <a:gd name="textAreaRight" fmla="*/ 196200 w 227160"/>
                <a:gd name="textAreaTop" fmla="*/ 30960 h 350640"/>
                <a:gd name="textAreaBottom" fmla="*/ 319680 h 350640"/>
              </a:gdLst>
              <a:ahLst/>
              <a:rect l="textAreaLeft" t="textAreaTop" r="textAreaRight" b="textAreaBottom"/>
              <a:pathLst>
                <a:path w="21600" h="33323">
                  <a:moveTo>
                    <a:pt x="10120" y="0"/>
                  </a:moveTo>
                  <a:arcTo wR="10120" hR="10120" stAng="16200000" swAng="-5400000"/>
                  <a:lnTo>
                    <a:pt x="0" y="23203"/>
                  </a:lnTo>
                  <a:arcTo wR="10120" hR="10120" stAng="10800000" swAng="-5400000"/>
                  <a:lnTo>
                    <a:pt x="11480" y="33323"/>
                  </a:lnTo>
                  <a:arcTo wR="10120" hR="10120" stAng="5400000" swAng="-5400000"/>
                  <a:lnTo>
                    <a:pt x="21600" y="10120"/>
                  </a:lnTo>
                  <a:arcTo wR="10120" hR="10120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516520" y="2938320"/>
              <a:ext cx="2016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5360" y="3906360"/>
            <a:ext cx="885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each process contains objects, some of which can receive remote invocations, others only local invocation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hose that can receive remote invocations are called 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remote object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objects need to know the 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remote object reference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of an object in another process in order to invoke its methods.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ow do they get it?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remote interface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specifies which methods can be invoked remotely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9760" y="130824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vocation semantic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885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Local invocations are executed exactly once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Remote invocations cannot achieve this.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hy not?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he  Request-reply protocol can apply fault-tolerance measure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78160" y="3083040"/>
            <a:ext cx="8615880" cy="3209400"/>
            <a:chOff x="578160" y="3083040"/>
            <a:chExt cx="8615880" cy="3209400"/>
          </a:xfrm>
        </p:grpSpPr>
        <p:grpSp>
          <p:nvGrpSpPr>
            <p:cNvPr id="206" name=""/>
            <p:cNvGrpSpPr/>
            <p:nvPr/>
          </p:nvGrpSpPr>
          <p:grpSpPr>
            <a:xfrm>
              <a:off x="595440" y="3083040"/>
              <a:ext cx="8598600" cy="3209400"/>
              <a:chOff x="595440" y="3083040"/>
              <a:chExt cx="8598600" cy="3209400"/>
            </a:xfrm>
          </p:grpSpPr>
          <p:sp>
            <p:nvSpPr>
              <p:cNvPr id="207" name=""/>
              <p:cNvSpPr/>
              <p:nvPr/>
            </p:nvSpPr>
            <p:spPr>
              <a:xfrm>
                <a:off x="595440" y="3884400"/>
                <a:ext cx="681876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95440" y="4736880"/>
                <a:ext cx="859860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780280" y="3295440"/>
                <a:ext cx="2605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ault tolerance measu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664400" y="3195720"/>
                <a:ext cx="11559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vocation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665840" y="3444840"/>
                <a:ext cx="10051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mantic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044720" y="4147920"/>
                <a:ext cx="1995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transmit request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553760" y="4398840"/>
                <a:ext cx="864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essag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4160" y="4147920"/>
                <a:ext cx="1069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uplicat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492360" y="4398840"/>
                <a:ext cx="819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ilter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106960" y="4147920"/>
                <a:ext cx="2292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-execute procedur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229360" y="4398840"/>
                <a:ext cx="193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r retransmit repl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032480" y="4849560"/>
                <a:ext cx="313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032840" y="5351400"/>
                <a:ext cx="39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Y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032840" y="5877000"/>
                <a:ext cx="39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Y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252600" y="4849560"/>
                <a:ext cx="149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Not applicab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255120" y="5351400"/>
                <a:ext cx="313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255120" y="5877000"/>
                <a:ext cx="39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Y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124600" y="4849560"/>
                <a:ext cx="149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Not applicab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122440" y="5351400"/>
                <a:ext cx="2230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-execute proced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123520" y="5877000"/>
                <a:ext cx="1704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transmit repl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682040" y="5877000"/>
                <a:ext cx="1360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t-most-o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64760" y="5351400"/>
                <a:ext cx="1358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t-least-o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934760" y="4849560"/>
                <a:ext cx="694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yb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95440" y="3083040"/>
                <a:ext cx="859860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95440" y="6291360"/>
                <a:ext cx="859860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578160" y="325908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Figure 5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4800" y="5291280"/>
            <a:ext cx="8767800" cy="4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6720" y="5791320"/>
            <a:ext cx="8767800" cy="4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vocation semantics: failure model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aybe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t-least-once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nd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 At-most-once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can suffer from crash failures when the server containing the remote object fails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aybe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- if no reply, the client does not know if method was executed or not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omission failures if the invocation or result message is lost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t-least-once -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e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client gets a result (and the method was executed at least once) or an exception (no result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rbitrary failures. If the invocation message is retransmitted, the remote object may execute the method more than once, possibly causing wrong values to be stored or returned.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f </a:t>
            </a:r>
            <a:r>
              <a:rPr b="0" i="1" lang="en-GB" sz="1800" spc="-1" strike="noStrike">
                <a:solidFill>
                  <a:srgbClr val="ff3300"/>
                </a:solidFill>
                <a:latin typeface="Arial"/>
              </a:rPr>
              <a:t>idempoten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operations are used,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arbitrary failures will not occur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t-most-once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- the client gets a result (and the method was executed exactly once) or an exception (instead of a result, in which case, the method was executed once or not at all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architecture of remote method invocation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57960" y="1569960"/>
            <a:ext cx="8085600" cy="3090960"/>
            <a:chOff x="957960" y="1569960"/>
            <a:chExt cx="8085600" cy="3090960"/>
          </a:xfrm>
        </p:grpSpPr>
        <p:sp>
          <p:nvSpPr>
            <p:cNvPr id="241" name=""/>
            <p:cNvSpPr/>
            <p:nvPr/>
          </p:nvSpPr>
          <p:spPr>
            <a:xfrm>
              <a:off x="958680" y="1569960"/>
              <a:ext cx="2917440" cy="3090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92600" y="1569960"/>
              <a:ext cx="4350960" cy="3090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89240" y="1768320"/>
              <a:ext cx="3906720" cy="220032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09440" y="1793880"/>
              <a:ext cx="2817360" cy="2174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84840" y="2295360"/>
              <a:ext cx="73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bject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61800" y="2320920"/>
              <a:ext cx="73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bject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48240" y="2205000"/>
              <a:ext cx="75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kele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26520" y="244764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27600" y="2295360"/>
              <a:ext cx="982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xy for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09680" y="2460600"/>
              <a:ext cx="396720" cy="939600"/>
            </a:xfrm>
            <a:custGeom>
              <a:avLst/>
              <a:gdLst>
                <a:gd name="textAreaLeft" fmla="*/ 55800 w 396720"/>
                <a:gd name="textAreaRight" fmla="*/ 340920 w 396720"/>
                <a:gd name="textAreaTop" fmla="*/ 55800 h 939600"/>
                <a:gd name="textAreaBottom" fmla="*/ 883800 h 939600"/>
              </a:gdLst>
              <a:ahLst/>
              <a:rect l="textAreaLeft" t="textAreaTop" r="textAreaRight" b="textAreaBottom"/>
              <a:pathLst>
                <a:path w="21600" h="51131">
                  <a:moveTo>
                    <a:pt x="10411" y="0"/>
                  </a:moveTo>
                  <a:arcTo wR="10411" hR="10411" stAng="16200000" swAng="-5400000"/>
                  <a:lnTo>
                    <a:pt x="0" y="40720"/>
                  </a:lnTo>
                  <a:arcTo wR="10411" hR="10411" stAng="10800000" swAng="-5400000"/>
                  <a:lnTo>
                    <a:pt x="11189" y="51131"/>
                  </a:lnTo>
                  <a:arcTo wR="10411" hR="10411" stAng="5400000" swAng="-5400000"/>
                  <a:lnTo>
                    <a:pt x="21600" y="10411"/>
                  </a:lnTo>
                  <a:arcTo wR="10411" hR="10411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84520" y="2460600"/>
              <a:ext cx="394920" cy="939600"/>
            </a:xfrm>
            <a:custGeom>
              <a:avLst/>
              <a:gdLst>
                <a:gd name="textAreaLeft" fmla="*/ 55800 w 394920"/>
                <a:gd name="textAreaRight" fmla="*/ 339120 w 394920"/>
                <a:gd name="textAreaTop" fmla="*/ 55800 h 939600"/>
                <a:gd name="textAreaBottom" fmla="*/ 883800 h 939600"/>
              </a:gdLst>
              <a:ahLst/>
              <a:rect l="textAreaLeft" t="textAreaTop" r="textAreaRight" b="textAreaBottom"/>
              <a:pathLst>
                <a:path w="21600" h="51364">
                  <a:moveTo>
                    <a:pt x="10453" y="0"/>
                  </a:moveTo>
                  <a:arcTo wR="10453" hR="10453" stAng="16200000" swAng="-5400000"/>
                  <a:lnTo>
                    <a:pt x="0" y="40911"/>
                  </a:lnTo>
                  <a:arcTo wR="10453" hR="10453" stAng="10800000" swAng="-5400000"/>
                  <a:lnTo>
                    <a:pt x="11147" y="51364"/>
                  </a:lnTo>
                  <a:arcTo wR="10453" hR="10453" stAng="5400000" swAng="-5400000"/>
                  <a:lnTo>
                    <a:pt x="21600" y="10453"/>
                  </a:lnTo>
                  <a:arcTo wR="10453" hR="10453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25560" y="3375000"/>
              <a:ext cx="963000" cy="395280"/>
            </a:xfrm>
            <a:prstGeom prst="roundRect">
              <a:avLst>
                <a:gd name="adj" fmla="val 48394"/>
              </a:avLst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03560" y="323820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05560" y="4079880"/>
              <a:ext cx="141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52880" y="4128840"/>
              <a:ext cx="7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62400" y="2658960"/>
              <a:ext cx="172800" cy="98280"/>
            </a:xfrm>
            <a:custGeom>
              <a:avLst/>
              <a:gdLst/>
              <a:ahLst/>
              <a:rect l="l" t="t" r="r" b="b"/>
              <a:pathLst>
                <a:path w="109" h="62">
                  <a:moveTo>
                    <a:pt x="0" y="31"/>
                  </a:moveTo>
                  <a:lnTo>
                    <a:pt x="0" y="0"/>
                  </a:lnTo>
                  <a:lnTo>
                    <a:pt x="109" y="31"/>
                  </a:lnTo>
                  <a:lnTo>
                    <a:pt x="0" y="6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357360" y="2708280"/>
              <a:ext cx="17791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81200" y="3078000"/>
              <a:ext cx="198000" cy="100080"/>
            </a:xfrm>
            <a:custGeom>
              <a:avLst/>
              <a:gdLst/>
              <a:ahLst/>
              <a:rect l="l" t="t" r="r" b="b"/>
              <a:pathLst>
                <a:path w="125" h="63">
                  <a:moveTo>
                    <a:pt x="125" y="32"/>
                  </a:moveTo>
                  <a:lnTo>
                    <a:pt x="125" y="63"/>
                  </a:lnTo>
                  <a:lnTo>
                    <a:pt x="0" y="32"/>
                  </a:lnTo>
                  <a:lnTo>
                    <a:pt x="125" y="0"/>
                  </a:lnTo>
                  <a:lnTo>
                    <a:pt x="125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79560" y="3128760"/>
              <a:ext cx="17791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82800" y="4054320"/>
              <a:ext cx="1623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81480" y="4079880"/>
              <a:ext cx="141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33280" y="437508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41000" y="437508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57960" y="4351320"/>
              <a:ext cx="1579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ference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5459040" y="3399840"/>
              <a:ext cx="123480" cy="568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357360" y="3399840"/>
              <a:ext cx="1080" cy="568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1676160" y="3720960"/>
              <a:ext cx="247320" cy="371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6298920" y="3573000"/>
              <a:ext cx="544320" cy="4446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85640" y="427644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35480" y="267480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B’s cl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27480" y="2189160"/>
              <a:ext cx="1334880" cy="865080"/>
            </a:xfrm>
            <a:prstGeom prst="roundRect">
              <a:avLst>
                <a:gd name="adj" fmla="val 49264"/>
              </a:avLst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77520" y="2427120"/>
              <a:ext cx="113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 dispat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01400" y="209844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82240" y="1952640"/>
              <a:ext cx="47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97360" y="19033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88080" y="18795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29120" y="3201840"/>
              <a:ext cx="964800" cy="395280"/>
            </a:xfrm>
            <a:prstGeom prst="roundRect">
              <a:avLst>
                <a:gd name="adj" fmla="val 48394"/>
              </a:avLst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28480" y="2535120"/>
              <a:ext cx="345960" cy="519120"/>
            </a:xfrm>
            <a:custGeom>
              <a:avLst/>
              <a:gdLst>
                <a:gd name="textAreaLeft" fmla="*/ 30600 w 345960"/>
                <a:gd name="textAreaRight" fmla="*/ 315360 w 345960"/>
                <a:gd name="textAreaTop" fmla="*/ 30600 h 519120"/>
                <a:gd name="textAreaBottom" fmla="*/ 488520 h 519120"/>
              </a:gdLst>
              <a:ahLst/>
              <a:rect l="textAreaLeft" t="textAreaTop" r="textAreaRight" b="textAreaBottom"/>
              <a:pathLst>
                <a:path w="21600" h="32400">
                  <a:moveTo>
                    <a:pt x="6539" y="0"/>
                  </a:moveTo>
                  <a:arcTo wR="6539" hR="6539" stAng="16200000" swAng="-5400000"/>
                  <a:lnTo>
                    <a:pt x="0" y="25861"/>
                  </a:lnTo>
                  <a:arcTo wR="6539" hR="6539" stAng="10800000" swAng="-5400000"/>
                  <a:lnTo>
                    <a:pt x="15061" y="32400"/>
                  </a:lnTo>
                  <a:arcTo wR="6539" hR="6539" stAng="5400000" swAng="-5400000"/>
                  <a:lnTo>
                    <a:pt x="21600" y="6539"/>
                  </a:lnTo>
                  <a:arcTo wR="6539" hR="6539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28480" y="2535120"/>
              <a:ext cx="371160" cy="542880"/>
            </a:xfrm>
            <a:custGeom>
              <a:avLst/>
              <a:gdLst>
                <a:gd name="textAreaLeft" fmla="*/ 30600 w 371160"/>
                <a:gd name="textAreaRight" fmla="*/ 340560 w 371160"/>
                <a:gd name="textAreaTop" fmla="*/ 30600 h 542880"/>
                <a:gd name="textAreaBottom" fmla="*/ 512280 h 542880"/>
              </a:gdLst>
              <a:ahLst/>
              <a:rect l="textAreaLeft" t="textAreaTop" r="textAreaRight" b="textAreaBottom"/>
              <a:pathLst>
                <a:path w="21600" h="31584">
                  <a:moveTo>
                    <a:pt x="6092" y="0"/>
                  </a:moveTo>
                  <a:arcTo wR="6092" hR="6092" stAng="16200000" swAng="-5400000"/>
                  <a:lnTo>
                    <a:pt x="0" y="25492"/>
                  </a:lnTo>
                  <a:arcTo wR="6092" hR="6092" stAng="10800000" swAng="-5400000"/>
                  <a:lnTo>
                    <a:pt x="15508" y="31584"/>
                  </a:lnTo>
                  <a:arcTo wR="6092" hR="6092" stAng="5400000" swAng="-5400000"/>
                  <a:lnTo>
                    <a:pt x="21600" y="6092"/>
                  </a:lnTo>
                  <a:arcTo wR="6092" hR="6092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54040" y="2558880"/>
              <a:ext cx="320400" cy="22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54040" y="2558880"/>
              <a:ext cx="345600" cy="24768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28480" y="2535120"/>
              <a:ext cx="371160" cy="542880"/>
            </a:xfrm>
            <a:custGeom>
              <a:avLst/>
              <a:gdLst>
                <a:gd name="textAreaLeft" fmla="*/ 30600 w 371160"/>
                <a:gd name="textAreaRight" fmla="*/ 340560 w 371160"/>
                <a:gd name="textAreaTop" fmla="*/ 30600 h 542880"/>
                <a:gd name="textAreaBottom" fmla="*/ 512280 h 542880"/>
              </a:gdLst>
              <a:ahLst/>
              <a:rect l="textAreaLeft" t="textAreaTop" r="textAreaRight" b="textAreaBottom"/>
              <a:pathLst>
                <a:path w="21600" h="31584">
                  <a:moveTo>
                    <a:pt x="6092" y="0"/>
                  </a:moveTo>
                  <a:arcTo wR="6092" hR="6092" stAng="16200000" swAng="-5400000"/>
                  <a:lnTo>
                    <a:pt x="0" y="25492"/>
                  </a:lnTo>
                  <a:arcTo wR="6092" hR="6092" stAng="10800000" swAng="-5400000"/>
                  <a:lnTo>
                    <a:pt x="15508" y="31584"/>
                  </a:lnTo>
                  <a:arcTo wR="6092" hR="6092" stAng="5400000" swAng="-5400000"/>
                  <a:lnTo>
                    <a:pt x="21600" y="6092"/>
                  </a:lnTo>
                  <a:arcTo wR="6092" hR="6092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28480" y="2806560"/>
              <a:ext cx="3459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44680" y="2584440"/>
              <a:ext cx="320040" cy="493560"/>
            </a:xfrm>
            <a:custGeom>
              <a:avLst/>
              <a:gdLst>
                <a:gd name="textAreaLeft" fmla="*/ 30600 w 320040"/>
                <a:gd name="textAreaRight" fmla="*/ 289440 w 320040"/>
                <a:gd name="textAreaTop" fmla="*/ 30600 h 493560"/>
                <a:gd name="textAreaBottom" fmla="*/ 462960 h 493560"/>
              </a:gdLst>
              <a:ahLst/>
              <a:rect l="textAreaLeft" t="textAreaTop" r="textAreaRight" b="textAreaBottom"/>
              <a:pathLst>
                <a:path w="21600" h="33298">
                  <a:moveTo>
                    <a:pt x="7057" y="0"/>
                  </a:moveTo>
                  <a:arcTo wR="7057" hR="7057" stAng="16200000" swAng="-5400000"/>
                  <a:lnTo>
                    <a:pt x="0" y="26241"/>
                  </a:lnTo>
                  <a:arcTo wR="7057" hR="7057" stAng="10800000" swAng="-5400000"/>
                  <a:lnTo>
                    <a:pt x="14543" y="33298"/>
                  </a:lnTo>
                  <a:arcTo wR="7057" hR="7057" stAng="5400000" swAng="-5400000"/>
                  <a:lnTo>
                    <a:pt x="21600" y="7057"/>
                  </a:lnTo>
                  <a:arcTo wR="7057" hR="705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44680" y="2584440"/>
              <a:ext cx="345600" cy="519120"/>
            </a:xfrm>
            <a:custGeom>
              <a:avLst/>
              <a:gdLst>
                <a:gd name="textAreaLeft" fmla="*/ 30600 w 345600"/>
                <a:gd name="textAreaRight" fmla="*/ 315000 w 345600"/>
                <a:gd name="textAreaTop" fmla="*/ 30600 h 519120"/>
                <a:gd name="textAreaBottom" fmla="*/ 488520 h 519120"/>
              </a:gdLst>
              <a:ahLst/>
              <a:rect l="textAreaLeft" t="textAreaTop" r="textAreaRight" b="textAreaBottom"/>
              <a:pathLst>
                <a:path w="21600" h="32434">
                  <a:moveTo>
                    <a:pt x="6539" y="0"/>
                  </a:moveTo>
                  <a:arcTo wR="6539" hR="6539" stAng="16200000" swAng="-5400000"/>
                  <a:lnTo>
                    <a:pt x="0" y="25895"/>
                  </a:lnTo>
                  <a:arcTo wR="6539" hR="6539" stAng="10800000" swAng="-5400000"/>
                  <a:lnTo>
                    <a:pt x="15061" y="32434"/>
                  </a:lnTo>
                  <a:arcTo wR="6539" hR="6539" stAng="5400000" swAng="-5400000"/>
                  <a:lnTo>
                    <a:pt x="21600" y="6539"/>
                  </a:lnTo>
                  <a:arcTo wR="6539" hR="653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44680" y="2584440"/>
              <a:ext cx="3200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44680" y="2584440"/>
              <a:ext cx="345600" cy="27144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44680" y="2584440"/>
              <a:ext cx="345600" cy="519120"/>
            </a:xfrm>
            <a:custGeom>
              <a:avLst/>
              <a:gdLst>
                <a:gd name="textAreaLeft" fmla="*/ 30600 w 345600"/>
                <a:gd name="textAreaRight" fmla="*/ 315000 w 345600"/>
                <a:gd name="textAreaTop" fmla="*/ 30600 h 519120"/>
                <a:gd name="textAreaBottom" fmla="*/ 488520 h 519120"/>
              </a:gdLst>
              <a:ahLst/>
              <a:rect l="textAreaLeft" t="textAreaTop" r="textAreaRight" b="textAreaBottom"/>
              <a:pathLst>
                <a:path w="21600" h="32434">
                  <a:moveTo>
                    <a:pt x="6539" y="0"/>
                  </a:moveTo>
                  <a:arcTo wR="6539" hR="6539" stAng="16200000" swAng="-5400000"/>
                  <a:lnTo>
                    <a:pt x="0" y="25895"/>
                  </a:lnTo>
                  <a:arcTo wR="6539" hR="6539" stAng="10800000" swAng="-5400000"/>
                  <a:lnTo>
                    <a:pt x="15061" y="32434"/>
                  </a:lnTo>
                  <a:arcTo wR="6539" hR="6539" stAng="5400000" swAng="-5400000"/>
                  <a:lnTo>
                    <a:pt x="21600" y="6539"/>
                  </a:lnTo>
                  <a:arcTo wR="6539" hR="653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44680" y="2832120"/>
              <a:ext cx="3200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734240" y="2584440"/>
              <a:ext cx="345600" cy="493560"/>
            </a:xfrm>
            <a:custGeom>
              <a:avLst/>
              <a:gdLst>
                <a:gd name="textAreaLeft" fmla="*/ 30600 w 345600"/>
                <a:gd name="textAreaRight" fmla="*/ 315000 w 345600"/>
                <a:gd name="textAreaTop" fmla="*/ 30600 h 493560"/>
                <a:gd name="textAreaBottom" fmla="*/ 462960 h 493560"/>
              </a:gdLst>
              <a:ahLst/>
              <a:rect l="textAreaLeft" t="textAreaTop" r="textAreaRight" b="textAreaBottom"/>
              <a:pathLst>
                <a:path w="21600" h="30838">
                  <a:moveTo>
                    <a:pt x="6539" y="0"/>
                  </a:moveTo>
                  <a:arcTo wR="6539" hR="6539" stAng="16200000" swAng="-5400000"/>
                  <a:lnTo>
                    <a:pt x="0" y="24299"/>
                  </a:lnTo>
                  <a:arcTo wR="6539" hR="6539" stAng="10800000" swAng="-5400000"/>
                  <a:lnTo>
                    <a:pt x="15061" y="30838"/>
                  </a:lnTo>
                  <a:arcTo wR="6539" hR="6539" stAng="5400000" swAng="-5400000"/>
                  <a:lnTo>
                    <a:pt x="21600" y="6539"/>
                  </a:lnTo>
                  <a:arcTo wR="6539" hR="6539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34240" y="2584440"/>
              <a:ext cx="369360" cy="519120"/>
            </a:xfrm>
            <a:custGeom>
              <a:avLst/>
              <a:gdLst>
                <a:gd name="textAreaLeft" fmla="*/ 30600 w 369360"/>
                <a:gd name="textAreaRight" fmla="*/ 338760 w 369360"/>
                <a:gd name="textAreaTop" fmla="*/ 30600 h 519120"/>
                <a:gd name="textAreaBottom" fmla="*/ 488520 h 519120"/>
              </a:gdLst>
              <a:ahLst/>
              <a:rect l="textAreaLeft" t="textAreaTop" r="textAreaRight" b="textAreaBottom"/>
              <a:pathLst>
                <a:path w="21600" h="30349">
                  <a:moveTo>
                    <a:pt x="6118" y="0"/>
                  </a:moveTo>
                  <a:arcTo wR="6118" hR="6118" stAng="16200000" swAng="-5400000"/>
                  <a:lnTo>
                    <a:pt x="0" y="24231"/>
                  </a:lnTo>
                  <a:arcTo wR="6118" hR="6118" stAng="10800000" swAng="-5400000"/>
                  <a:lnTo>
                    <a:pt x="15482" y="30349"/>
                  </a:lnTo>
                  <a:arcTo wR="6118" hR="6118" stAng="5400000" swAng="-5400000"/>
                  <a:lnTo>
                    <a:pt x="21600" y="6118"/>
                  </a:lnTo>
                  <a:arcTo wR="6118" hR="6118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58000" y="2584440"/>
              <a:ext cx="3218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58000" y="2584440"/>
              <a:ext cx="345600" cy="27144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734240" y="2584440"/>
              <a:ext cx="369360" cy="519120"/>
            </a:xfrm>
            <a:custGeom>
              <a:avLst/>
              <a:gdLst>
                <a:gd name="textAreaLeft" fmla="*/ 30600 w 369360"/>
                <a:gd name="textAreaRight" fmla="*/ 338760 w 369360"/>
                <a:gd name="textAreaTop" fmla="*/ 30600 h 519120"/>
                <a:gd name="textAreaBottom" fmla="*/ 488520 h 519120"/>
              </a:gdLst>
              <a:ahLst/>
              <a:rect l="textAreaLeft" t="textAreaTop" r="textAreaRight" b="textAreaBottom"/>
              <a:pathLst>
                <a:path w="21600" h="30349">
                  <a:moveTo>
                    <a:pt x="6118" y="0"/>
                  </a:moveTo>
                  <a:arcTo wR="6118" hR="6118" stAng="16200000" swAng="-5400000"/>
                  <a:lnTo>
                    <a:pt x="0" y="24231"/>
                  </a:lnTo>
                  <a:arcTo wR="6118" hR="6118" stAng="10800000" swAng="-5400000"/>
                  <a:lnTo>
                    <a:pt x="15482" y="30349"/>
                  </a:lnTo>
                  <a:arcTo wR="6118" hR="6118" stAng="5400000" swAng="-5400000"/>
                  <a:lnTo>
                    <a:pt x="21600" y="6118"/>
                  </a:lnTo>
                  <a:arcTo wR="6118" hR="6118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34240" y="2832120"/>
              <a:ext cx="3456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549360" y="120816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89800" y="4859280"/>
            <a:ext cx="331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RMI software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- between application level objects an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communication and remote reference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19240" y="2765520"/>
            <a:ext cx="6160680" cy="2904120"/>
            <a:chOff x="219240" y="2765520"/>
            <a:chExt cx="6160680" cy="2904120"/>
          </a:xfrm>
        </p:grpSpPr>
        <p:sp>
          <p:nvSpPr>
            <p:cNvPr id="299" name=""/>
            <p:cNvSpPr/>
            <p:nvPr/>
          </p:nvSpPr>
          <p:spPr>
            <a:xfrm>
              <a:off x="219240" y="4752720"/>
              <a:ext cx="6160680" cy="916920"/>
            </a:xfrm>
            <a:prstGeom prst="rect">
              <a:avLst/>
            </a:prstGeom>
            <a:solidFill>
              <a:srgbClr val="ffe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- makes RMI transparent to client. Class implements remote interface. Marshals requests and unmarshals results. Forwards reques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89480" y="2765520"/>
              <a:ext cx="919080" cy="1954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62080" y="2757600"/>
            <a:ext cx="6161040" cy="3839760"/>
            <a:chOff x="262080" y="2757600"/>
            <a:chExt cx="6161040" cy="3839760"/>
          </a:xfrm>
        </p:grpSpPr>
        <p:sp>
          <p:nvSpPr>
            <p:cNvPr id="302" name=""/>
            <p:cNvSpPr/>
            <p:nvPr/>
          </p:nvSpPr>
          <p:spPr>
            <a:xfrm>
              <a:off x="262080" y="5954760"/>
              <a:ext cx="6161040" cy="642600"/>
            </a:xfrm>
            <a:prstGeom prst="rect">
              <a:avLst/>
            </a:prstGeom>
            <a:solidFill>
              <a:srgbClr val="ffe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Dispatcher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- gets request from communication module and invokes method in skeleton (using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ethodID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in message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552840" y="2757600"/>
              <a:ext cx="2828880" cy="3163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03200" y="2395440"/>
            <a:ext cx="6161040" cy="4114080"/>
            <a:chOff x="403200" y="2395440"/>
            <a:chExt cx="6161040" cy="4114080"/>
          </a:xfrm>
        </p:grpSpPr>
        <p:sp>
          <p:nvSpPr>
            <p:cNvPr id="305" name=""/>
            <p:cNvSpPr/>
            <p:nvPr/>
          </p:nvSpPr>
          <p:spPr>
            <a:xfrm>
              <a:off x="403200" y="5592600"/>
              <a:ext cx="6161040" cy="916920"/>
            </a:xfrm>
            <a:prstGeom prst="rect">
              <a:avLst/>
            </a:prstGeom>
            <a:solidFill>
              <a:srgbClr val="ffe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Skeleto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- implements methods in remote interface. Unmarshals requests and marshals results. Invokes method in remote objec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3693960" y="2395440"/>
              <a:ext cx="2828880" cy="3163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406680" y="3205080"/>
            <a:ext cx="2727360" cy="2295360"/>
            <a:chOff x="3406680" y="3205080"/>
            <a:chExt cx="2727360" cy="2295360"/>
          </a:xfrm>
        </p:grpSpPr>
        <p:sp>
          <p:nvSpPr>
            <p:cNvPr id="309" name=""/>
            <p:cNvSpPr/>
            <p:nvPr/>
          </p:nvSpPr>
          <p:spPr>
            <a:xfrm>
              <a:off x="3699000" y="4857840"/>
              <a:ext cx="243504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rries out Request-reply 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06680" y="3205080"/>
              <a:ext cx="1476360" cy="1673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5443200" y="3206880"/>
              <a:ext cx="157320" cy="1719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98520" y="3313080"/>
            <a:ext cx="5925600" cy="3191760"/>
            <a:chOff x="398520" y="3313080"/>
            <a:chExt cx="5925600" cy="3191760"/>
          </a:xfrm>
        </p:grpSpPr>
        <p:sp>
          <p:nvSpPr>
            <p:cNvPr id="313" name=""/>
            <p:cNvSpPr/>
            <p:nvPr/>
          </p:nvSpPr>
          <p:spPr>
            <a:xfrm>
              <a:off x="398520" y="5587920"/>
              <a:ext cx="4595760" cy="916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lates between local and remote object references and creates remote object references. Uses remote object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66840" y="3600360"/>
              <a:ext cx="685800" cy="1954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4576320" y="3313080"/>
              <a:ext cx="1747800" cy="2362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1-12-30T17:14:30Z</dcterms:modified>
  <cp:revision>120</cp:revision>
  <dc:subject/>
  <dc:title>Figure 15.1 A distributed multimedia system</dc:title>
</cp:coreProperties>
</file>