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6183-085F-4FC2-A764-1B09859D7B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ook 1 hr 15 minutes to present, but the slides on NTP were omitted. NTP would require another 15 minutes or 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nternal synchronization discuss min is the time to transmit a message when nothing else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is the upper bound .The internet is an asynchronous system because there is no upper bound on message transmission del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lgorithm is probabilistic. Works if round trip times are shor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tes the points relaibility, primary and secondary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cal times of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en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previous mess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cal times of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en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current mess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cipient notes the time of receipt ( we have T</a:t>
            </a: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i-3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i-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 symmetric mode there can be a non-negligible delay between 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om the above: o-oi  = (t’-t)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fore |o-oi| = |t’-t|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 |t’-t| &lt;= |t’+t| = di therefore |o-oi| &lt;=di/2.    i.e. o-oi&lt;=dii/2 or o&lt;oi+di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so -o+oi&lt;= di/2 i.e. oi-di/2 &lt;=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 explains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igure 10.5 a -&gt; b (at p1) c-&gt;d at p2 and b-&gt;c because of m1 also d-&gt; f because of m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vents are related by -&gt; (happened before) consider a and e. (different processes and no chain of messages to relate th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ed before relation - relation of causal ord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B1, HB2 and HB3 (page 397) are formal statements of the three points on th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cuss LC1 and LC2 for Figure 10.6 (same as 10.5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itially clocks all set to 0. (a -&gt; 1) b-&gt;2 etc. For m1, 2 is piggybacked and c gets max(1,2)  + 1. Same for 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e -&gt; e’ implies L(e) &lt; L(e’). Converse not true. E.g. events b and 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b || e) concur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lowing points animated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ctor clocks overcome the shortcoming of Lamport logical clocks (L(e) &lt; L(e’) does not imply e happened before e’) e.g. events e an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ctor timestamps are used to timestamp local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pplied in schemes  for replication of data e.g. Gossip (p 572), Coda (p585) and causal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ules VC1-VC4 are for updating vector c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k through figure 10.7.  At p1 a(1,0,0) b (2,0,0) send (2,0,0) on 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 p2 on receipt of m1 get max((0,0,0), (2,0,0) = (2,0,0) add 1 -&gt; (2,1,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aning of =, &lt;=, max etc for vector timestam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that e-&gt; e’ implies V(e) &lt; V(e’). The converse is also tr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c || e parallel) because neither V(c) &lt;= V(e) nor V(e) &lt;= V(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FS client caching no need for synchronisation between client and server cloc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validation, check whether client clock has increased by 3 seconds, then compare two timestamps from the sam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clocks to increase monotonically and at a reasonably accurate rate (if very fast checks will occur too often, if slow, not often en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ke requires monotonic clock values (increases  in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n make uses files served by NFS, the client and server clocks need to be synchroni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general any program that uses local and server files and compres their timestamps would require loose synchronosation between client and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ck resolution - the period between updates of the value of the 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batteries -&gt; large drif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S does not work inside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ope they will answer the Y2k problem is an arbitrary failure (it makes 1 Jan 2000 be 1 Jan 19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81F-C0B9-4B75-9C08-0DD96C0A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BB1-DB6C-4C48-9FA3-89D79C85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D5BD-C466-42C6-BDA4-847669DE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DC9-FF60-4CFB-A204-7922F41D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800B-6F5D-4B09-8759-D45CCCB5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AEFF-E431-40B8-8F1A-7092632A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D4D1-7B9E-48D5-9AF0-41FEE05D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40B7-54A6-47C3-82D8-69361306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E026-67DD-43AF-BCB0-D7D58D9E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39200" y="228600"/>
            <a:ext cx="8888760" cy="34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7299-7013-4F79-8EB6-D757A00A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797D-821F-4E08-816C-4616E7F7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CB78-FBCC-47F3-9AAA-19554DD7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D5E4-7F40-4F95-ABE6-381A34CE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20F6-A229-4F4B-834E-1C9691CB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01C4-511A-4367-82C4-48D18E26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FF85-4375-4C6B-85A6-DC18C9E4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22E5-B792-400B-A58C-F3FF6ED7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879-6C0E-475F-A3CB-0B18AF91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D74-DA58-4F72-9F36-0446C5FF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FEB-21A0-4ECC-AC72-F76A354E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600"/>
            <a:ext cx="8888760" cy="34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A8C-B7C3-4B7B-92EA-C7C97C63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7EC-FA9E-4EEE-90A0-2336AFD6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05B-5D1B-4EDD-ABA2-3F718ADA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A0EF-E4AC-43D3-9FBF-8E8BFF64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C5BF-4AB6-4F57-863D-B56EE9D6C3A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BB88-FEAB-4EA9-90D2-C3501B0906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88800" y="685440"/>
            <a:ext cx="71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B738-FA1E-471A-882D-EE19ED90E4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9800" y="1352520"/>
            <a:ext cx="1130400" cy="1434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8280" y="304920"/>
            <a:ext cx="1592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ing material based on Distributed Systems: Concepts and Design, Edition 3, Addison-Wesley 200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2800" y="2833560"/>
            <a:ext cx="2013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pyright © George Coulouris, Jean Dollimore, Tim Kindberg 2001 email: 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uthors@cdk2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aterial is made available for private study and for direct use by individual teac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may not be included in any product or employed in any service without the written permission of the auth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4600" y="519120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0217"/>
                </a:solidFill>
                <a:latin typeface="Times New Roman"/>
              </a:rPr>
              <a:t>Viewing: These slides must be viewed in slide show mo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88800" y="685440"/>
            <a:ext cx="71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stributed Systems Course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ime and clock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46280" y="2994120"/>
            <a:ext cx="6934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10.1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Introduction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10.2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Clocks, events and process states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10.3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Synchronizing physical clocks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10.4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Logical time and logical clocks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(Omitting sections on global states)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0.3.1 Synchronization in a synchronous system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360" y="1368360"/>
            <a:ext cx="8859600" cy="3076560"/>
          </a:xfrm>
          <a:prstGeom prst="rect">
            <a:avLst/>
          </a:prstGeom>
          <a:solidFill>
            <a:srgbClr val="ad9e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a synchronous distributed system is one in which the following bounds are defined (ch. 2 p. 50):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e time to execute each step of a process has known lower and upper bound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each message transmitted over a channel is received within a known bounded tim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each process has a local clock whose drift rate from real time has a known boun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9040" y="4543560"/>
            <a:ext cx="8811720" cy="19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Internal synchronization in a synchronous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One process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sends its local time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to process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in a message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could set its clock to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trans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where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trans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is the time to transmit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trans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is unknown but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in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≤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trans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≤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ax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uncertainty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u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ax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-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in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. Set clock to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+ (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ax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in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)/2 then skew ≤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u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2880" y="477720"/>
            <a:ext cx="71326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ternet a synchronous syst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640" y="490680"/>
            <a:ext cx="7703280" cy="49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Internet, we can only say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trans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in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where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&gt;= 0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Cristian’s method (1989) for an asynchronous system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17480" y="4262400"/>
            <a:ext cx="8308800" cy="2005560"/>
            <a:chOff x="717480" y="4262400"/>
            <a:chExt cx="8308800" cy="2005560"/>
          </a:xfrm>
        </p:grpSpPr>
        <p:sp>
          <p:nvSpPr>
            <p:cNvPr id="143" name=""/>
            <p:cNvSpPr/>
            <p:nvPr/>
          </p:nvSpPr>
          <p:spPr>
            <a:xfrm>
              <a:off x="717480" y="4262400"/>
              <a:ext cx="2054160" cy="1501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7480" y="4262400"/>
              <a:ext cx="2084400" cy="1532160"/>
            </a:xfrm>
            <a:prstGeom prst="rect">
              <a:avLst/>
            </a:pr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40440" y="4262400"/>
              <a:ext cx="2054160" cy="1501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40440" y="4262400"/>
              <a:ext cx="2085840" cy="1532160"/>
            </a:xfrm>
            <a:prstGeom prst="rect">
              <a:avLst/>
            </a:pr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38040" y="4506840"/>
              <a:ext cx="1013040" cy="101124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26240" y="462924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58"/>
                  </a:moveTo>
                  <a:lnTo>
                    <a:pt x="0" y="135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55" y="58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26240" y="462924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58"/>
                  </a:moveTo>
                  <a:lnTo>
                    <a:pt x="0" y="135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55" y="58"/>
                  </a:lnTo>
                  <a:close/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58920" y="4721400"/>
              <a:ext cx="456732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89160" y="5211720"/>
              <a:ext cx="245880" cy="24624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0" y="77"/>
                  </a:moveTo>
                  <a:lnTo>
                    <a:pt x="155" y="0"/>
                  </a:lnTo>
                  <a:lnTo>
                    <a:pt x="155" y="77"/>
                  </a:lnTo>
                  <a:lnTo>
                    <a:pt x="155" y="155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89160" y="5211720"/>
              <a:ext cx="245880" cy="24624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0" y="77"/>
                  </a:moveTo>
                  <a:lnTo>
                    <a:pt x="155" y="0"/>
                  </a:lnTo>
                  <a:lnTo>
                    <a:pt x="155" y="77"/>
                  </a:lnTo>
                  <a:lnTo>
                    <a:pt x="155" y="155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434680" y="5334120"/>
              <a:ext cx="524196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64280" y="4660920"/>
              <a:ext cx="12204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64280" y="4660920"/>
              <a:ext cx="152280" cy="21420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08720" y="4660920"/>
              <a:ext cx="1224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08720" y="4660920"/>
              <a:ext cx="154080" cy="21420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33640" y="4660920"/>
              <a:ext cx="6192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33640" y="4660920"/>
              <a:ext cx="92160" cy="21420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33640" y="5243400"/>
              <a:ext cx="61920" cy="2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33640" y="5243400"/>
              <a:ext cx="92160" cy="24480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62800" y="4506840"/>
              <a:ext cx="981000" cy="101124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68040" y="427680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72160" y="43894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10880" y="556416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16440" y="56768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98120" y="59007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5962680"/>
              <a:ext cx="15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 server,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73040" y="1531800"/>
            <a:ext cx="754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8859600" cy="24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 time serve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receives signals from a UTC source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Proces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requests time in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and receive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in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from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sets its clock to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+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roun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/2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ccuracy ± 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roun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/2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in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: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because the earliest time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puts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in message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 is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in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after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p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sent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m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the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latest time was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min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before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m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arrived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at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p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the time by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’s clock when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arrives is in the range [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+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in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+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 baseline="-25000">
                <a:solidFill>
                  <a:srgbClr val="663300"/>
                </a:solidFill>
                <a:latin typeface="Arial"/>
              </a:rPr>
              <a:t>round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-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in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03760" y="59659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10040" y="2179800"/>
            <a:ext cx="4658040" cy="680040"/>
          </a:xfrm>
          <a:prstGeom prst="rect">
            <a:avLst/>
          </a:prstGeom>
          <a:solidFill>
            <a:srgbClr val="9cc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rou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the round trip time recorded by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n estimated minimum round trip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1040" y="482760"/>
            <a:ext cx="84121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otential problem in using a single time ser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erkeley algorithm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Cristian’s algorithm -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 single time server might fail, so they suggest the  use of a group of synchronized server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t does not deal with faulty server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Berkeley algorithm (also 1989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n algorithm for internal synchronization of a group of computer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aster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polls to collect clock values from the others 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lave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 master uses round trip times to estimate the slaves’ clock value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t takes an average (eliminating any above some average round trip time or with faulty clocks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t sends the required adjustment to the slaves (better than sending the time which depends on the round trip time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Measurement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15 computers, clock synchronization 20-25 millisecs drift rate &lt; 2x10</a:t>
            </a:r>
            <a:r>
              <a:rPr b="0" lang="en-GB" sz="1600" spc="-1" strike="noStrike" baseline="30000">
                <a:solidFill>
                  <a:srgbClr val="6633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If master fails, can elect a new master to take over (not in bounded time)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etwork Time Protocol (NTP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932040" y="3828960"/>
            <a:ext cx="8076600" cy="2500200"/>
            <a:chOff x="932040" y="3828960"/>
            <a:chExt cx="8076600" cy="2500200"/>
          </a:xfrm>
        </p:grpSpPr>
        <p:sp>
          <p:nvSpPr>
            <p:cNvPr id="180" name=""/>
            <p:cNvSpPr/>
            <p:nvPr/>
          </p:nvSpPr>
          <p:spPr>
            <a:xfrm>
              <a:off x="2170080" y="5265360"/>
              <a:ext cx="125640" cy="5472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63" y="16"/>
                  </a:moveTo>
                  <a:lnTo>
                    <a:pt x="79" y="32"/>
                  </a:lnTo>
                  <a:lnTo>
                    <a:pt x="0" y="63"/>
                  </a:lnTo>
                  <a:lnTo>
                    <a:pt x="47" y="0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270160" y="4964040"/>
              <a:ext cx="574560" cy="3150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96080" y="5279400"/>
              <a:ext cx="100080" cy="5472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16" y="16"/>
                  </a:moveTo>
                  <a:lnTo>
                    <a:pt x="31" y="0"/>
                  </a:lnTo>
                  <a:lnTo>
                    <a:pt x="63" y="63"/>
                  </a:lnTo>
                  <a:lnTo>
                    <a:pt x="0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70840" y="4977720"/>
              <a:ext cx="525240" cy="301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21600" y="4526280"/>
              <a:ext cx="123840" cy="5472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63" y="16"/>
                  </a:moveTo>
                  <a:lnTo>
                    <a:pt x="78" y="32"/>
                  </a:lnTo>
                  <a:lnTo>
                    <a:pt x="0" y="63"/>
                  </a:lnTo>
                  <a:lnTo>
                    <a:pt x="47" y="0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721320" y="4266720"/>
              <a:ext cx="623880" cy="2732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71520" y="4513320"/>
              <a:ext cx="99720" cy="5472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15"/>
                  </a:moveTo>
                  <a:lnTo>
                    <a:pt x="16" y="0"/>
                  </a:lnTo>
                  <a:lnTo>
                    <a:pt x="63" y="63"/>
                  </a:lnTo>
                  <a:lnTo>
                    <a:pt x="0" y="3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96600" y="4266720"/>
              <a:ext cx="574920" cy="246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7480" y="5251320"/>
              <a:ext cx="125280" cy="6840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16" y="16"/>
                  </a:moveTo>
                  <a:lnTo>
                    <a:pt x="31" y="0"/>
                  </a:lnTo>
                  <a:lnTo>
                    <a:pt x="79" y="79"/>
                  </a:lnTo>
                  <a:lnTo>
                    <a:pt x="0" y="32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45960" y="4964040"/>
              <a:ext cx="576360" cy="301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45480" y="3828960"/>
              <a:ext cx="1050840" cy="56088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95680" y="4499280"/>
              <a:ext cx="1025640" cy="56088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45960" y="4499280"/>
              <a:ext cx="1050840" cy="56088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20840" y="5279400"/>
              <a:ext cx="1023840" cy="56088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70880" y="5279400"/>
              <a:ext cx="1000080" cy="56088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22600" y="5279400"/>
              <a:ext cx="1024200" cy="56088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07000" y="4081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57560" y="4753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80920" y="5532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07480" y="4753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32400" y="5532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82680" y="5532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32040" y="6024600"/>
              <a:ext cx="8076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55120" y="1387080"/>
            <a:ext cx="8859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A time service for the Internet - synchronizes clients to UTC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29080" y="57452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1160" y="1811160"/>
            <a:ext cx="715824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Reliability from redundant paths, scalable, authenticates time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6653160" y="2579760"/>
            <a:ext cx="6048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488960" y="1969920"/>
            <a:ext cx="5356440" cy="2000520"/>
            <a:chOff x="1488960" y="1969920"/>
            <a:chExt cx="5356440" cy="2000520"/>
          </a:xfrm>
        </p:grpSpPr>
        <p:sp>
          <p:nvSpPr>
            <p:cNvPr id="208" name=""/>
            <p:cNvSpPr/>
            <p:nvPr/>
          </p:nvSpPr>
          <p:spPr>
            <a:xfrm>
              <a:off x="1488960" y="1969920"/>
              <a:ext cx="5356440" cy="340560"/>
            </a:xfrm>
            <a:prstGeom prst="rect">
              <a:avLst/>
            </a:prstGeom>
            <a:solidFill>
              <a:srgbClr val="b5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3300"/>
                  </a:solidFill>
                  <a:latin typeface="Arial"/>
                </a:rPr>
                <a:t>Primary servers are connected to UTC sour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35000" y="2357280"/>
              <a:ext cx="2379960" cy="1613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165400" y="2162160"/>
            <a:ext cx="5357520" cy="2332080"/>
            <a:chOff x="2165400" y="2162160"/>
            <a:chExt cx="5357520" cy="2332080"/>
          </a:xfrm>
        </p:grpSpPr>
        <p:sp>
          <p:nvSpPr>
            <p:cNvPr id="211" name=""/>
            <p:cNvSpPr/>
            <p:nvPr/>
          </p:nvSpPr>
          <p:spPr>
            <a:xfrm>
              <a:off x="2165400" y="2162160"/>
              <a:ext cx="5357520" cy="642600"/>
            </a:xfrm>
            <a:prstGeom prst="rect">
              <a:avLst/>
            </a:prstGeom>
            <a:solidFill>
              <a:srgbClr val="99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3300"/>
                  </a:solidFill>
                  <a:latin typeface="Arial"/>
                </a:rPr>
                <a:t>Secondary servers are synchronized to primary ser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3246840" y="2822400"/>
              <a:ext cx="846000" cy="1652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25720" y="2720880"/>
              <a:ext cx="625320" cy="1773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39880" y="2757600"/>
            <a:ext cx="5357520" cy="2482560"/>
            <a:chOff x="2639880" y="2757600"/>
            <a:chExt cx="5357520" cy="2482560"/>
          </a:xfrm>
        </p:grpSpPr>
        <p:sp>
          <p:nvSpPr>
            <p:cNvPr id="215" name=""/>
            <p:cNvSpPr/>
            <p:nvPr/>
          </p:nvSpPr>
          <p:spPr>
            <a:xfrm>
              <a:off x="2639880" y="2757600"/>
              <a:ext cx="5357520" cy="642600"/>
            </a:xfrm>
            <a:prstGeom prst="rect">
              <a:avLst/>
            </a:prstGeom>
            <a:solidFill>
              <a:srgbClr val="ff9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3300"/>
                  </a:solidFill>
                  <a:latin typeface="Arial"/>
                </a:rPr>
                <a:t>Synchronization subnet - lowest level servers in users’ compu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81240" y="3446640"/>
              <a:ext cx="60480" cy="1793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TP - synchronisation of server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e synchronization subnet can reconfigure if failures occur, e.g.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  primary that loses its UTC source can become a secondary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 secondary that loses its primary can use another primary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Modes of synchronization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A server within a high speed LAN multicasts time to others which set clocks assuming some delay (not very accurate)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Procedure call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A server accepts requests from other computers (like Cristiain’s algorithm). Higher accuracy. Useful if no hardware multicast. 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Symmetric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Pairs of servers exchange messages containing time information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Used where very high accuracies are needed (e.g. for higher levels)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essages exchanged between a pair of NTP peers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900000" y="3935520"/>
            <a:ext cx="8319600" cy="2510640"/>
            <a:chOff x="900000" y="3935520"/>
            <a:chExt cx="8319600" cy="2510640"/>
          </a:xfrm>
        </p:grpSpPr>
        <p:sp>
          <p:nvSpPr>
            <p:cNvPr id="223" name=""/>
            <p:cNvSpPr/>
            <p:nvPr/>
          </p:nvSpPr>
          <p:spPr>
            <a:xfrm>
              <a:off x="7837560" y="4533120"/>
              <a:ext cx="88920" cy="137880"/>
            </a:xfrm>
            <a:custGeom>
              <a:avLst/>
              <a:gdLst/>
              <a:ahLst/>
              <a:rect l="l" t="t" r="r" b="b"/>
              <a:pathLst>
                <a:path w="56" h="93">
                  <a:moveTo>
                    <a:pt x="18" y="93"/>
                  </a:moveTo>
                  <a:lnTo>
                    <a:pt x="0" y="75"/>
                  </a:lnTo>
                  <a:lnTo>
                    <a:pt x="56" y="0"/>
                  </a:lnTo>
                  <a:lnTo>
                    <a:pt x="37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361280" y="4670640"/>
              <a:ext cx="504720" cy="1217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99160" y="5694840"/>
              <a:ext cx="88920" cy="138960"/>
            </a:xfrm>
            <a:custGeom>
              <a:avLst/>
              <a:gdLst/>
              <a:ahLst/>
              <a:rect l="l" t="t" r="r" b="b"/>
              <a:pathLst>
                <a:path w="56" h="94">
                  <a:moveTo>
                    <a:pt x="19" y="0"/>
                  </a:moveTo>
                  <a:lnTo>
                    <a:pt x="37" y="0"/>
                  </a:lnTo>
                  <a:lnTo>
                    <a:pt x="56" y="94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53120" y="4476960"/>
              <a:ext cx="476280" cy="1217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98720" y="4533120"/>
              <a:ext cx="88920" cy="137880"/>
            </a:xfrm>
            <a:custGeom>
              <a:avLst/>
              <a:gdLst/>
              <a:ahLst/>
              <a:rect l="l" t="t" r="r" b="b"/>
              <a:pathLst>
                <a:path w="56" h="93">
                  <a:moveTo>
                    <a:pt x="18" y="93"/>
                  </a:moveTo>
                  <a:lnTo>
                    <a:pt x="0" y="75"/>
                  </a:lnTo>
                  <a:lnTo>
                    <a:pt x="56" y="0"/>
                  </a:lnTo>
                  <a:lnTo>
                    <a:pt x="37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322440" y="4670640"/>
              <a:ext cx="505080" cy="1217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68400" y="5694840"/>
              <a:ext cx="88920" cy="138960"/>
            </a:xfrm>
            <a:custGeom>
              <a:avLst/>
              <a:gdLst/>
              <a:ahLst/>
              <a:rect l="l" t="t" r="r" b="b"/>
              <a:pathLst>
                <a:path w="56" h="94">
                  <a:moveTo>
                    <a:pt x="37" y="0"/>
                  </a:moveTo>
                  <a:lnTo>
                    <a:pt x="56" y="0"/>
                  </a:lnTo>
                  <a:lnTo>
                    <a:pt x="56" y="94"/>
                  </a:lnTo>
                  <a:lnTo>
                    <a:pt x="0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00200" y="4476960"/>
              <a:ext cx="326880" cy="1217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0000" y="5888880"/>
              <a:ext cx="7364520" cy="5266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17640" y="3935520"/>
              <a:ext cx="7364160" cy="524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70720" y="4450680"/>
              <a:ext cx="149400" cy="82440"/>
            </a:xfrm>
            <a:custGeom>
              <a:avLst/>
              <a:gdLst/>
              <a:ahLst/>
              <a:rect l="l" t="t" r="r" b="b"/>
              <a:pathLst>
                <a:path w="94" h="56">
                  <a:moveTo>
                    <a:pt x="0" y="18"/>
                  </a:moveTo>
                  <a:lnTo>
                    <a:pt x="0" y="0"/>
                  </a:lnTo>
                  <a:lnTo>
                    <a:pt x="94" y="18"/>
                  </a:lnTo>
                  <a:lnTo>
                    <a:pt x="0" y="5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17640" y="4476960"/>
              <a:ext cx="7453080" cy="10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70720" y="5834160"/>
              <a:ext cx="149400" cy="82800"/>
            </a:xfrm>
            <a:custGeom>
              <a:avLst/>
              <a:gdLst/>
              <a:ahLst/>
              <a:rect l="l" t="t" r="r" b="b"/>
              <a:pathLst>
                <a:path w="94" h="56">
                  <a:moveTo>
                    <a:pt x="0" y="37"/>
                  </a:moveTo>
                  <a:lnTo>
                    <a:pt x="0" y="0"/>
                  </a:lnTo>
                  <a:lnTo>
                    <a:pt x="94" y="37"/>
                  </a:lnTo>
                  <a:lnTo>
                    <a:pt x="0" y="56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917640" y="5873760"/>
              <a:ext cx="7472160" cy="147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41640" y="61243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87800" y="621756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19200" y="41587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63560" y="4259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-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93600" y="41587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38320" y="425952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96640" y="425952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320" y="61243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63480" y="621756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20360" y="62175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42760" y="62175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29400" y="415872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erver 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29400" y="612432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erver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682480" y="437940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02040" y="504504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02120" y="5045040"/>
              <a:ext cx="24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'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682480" y="581940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360" y="1220400"/>
            <a:ext cx="88596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All modes use UDP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Each message bears timestamps of recent events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Local times of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Send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Receive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of previous message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Local times of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Send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of current message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Recipient notes the time of receipt 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( we have T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i-3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i-2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i-1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n symmetric mode there can be a non-negligible delay between message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9280" y="49212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igure 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ccuracy of NTP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4440" y="120600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For each pair of messages between two servers, NTP estimates an offset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between the two clocks and a delay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(total time for the two messages, which take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-3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+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 o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-1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+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’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is gives us (by adding the equations) 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 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’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i-2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-3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 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-1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lso (by subtracting the equations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(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’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)/2 where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(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i-2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-3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-1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)/2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Using the fact that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’&gt;0 it can be shown that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/2 ≤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≤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/2 .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u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is an estimate of the offset and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is a measure of the accuracy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NTP servers filter pairs &lt;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&gt;, estimating reliability from variation, allowing them to select peers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ccuracy of 10s of millisecs over Internet paths (1 on LANs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Logical time and logical clocks (Lamport 1978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360" y="1243080"/>
            <a:ext cx="88596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nstead of synchronizing clocks, event ordering can be use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23800" y="3873600"/>
            <a:ext cx="8742240" cy="2711520"/>
            <a:chOff x="523800" y="3873600"/>
            <a:chExt cx="8742240" cy="271152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523800" y="3873600"/>
              <a:ext cx="866952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7867800" y="434196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10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760320" y="2155680"/>
            <a:ext cx="8020080" cy="1099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all events are relat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different processes and no chain of messages to relate th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y are not relat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; they are said to be concurrent; write a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83160" y="3502080"/>
            <a:ext cx="58194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appened before relation is the relation of causal ord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82840" y="1728720"/>
            <a:ext cx="7202520" cy="1350360"/>
          </a:xfrm>
          <a:prstGeom prst="rect">
            <a:avLst/>
          </a:prstGeom>
          <a:solidFill>
            <a:srgbClr val="8a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If two events occurred at the same process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= 1, 2, …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) then they occurred in the order observed by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, that is  </a:t>
            </a:r>
            <a:r>
              <a:rPr b="0" lang="en-US" sz="1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</a:t>
            </a:r>
            <a:r>
              <a:rPr b="0" lang="en-US" sz="1600" spc="-1" strike="noStrike" baseline="-25000">
                <a:solidFill>
                  <a:srgbClr val="663300"/>
                </a:solidFill>
                <a:latin typeface="Arial"/>
              </a:rPr>
              <a:t>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when a message,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is sent between two processes,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send(m)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happened before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receive(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The happened before relation is trans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7560" y="310680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HB1, HB2 and HB3 (page 397) are formal statements of these 3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9200" y="1598760"/>
            <a:ext cx="27363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(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9680" y="1598760"/>
            <a:ext cx="21870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cause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98480" y="1619280"/>
            <a:ext cx="25174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s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cause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9200" y="404640"/>
            <a:ext cx="88887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Lamport’s logical clock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360" y="1201320"/>
            <a:ext cx="8950320" cy="2538360"/>
          </a:xfrm>
          <a:prstGeom prst="rect">
            <a:avLst/>
          </a:prstGeom>
          <a:solidFill>
            <a:srgbClr val="8ac5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A logical clock is a monotonically increasing software counter. It need not relate to a physical clock.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Each process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has a logical clock,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L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which can be used to apply logical timestamps to event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LC1: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L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i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is incremented by 1 before each event at process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LC2: 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(a) when process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sends message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, it piggybacks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= 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L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i 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(b) when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pj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receives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(m,t)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it sets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L</a:t>
            </a:r>
            <a:r>
              <a:rPr b="0" lang="en-GB" sz="1600" spc="-1" strike="noStrike" baseline="-25000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:=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ax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L</a:t>
            </a:r>
            <a:r>
              <a:rPr b="0" lang="en-GB" sz="1600" spc="-1" strike="noStrike" baseline="-25000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) and applies LC1 before timestamping the event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receive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)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1520" y="3767040"/>
            <a:ext cx="8386560" cy="2853000"/>
            <a:chOff x="641520" y="3767040"/>
            <a:chExt cx="8386560" cy="285300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641520" y="3767040"/>
              <a:ext cx="8386560" cy="28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7450560" y="4522680"/>
              <a:ext cx="133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Figure 10.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50920" y="1798560"/>
            <a:ext cx="589284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f p1, p2, p3 has its logical clock initialised to zer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ock values are those immediately after the ev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1 for a, 2 for b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2879640"/>
            <a:ext cx="56307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2 is piggybacked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2)+1 = 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83240" y="2023920"/>
            <a:ext cx="2881440" cy="1374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 implie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&lt;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nverse is not true, that i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&lt;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'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does not imply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51400" y="287280"/>
            <a:ext cx="288108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an example to show the converse is not tr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32560" y="469800"/>
            <a:ext cx="28814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ector clocks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5360" y="1241280"/>
            <a:ext cx="8859600" cy="2484720"/>
          </a:xfrm>
          <a:prstGeom prst="rect">
            <a:avLst/>
          </a:prstGeom>
          <a:solidFill>
            <a:srgbClr val="99c5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Vector clock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at process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is an array of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integer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VC1:initially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] = 0 for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= 1, 2, …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VC2:before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timestamps an event it sets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] :=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] +1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VC3: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piggybacks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on every message it send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VC4:when p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receives (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 it sets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] := max(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] ,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])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= 1, 2, …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N   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( then before next event adds I  to own element using VC2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15960" y="3898800"/>
            <a:ext cx="8650440" cy="2556000"/>
            <a:chOff x="615960" y="3898800"/>
            <a:chExt cx="8650440" cy="2556000"/>
          </a:xfrm>
        </p:grpSpPr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615960" y="3898800"/>
              <a:ext cx="8650440" cy="25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7448040" y="4498920"/>
              <a:ext cx="133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Figure 10.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121280" y="32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160" y="4233960"/>
            <a:ext cx="612288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ctor clocks overcome the shortcoming of Lamport logical c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e) &lt;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’) does not imply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ppened befor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5360" y="5051520"/>
            <a:ext cx="511560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ctor timestamps are used to timestamp  local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8320" y="5667480"/>
            <a:ext cx="970560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are applied in schemes  for replication of data e.g. Gossip (p 572), Coda (p585) and causal mult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6680" y="1341360"/>
            <a:ext cx="50540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0,0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,0,0) piggybac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,0,0)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5360" y="1855800"/>
            <a:ext cx="90136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receip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g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(0,0,0), (2,0,0)) = (2, 0, 0) add 1 to own element = (2,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2080" y="2394000"/>
            <a:ext cx="718488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aning of =, &lt;=, max etc for vector timestamps - compare elements pair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5120" y="3000240"/>
            <a:ext cx="6345000" cy="734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 implie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&lt;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). The converse is also true. See Exercise 10.3 for a proo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10720" y="204840"/>
            <a:ext cx="3646440" cy="337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you see a pair of parallel events?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9120" y="392040"/>
            <a:ext cx="867420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]] is the number of events that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s timest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] (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≠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is the number of events at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s been affec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72200" y="703440"/>
            <a:ext cx="574704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rallel) because neithe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) &lt;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n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&lt;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0.1 Introduction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We need to measure time accurately: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o know the time an event occurred at a computer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o do this we need to synchronize its clock with an authoritative external clock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Algorithms for clock synchronization useful for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oncurrency control based on timestamp ordering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authenticity of requests e.g. in Kerbero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re is no global clock in a distributed system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is chapter discusses clock accuracy and synchronisatio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Logical time is an alternative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t gives ordering of events - also useful for consistency of replicated dat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19400" y="263520"/>
            <a:ext cx="785412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NFS client cache sche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client and server clocks need to be synchroniz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00320" y="264960"/>
            <a:ext cx="786744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NFS client cache sche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roperties do we require from the cloc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ummary on time and clocks in distributed systems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ccurate timekeeping is important for distributed systems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lgorithms (e.g. Cristian’s and NTP) synchronize clocks in spite of their drift and the variability of message delays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for ordering of an arbitrary pair of events at different computers, clock synchronization is not always practical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e happened-before relation is a partial order on events that reflects a flow of information between them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Lamport clocks are counters that are updated according to the happened-before relationship between events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vector clocks are an improvement on Lamport clocks,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we can tell whether two events are ordered by happened-before or are concurrent by comparing their vector timestamp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buClr>
                <a:srgbClr val="ff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h 2 (p 50) Computer clocks and timing event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Each computer in a DS has its own internal clock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used by local processes to obtain the value of the current tim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processes on different computers can timestamp their events 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but clocks on different computers may give different time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omputer clocks drift from perfect time and their drift rates differ from one another. 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clock drift rate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: the relative amount that a computer clock differs from a perfect clock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Even if clocks on all computers in a DS are set to the same time, their clocks will eventually vary quite significantly unless corrections are applied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" y="5800680"/>
            <a:ext cx="850032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lock properties are required by the Uni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t uses local fi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5799240"/>
            <a:ext cx="840708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files are served by NFS, what properties doe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gram require from the computer cloc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0.2 Clocks, events and process stat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845560" cy="5087880"/>
          </a:xfrm>
          <a:prstGeom prst="rect">
            <a:avLst/>
          </a:prstGeom>
          <a:solidFill>
            <a:srgbClr val="a1aa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 distributed system is defined as a collection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P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of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N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processes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 p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, i = 1,2,… N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ach proces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has a state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consisting of its variables (which it transforms as it executes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Processes communicate only by messages (via a  network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ctions of processes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end, Receive,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change own state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Event: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e occurrence of a single action that a process carries out as it executes e.g.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end, Receive,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change state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vents at a single process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p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can be placed in a total ordering denoted by the relation </a:t>
            </a:r>
            <a:r>
              <a:rPr b="0" lang="en-GB" sz="24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 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between the events. i.e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e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 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 and only if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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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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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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 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 history of process p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i: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s a series of events ordered by 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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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history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p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= h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i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=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&lt;e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 baseline="30000">
                <a:solidFill>
                  <a:srgbClr val="6633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e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 baseline="30000">
                <a:solidFill>
                  <a:srgbClr val="663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e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 baseline="30000">
                <a:solidFill>
                  <a:srgbClr val="663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…&gt;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9480" y="442800"/>
            <a:ext cx="848952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'happened before' relation is essential to understanding logical c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ock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885960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We have seen how to order events (happened before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o timestamp events, use the computer’s clock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t real time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the OS reads the time on the computer’s hardware clock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H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t calculates the time on its software clock</a:t>
            </a:r>
            <a:br>
              <a:rPr sz="2400"/>
            </a:b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)= </a:t>
            </a:r>
            <a:r>
              <a:rPr b="0" lang="en-GB" sz="2400" spc="-1" strike="noStrike">
                <a:solidFill>
                  <a:srgbClr val="663300"/>
                </a:solidFill>
                <a:latin typeface="Symbol"/>
                <a:ea typeface="Symbol"/>
              </a:rPr>
              <a:t>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H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) + </a:t>
            </a:r>
            <a:r>
              <a:rPr b="0" i="1" lang="en-GB" sz="2400" spc="-1" strike="noStrike">
                <a:solidFill>
                  <a:srgbClr val="663300"/>
                </a:solidFill>
                <a:latin typeface="Symbol"/>
                <a:ea typeface="Symbol"/>
              </a:rPr>
              <a:t>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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a 64 bit number givingondbase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In general, 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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if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behaves well enough,  at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3400" y="5191200"/>
            <a:ext cx="35503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clock re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31760" y="5176800"/>
            <a:ext cx="385524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ccurate should it 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560" y="5829480"/>
            <a:ext cx="96768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resolution &lt; time interval between successive events that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kew between computer clocks in a distributed system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3484440"/>
            <a:ext cx="885996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Computer clocks are not generally in perfect agreement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Skew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: the difference between the times on two clocks (at any instant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Computer clocks are subject to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clock drif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(they count time at different rates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Clock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drift rate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: the difference per unit of time from some ideal reference clock 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Ordinary quartz clocks drift by about 1 sec in 11-12 days. (10</a:t>
            </a:r>
            <a:r>
              <a:rPr b="0" lang="en-GB" sz="2000" spc="-1" strike="noStrike" baseline="30000">
                <a:solidFill>
                  <a:srgbClr val="663300"/>
                </a:solidFill>
                <a:latin typeface="Arial"/>
              </a:rPr>
              <a:t>-6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secs/sec).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High precision quartz clocks drift rate is about 10</a:t>
            </a:r>
            <a:r>
              <a:rPr b="0" lang="en-GB" sz="2000" spc="-1" strike="noStrike" baseline="30000">
                <a:solidFill>
                  <a:srgbClr val="663300"/>
                </a:solidFill>
                <a:latin typeface="Arial"/>
              </a:rPr>
              <a:t>-7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or 10</a:t>
            </a:r>
            <a:r>
              <a:rPr b="0" lang="en-GB" sz="2000" spc="-1" strike="noStrike" baseline="30000">
                <a:solidFill>
                  <a:srgbClr val="663300"/>
                </a:solidFill>
                <a:latin typeface="Arial"/>
              </a:rPr>
              <a:t>-8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secs/sec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46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06440" y="1332000"/>
            <a:ext cx="8901000" cy="2019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51080" y="298944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igure 1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840" y="533520"/>
            <a:ext cx="87015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to clocks when their batteries become very 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ordinated Universal Time (UTC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nternational Atomic Time is based on very accurate physical clocks (drift rate 10</a:t>
            </a:r>
            <a:r>
              <a:rPr b="0" lang="en-US" sz="2400" spc="-1" strike="noStrike" baseline="30000">
                <a:solidFill>
                  <a:srgbClr val="663300"/>
                </a:solidFill>
                <a:latin typeface="Arial"/>
              </a:rPr>
              <a:t>-13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UTC is an international standard for time keeping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t is based on atomic time, but occasionally adjusted to astronomical time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t is broadcast from radio stations on land and satellite (e.g. GPS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omputers with receivers can synchronize their clocks with these timing signal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ignals from land-based stations are accurate to about 0.1-10 millisecond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ignals from GPS are accurate to about 1 microsecond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26160" y="6022800"/>
            <a:ext cx="75585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an't we put GPS receivers on all our comput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0.3 Synchronizing physical clock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xternal synchronization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 computer’s clock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is synchronized with an external authoritative time source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,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o that: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|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-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| &lt;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for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= 1, 2, …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N 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over an interval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of real time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 clock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re accurate to within the bound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nternal synchronization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 clocks of a pair of computers are synchronized with one another so that: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|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-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| &lt;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for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= 1, 2, …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N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over an interval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of real time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 clock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nd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C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j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gree within the bound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nternally synchronized clocks are not necessarily externally synchronized, as they may drift collectively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f the set of processes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P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s synchronized externally within a bou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it is also internally synchronized within bound 2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ock correctnes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6040" y="1244160"/>
            <a:ext cx="88599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 hardware clock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H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is said to be correct if its drift rate is within a bound </a:t>
            </a:r>
            <a:r>
              <a:rPr b="0" i="1" lang="en-GB" sz="2400" spc="-1" strike="noStrike">
                <a:solidFill>
                  <a:srgbClr val="6633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&gt; 0. (e.g. 10</a:t>
            </a:r>
            <a:r>
              <a:rPr b="0" lang="en-GB" sz="2400" spc="-1" strike="noStrike" baseline="30000">
                <a:solidFill>
                  <a:srgbClr val="663300"/>
                </a:solidFill>
                <a:latin typeface="Arial"/>
              </a:rPr>
              <a:t>-6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secs/ sec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is means that the error in measuring the interval between real time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’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is bounded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1 -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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-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≤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H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-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H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≤ (1 +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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-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where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&gt;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Which forbids jumps in time readings of hardware clock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Weaker condition of monotonicity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' &gt;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 </a:t>
            </a:r>
            <a:r>
              <a:rPr b="0" i="1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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 C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&gt;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.g. required by Unix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ake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can achieve monotonicity with a hardware clock that runs fast by adjusting the values of </a:t>
            </a:r>
            <a:r>
              <a:rPr b="0" lang="en-GB" sz="1600" spc="-1" strike="noStrike">
                <a:solidFill>
                  <a:srgbClr val="663300"/>
                </a:solidFill>
                <a:latin typeface="Symbol"/>
                <a:ea typeface="Symbol"/>
              </a:rPr>
              <a:t>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</a:t>
            </a:r>
            <a:r>
              <a:rPr b="0" lang="en-GB" sz="1600" spc="-1" strike="noStrike">
                <a:solidFill>
                  <a:srgbClr val="663300"/>
                </a:solidFill>
                <a:latin typeface="Symbol"/>
                <a:ea typeface="Symbol"/>
              </a:rPr>
              <a:t>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</a:t>
            </a:r>
            <a:r>
              <a:rPr b="0" lang="en-GB" sz="1600" spc="-1" strike="noStrike">
                <a:solidFill>
                  <a:srgbClr val="663300"/>
                </a:solidFill>
                <a:latin typeface="Symbol"/>
                <a:ea typeface="Symbol"/>
              </a:rPr>
              <a:t>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)= </a:t>
            </a:r>
            <a:r>
              <a:rPr b="0" lang="en-GB" sz="1600" spc="-1" strike="noStrike">
                <a:solidFill>
                  <a:srgbClr val="663300"/>
                </a:solidFill>
                <a:latin typeface="Symbol"/>
                <a:ea typeface="Symbol"/>
              </a:rPr>
              <a:t>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H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) + </a:t>
            </a:r>
            <a:r>
              <a:rPr b="0" i="1" lang="en-GB" sz="1600" spc="-1" strike="noStrike">
                <a:solidFill>
                  <a:srgbClr val="663300"/>
                </a:solidFill>
                <a:latin typeface="Symbol"/>
                <a:ea typeface="Symbol"/>
              </a:rPr>
              <a:t></a:t>
            </a:r>
            <a:r>
              <a:rPr b="0" lang="en-GB" sz="1600" spc="-1" strike="noStrike">
                <a:solidFill>
                  <a:srgbClr val="663300"/>
                </a:solidFill>
                <a:latin typeface="Symbol"/>
                <a:ea typeface="Symbol"/>
              </a:rPr>
              <a:t>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 faulty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clock is one that does not obey its correctness condition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crash failure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a clock stops ticking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rbitrary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failure - any other failure e.g. jumps in time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4920" y="487440"/>
            <a:ext cx="89712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'Y2K bug' - what sort of clock failure would that b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2-11T15:46:21Z</dcterms:modified>
  <cp:revision>216</cp:revision>
  <dc:subject/>
  <dc:title>Figure 15.1 A distributed multimedia system</dc:title>
</cp:coreProperties>
</file>