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F593-413A-43F4-94BC-56B5280C3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0FA-F7B0-4EA0-8CE5-C4ECD6B8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016-3C3A-4ACA-AD91-D683F296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192-2DD1-4773-9F98-373E6A94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041-E9D8-4EAE-8E9E-680525CD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8849-DF53-40BF-9BF8-5373BD43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F3CD-02E4-4DFF-8AD8-8691DC9A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6691-790C-47B1-BB5A-3E6E773E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C492-583A-4F55-B88B-B3A0F150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148A-BD32-4C98-A3A1-2952CF29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863D-EB81-47F8-A4D5-B199855A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B5AF-0A68-4D8C-8633-13C7BD9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D24-84F3-447C-B2C1-2106416F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C7B7-BF16-45BB-99FB-CD1C2432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6405-8587-4C7C-B482-98572842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70D0-9B90-4AC8-B94F-996B037A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C23E-76AC-458F-BC8B-DB841AFB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F026-CE18-402F-9A1B-CA399C62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C1B-341E-4181-8FA4-F80ED755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383-75B5-4CD0-8700-3D8E5460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09B-B196-4577-A8DC-2C78C4BC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20D-B3F9-430A-BC93-DEC1F5EF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DDC-41FB-41BB-B799-F2E8AFE0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AA8-B387-4E47-9249-0C3C6A4A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61B-6F9B-4F0B-954A-4FD0E225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2EE6-A6E3-4366-BF2E-A8DA7B86B9B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6299-FCD0-4F60-AFEA-BE0144FAEC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2920" y="685440"/>
            <a:ext cx="57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DE5E-225D-46F2-A807-7BE192C48A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2833560"/>
            <a:ext cx="201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George Coulouris, Jean Dollimore, Tim Kindberg 2001 email: 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uthors@cdk2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terial is made available for private study and for direct use by individual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included in any product or employed in any service without the written permission of the auth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4600" y="51912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0217"/>
                </a:solidFill>
                <a:latin typeface="Times New Roman"/>
              </a:rPr>
              <a:t>Viewing: These slides must be viewed in slide show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9800" y="1352520"/>
            <a:ext cx="11304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8280" y="304920"/>
            <a:ext cx="1592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ing material based on Distributed Systems: Concepts and Design, Edition 3, Addison-Wesley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42920" y="685440"/>
            <a:ext cx="57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istributed Systems Cours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962440" y="3352320"/>
            <a:ext cx="5968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aught at</a:t>
            </a: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 Peking University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 George Coulouris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 Jean Dollimore</a:t>
            </a:r>
            <a:br>
              <a:rPr sz="2800"/>
            </a:b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utumn 2001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rganization of the book and the cours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41360" y="1440000"/>
            <a:ext cx="6922800" cy="4903560"/>
            <a:chOff x="1341360" y="1440000"/>
            <a:chExt cx="6922800" cy="4903560"/>
          </a:xfrm>
        </p:grpSpPr>
        <p:grpSp>
          <p:nvGrpSpPr>
            <p:cNvPr id="99" name=""/>
            <p:cNvGrpSpPr/>
            <p:nvPr/>
          </p:nvGrpSpPr>
          <p:grpSpPr>
            <a:xfrm>
              <a:off x="1341360" y="1440000"/>
              <a:ext cx="3019680" cy="1272960"/>
              <a:chOff x="1341360" y="1440000"/>
              <a:chExt cx="3019680" cy="1272960"/>
            </a:xfrm>
          </p:grpSpPr>
          <p:sp>
            <p:nvSpPr>
              <p:cNvPr id="100" name=""/>
              <p:cNvSpPr/>
              <p:nvPr/>
            </p:nvSpPr>
            <p:spPr>
              <a:xfrm>
                <a:off x="1341360" y="1687680"/>
                <a:ext cx="3000600" cy="100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1360" y="1687680"/>
                <a:ext cx="3019680" cy="1025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6160" y="17557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40800" y="17557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85440" y="17557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76240" y="1755720"/>
                <a:ext cx="1797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aracterization of 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96160" y="1973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540800" y="19731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85440" y="1973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78400" y="1973160"/>
                <a:ext cx="1221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System Mode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96160" y="2190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40800" y="2190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85440" y="2190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73720" y="2190600"/>
                <a:ext cx="2510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ing and Internetwork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96160" y="2406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40800" y="24066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85440" y="2406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74080" y="2406600"/>
                <a:ext cx="2273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terprocess Commun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47480" y="1440000"/>
                <a:ext cx="1055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Arial"/>
                  </a:rPr>
                  <a:t>Foundatio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400640" y="1440000"/>
              <a:ext cx="3592440" cy="839520"/>
              <a:chOff x="4400640" y="1440000"/>
              <a:chExt cx="3592440" cy="839520"/>
            </a:xfrm>
          </p:grpSpPr>
          <p:sp>
            <p:nvSpPr>
              <p:cNvPr id="120" name=""/>
              <p:cNvSpPr/>
              <p:nvPr/>
            </p:nvSpPr>
            <p:spPr>
              <a:xfrm>
                <a:off x="4952880" y="1687680"/>
                <a:ext cx="3019680" cy="57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2880" y="1687680"/>
                <a:ext cx="3040200" cy="591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099760" y="1736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79480" y="1736640"/>
                <a:ext cx="1866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Time and Global Sta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99760" y="19540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8760" y="1954080"/>
                <a:ext cx="2280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Coordination and Agre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54680" y="1440000"/>
                <a:ext cx="172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Distributed algorith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16360" y="1982880"/>
                <a:ext cx="138240" cy="6012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13"/>
                    </a:moveTo>
                    <a:lnTo>
                      <a:pt x="0" y="0"/>
                    </a:lnTo>
                    <a:lnTo>
                      <a:pt x="87" y="13"/>
                    </a:lnTo>
                    <a:lnTo>
                      <a:pt x="0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00640" y="2003400"/>
                <a:ext cx="315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341360" y="4430880"/>
              <a:ext cx="3059280" cy="1912680"/>
              <a:chOff x="1341360" y="4430880"/>
              <a:chExt cx="3059280" cy="1912680"/>
            </a:xfrm>
          </p:grpSpPr>
          <p:sp>
            <p:nvSpPr>
              <p:cNvPr id="130" name=""/>
              <p:cNvSpPr/>
              <p:nvPr/>
            </p:nvSpPr>
            <p:spPr>
              <a:xfrm>
                <a:off x="1341360" y="5081760"/>
                <a:ext cx="3040200" cy="12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41360" y="5081760"/>
                <a:ext cx="3059280" cy="1261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97600" y="51703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42240" y="51703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86880" y="51703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76600" y="5170320"/>
                <a:ext cx="2105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Operating System Sup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97600" y="53863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2240" y="53863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86880" y="53863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77320" y="5386320"/>
                <a:ext cx="192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Distributed File Syste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7960" y="560376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75880" y="5603760"/>
                <a:ext cx="250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Distributed Multimedia Syste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97960" y="58212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76960" y="5821200"/>
                <a:ext cx="2172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istributed Shared 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97960" y="60390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779480" y="6039000"/>
                <a:ext cx="1410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ch Case Stud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50720" y="4834080"/>
                <a:ext cx="1740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System infrastructur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31920" y="4608360"/>
                <a:ext cx="117720" cy="7812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74" y="24"/>
                    </a:moveTo>
                    <a:lnTo>
                      <a:pt x="74" y="49"/>
                    </a:lnTo>
                    <a:lnTo>
                      <a:pt x="0" y="49"/>
                    </a:lnTo>
                    <a:lnTo>
                      <a:pt x="62" y="0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249640" y="4430880"/>
                <a:ext cx="7696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309760" y="2733840"/>
              <a:ext cx="3867120" cy="1617480"/>
              <a:chOff x="2309760" y="2733840"/>
              <a:chExt cx="3867120" cy="1617480"/>
            </a:xfrm>
          </p:grpSpPr>
          <p:sp>
            <p:nvSpPr>
              <p:cNvPr id="150" name=""/>
              <p:cNvSpPr/>
              <p:nvPr/>
            </p:nvSpPr>
            <p:spPr>
              <a:xfrm>
                <a:off x="2322360" y="3078000"/>
                <a:ext cx="91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Middlewa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09760" y="3344760"/>
                <a:ext cx="3848040" cy="98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09760" y="3344760"/>
                <a:ext cx="3867120" cy="1006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64560" y="33750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08840" y="33750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52040" y="337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36000" y="3375000"/>
                <a:ext cx="339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Distributed Objects and Remote Invo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64560" y="35910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08840" y="359100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52040" y="3591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746800" y="3591000"/>
                <a:ext cx="64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Secur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64560" y="38084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08840" y="38084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52040" y="38084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46080" y="3808440"/>
                <a:ext cx="1210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822cd"/>
                    </a:solidFill>
                    <a:latin typeface="Arial"/>
                  </a:rPr>
                  <a:t>Name Servic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64560" y="4025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46440" y="4025880"/>
                <a:ext cx="1607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CORBA Case Stud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22400" y="2911320"/>
                <a:ext cx="78120" cy="11772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25" y="0"/>
                    </a:moveTo>
                    <a:lnTo>
                      <a:pt x="49" y="0"/>
                    </a:lnTo>
                    <a:lnTo>
                      <a:pt x="25" y="74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62360" y="2733840"/>
                <a:ext cx="1440" cy="15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460760" y="2338560"/>
              <a:ext cx="3803400" cy="3492360"/>
              <a:chOff x="4460760" y="2338560"/>
              <a:chExt cx="3803400" cy="3492360"/>
            </a:xfrm>
          </p:grpSpPr>
          <p:sp>
            <p:nvSpPr>
              <p:cNvPr id="170" name=""/>
              <p:cNvSpPr/>
              <p:nvPr/>
            </p:nvSpPr>
            <p:spPr>
              <a:xfrm>
                <a:off x="4737240" y="4983120"/>
                <a:ext cx="3216240" cy="82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37240" y="4983120"/>
                <a:ext cx="3235320" cy="847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31640" y="50515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06320" y="5051520"/>
                <a:ext cx="3057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Transactions and Concurrency 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31640" y="526896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10280" y="5268960"/>
                <a:ext cx="192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Distributed Transac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31640" y="54864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15680" y="5486400"/>
                <a:ext cx="883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Arial"/>
                  </a:rPr>
                  <a:t>Repl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44440" y="4735440"/>
                <a:ext cx="896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Shared 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95920" y="4568760"/>
                <a:ext cx="137880" cy="77760"/>
              </a:xfrm>
              <a:custGeom>
                <a:avLst/>
                <a:gdLst/>
                <a:ahLst/>
                <a:rect l="l" t="t" r="r" b="b"/>
                <a:pathLst>
                  <a:path w="87" h="49">
                    <a:moveTo>
                      <a:pt x="12" y="12"/>
                    </a:moveTo>
                    <a:lnTo>
                      <a:pt x="25" y="0"/>
                    </a:lnTo>
                    <a:lnTo>
                      <a:pt x="87" y="49"/>
                    </a:lnTo>
                    <a:lnTo>
                      <a:pt x="0" y="37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60760" y="4430880"/>
                <a:ext cx="354240" cy="15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30840" y="4686480"/>
                <a:ext cx="59040" cy="118800"/>
              </a:xfrm>
              <a:custGeom>
                <a:avLst/>
                <a:gdLst/>
                <a:ahLst/>
                <a:rect l="l" t="t" r="r" b="b"/>
                <a:pathLst>
                  <a:path w="37" h="75">
                    <a:moveTo>
                      <a:pt x="25" y="0"/>
                    </a:moveTo>
                    <a:lnTo>
                      <a:pt x="37" y="0"/>
                    </a:lnTo>
                    <a:lnTo>
                      <a:pt x="25" y="75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9920" y="2338560"/>
                <a:ext cx="20880" cy="232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8837640" y="63961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000" y="3657600"/>
            <a:ext cx="5010840" cy="2013840"/>
            <a:chOff x="9000" y="3657600"/>
            <a:chExt cx="5010840" cy="2013840"/>
          </a:xfrm>
        </p:grpSpPr>
        <p:sp>
          <p:nvSpPr>
            <p:cNvPr id="185" name=""/>
            <p:cNvSpPr/>
            <p:nvPr/>
          </p:nvSpPr>
          <p:spPr>
            <a:xfrm>
              <a:off x="3505320" y="3657600"/>
              <a:ext cx="1218960" cy="1600200"/>
            </a:xfrm>
            <a:custGeom>
              <a:avLst/>
              <a:gdLst/>
              <a:ahLst/>
              <a:rect l="l" t="t" r="r" b="b"/>
              <a:pathLst>
                <a:path w="768" h="1048">
                  <a:moveTo>
                    <a:pt x="0" y="40"/>
                  </a:moveTo>
                  <a:cubicBezTo>
                    <a:pt x="228" y="20"/>
                    <a:pt x="456" y="0"/>
                    <a:pt x="576" y="40"/>
                  </a:cubicBezTo>
                  <a:cubicBezTo>
                    <a:pt x="696" y="80"/>
                    <a:pt x="768" y="112"/>
                    <a:pt x="720" y="280"/>
                  </a:cubicBezTo>
                  <a:cubicBezTo>
                    <a:pt x="672" y="448"/>
                    <a:pt x="360" y="920"/>
                    <a:pt x="288" y="1048"/>
                  </a:cubicBezTo>
                </a:path>
              </a:pathLst>
            </a:custGeom>
            <a:noFill/>
            <a:ln w="28440">
              <a:solidFill>
                <a:srgbClr val="1822cd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0" y="5334120"/>
              <a:ext cx="1177560" cy="337320"/>
            </a:xfrm>
            <a:prstGeom prst="rect">
              <a:avLst/>
            </a:prstGeom>
            <a:noFill/>
            <a:ln w="9360">
              <a:solidFill>
                <a:srgbClr val="1822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22cd"/>
                  </a:solidFill>
                  <a:latin typeface="Times New Roman"/>
                </a:rPr>
                <a:t>George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9320" y="5486400"/>
              <a:ext cx="304560" cy="0"/>
            </a:xfrm>
            <a:prstGeom prst="line">
              <a:avLst/>
            </a:prstGeom>
            <a:ln w="28440">
              <a:solidFill>
                <a:srgbClr val="1822c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3000" y="3733920"/>
              <a:ext cx="3876840" cy="1752480"/>
            </a:xfrm>
            <a:custGeom>
              <a:avLst/>
              <a:gdLst/>
              <a:ahLst/>
              <a:rect l="l" t="t" r="r" b="b"/>
              <a:pathLst>
                <a:path w="2672" h="1152">
                  <a:moveTo>
                    <a:pt x="1752" y="1152"/>
                  </a:moveTo>
                  <a:cubicBezTo>
                    <a:pt x="2040" y="1140"/>
                    <a:pt x="2328" y="1128"/>
                    <a:pt x="2424" y="1056"/>
                  </a:cubicBezTo>
                  <a:cubicBezTo>
                    <a:pt x="2520" y="984"/>
                    <a:pt x="2672" y="808"/>
                    <a:pt x="2328" y="720"/>
                  </a:cubicBezTo>
                  <a:cubicBezTo>
                    <a:pt x="1984" y="632"/>
                    <a:pt x="720" y="632"/>
                    <a:pt x="360" y="528"/>
                  </a:cubicBezTo>
                  <a:cubicBezTo>
                    <a:pt x="0" y="424"/>
                    <a:pt x="72" y="184"/>
                    <a:pt x="168" y="96"/>
                  </a:cubicBezTo>
                  <a:cubicBezTo>
                    <a:pt x="264" y="8"/>
                    <a:pt x="808" y="16"/>
                    <a:pt x="936" y="0"/>
                  </a:cubicBezTo>
                </a:path>
              </a:pathLst>
            </a:custGeom>
            <a:noFill/>
            <a:ln w="28440">
              <a:solidFill>
                <a:srgbClr val="1822cd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9360" y="1828800"/>
            <a:ext cx="7877880" cy="3124080"/>
            <a:chOff x="999360" y="1828800"/>
            <a:chExt cx="7877880" cy="3124080"/>
          </a:xfrm>
        </p:grpSpPr>
        <p:sp>
          <p:nvSpPr>
            <p:cNvPr id="190" name=""/>
            <p:cNvSpPr/>
            <p:nvPr/>
          </p:nvSpPr>
          <p:spPr>
            <a:xfrm>
              <a:off x="4406760" y="1828800"/>
              <a:ext cx="2121120" cy="2387520"/>
            </a:xfrm>
            <a:custGeom>
              <a:avLst/>
              <a:gdLst/>
              <a:ahLst/>
              <a:rect l="l" t="t" r="r" b="b"/>
              <a:pathLst>
                <a:path w="1336" h="1504">
                  <a:moveTo>
                    <a:pt x="344" y="1440"/>
                  </a:moveTo>
                  <a:cubicBezTo>
                    <a:pt x="840" y="1472"/>
                    <a:pt x="1336" y="1504"/>
                    <a:pt x="1304" y="1344"/>
                  </a:cubicBezTo>
                  <a:cubicBezTo>
                    <a:pt x="1272" y="1184"/>
                    <a:pt x="304" y="704"/>
                    <a:pt x="152" y="480"/>
                  </a:cubicBezTo>
                  <a:cubicBezTo>
                    <a:pt x="0" y="256"/>
                    <a:pt x="352" y="80"/>
                    <a:pt x="392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48720" y="1981080"/>
              <a:ext cx="1028520" cy="2971800"/>
            </a:xfrm>
            <a:custGeom>
              <a:avLst/>
              <a:gdLst/>
              <a:ahLst/>
              <a:rect l="l" t="t" r="r" b="b"/>
              <a:pathLst>
                <a:path w="648" h="1872">
                  <a:moveTo>
                    <a:pt x="0" y="0"/>
                  </a:moveTo>
                  <a:cubicBezTo>
                    <a:pt x="216" y="136"/>
                    <a:pt x="432" y="272"/>
                    <a:pt x="528" y="480"/>
                  </a:cubicBezTo>
                  <a:cubicBezTo>
                    <a:pt x="624" y="688"/>
                    <a:pt x="648" y="1016"/>
                    <a:pt x="576" y="1248"/>
                  </a:cubicBezTo>
                  <a:cubicBezTo>
                    <a:pt x="504" y="1480"/>
                    <a:pt x="176" y="1768"/>
                    <a:pt x="96" y="187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9360" y="3276720"/>
              <a:ext cx="941040" cy="3373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Jean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3479760"/>
              <a:ext cx="304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38480" y="117792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[See page vi of the book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urse outlin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5680" y="3554280"/>
            <a:ext cx="4716720" cy="3227400"/>
            <a:chOff x="85680" y="3554280"/>
            <a:chExt cx="4716720" cy="3227400"/>
          </a:xfrm>
        </p:grpSpPr>
        <p:grpSp>
          <p:nvGrpSpPr>
            <p:cNvPr id="197" name=""/>
            <p:cNvGrpSpPr/>
            <p:nvPr/>
          </p:nvGrpSpPr>
          <p:grpSpPr>
            <a:xfrm>
              <a:off x="85680" y="3554280"/>
              <a:ext cx="2066040" cy="837360"/>
              <a:chOff x="85680" y="3554280"/>
              <a:chExt cx="2066040" cy="837360"/>
            </a:xfrm>
          </p:grpSpPr>
          <p:sp>
            <p:nvSpPr>
              <p:cNvPr id="198" name=""/>
              <p:cNvSpPr/>
              <p:nvPr/>
            </p:nvSpPr>
            <p:spPr>
              <a:xfrm>
                <a:off x="85680" y="3717000"/>
                <a:ext cx="1974240" cy="66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5680" y="3717000"/>
                <a:ext cx="1986840" cy="674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6840" y="3760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17080" y="3760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45160" y="3760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7640" y="3760920"/>
                <a:ext cx="127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aracterization of D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6840" y="3904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17080" y="39049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5160" y="3904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8000" y="3904920"/>
                <a:ext cx="864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ystem Model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6840" y="404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17080" y="4048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45160" y="40482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4040" y="4048200"/>
                <a:ext cx="1777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ing and Internetwork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8280" y="41904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7080" y="41904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5160" y="419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77280" y="419040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process Commun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1440" y="3554280"/>
                <a:ext cx="77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Foundation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098440" y="3554280"/>
              <a:ext cx="2363400" cy="551880"/>
              <a:chOff x="2098440" y="3554280"/>
              <a:chExt cx="2363400" cy="551880"/>
            </a:xfrm>
          </p:grpSpPr>
          <p:sp>
            <p:nvSpPr>
              <p:cNvPr id="218" name=""/>
              <p:cNvSpPr/>
              <p:nvPr/>
            </p:nvSpPr>
            <p:spPr>
              <a:xfrm>
                <a:off x="2461680" y="3717000"/>
                <a:ext cx="1986480" cy="37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61680" y="3717000"/>
                <a:ext cx="2000160" cy="389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57440" y="37494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46800" y="3749400"/>
                <a:ext cx="1319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 and Global Stat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557440" y="3892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46440" y="3892320"/>
                <a:ext cx="1613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ordination and Agree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69240" y="3554280"/>
                <a:ext cx="1221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algorith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05800" y="3911400"/>
                <a:ext cx="90720" cy="3924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13"/>
                    </a:moveTo>
                    <a:lnTo>
                      <a:pt x="0" y="0"/>
                    </a:lnTo>
                    <a:lnTo>
                      <a:pt x="87" y="13"/>
                    </a:lnTo>
                    <a:lnTo>
                      <a:pt x="0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98440" y="3924720"/>
                <a:ext cx="20736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85680" y="5522760"/>
              <a:ext cx="2062800" cy="1258920"/>
              <a:chOff x="85680" y="5522760"/>
              <a:chExt cx="2062800" cy="1258920"/>
            </a:xfrm>
          </p:grpSpPr>
          <p:sp>
            <p:nvSpPr>
              <p:cNvPr id="228" name=""/>
              <p:cNvSpPr/>
              <p:nvPr/>
            </p:nvSpPr>
            <p:spPr>
              <a:xfrm>
                <a:off x="85680" y="5951160"/>
                <a:ext cx="2000160" cy="81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5680" y="5951160"/>
                <a:ext cx="2012760" cy="830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6840" y="6010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8520" y="6010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7320" y="6010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6200" y="6010560"/>
                <a:ext cx="1489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perating System Sup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6840" y="6151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8520" y="6151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7320" y="6151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8360" y="6151680"/>
                <a:ext cx="1363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File Syste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6480" y="62946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9800" y="6294600"/>
                <a:ext cx="176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Multimedia Syste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6480" y="64368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8360" y="6436800"/>
                <a:ext cx="153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Shared Memo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6480" y="65822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6920" y="6582240"/>
                <a:ext cx="999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ch Case Stud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95760" y="5788080"/>
                <a:ext cx="1232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System infrastructur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05520" y="5639400"/>
                <a:ext cx="77400" cy="51120"/>
              </a:xfrm>
              <a:custGeom>
                <a:avLst/>
                <a:gdLst/>
                <a:ahLst/>
                <a:rect l="l" t="t" r="r" b="b"/>
                <a:pathLst>
                  <a:path w="74" h="49">
                    <a:moveTo>
                      <a:pt x="74" y="24"/>
                    </a:moveTo>
                    <a:lnTo>
                      <a:pt x="74" y="49"/>
                    </a:lnTo>
                    <a:lnTo>
                      <a:pt x="0" y="49"/>
                    </a:lnTo>
                    <a:lnTo>
                      <a:pt x="62" y="0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83280" y="5522760"/>
                <a:ext cx="506160" cy="14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22520" y="4405680"/>
              <a:ext cx="2689560" cy="1064160"/>
              <a:chOff x="722520" y="4405680"/>
              <a:chExt cx="2689560" cy="1064160"/>
            </a:xfrm>
          </p:grpSpPr>
          <p:sp>
            <p:nvSpPr>
              <p:cNvPr id="248" name=""/>
              <p:cNvSpPr/>
              <p:nvPr/>
            </p:nvSpPr>
            <p:spPr>
              <a:xfrm>
                <a:off x="730440" y="4633200"/>
                <a:ext cx="64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Middlewa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2520" y="4807440"/>
                <a:ext cx="2531520" cy="64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2520" y="4807440"/>
                <a:ext cx="2544120" cy="6624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22960" y="4827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1760" y="4827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82000" y="482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009440" y="4827600"/>
                <a:ext cx="240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Objects and Remote Invo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22960" y="4969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1760" y="4969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000" y="4969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010520" y="496980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22960" y="5112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51760" y="51127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82000" y="51127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10520" y="5112720"/>
                <a:ext cx="85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ame Servi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22600" y="52560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010160" y="5256000"/>
                <a:ext cx="1139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RBA Case Stud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59480" y="4522320"/>
                <a:ext cx="51120" cy="77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25" y="0"/>
                    </a:moveTo>
                    <a:lnTo>
                      <a:pt x="49" y="0"/>
                    </a:lnTo>
                    <a:lnTo>
                      <a:pt x="25" y="74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085760" y="4405680"/>
                <a:ext cx="720" cy="10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138040" y="4145400"/>
              <a:ext cx="2664360" cy="2298600"/>
              <a:chOff x="2138040" y="4145400"/>
              <a:chExt cx="2664360" cy="2298600"/>
            </a:xfrm>
          </p:grpSpPr>
          <p:sp>
            <p:nvSpPr>
              <p:cNvPr id="268" name=""/>
              <p:cNvSpPr/>
              <p:nvPr/>
            </p:nvSpPr>
            <p:spPr>
              <a:xfrm>
                <a:off x="2319840" y="5886000"/>
                <a:ext cx="2116080" cy="54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19840" y="5886000"/>
                <a:ext cx="2128680" cy="558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447280" y="59310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34480" y="5931000"/>
                <a:ext cx="216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actions and Concurrency Contr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46920" y="60728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35920" y="6072840"/>
                <a:ext cx="1364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istributed Transac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46920" y="62161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37000" y="6216120"/>
                <a:ext cx="623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320920" y="5722920"/>
                <a:ext cx="687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Shared 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58360" y="5613120"/>
                <a:ext cx="90720" cy="51120"/>
              </a:xfrm>
              <a:custGeom>
                <a:avLst/>
                <a:gdLst/>
                <a:ahLst/>
                <a:rect l="l" t="t" r="r" b="b"/>
                <a:pathLst>
                  <a:path w="87" h="49">
                    <a:moveTo>
                      <a:pt x="12" y="12"/>
                    </a:moveTo>
                    <a:lnTo>
                      <a:pt x="25" y="0"/>
                    </a:lnTo>
                    <a:lnTo>
                      <a:pt x="87" y="49"/>
                    </a:lnTo>
                    <a:lnTo>
                      <a:pt x="0" y="37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8040" y="5522400"/>
                <a:ext cx="232920" cy="10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65800" y="56905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37" h="75">
                    <a:moveTo>
                      <a:pt x="25" y="0"/>
                    </a:moveTo>
                    <a:lnTo>
                      <a:pt x="37" y="0"/>
                    </a:lnTo>
                    <a:lnTo>
                      <a:pt x="25" y="75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78400" y="4145400"/>
                <a:ext cx="13680" cy="153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762120" y="1224000"/>
            <a:ext cx="314784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File Systems - Ch 8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Security - Ch 7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Operating Systems - Ch 6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1.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Name Services - Ch 9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1.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Multimedia - Ch 15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1203480"/>
            <a:ext cx="4343400" cy="26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J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Revision - Ch 5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.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Corba - Ch 17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1.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ime - Ch 10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Multicast - Ch 11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Transactions &amp; concurrency control - Ch 12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Distributed Transactions - Ch 13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Replication - Ch 14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837640" y="63961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Jean's lecture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7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Lecture</a:t>
            </a: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Topic</a:t>
            </a: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Book sections</a:t>
            </a:r>
            <a:endParaRPr b="0" lang="en-US" sz="1400" spc="-1" strike="noStrike">
              <a:solidFill>
                <a:srgbClr val="663300"/>
              </a:solidFill>
              <a:latin typeface="Arial"/>
            </a:endParaRPr>
          </a:p>
          <a:p>
            <a:pPr marL="68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663300"/>
                </a:solidFill>
                <a:latin typeface="Arial"/>
              </a:rPr>
              <a:t>(1.25 hrs each)</a:t>
            </a:r>
            <a:endParaRPr b="0" lang="en-US" sz="14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Revision  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from chaps. 5 and 4 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orba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7.1 and 17.2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ime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0.1-4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Multicast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 11.4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ransaction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2.1-3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Concurrency control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2.5-7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Distributed transactions: commit protocol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3.1-3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transaction recovery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 13.6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Replication model and fault-tolerant service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4.1-3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-6872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AutoNum type="arabicPeriod"/>
              <a:tabLst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Gossip architecture, transactions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ections 14.4-5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marL="68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762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George's lecture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59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Lecture</a:t>
            </a: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Topic</a:t>
            </a: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Book sections</a:t>
            </a:r>
            <a:endParaRPr b="0" lang="en-US" sz="1200" spc="-1" strike="noStrike">
              <a:solidFill>
                <a:srgbClr val="663300"/>
              </a:solidFill>
              <a:latin typeface="Arial"/>
            </a:endParaRPr>
          </a:p>
          <a:p>
            <a:pPr marL="659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663300"/>
                </a:solidFill>
                <a:latin typeface="Arial"/>
              </a:rPr>
              <a:t>(1.25 hrs each)</a:t>
            </a:r>
            <a:endParaRPr b="0" lang="en-US" sz="12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Fault tolerance model, dist. file system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2.3.2, 8.1 - 8.2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model, NFS basic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NFS, recent advances in dist. file system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8.3, 8.5, 8.6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ecurity model, security concepts, basic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2.3.3, 7.1, 7.2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ecurity protocol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Cryptographic algorithms, digital signature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7.3, 7.4, 7.5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performance and politic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Needham-Schroeder protocol, Kerberos,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7.6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SSL (TLS)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OS concepts, processes and threads,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6.1, 6.2, 6.4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thread programming 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Communication and invocation mechanisms,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6.5, 6.6, 9.1 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OS architecture, name service concept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Name services, DNS, directory and 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9.2, 9.3 </a:t>
            </a:r>
            <a:br>
              <a:rPr sz="1600"/>
            </a:b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discovery services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Distributed multimedia systems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15.1, 15.2, 15.3, 15.4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  <a:p>
            <a:pPr marL="659520" indent="-65952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AutoNum type="arabicPeriod"/>
              <a:tabLst>
                <a:tab algn="l" pos="114948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Dist multimedia, Tiger video file server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663300"/>
                </a:solidFill>
                <a:latin typeface="Arial"/>
              </a:rPr>
              <a:t>15.5, 15.6</a:t>
            </a:r>
            <a:endParaRPr b="0" lang="en-US" sz="1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1:16:16Z</dcterms:created>
  <dc:creator>George Coulouris</dc:creator>
  <dc:description/>
  <dc:language>en-US</dc:language>
  <cp:lastModifiedBy>George Coulouris</cp:lastModifiedBy>
  <cp:lastPrinted>2001-11-27T20:53:03Z</cp:lastPrinted>
  <dcterms:modified xsi:type="dcterms:W3CDTF">2001-12-30T17:33:18Z</dcterms:modified>
  <cp:revision>44</cp:revision>
  <dc:subject/>
  <dc:title>Distributed Systems Course</dc:title>
</cp:coreProperties>
</file>