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34A8-0FAE-40B3-A8E2-96153108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FEE-05D9-45B9-B06B-DD4CA5A1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AFB9-FA82-48C5-B2A1-1ECFD9CD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159-4801-41BC-A9C2-63D9EEC4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51A5-F023-4E1A-87E7-1B04F73D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DC60-D794-44D2-B185-26E81F3D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0A93-68B9-4554-BE72-AFC89247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EC9A-BD5C-4022-BAAC-ABF5B714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0C88-D793-49DE-B84B-24191805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F318-05A3-4A97-B7ED-D2AC7D4F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D536-6077-4645-AC7D-7565C9E0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0672-316B-49D0-A94B-B554CDE0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2076-1AC2-4E57-9AFF-A83079C1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2983-6F46-4254-8370-B7A982C6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356E-5CB8-49F2-9F33-8235AF4D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FAD2-0737-496B-B153-C450A927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CB27-7040-478C-81EE-CA0C3DFE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88F0-2BC0-4523-B1A3-BECA19D1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EB4-A617-448A-B9F9-142946B6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A4DC-DF6D-443B-BCA7-EF61A315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0944-0945-42CF-8DEE-8DACCBC8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086-828E-47D9-9B1C-EA6DBA48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321-26E3-4994-B695-768B3A4A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9640-07C1-475E-81B0-4154FE1A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280" y="6400800"/>
            <a:ext cx="14734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00800"/>
            <a:ext cx="5562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3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400800"/>
            <a:ext cx="1015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11E2-6EE9-4520-9DC7-7A1FECDFA7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6C14-E503-4B5E-B3AB-EBF54AEFFB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9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Name Service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28954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Pearson Education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6800" y="3070080"/>
            <a:ext cx="18939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structuring the director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573120" y="1890720"/>
            <a:ext cx="7842600" cy="3341880"/>
            <a:chOff x="573120" y="1890720"/>
            <a:chExt cx="7842600" cy="3341880"/>
          </a:xfrm>
        </p:grpSpPr>
        <p:sp>
          <p:nvSpPr>
            <p:cNvPr id="604" name=""/>
            <p:cNvSpPr/>
            <p:nvPr/>
          </p:nvSpPr>
          <p:spPr>
            <a:xfrm>
              <a:off x="2678040" y="3535200"/>
              <a:ext cx="1074960" cy="406440"/>
            </a:xfrm>
            <a:prstGeom prst="roundRect">
              <a:avLst>
                <a:gd name="adj" fmla="val 4824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678040" y="3535200"/>
              <a:ext cx="1100160" cy="433440"/>
            </a:xfrm>
            <a:prstGeom prst="roundRect">
              <a:avLst>
                <a:gd name="adj" fmla="val 45236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602160" y="356220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51240" y="356220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78000" y="356220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27440" y="356220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98840" y="27176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01880" y="4402080"/>
              <a:ext cx="1074600" cy="379440"/>
            </a:xfrm>
            <a:prstGeom prst="roundRect">
              <a:avLst>
                <a:gd name="adj" fmla="val 50000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901880" y="4402080"/>
              <a:ext cx="1100160" cy="406440"/>
            </a:xfrm>
            <a:prstGeom prst="roundRect">
              <a:avLst>
                <a:gd name="adj" fmla="val 48241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865240" y="40640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402000" y="4402080"/>
              <a:ext cx="1076400" cy="379440"/>
            </a:xfrm>
            <a:prstGeom prst="roundRect">
              <a:avLst>
                <a:gd name="adj" fmla="val 50000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402000" y="4402080"/>
              <a:ext cx="1101600" cy="406440"/>
            </a:xfrm>
            <a:prstGeom prst="roundRect">
              <a:avLst>
                <a:gd name="adj" fmla="val 48241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327560" y="442908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076640" y="442908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1960" y="442908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52840" y="442908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414240" y="406404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460600" y="4248000"/>
              <a:ext cx="150840" cy="135000"/>
            </a:xfrm>
            <a:custGeom>
              <a:avLst/>
              <a:gdLst/>
              <a:ahLst/>
              <a:rect l="l" t="t" r="r" b="b"/>
              <a:pathLst>
                <a:path w="103" h="85">
                  <a:moveTo>
                    <a:pt x="85" y="34"/>
                  </a:moveTo>
                  <a:lnTo>
                    <a:pt x="103" y="51"/>
                  </a:lnTo>
                  <a:lnTo>
                    <a:pt x="0" y="85"/>
                  </a:lnTo>
                  <a:lnTo>
                    <a:pt x="68" y="0"/>
                  </a:lnTo>
                  <a:lnTo>
                    <a:pt x="85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2602080" y="3780000"/>
              <a:ext cx="625320" cy="460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94040" y="4221000"/>
              <a:ext cx="123840" cy="16200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17" y="17"/>
                  </a:moveTo>
                  <a:lnTo>
                    <a:pt x="51" y="0"/>
                  </a:lnTo>
                  <a:lnTo>
                    <a:pt x="85" y="102"/>
                  </a:lnTo>
                  <a:lnTo>
                    <a:pt x="0" y="34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3452760" y="3779640"/>
              <a:ext cx="349200" cy="433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327320" y="4240080"/>
              <a:ext cx="172800" cy="10800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102" y="34"/>
                  </a:moveTo>
                  <a:lnTo>
                    <a:pt x="119" y="68"/>
                  </a:lnTo>
                  <a:lnTo>
                    <a:pt x="0" y="68"/>
                  </a:lnTo>
                  <a:lnTo>
                    <a:pt x="85" y="0"/>
                  </a:lnTo>
                  <a:lnTo>
                    <a:pt x="102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1476000" y="3780000"/>
              <a:ext cx="1500120" cy="514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801880" y="442908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576520" y="442908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301840" y="442908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50920" y="442908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38480" y="3289320"/>
              <a:ext cx="73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: 59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73480" y="4146480"/>
              <a:ext cx="73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: 57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76440" y="4157640"/>
              <a:ext cx="77616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74720" y="4146480"/>
              <a:ext cx="73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: 5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02400" y="3535200"/>
              <a:ext cx="1100160" cy="406440"/>
            </a:xfrm>
            <a:prstGeom prst="roundRect">
              <a:avLst>
                <a:gd name="adj" fmla="val 4824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02400" y="3535200"/>
              <a:ext cx="1125720" cy="433440"/>
            </a:xfrm>
            <a:prstGeom prst="roundRect">
              <a:avLst>
                <a:gd name="adj" fmla="val 45236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29400" y="356220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78840" y="356220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027920" y="356220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778800" y="356220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254640" y="2717640"/>
              <a:ext cx="191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R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03920" y="4402080"/>
              <a:ext cx="1074600" cy="379440"/>
            </a:xfrm>
            <a:prstGeom prst="roundRect">
              <a:avLst>
                <a:gd name="adj" fmla="val 50000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903920" y="4402080"/>
              <a:ext cx="1100160" cy="406440"/>
            </a:xfrm>
            <a:prstGeom prst="roundRect">
              <a:avLst>
                <a:gd name="adj" fmla="val 48241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464160" y="39402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053120" y="4402080"/>
              <a:ext cx="1100160" cy="379440"/>
            </a:xfrm>
            <a:prstGeom prst="roundRect">
              <a:avLst>
                <a:gd name="adj" fmla="val 50000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053120" y="4402080"/>
              <a:ext cx="1125720" cy="406440"/>
            </a:xfrm>
            <a:prstGeom prst="roundRect">
              <a:avLst>
                <a:gd name="adj" fmla="val 48241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78680" y="442908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728120" y="442908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478640" y="442908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27720" y="442908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53160" y="4673520"/>
              <a:ext cx="100080" cy="189000"/>
            </a:xfrm>
            <a:custGeom>
              <a:avLst/>
              <a:gdLst/>
              <a:ahLst/>
              <a:rect l="l" t="t" r="r" b="b"/>
              <a:pathLst>
                <a:path w="69" h="119">
                  <a:moveTo>
                    <a:pt x="35" y="17"/>
                  </a:moveTo>
                  <a:lnTo>
                    <a:pt x="69" y="17"/>
                  </a:lnTo>
                  <a:lnTo>
                    <a:pt x="17" y="119"/>
                  </a:lnTo>
                  <a:lnTo>
                    <a:pt x="0" y="0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ffdc99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6703920" y="3780000"/>
              <a:ext cx="174600" cy="8935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470720" y="4221000"/>
              <a:ext cx="123840" cy="16200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17" y="17"/>
                  </a:moveTo>
                  <a:lnTo>
                    <a:pt x="34" y="0"/>
                  </a:lnTo>
                  <a:lnTo>
                    <a:pt x="85" y="102"/>
                  </a:lnTo>
                  <a:lnTo>
                    <a:pt x="0" y="34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flipV="1">
              <a:off x="7129440" y="3779640"/>
              <a:ext cx="349200" cy="433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827680" y="442908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78560" y="442908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03880" y="442908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52960" y="442908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129360" y="3289320"/>
              <a:ext cx="73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: 6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78800" y="4138560"/>
              <a:ext cx="73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: 45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91080" y="4146480"/>
              <a:ext cx="73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: 7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52920" y="2181240"/>
              <a:ext cx="1074600" cy="3794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52920" y="2181240"/>
              <a:ext cx="1100160" cy="406440"/>
            </a:xfrm>
            <a:prstGeom prst="roundRect">
              <a:avLst>
                <a:gd name="adj" fmla="val 48241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77040" y="220824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227560" y="220824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952880" y="220824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02320" y="220824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27840" y="3373560"/>
              <a:ext cx="176400" cy="134640"/>
            </a:xfrm>
            <a:custGeom>
              <a:avLst/>
              <a:gdLst/>
              <a:ahLst/>
              <a:rect l="l" t="t" r="r" b="b"/>
              <a:pathLst>
                <a:path w="120" h="85">
                  <a:moveTo>
                    <a:pt x="17" y="34"/>
                  </a:moveTo>
                  <a:lnTo>
                    <a:pt x="34" y="0"/>
                  </a:lnTo>
                  <a:lnTo>
                    <a:pt x="120" y="85"/>
                  </a:lnTo>
                  <a:lnTo>
                    <a:pt x="0" y="51"/>
                  </a:lnTo>
                  <a:lnTo>
                    <a:pt x="17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53200" y="2370240"/>
              <a:ext cx="1600200" cy="10573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276720" y="3373560"/>
              <a:ext cx="150840" cy="134640"/>
            </a:xfrm>
            <a:custGeom>
              <a:avLst/>
              <a:gdLst/>
              <a:ahLst/>
              <a:rect l="l" t="t" r="r" b="b"/>
              <a:pathLst>
                <a:path w="103" h="85">
                  <a:moveTo>
                    <a:pt x="86" y="34"/>
                  </a:moveTo>
                  <a:lnTo>
                    <a:pt x="103" y="51"/>
                  </a:lnTo>
                  <a:lnTo>
                    <a:pt x="0" y="85"/>
                  </a:lnTo>
                  <a:lnTo>
                    <a:pt x="69" y="0"/>
                  </a:lnTo>
                  <a:lnTo>
                    <a:pt x="86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3402000" y="2370240"/>
              <a:ext cx="1425600" cy="10303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02040" y="2560680"/>
              <a:ext cx="174600" cy="8100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102" y="17"/>
                  </a:moveTo>
                  <a:lnTo>
                    <a:pt x="119" y="51"/>
                  </a:lnTo>
                  <a:lnTo>
                    <a:pt x="0" y="51"/>
                  </a:lnTo>
                  <a:lnTo>
                    <a:pt x="102" y="0"/>
                  </a:lnTo>
                  <a:lnTo>
                    <a:pt x="102" y="17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076640" y="2370240"/>
              <a:ext cx="550800" cy="217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53200" y="3968640"/>
              <a:ext cx="776520" cy="1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12240" y="394668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63840" y="1890720"/>
              <a:ext cx="80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: 63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983120" y="1890720"/>
              <a:ext cx="100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WORL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227560" y="4267080"/>
              <a:ext cx="174600" cy="10800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17" y="34"/>
                  </a:moveTo>
                  <a:lnTo>
                    <a:pt x="34" y="0"/>
                  </a:lnTo>
                  <a:lnTo>
                    <a:pt x="119" y="68"/>
                  </a:lnTo>
                  <a:lnTo>
                    <a:pt x="0" y="68"/>
                  </a:lnTo>
                  <a:lnTo>
                    <a:pt x="17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3676680" y="3750840"/>
              <a:ext cx="1550880" cy="5698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053760" y="4957920"/>
              <a:ext cx="126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#633/EC/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38760" y="39290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73120" y="2333520"/>
              <a:ext cx="3138480" cy="58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73120" y="2333520"/>
              <a:ext cx="3163680" cy="61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20640" y="2425680"/>
              <a:ext cx="157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#599 = #633/E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8120" y="2666880"/>
              <a:ext cx="3087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#642 = #633/NORTH AMERIC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4520" y="2052720"/>
              <a:ext cx="2238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ell-known directories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.500 service archite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496880" y="1411200"/>
            <a:ext cx="6383520" cy="4351320"/>
            <a:chOff x="1496880" y="1411200"/>
            <a:chExt cx="6383520" cy="4351320"/>
          </a:xfrm>
        </p:grpSpPr>
        <p:sp>
          <p:nvSpPr>
            <p:cNvPr id="689" name=""/>
            <p:cNvSpPr/>
            <p:nvPr/>
          </p:nvSpPr>
          <p:spPr>
            <a:xfrm>
              <a:off x="3022560" y="1411200"/>
              <a:ext cx="4857840" cy="4351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41800" y="2592360"/>
              <a:ext cx="996840" cy="1077840"/>
            </a:xfrm>
            <a:prstGeom prst="ellipse">
              <a:avLst/>
            </a:prstGeom>
            <a:solidFill>
              <a:srgbClr val="ffffff"/>
            </a:solidFill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952880" y="1647720"/>
              <a:ext cx="997200" cy="1079640"/>
            </a:xfrm>
            <a:prstGeom prst="ellipse">
              <a:avLst/>
            </a:prstGeom>
            <a:solidFill>
              <a:srgbClr val="ffffff"/>
            </a:solidFill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952880" y="3535200"/>
              <a:ext cx="997200" cy="1079640"/>
            </a:xfrm>
            <a:prstGeom prst="ellipse">
              <a:avLst/>
            </a:prstGeom>
            <a:solidFill>
              <a:srgbClr val="ffffff"/>
            </a:solidFill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96880" y="2793960"/>
              <a:ext cx="873360" cy="776160"/>
            </a:xfrm>
            <a:prstGeom prst="rect">
              <a:avLst/>
            </a:prstGeom>
            <a:noFill/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00480" y="3063960"/>
              <a:ext cx="155520" cy="101520"/>
            </a:xfrm>
            <a:custGeom>
              <a:avLst/>
              <a:gdLst/>
              <a:ahLst/>
              <a:rect l="l" t="t" r="r" b="b"/>
              <a:pathLst>
                <a:path w="106" h="64">
                  <a:moveTo>
                    <a:pt x="106" y="21"/>
                  </a:moveTo>
                  <a:lnTo>
                    <a:pt x="106" y="64"/>
                  </a:lnTo>
                  <a:lnTo>
                    <a:pt x="0" y="21"/>
                  </a:lnTo>
                  <a:lnTo>
                    <a:pt x="106" y="0"/>
                  </a:lnTo>
                  <a:lnTo>
                    <a:pt x="106" y="21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054240" y="3063960"/>
              <a:ext cx="155520" cy="10152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0" y="21"/>
                  </a:moveTo>
                  <a:lnTo>
                    <a:pt x="0" y="0"/>
                  </a:lnTo>
                  <a:lnTo>
                    <a:pt x="107" y="21"/>
                  </a:lnTo>
                  <a:lnTo>
                    <a:pt x="0" y="6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556000" y="3097080"/>
              <a:ext cx="498240" cy="180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205160" y="3435480"/>
              <a:ext cx="155880" cy="101520"/>
            </a:xfrm>
            <a:custGeom>
              <a:avLst/>
              <a:gdLst/>
              <a:ahLst/>
              <a:rect l="l" t="t" r="r" b="b"/>
              <a:pathLst>
                <a:path w="106" h="64">
                  <a:moveTo>
                    <a:pt x="85" y="43"/>
                  </a:moveTo>
                  <a:lnTo>
                    <a:pt x="63" y="64"/>
                  </a:lnTo>
                  <a:lnTo>
                    <a:pt x="0" y="0"/>
                  </a:lnTo>
                  <a:lnTo>
                    <a:pt x="106" y="22"/>
                  </a:lnTo>
                  <a:lnTo>
                    <a:pt x="85" y="43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797360" y="3738600"/>
              <a:ext cx="155520" cy="13500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21" y="21"/>
                  </a:moveTo>
                  <a:lnTo>
                    <a:pt x="21" y="0"/>
                  </a:lnTo>
                  <a:lnTo>
                    <a:pt x="106" y="85"/>
                  </a:lnTo>
                  <a:lnTo>
                    <a:pt x="0" y="42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62480" y="3502080"/>
              <a:ext cx="434880" cy="27000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238640" y="2760840"/>
              <a:ext cx="154080" cy="13464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106" y="21"/>
                  </a:moveTo>
                  <a:lnTo>
                    <a:pt x="106" y="64"/>
                  </a:lnTo>
                  <a:lnTo>
                    <a:pt x="0" y="85"/>
                  </a:lnTo>
                  <a:lnTo>
                    <a:pt x="85" y="0"/>
                  </a:lnTo>
                  <a:lnTo>
                    <a:pt x="106" y="21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67120" y="2422440"/>
              <a:ext cx="155880" cy="13500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21" y="64"/>
                  </a:moveTo>
                  <a:lnTo>
                    <a:pt x="0" y="43"/>
                  </a:lnTo>
                  <a:lnTo>
                    <a:pt x="106" y="0"/>
                  </a:lnTo>
                  <a:lnTo>
                    <a:pt x="42" y="85"/>
                  </a:lnTo>
                  <a:lnTo>
                    <a:pt x="21" y="64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4392720" y="2523960"/>
              <a:ext cx="404640" cy="27000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496880" y="1714680"/>
              <a:ext cx="873360" cy="776160"/>
            </a:xfrm>
            <a:prstGeom prst="rect">
              <a:avLst/>
            </a:prstGeom>
            <a:noFill/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496880" y="3873600"/>
              <a:ext cx="873360" cy="774720"/>
            </a:xfrm>
            <a:prstGeom prst="rect">
              <a:avLst/>
            </a:prstGeom>
            <a:noFill/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370240" y="4110120"/>
              <a:ext cx="153720" cy="16812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85" y="42"/>
                  </a:moveTo>
                  <a:lnTo>
                    <a:pt x="106" y="63"/>
                  </a:lnTo>
                  <a:lnTo>
                    <a:pt x="0" y="106"/>
                  </a:lnTo>
                  <a:lnTo>
                    <a:pt x="64" y="0"/>
                  </a:lnTo>
                  <a:lnTo>
                    <a:pt x="85" y="42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47840" y="3502080"/>
              <a:ext cx="155880" cy="13500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21" y="64"/>
                  </a:moveTo>
                  <a:lnTo>
                    <a:pt x="0" y="43"/>
                  </a:lnTo>
                  <a:lnTo>
                    <a:pt x="106" y="0"/>
                  </a:lnTo>
                  <a:lnTo>
                    <a:pt x="43" y="85"/>
                  </a:lnTo>
                  <a:lnTo>
                    <a:pt x="21" y="64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2523960" y="3603240"/>
              <a:ext cx="623880" cy="53964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370240" y="2085840"/>
              <a:ext cx="153720" cy="13500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85" y="64"/>
                  </a:moveTo>
                  <a:lnTo>
                    <a:pt x="85" y="85"/>
                  </a:lnTo>
                  <a:lnTo>
                    <a:pt x="0" y="0"/>
                  </a:lnTo>
                  <a:lnTo>
                    <a:pt x="106" y="42"/>
                  </a:lnTo>
                  <a:lnTo>
                    <a:pt x="85" y="64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47840" y="2658960"/>
              <a:ext cx="155880" cy="13500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21" y="21"/>
                  </a:moveTo>
                  <a:lnTo>
                    <a:pt x="43" y="0"/>
                  </a:lnTo>
                  <a:lnTo>
                    <a:pt x="106" y="85"/>
                  </a:lnTo>
                  <a:lnTo>
                    <a:pt x="0" y="43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523960" y="2187720"/>
              <a:ext cx="654120" cy="50472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635880" y="1681200"/>
              <a:ext cx="995400" cy="1079640"/>
            </a:xfrm>
            <a:prstGeom prst="ellipse">
              <a:avLst/>
            </a:prstGeom>
            <a:solidFill>
              <a:srgbClr val="ffffff"/>
            </a:solidFill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602400" y="2641680"/>
              <a:ext cx="171360" cy="18576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22" y="64"/>
                  </a:moveTo>
                  <a:lnTo>
                    <a:pt x="0" y="43"/>
                  </a:lnTo>
                  <a:lnTo>
                    <a:pt x="85" y="0"/>
                  </a:lnTo>
                  <a:lnTo>
                    <a:pt x="43" y="85"/>
                  </a:lnTo>
                  <a:lnTo>
                    <a:pt x="22" y="64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24440" y="3502080"/>
              <a:ext cx="125640" cy="168120"/>
            </a:xfrm>
            <a:custGeom>
              <a:avLst/>
              <a:gdLst/>
              <a:ahLst/>
              <a:rect l="l" t="t" r="r" b="b"/>
              <a:pathLst>
                <a:path w="85" h="106">
                  <a:moveTo>
                    <a:pt x="64" y="21"/>
                  </a:moveTo>
                  <a:lnTo>
                    <a:pt x="85" y="43"/>
                  </a:lnTo>
                  <a:lnTo>
                    <a:pt x="0" y="106"/>
                  </a:lnTo>
                  <a:lnTo>
                    <a:pt x="43" y="0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5949720" y="2793960"/>
              <a:ext cx="685800" cy="74124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35880" y="3097080"/>
              <a:ext cx="995400" cy="1113120"/>
            </a:xfrm>
            <a:prstGeom prst="ellipse">
              <a:avLst/>
            </a:prstGeom>
            <a:solidFill>
              <a:srgbClr val="ffffff"/>
            </a:solidFill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35880" y="4479840"/>
              <a:ext cx="995400" cy="1112760"/>
            </a:xfrm>
            <a:prstGeom prst="ellipse">
              <a:avLst/>
            </a:prstGeom>
            <a:solidFill>
              <a:srgbClr val="ffffff"/>
            </a:solidFill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79960" y="3840120"/>
              <a:ext cx="157320" cy="100080"/>
            </a:xfrm>
            <a:custGeom>
              <a:avLst/>
              <a:gdLst/>
              <a:ahLst/>
              <a:rect l="l" t="t" r="r" b="b"/>
              <a:pathLst>
                <a:path w="107" h="63">
                  <a:moveTo>
                    <a:pt x="107" y="42"/>
                  </a:moveTo>
                  <a:lnTo>
                    <a:pt x="107" y="63"/>
                  </a:lnTo>
                  <a:lnTo>
                    <a:pt x="0" y="63"/>
                  </a:lnTo>
                  <a:lnTo>
                    <a:pt x="107" y="0"/>
                  </a:lnTo>
                  <a:lnTo>
                    <a:pt x="107" y="42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416640" y="3754440"/>
              <a:ext cx="203400" cy="119160"/>
            </a:xfrm>
            <a:custGeom>
              <a:avLst/>
              <a:gdLst/>
              <a:ahLst/>
              <a:rect l="l" t="t" r="r" b="b"/>
              <a:pathLst>
                <a:path w="106" h="64">
                  <a:moveTo>
                    <a:pt x="0" y="21"/>
                  </a:moveTo>
                  <a:lnTo>
                    <a:pt x="0" y="0"/>
                  </a:lnTo>
                  <a:lnTo>
                    <a:pt x="106" y="0"/>
                  </a:lnTo>
                  <a:lnTo>
                    <a:pt x="21" y="6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6137280" y="3805200"/>
              <a:ext cx="279360" cy="10152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950080" y="4344840"/>
              <a:ext cx="12384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85" y="43"/>
                  </a:moveTo>
                  <a:lnTo>
                    <a:pt x="64" y="85"/>
                  </a:lnTo>
                  <a:lnTo>
                    <a:pt x="0" y="0"/>
                  </a:lnTo>
                  <a:lnTo>
                    <a:pt x="85" y="21"/>
                  </a:lnTo>
                  <a:lnTo>
                    <a:pt x="85" y="43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478560" y="4683240"/>
              <a:ext cx="157320" cy="135000"/>
            </a:xfrm>
            <a:custGeom>
              <a:avLst/>
              <a:gdLst/>
              <a:ahLst/>
              <a:rect l="l" t="t" r="r" b="b"/>
              <a:pathLst>
                <a:path w="107" h="85">
                  <a:moveTo>
                    <a:pt x="22" y="21"/>
                  </a:moveTo>
                  <a:lnTo>
                    <a:pt x="22" y="0"/>
                  </a:lnTo>
                  <a:lnTo>
                    <a:pt x="107" y="85"/>
                  </a:lnTo>
                  <a:lnTo>
                    <a:pt x="0" y="63"/>
                  </a:lnTo>
                  <a:lnTo>
                    <a:pt x="22" y="21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073920" y="4446720"/>
              <a:ext cx="404640" cy="26964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481920" y="2978280"/>
              <a:ext cx="573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S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207400" y="3919680"/>
              <a:ext cx="573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S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876000" y="4862520"/>
              <a:ext cx="573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S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76000" y="3497400"/>
              <a:ext cx="573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S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876000" y="1996920"/>
              <a:ext cx="573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S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07400" y="2014560"/>
              <a:ext cx="573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S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37280" y="1932120"/>
              <a:ext cx="588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U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37280" y="3008160"/>
              <a:ext cx="588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U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637280" y="4105440"/>
              <a:ext cx="588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U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rt of the X.500 Directory Information Tre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777960" y="1328760"/>
            <a:ext cx="7551360" cy="4781520"/>
            <a:chOff x="777960" y="1328760"/>
            <a:chExt cx="7551360" cy="4781520"/>
          </a:xfrm>
        </p:grpSpPr>
        <p:sp>
          <p:nvSpPr>
            <p:cNvPr id="734" name=""/>
            <p:cNvSpPr/>
            <p:nvPr/>
          </p:nvSpPr>
          <p:spPr>
            <a:xfrm>
              <a:off x="2400120" y="221760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94960" y="2217600"/>
              <a:ext cx="1207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nce (country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4280" y="2217600"/>
              <a:ext cx="1619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reat Britain (country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451480" y="2217600"/>
              <a:ext cx="1235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reece (country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75400" y="221760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3375720" y="1533600"/>
              <a:ext cx="898200" cy="61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292280" y="1533600"/>
              <a:ext cx="92160" cy="61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311000" y="1533600"/>
              <a:ext cx="1191600" cy="61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909160" y="3130560"/>
              <a:ext cx="1536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T Plc (organizati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10000" y="3130560"/>
              <a:ext cx="2999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University of Gormenghast (organizati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614320" y="313056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29760" y="313056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3486240" y="2427120"/>
              <a:ext cx="879120" cy="65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384440" y="2427120"/>
              <a:ext cx="458640" cy="67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24240" y="4108320"/>
              <a:ext cx="3914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Department of Computer Science (organizationalUni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224720" y="3870360"/>
              <a:ext cx="286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Computing Service (organizationalUni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75120" y="4349880"/>
              <a:ext cx="3255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Engineering Department (organizationalUni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000440" y="390996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57200" y="440208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2531880" y="3321000"/>
              <a:ext cx="1943280" cy="55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4311000" y="3320640"/>
              <a:ext cx="183240" cy="75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4494600" y="3341520"/>
              <a:ext cx="1913760" cy="9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61200" y="1328760"/>
              <a:ext cx="1463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X.500 Service (roo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32160" y="4965840"/>
              <a:ext cx="2844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Departmental Staff (organizationalUni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457240" y="5442120"/>
              <a:ext cx="2872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Research Students (organizationalUni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560120" y="5203800"/>
              <a:ext cx="174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ely (applicationProces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219760" y="49975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601400" y="54943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4017600" y="4314960"/>
              <a:ext cx="183240" cy="67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182120" y="4294080"/>
              <a:ext cx="1283760" cy="90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182120" y="4294080"/>
              <a:ext cx="2677680" cy="11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98640" y="5911920"/>
              <a:ext cx="1774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Alice Flintstone (pers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939760" y="5911920"/>
              <a:ext cx="1280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at King (pers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199760" y="5911920"/>
              <a:ext cx="170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James Healey (pers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729200" y="59119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77960" y="59119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962520" y="5288040"/>
              <a:ext cx="75168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3595680" y="5288040"/>
              <a:ext cx="32976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2128680" y="5288040"/>
              <a:ext cx="1740960" cy="55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76480" y="5911920"/>
              <a:ext cx="203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Janet Papworth (pers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998880" y="5288040"/>
              <a:ext cx="2016720" cy="62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75240" y="585144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n X.500 DIB Entr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794120" y="5724360"/>
            <a:ext cx="208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1069920" y="1440000"/>
            <a:ext cx="7556400" cy="4284360"/>
            <a:chOff x="1069920" y="1440000"/>
            <a:chExt cx="7556400" cy="4284360"/>
          </a:xfrm>
        </p:grpSpPr>
        <p:sp>
          <p:nvSpPr>
            <p:cNvPr id="779" name=""/>
            <p:cNvSpPr/>
            <p:nvPr/>
          </p:nvSpPr>
          <p:spPr>
            <a:xfrm>
              <a:off x="1099080" y="1473120"/>
              <a:ext cx="35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256400" y="1770120"/>
              <a:ext cx="6264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Alice Flintstone, Departmental Staff, Department of Computer Science,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596960" y="1996920"/>
              <a:ext cx="2777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University of Gormenghast, G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69920" y="1440000"/>
              <a:ext cx="73015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393400" y="1440000"/>
              <a:ext cx="2052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69920" y="1461960"/>
              <a:ext cx="20520" cy="102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393400" y="1461960"/>
              <a:ext cx="20520" cy="102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097280" y="2498760"/>
              <a:ext cx="1241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commonNa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097640" y="2795760"/>
              <a:ext cx="1793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Alice.L.Flintst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60840" y="2795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098360" y="3022560"/>
              <a:ext cx="1605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Alice.Flintst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592360" y="3022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98360" y="3251160"/>
              <a:ext cx="1605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Alice Flintst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571840" y="32511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096920" y="3478320"/>
              <a:ext cx="1349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A. Flintst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098720" y="3962520"/>
              <a:ext cx="745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surna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29800" y="3753000"/>
              <a:ext cx="22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815120" y="37530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098360" y="4257720"/>
              <a:ext cx="1082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Flintst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098360" y="4740120"/>
              <a:ext cx="1538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telephoneNumb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5120" y="5037120"/>
              <a:ext cx="1697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+44 986 33 460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825080" y="2498760"/>
              <a:ext cx="27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822560" y="2886120"/>
              <a:ext cx="5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l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370840" y="2886120"/>
              <a:ext cx="11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825080" y="3273480"/>
              <a:ext cx="4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a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202360" y="3273480"/>
              <a:ext cx="11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820760" y="3625920"/>
              <a:ext cx="2678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alf@dcs.gormenghast.ac.u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064120" y="3979800"/>
              <a:ext cx="3562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Alice.Flintstone@dcs.gormenghast.ac.u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822920" y="4321080"/>
              <a:ext cx="115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roomNumb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812560" y="4321080"/>
              <a:ext cx="22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897160" y="4321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822200" y="4708440"/>
              <a:ext cx="623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Z4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25080" y="5051520"/>
              <a:ext cx="852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serClas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821480" y="5438880"/>
              <a:ext cx="1722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esearch Fello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9920" y="2487600"/>
              <a:ext cx="20520" cy="32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069920" y="5702400"/>
              <a:ext cx="37026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794840" y="2487600"/>
              <a:ext cx="20160" cy="32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94840" y="570240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815000" y="5702400"/>
              <a:ext cx="3556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393400" y="2487600"/>
              <a:ext cx="20520" cy="32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393400" y="5702400"/>
              <a:ext cx="2091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mposed naming domains used to access a resource from a UR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63400" y="1336680"/>
            <a:ext cx="7775640" cy="4556160"/>
            <a:chOff x="563400" y="1336680"/>
            <a:chExt cx="7775640" cy="4556160"/>
          </a:xfrm>
        </p:grpSpPr>
        <p:sp>
          <p:nvSpPr>
            <p:cNvPr id="89" name=""/>
            <p:cNvSpPr/>
            <p:nvPr/>
          </p:nvSpPr>
          <p:spPr>
            <a:xfrm>
              <a:off x="2352600" y="3040200"/>
              <a:ext cx="4654800" cy="6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9720" y="4165560"/>
              <a:ext cx="1498320" cy="1652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92680" y="4294080"/>
              <a:ext cx="1263600" cy="1395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00280" y="1735200"/>
              <a:ext cx="517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://www.cdk3.net:8888/WebExamples/earth.ht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24240" y="133668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05000" y="2727360"/>
              <a:ext cx="503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ID (IP number, port number, pathna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5200" y="4498920"/>
              <a:ext cx="171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work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3160" y="4962600"/>
              <a:ext cx="1573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:60:8c:2:b0:5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21440" y="4848120"/>
              <a:ext cx="356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25600" y="3125880"/>
              <a:ext cx="1393920" cy="5126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08640" y="3125880"/>
              <a:ext cx="2687400" cy="5126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3400" y="4807080"/>
              <a:ext cx="1839960" cy="4554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57280" y="1643040"/>
              <a:ext cx="5472000" cy="4572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70840" y="4192560"/>
              <a:ext cx="116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40080" y="3274920"/>
              <a:ext cx="12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.55.55.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41600" y="4294080"/>
              <a:ext cx="185760" cy="169920"/>
            </a:xfrm>
            <a:custGeom>
              <a:avLst/>
              <a:gdLst/>
              <a:ahLst/>
              <a:rect l="l" t="t" r="r" b="b"/>
              <a:pathLst>
                <a:path w="126" h="107">
                  <a:moveTo>
                    <a:pt x="108" y="36"/>
                  </a:moveTo>
                  <a:lnTo>
                    <a:pt x="126" y="72"/>
                  </a:lnTo>
                  <a:lnTo>
                    <a:pt x="0" y="107"/>
                  </a:lnTo>
                  <a:lnTo>
                    <a:pt x="90" y="0"/>
                  </a:lnTo>
                  <a:lnTo>
                    <a:pt x="108" y="36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827000" y="3610080"/>
              <a:ext cx="1182600" cy="7412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03960" y="4749840"/>
              <a:ext cx="182520" cy="171360"/>
            </a:xfrm>
            <a:custGeom>
              <a:avLst/>
              <a:gdLst/>
              <a:ahLst/>
              <a:rect l="l" t="t" r="r" b="b"/>
              <a:pathLst>
                <a:path w="125" h="108">
                  <a:moveTo>
                    <a:pt x="17" y="18"/>
                  </a:moveTo>
                  <a:lnTo>
                    <a:pt x="53" y="0"/>
                  </a:lnTo>
                  <a:lnTo>
                    <a:pt x="125" y="108"/>
                  </a:lnTo>
                  <a:lnTo>
                    <a:pt x="0" y="54"/>
                  </a:lnTo>
                  <a:lnTo>
                    <a:pt x="17" y="18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4114440" y="3609720"/>
              <a:ext cx="1314360" cy="11682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7040" y="3274920"/>
              <a:ext cx="255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ebExamples/earth.ht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33960" y="4749840"/>
              <a:ext cx="579600" cy="426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78200" y="2868480"/>
              <a:ext cx="104760" cy="20016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36" y="0"/>
                  </a:moveTo>
                  <a:lnTo>
                    <a:pt x="72" y="0"/>
                  </a:lnTo>
                  <a:lnTo>
                    <a:pt x="36" y="12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30400" y="1986120"/>
              <a:ext cx="1800" cy="8539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471760" y="4978440"/>
              <a:ext cx="3051000" cy="112680"/>
              <a:chOff x="2471760" y="4978440"/>
              <a:chExt cx="3051000" cy="112680"/>
            </a:xfrm>
          </p:grpSpPr>
          <p:sp>
            <p:nvSpPr>
              <p:cNvPr id="113" name=""/>
              <p:cNvSpPr/>
              <p:nvPr/>
            </p:nvSpPr>
            <p:spPr>
              <a:xfrm>
                <a:off x="5338800" y="4978440"/>
                <a:ext cx="183960" cy="112680"/>
              </a:xfrm>
              <a:custGeom>
                <a:avLst/>
                <a:gdLst/>
                <a:ahLst/>
                <a:rect l="l" t="t" r="r" b="b"/>
                <a:pathLst>
                  <a:path w="125" h="71">
                    <a:moveTo>
                      <a:pt x="0" y="35"/>
                    </a:moveTo>
                    <a:lnTo>
                      <a:pt x="0" y="0"/>
                    </a:lnTo>
                    <a:lnTo>
                      <a:pt x="125" y="35"/>
                    </a:lnTo>
                    <a:lnTo>
                      <a:pt x="0" y="7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471760" y="5033880"/>
                <a:ext cx="2841480" cy="180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3773520" y="3125880"/>
              <a:ext cx="682560" cy="5126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3680" y="327492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8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60960" y="4549680"/>
              <a:ext cx="131760" cy="200160"/>
            </a:xfrm>
            <a:custGeom>
              <a:avLst/>
              <a:gdLst/>
              <a:ahLst/>
              <a:rect l="l" t="t" r="r" b="b"/>
              <a:pathLst>
                <a:path w="90" h="126">
                  <a:moveTo>
                    <a:pt x="36" y="0"/>
                  </a:moveTo>
                  <a:lnTo>
                    <a:pt x="72" y="0"/>
                  </a:lnTo>
                  <a:lnTo>
                    <a:pt x="90" y="126"/>
                  </a:lnTo>
                  <a:lnTo>
                    <a:pt x="0" y="18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5665320" y="3610080"/>
              <a:ext cx="420840" cy="9396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45640" y="2397240"/>
              <a:ext cx="121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look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5271840" y="5119560"/>
              <a:ext cx="393480" cy="56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03680" y="5618160"/>
              <a:ext cx="698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c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5584680" y="4908600"/>
              <a:ext cx="250920" cy="190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terative navig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00" y="2066760"/>
            <a:ext cx="7845480" cy="3260160"/>
            <a:chOff x="550800" y="2066760"/>
            <a:chExt cx="7845480" cy="3260160"/>
          </a:xfrm>
        </p:grpSpPr>
        <p:sp>
          <p:nvSpPr>
            <p:cNvPr id="125" name=""/>
            <p:cNvSpPr/>
            <p:nvPr/>
          </p:nvSpPr>
          <p:spPr>
            <a:xfrm>
              <a:off x="550800" y="4484520"/>
              <a:ext cx="784548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14760" y="2066760"/>
              <a:ext cx="2368440" cy="2711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51200" y="3117960"/>
              <a:ext cx="698400" cy="78084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51200" y="2165400"/>
              <a:ext cx="744840" cy="80640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48360" y="3875040"/>
              <a:ext cx="720720" cy="80640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32240" y="3362400"/>
              <a:ext cx="653760" cy="4633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26560" y="348444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08320" y="3581280"/>
              <a:ext cx="112680" cy="49320"/>
            </a:xfrm>
            <a:custGeom>
              <a:avLst/>
              <a:gdLst/>
              <a:ahLst/>
              <a:rect l="l" t="t" r="r" b="b"/>
              <a:pathLst>
                <a:path w="77" h="31">
                  <a:moveTo>
                    <a:pt x="62" y="16"/>
                  </a:moveTo>
                  <a:lnTo>
                    <a:pt x="77" y="31"/>
                  </a:lnTo>
                  <a:lnTo>
                    <a:pt x="0" y="31"/>
                  </a:lnTo>
                  <a:lnTo>
                    <a:pt x="62" y="0"/>
                  </a:lnTo>
                  <a:lnTo>
                    <a:pt x="62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92440" y="3508200"/>
              <a:ext cx="135000" cy="7308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15" y="31"/>
                  </a:moveTo>
                  <a:lnTo>
                    <a:pt x="0" y="0"/>
                  </a:lnTo>
                  <a:lnTo>
                    <a:pt x="92" y="15"/>
                  </a:lnTo>
                  <a:lnTo>
                    <a:pt x="15" y="46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321000" y="3557160"/>
              <a:ext cx="271440" cy="49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8320" y="3336840"/>
              <a:ext cx="112680" cy="7452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62" y="16"/>
                  </a:moveTo>
                  <a:lnTo>
                    <a:pt x="77" y="4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62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16560" y="2701800"/>
              <a:ext cx="112680" cy="7488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15" y="31"/>
                  </a:moveTo>
                  <a:lnTo>
                    <a:pt x="0" y="16"/>
                  </a:lnTo>
                  <a:lnTo>
                    <a:pt x="77" y="0"/>
                  </a:lnTo>
                  <a:lnTo>
                    <a:pt x="15" y="47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298680" y="2751120"/>
              <a:ext cx="1217880" cy="6112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91040" y="4192560"/>
              <a:ext cx="112680" cy="73080"/>
            </a:xfrm>
            <a:custGeom>
              <a:avLst/>
              <a:gdLst/>
              <a:ahLst/>
              <a:rect l="l" t="t" r="r" b="b"/>
              <a:pathLst>
                <a:path w="77" h="46">
                  <a:moveTo>
                    <a:pt x="0" y="31"/>
                  </a:moveTo>
                  <a:lnTo>
                    <a:pt x="15" y="0"/>
                  </a:lnTo>
                  <a:lnTo>
                    <a:pt x="77" y="46"/>
                  </a:lnTo>
                  <a:lnTo>
                    <a:pt x="0" y="4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08320" y="3703680"/>
              <a:ext cx="112680" cy="49320"/>
            </a:xfrm>
            <a:custGeom>
              <a:avLst/>
              <a:gdLst/>
              <a:ahLst/>
              <a:rect l="l" t="t" r="r" b="b"/>
              <a:pathLst>
                <a:path w="77" h="31">
                  <a:moveTo>
                    <a:pt x="62" y="16"/>
                  </a:moveTo>
                  <a:lnTo>
                    <a:pt x="62" y="31"/>
                  </a:lnTo>
                  <a:lnTo>
                    <a:pt x="0" y="0"/>
                  </a:lnTo>
                  <a:lnTo>
                    <a:pt x="77" y="0"/>
                  </a:lnTo>
                  <a:lnTo>
                    <a:pt x="62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3320640" y="3728520"/>
              <a:ext cx="1670040" cy="5130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00200" y="33447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22160" y="2995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00200" y="3863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2120" y="5083200"/>
              <a:ext cx="70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 client iteratively contacts name servers NS1–NS3 in order to resolve a 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59280" y="24303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35520" y="33591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43480" y="41576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62520" y="3201840"/>
              <a:ext cx="54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62520" y="3421080"/>
              <a:ext cx="6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on-recursive and recursive server-controlled navig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04720" y="1887480"/>
            <a:ext cx="7921800" cy="3821040"/>
            <a:chOff x="504720" y="1887480"/>
            <a:chExt cx="7921800" cy="3821040"/>
          </a:xfrm>
        </p:grpSpPr>
        <p:sp>
          <p:nvSpPr>
            <p:cNvPr id="152" name=""/>
            <p:cNvSpPr/>
            <p:nvPr/>
          </p:nvSpPr>
          <p:spPr>
            <a:xfrm>
              <a:off x="5559480" y="1887480"/>
              <a:ext cx="2388960" cy="27370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80000" y="3367080"/>
              <a:ext cx="114480" cy="730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0" y="31"/>
                  </a:moveTo>
                  <a:lnTo>
                    <a:pt x="0" y="0"/>
                  </a:lnTo>
                  <a:lnTo>
                    <a:pt x="78" y="31"/>
                  </a:lnTo>
                  <a:lnTo>
                    <a:pt x="0" y="4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148360" y="3416400"/>
              <a:ext cx="4111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9560" y="2651040"/>
              <a:ext cx="114120" cy="9864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16" y="47"/>
                  </a:moveTo>
                  <a:lnTo>
                    <a:pt x="0" y="31"/>
                  </a:lnTo>
                  <a:lnTo>
                    <a:pt x="78" y="0"/>
                  </a:lnTo>
                  <a:lnTo>
                    <a:pt x="31" y="62"/>
                  </a:lnTo>
                  <a:lnTo>
                    <a:pt x="16" y="4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218280" y="2749680"/>
              <a:ext cx="365040" cy="345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1960" y="3564000"/>
              <a:ext cx="44640" cy="123840"/>
            </a:xfrm>
            <a:custGeom>
              <a:avLst/>
              <a:gdLst/>
              <a:ahLst/>
              <a:rect l="l" t="t" r="r" b="b"/>
              <a:pathLst>
                <a:path w="31" h="78">
                  <a:moveTo>
                    <a:pt x="15" y="0"/>
                  </a:moveTo>
                  <a:lnTo>
                    <a:pt x="31" y="0"/>
                  </a:lnTo>
                  <a:lnTo>
                    <a:pt x="31" y="78"/>
                  </a:lnTo>
                  <a:lnTo>
                    <a:pt x="0" y="1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05680" y="2725560"/>
              <a:ext cx="69840" cy="122400"/>
            </a:xfrm>
            <a:custGeom>
              <a:avLst/>
              <a:gdLst/>
              <a:ahLst/>
              <a:rect l="l" t="t" r="r" b="b"/>
              <a:pathLst>
                <a:path w="47" h="77">
                  <a:moveTo>
                    <a:pt x="1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7" y="77"/>
                  </a:lnTo>
                  <a:lnTo>
                    <a:pt x="15" y="7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7127640" y="2847600"/>
              <a:ext cx="204840" cy="716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48360" y="3514680"/>
              <a:ext cx="114120" cy="730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8" y="31"/>
                  </a:moveTo>
                  <a:lnTo>
                    <a:pt x="78" y="46"/>
                  </a:lnTo>
                  <a:lnTo>
                    <a:pt x="0" y="31"/>
                  </a:lnTo>
                  <a:lnTo>
                    <a:pt x="78" y="0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262480" y="3564000"/>
              <a:ext cx="4320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41680" y="31590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5160" y="2701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84600" y="3040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41680" y="3621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1440" y="1911240"/>
              <a:ext cx="2433600" cy="27370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5440" y="3267000"/>
              <a:ext cx="706320" cy="4698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33400" y="3390840"/>
              <a:ext cx="114480" cy="74520"/>
            </a:xfrm>
            <a:custGeom>
              <a:avLst/>
              <a:gdLst/>
              <a:ahLst/>
              <a:rect l="l" t="t" r="r" b="b"/>
              <a:pathLst>
                <a:path w="78" h="47">
                  <a:moveTo>
                    <a:pt x="0" y="16"/>
                  </a:moveTo>
                  <a:lnTo>
                    <a:pt x="0" y="0"/>
                  </a:lnTo>
                  <a:lnTo>
                    <a:pt x="78" y="16"/>
                  </a:lnTo>
                  <a:lnTo>
                    <a:pt x="0" y="4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278000" y="3416400"/>
              <a:ext cx="433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59040" y="2700360"/>
              <a:ext cx="114480" cy="9828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15" y="47"/>
                  </a:moveTo>
                  <a:lnTo>
                    <a:pt x="0" y="31"/>
                  </a:lnTo>
                  <a:lnTo>
                    <a:pt x="78" y="0"/>
                  </a:lnTo>
                  <a:lnTo>
                    <a:pt x="31" y="62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38280" y="3021120"/>
              <a:ext cx="11448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63" y="16"/>
                  </a:moveTo>
                  <a:lnTo>
                    <a:pt x="78" y="31"/>
                  </a:lnTo>
                  <a:lnTo>
                    <a:pt x="0" y="78"/>
                  </a:lnTo>
                  <a:lnTo>
                    <a:pt x="47" y="0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531880" y="2798640"/>
              <a:ext cx="247320" cy="2476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52760" y="3687840"/>
              <a:ext cx="114120" cy="730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8" y="31"/>
                  </a:moveTo>
                  <a:lnTo>
                    <a:pt x="62" y="46"/>
                  </a:lnTo>
                  <a:lnTo>
                    <a:pt x="0" y="0"/>
                  </a:lnTo>
                  <a:lnTo>
                    <a:pt x="78" y="15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44960" y="3908520"/>
              <a:ext cx="114120" cy="74520"/>
            </a:xfrm>
            <a:custGeom>
              <a:avLst/>
              <a:gdLst/>
              <a:ahLst/>
              <a:rect l="l" t="t" r="r" b="b"/>
              <a:pathLst>
                <a:path w="78" h="47">
                  <a:moveTo>
                    <a:pt x="0" y="31"/>
                  </a:moveTo>
                  <a:lnTo>
                    <a:pt x="16" y="0"/>
                  </a:lnTo>
                  <a:lnTo>
                    <a:pt x="78" y="47"/>
                  </a:lnTo>
                  <a:lnTo>
                    <a:pt x="0" y="4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66880" y="3736800"/>
              <a:ext cx="478080" cy="1969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78000" y="3538440"/>
              <a:ext cx="114120" cy="74880"/>
            </a:xfrm>
            <a:custGeom>
              <a:avLst/>
              <a:gdLst/>
              <a:ahLst/>
              <a:rect l="l" t="t" r="r" b="b"/>
              <a:pathLst>
                <a:path w="78" h="47">
                  <a:moveTo>
                    <a:pt x="78" y="31"/>
                  </a:moveTo>
                  <a:lnTo>
                    <a:pt x="78" y="47"/>
                  </a:lnTo>
                  <a:lnTo>
                    <a:pt x="0" y="31"/>
                  </a:lnTo>
                  <a:lnTo>
                    <a:pt x="78" y="0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392120" y="3587760"/>
              <a:ext cx="433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60160" y="3106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85800" y="2751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36520" y="3597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1320" y="3673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54720" y="3070080"/>
              <a:ext cx="114480" cy="9864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62" y="16"/>
                  </a:moveTo>
                  <a:lnTo>
                    <a:pt x="78" y="31"/>
                  </a:lnTo>
                  <a:lnTo>
                    <a:pt x="0" y="62"/>
                  </a:lnTo>
                  <a:lnTo>
                    <a:pt x="47" y="0"/>
                  </a:lnTo>
                  <a:lnTo>
                    <a:pt x="62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445080" y="2676600"/>
              <a:ext cx="455760" cy="419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83040" y="2982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4720" y="5413320"/>
              <a:ext cx="792180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6600" y="5424480"/>
              <a:ext cx="717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 name server NS1 communicates with other name servers on behalf of a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0520" y="3375000"/>
              <a:ext cx="47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99720" y="3375000"/>
              <a:ext cx="47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99000" y="4782960"/>
              <a:ext cx="90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curs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24680" y="5005440"/>
              <a:ext cx="151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-controll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65800" y="3267000"/>
              <a:ext cx="706320" cy="4698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79560" y="1986120"/>
              <a:ext cx="752760" cy="81252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89440" y="22366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47880" y="3046320"/>
              <a:ext cx="750960" cy="8128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9480" y="33148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81400" y="3736800"/>
              <a:ext cx="752400" cy="8128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83000" y="40053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83320" y="1936800"/>
              <a:ext cx="749520" cy="8128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99320" y="218772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2997360"/>
              <a:ext cx="749520" cy="81252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59360" y="32655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83360" y="3687840"/>
              <a:ext cx="750960" cy="8128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92880" y="39560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32520" y="4782960"/>
              <a:ext cx="1263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n-recurs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20920" y="5005440"/>
              <a:ext cx="151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-controll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NS name serv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41360" y="1374840"/>
            <a:ext cx="7778160" cy="4665600"/>
            <a:chOff x="441360" y="1374840"/>
            <a:chExt cx="7778160" cy="4665600"/>
          </a:xfrm>
        </p:grpSpPr>
        <p:sp>
          <p:nvSpPr>
            <p:cNvPr id="208" name=""/>
            <p:cNvSpPr/>
            <p:nvPr/>
          </p:nvSpPr>
          <p:spPr>
            <a:xfrm>
              <a:off x="1571760" y="5775480"/>
              <a:ext cx="5308560" cy="26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9800" y="1380960"/>
              <a:ext cx="20005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Not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: Name server names are in italics, and the corresponding domains are in parentheses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1360" y="2192400"/>
              <a:ext cx="1805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rows denote name server entri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90640" y="2606760"/>
              <a:ext cx="1238400" cy="9730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68680" y="4630680"/>
              <a:ext cx="1208160" cy="974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07040" y="4630680"/>
              <a:ext cx="1192320" cy="974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720" y="2989440"/>
              <a:ext cx="1189080" cy="974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11840" y="3044880"/>
              <a:ext cx="1122480" cy="900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59040" y="4630680"/>
              <a:ext cx="1192320" cy="974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54360" y="1785960"/>
              <a:ext cx="1208160" cy="974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33760" y="3486240"/>
              <a:ext cx="1208160" cy="9730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18800" y="1374840"/>
              <a:ext cx="1198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.root-servers.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57480" y="1565280"/>
              <a:ext cx="36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oo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24560" y="1881360"/>
              <a:ext cx="1104840" cy="841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68680" y="3541680"/>
              <a:ext cx="1122480" cy="898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09800" y="4726080"/>
              <a:ext cx="1089000" cy="822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02160" y="4726080"/>
              <a:ext cx="1139760" cy="822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24680" y="4726080"/>
              <a:ext cx="1104840" cy="822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63280" y="3056040"/>
              <a:ext cx="66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ns0.ja.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19440" y="322740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ac.u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42400" y="5651640"/>
              <a:ext cx="138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dns0.dcs.qmw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57240" y="5823000"/>
              <a:ext cx="111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dcs.qmw.ac.u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27800" y="5651640"/>
              <a:ext cx="1148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alpha.qmw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94040" y="5823000"/>
              <a:ext cx="83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qmw.ac.u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43400" y="5651640"/>
              <a:ext cx="1190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dns0-doc.ic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83080" y="5823000"/>
              <a:ext cx="61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ic.ac.u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38880" y="2577960"/>
              <a:ext cx="980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ns.purdue.e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91080" y="2749680"/>
              <a:ext cx="876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purdue.ed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8160" y="202248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79000" y="2193840"/>
              <a:ext cx="77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urdue.e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36440" y="3760920"/>
              <a:ext cx="51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c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44720" y="4010040"/>
              <a:ext cx="73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qmw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66320" y="5003640"/>
              <a:ext cx="101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dcs.qmw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93320" y="5194440"/>
              <a:ext cx="83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*.qmw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37800" y="505944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*.ic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56520" y="4984920"/>
              <a:ext cx="1113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*.dcs.qmw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72480" y="2989440"/>
              <a:ext cx="85680" cy="5544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11" y="11"/>
                  </a:moveTo>
                  <a:lnTo>
                    <a:pt x="11" y="0"/>
                  </a:lnTo>
                  <a:lnTo>
                    <a:pt x="55" y="33"/>
                  </a:lnTo>
                  <a:lnTo>
                    <a:pt x="0" y="33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5486400" y="2282400"/>
              <a:ext cx="1486080" cy="72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23200" y="4651200"/>
              <a:ext cx="85680" cy="5724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11" y="11"/>
                  </a:moveTo>
                  <a:lnTo>
                    <a:pt x="22" y="0"/>
                  </a:lnTo>
                  <a:lnTo>
                    <a:pt x="55" y="33"/>
                  </a:lnTo>
                  <a:lnTo>
                    <a:pt x="0" y="22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5221440" y="3902040"/>
              <a:ext cx="1319040" cy="76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98840" y="5070600"/>
              <a:ext cx="87480" cy="56880"/>
            </a:xfrm>
            <a:custGeom>
              <a:avLst/>
              <a:gdLst/>
              <a:ahLst/>
              <a:rect l="l" t="t" r="r" b="b"/>
              <a:pathLst>
                <a:path w="56" h="33">
                  <a:moveTo>
                    <a:pt x="0" y="22"/>
                  </a:moveTo>
                  <a:lnTo>
                    <a:pt x="0" y="0"/>
                  </a:lnTo>
                  <a:lnTo>
                    <a:pt x="56" y="22"/>
                  </a:lnTo>
                  <a:lnTo>
                    <a:pt x="0" y="3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79720" y="5108400"/>
              <a:ext cx="501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6200" y="3397320"/>
              <a:ext cx="92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* .purdue.e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59040" y="2644920"/>
              <a:ext cx="1122480" cy="89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39960" y="2664000"/>
              <a:ext cx="86040" cy="586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11"/>
                  </a:moveTo>
                  <a:lnTo>
                    <a:pt x="55" y="22"/>
                  </a:lnTo>
                  <a:lnTo>
                    <a:pt x="0" y="34"/>
                  </a:lnTo>
                  <a:lnTo>
                    <a:pt x="44" y="0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726000" y="2109600"/>
              <a:ext cx="1036440" cy="57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42840" y="219708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ns1.ni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72160" y="236844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u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16880" y="313200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02160" y="3619440"/>
              <a:ext cx="87480" cy="38160"/>
            </a:xfrm>
            <a:custGeom>
              <a:avLst/>
              <a:gdLst/>
              <a:ahLst/>
              <a:rect l="l" t="t" r="r" b="b"/>
              <a:pathLst>
                <a:path w="56" h="22">
                  <a:moveTo>
                    <a:pt x="11" y="11"/>
                  </a:moveTo>
                  <a:lnTo>
                    <a:pt x="11" y="0"/>
                  </a:lnTo>
                  <a:lnTo>
                    <a:pt x="56" y="22"/>
                  </a:lnTo>
                  <a:lnTo>
                    <a:pt x="0" y="22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3548160" y="3276360"/>
              <a:ext cx="95400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16880" y="288432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o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14600" y="4630680"/>
              <a:ext cx="87480" cy="7776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56" y="23"/>
                  </a:moveTo>
                  <a:lnTo>
                    <a:pt x="56" y="34"/>
                  </a:lnTo>
                  <a:lnTo>
                    <a:pt x="0" y="45"/>
                  </a:lnTo>
                  <a:lnTo>
                    <a:pt x="45" y="0"/>
                  </a:lnTo>
                  <a:lnTo>
                    <a:pt x="56" y="2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502080" y="4095360"/>
              <a:ext cx="1087560" cy="55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99160" y="238608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ahoo.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NS resource record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03480" y="226692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4080" y="226692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60560" y="18399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3280" y="1839960"/>
            <a:ext cx="219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60560" y="222732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3280" y="2227320"/>
            <a:ext cx="219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60560" y="53769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3280" y="5376960"/>
            <a:ext cx="219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60240" y="1816200"/>
            <a:ext cx="7847280" cy="3538440"/>
            <a:chOff x="660240" y="1816200"/>
            <a:chExt cx="7847280" cy="3538440"/>
          </a:xfrm>
        </p:grpSpPr>
        <p:sp>
          <p:nvSpPr>
            <p:cNvPr id="273" name=""/>
            <p:cNvSpPr/>
            <p:nvPr/>
          </p:nvSpPr>
          <p:spPr>
            <a:xfrm>
              <a:off x="715680" y="1876320"/>
              <a:ext cx="122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cord 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34720" y="1876320"/>
              <a:ext cx="90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ea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55280" y="1876320"/>
              <a:ext cx="145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ain cont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7480" y="22399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35080" y="2239920"/>
              <a:ext cx="183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 computer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56720" y="223992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7480" y="253044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31840" y="2530440"/>
              <a:ext cx="2669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 authoritative name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4200" y="2530440"/>
              <a:ext cx="2234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main name for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7480" y="2820960"/>
              <a:ext cx="82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30040" y="2820960"/>
              <a:ext cx="292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 canonical name for an al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4200" y="2820960"/>
              <a:ext cx="2096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main name for al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7840" y="311148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30760" y="3111480"/>
              <a:ext cx="303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rks the start of data for a z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87280" y="311148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33360" y="311148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53120" y="3111480"/>
              <a:ext cx="283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ameters governing the z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7480" y="3402000"/>
              <a:ext cx="5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32920" y="3402000"/>
              <a:ext cx="309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 well-known service 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52400" y="3402000"/>
              <a:ext cx="3254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st of service names and 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7120" y="369252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32200" y="3692520"/>
              <a:ext cx="279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main name pointer (rever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36520" y="3935520"/>
              <a:ext cx="80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okup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56000" y="3692520"/>
              <a:ext cx="1293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main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17840" y="422604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35080" y="4226040"/>
              <a:ext cx="157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 inform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51680" y="4226040"/>
              <a:ext cx="325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chine architecture and opera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57440" y="4467240"/>
              <a:ext cx="63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7480" y="475776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34720" y="4757760"/>
              <a:ext cx="13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il exch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56000" y="4757760"/>
              <a:ext cx="793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st of &l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71760" y="4757760"/>
              <a:ext cx="1477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reference, 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66120" y="475776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pai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7120" y="50734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35080" y="5073480"/>
              <a:ext cx="100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xt 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56000" y="5073480"/>
              <a:ext cx="1254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bitrary 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660240" y="1816200"/>
              <a:ext cx="7762320" cy="3538440"/>
              <a:chOff x="660240" y="1816200"/>
              <a:chExt cx="7762320" cy="3538440"/>
            </a:xfrm>
          </p:grpSpPr>
          <p:sp>
            <p:nvSpPr>
              <p:cNvPr id="310" name=""/>
              <p:cNvSpPr/>
              <p:nvPr/>
            </p:nvSpPr>
            <p:spPr>
              <a:xfrm>
                <a:off x="660240" y="1816200"/>
                <a:ext cx="7762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60240" y="2203560"/>
                <a:ext cx="7762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60240" y="5353200"/>
                <a:ext cx="7762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NS zone data record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221480" y="1398600"/>
            <a:ext cx="6811920" cy="1955880"/>
            <a:chOff x="1221480" y="1398600"/>
            <a:chExt cx="6811920" cy="1955880"/>
          </a:xfrm>
        </p:grpSpPr>
        <p:sp>
          <p:nvSpPr>
            <p:cNvPr id="315" name=""/>
            <p:cNvSpPr/>
            <p:nvPr/>
          </p:nvSpPr>
          <p:spPr>
            <a:xfrm>
              <a:off x="1228680" y="1398600"/>
              <a:ext cx="671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28680" y="1781280"/>
              <a:ext cx="671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28680" y="3352680"/>
              <a:ext cx="6716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21480" y="1447920"/>
              <a:ext cx="123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omain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53200" y="1447920"/>
              <a:ext cx="1021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ime to l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90680" y="144792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32880" y="1447920"/>
              <a:ext cx="38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75800" y="1447920"/>
              <a:ext cx="49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4000" y="194148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78240" y="194148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21520" y="194148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63360" y="1941480"/>
              <a:ext cx="38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n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44000" y="221760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278240" y="221760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21520" y="221760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63360" y="2217600"/>
              <a:ext cx="38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n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44000" y="249876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78240" y="249876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21520" y="249876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64800" y="2498760"/>
              <a:ext cx="1578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cer.ucs.ed.ac.u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44000" y="278136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78240" y="278136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21160" y="2781360"/>
              <a:ext cx="32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65520" y="278136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  mail1.qmul.ac.u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44000" y="306216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78240" y="306216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21160" y="3062160"/>
              <a:ext cx="32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65520" y="306216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   mail2.qmul.ac.u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239480" y="3571920"/>
            <a:ext cx="6735960" cy="1136160"/>
            <a:chOff x="1239480" y="3571920"/>
            <a:chExt cx="6735960" cy="1136160"/>
          </a:xfrm>
        </p:grpSpPr>
        <p:sp>
          <p:nvSpPr>
            <p:cNvPr id="344" name=""/>
            <p:cNvSpPr/>
            <p:nvPr/>
          </p:nvSpPr>
          <p:spPr>
            <a:xfrm>
              <a:off x="1264680" y="3643200"/>
              <a:ext cx="123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omain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7800" y="3643200"/>
              <a:ext cx="12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55880" y="36432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20760" y="3643200"/>
              <a:ext cx="460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 to 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66440" y="36432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29800" y="3643200"/>
              <a:ext cx="20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22040" y="364320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09840" y="364320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80480" y="3643200"/>
              <a:ext cx="38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44440" y="364320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50400" y="3643200"/>
              <a:ext cx="49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28840" y="364320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39840" y="4101840"/>
              <a:ext cx="43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w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3280" y="41018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10800" y="410184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57400" y="41018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84640" y="410184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92720" y="41018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54920" y="410184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77080" y="41018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25920" y="410184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76840" y="41018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35160" y="410184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77080" y="41018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39480" y="440352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90760" y="44035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48720" y="440352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90640" y="44035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10800" y="440352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57400" y="44035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84640" y="440352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92720" y="44035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54200" y="44035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98920" y="44035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24120" y="4403520"/>
              <a:ext cx="1172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38.37.88.2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86560" y="44035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58920" y="3571920"/>
              <a:ext cx="671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58920" y="3954240"/>
              <a:ext cx="671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58920" y="4706640"/>
              <a:ext cx="671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242720" y="4964040"/>
            <a:ext cx="6672960" cy="1306080"/>
            <a:chOff x="1242720" y="4964040"/>
            <a:chExt cx="6672960" cy="1306080"/>
          </a:xfrm>
        </p:grpSpPr>
        <p:grpSp>
          <p:nvGrpSpPr>
            <p:cNvPr id="384" name=""/>
            <p:cNvGrpSpPr/>
            <p:nvPr/>
          </p:nvGrpSpPr>
          <p:grpSpPr>
            <a:xfrm>
              <a:off x="1243080" y="4964040"/>
              <a:ext cx="5809680" cy="243720"/>
              <a:chOff x="1243080" y="4964040"/>
              <a:chExt cx="5809680" cy="243720"/>
            </a:xfrm>
          </p:grpSpPr>
          <p:sp>
            <p:nvSpPr>
              <p:cNvPr id="385" name=""/>
              <p:cNvSpPr/>
              <p:nvPr/>
            </p:nvSpPr>
            <p:spPr>
              <a:xfrm>
                <a:off x="1243080" y="4964040"/>
                <a:ext cx="27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c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506960" y="496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719800" y="4964040"/>
                <a:ext cx="24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66760" y="496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197240" y="4964040"/>
                <a:ext cx="21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406400" y="496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271840" y="4964040"/>
                <a:ext cx="25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530320" y="496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45000" y="4964040"/>
                <a:ext cx="707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ns0.dc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1242720" y="5232600"/>
              <a:ext cx="6274800" cy="243720"/>
              <a:chOff x="1242720" y="5232600"/>
              <a:chExt cx="6274800" cy="243720"/>
            </a:xfrm>
          </p:grpSpPr>
          <p:sp>
            <p:nvSpPr>
              <p:cNvPr id="395" name=""/>
              <p:cNvSpPr/>
              <p:nvPr/>
            </p:nvSpPr>
            <p:spPr>
              <a:xfrm>
                <a:off x="1242720" y="5232600"/>
                <a:ext cx="628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ns0.d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860480" y="5232600"/>
                <a:ext cx="7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941120" y="52326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048040" y="52326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720160" y="5232600"/>
                <a:ext cx="24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966760" y="52326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97600" y="5232600"/>
                <a:ext cx="21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406400" y="52326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271840" y="523260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416560" y="52326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345000" y="5232600"/>
                <a:ext cx="1172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38.37.88.24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1243080" y="5488920"/>
              <a:ext cx="5809680" cy="243720"/>
              <a:chOff x="1243080" y="5488920"/>
              <a:chExt cx="5809680" cy="243720"/>
            </a:xfrm>
          </p:grpSpPr>
          <p:sp>
            <p:nvSpPr>
              <p:cNvPr id="407" name=""/>
              <p:cNvSpPr/>
              <p:nvPr/>
            </p:nvSpPr>
            <p:spPr>
              <a:xfrm>
                <a:off x="1243080" y="5488920"/>
                <a:ext cx="27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c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506960" y="5488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719800" y="5488920"/>
                <a:ext cx="24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966760" y="5488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197240" y="5488920"/>
                <a:ext cx="21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06400" y="5488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271840" y="5488920"/>
                <a:ext cx="25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530320" y="5488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45000" y="5488920"/>
                <a:ext cx="707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ns1.dc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1242720" y="5785560"/>
              <a:ext cx="6274800" cy="243720"/>
              <a:chOff x="1242720" y="5785560"/>
              <a:chExt cx="6274800" cy="243720"/>
            </a:xfrm>
          </p:grpSpPr>
          <p:sp>
            <p:nvSpPr>
              <p:cNvPr id="417" name=""/>
              <p:cNvSpPr/>
              <p:nvPr/>
            </p:nvSpPr>
            <p:spPr>
              <a:xfrm>
                <a:off x="1242720" y="5785560"/>
                <a:ext cx="628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ns1.d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860480" y="5785560"/>
                <a:ext cx="7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941120" y="578556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048040" y="578556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20160" y="5785560"/>
                <a:ext cx="24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966760" y="578556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197600" y="5785560"/>
                <a:ext cx="21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06400" y="578556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271840" y="578556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16560" y="578556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45000" y="5785560"/>
                <a:ext cx="1172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38.37.94.24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1243080" y="6026400"/>
              <a:ext cx="6672600" cy="243720"/>
              <a:chOff x="1243080" y="6026400"/>
              <a:chExt cx="6672600" cy="243720"/>
            </a:xfrm>
          </p:grpSpPr>
          <p:sp>
            <p:nvSpPr>
              <p:cNvPr id="429" name=""/>
              <p:cNvSpPr/>
              <p:nvPr/>
            </p:nvSpPr>
            <p:spPr>
              <a:xfrm>
                <a:off x="1243080" y="6026400"/>
                <a:ext cx="27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c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06960" y="60264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720160" y="6026400"/>
                <a:ext cx="24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966760" y="60264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197600" y="6026400"/>
                <a:ext cx="21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406400" y="60264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2200" y="6026400"/>
                <a:ext cx="25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530320" y="60264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346800" y="6026400"/>
                <a:ext cx="18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517800" y="60264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624720" y="602640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711840" y="602640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802920" y="6026400"/>
                <a:ext cx="11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915960" y="60264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022520" y="602640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110000" y="6026400"/>
                <a:ext cx="7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189920" y="6026400"/>
                <a:ext cx="2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426440" y="6026400"/>
                <a:ext cx="14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570440" y="6026400"/>
                <a:ext cx="345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.u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NS directory tree and value tree for user Peter.Smith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603880" y="1319040"/>
            <a:ext cx="4199400" cy="4559400"/>
            <a:chOff x="2603880" y="1319040"/>
            <a:chExt cx="4199400" cy="4559400"/>
          </a:xfrm>
        </p:grpSpPr>
        <p:sp>
          <p:nvSpPr>
            <p:cNvPr id="450" name=""/>
            <p:cNvSpPr/>
            <p:nvPr/>
          </p:nvSpPr>
          <p:spPr>
            <a:xfrm>
              <a:off x="2808360" y="3805200"/>
              <a:ext cx="957240" cy="362160"/>
            </a:xfrm>
            <a:prstGeom prst="roundRect">
              <a:avLst>
                <a:gd name="adj" fmla="val 48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08360" y="3805200"/>
              <a:ext cx="979560" cy="385920"/>
            </a:xfrm>
            <a:prstGeom prst="roundRect">
              <a:avLst>
                <a:gd name="adj" fmla="val 45269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632040" y="3805200"/>
              <a:ext cx="1800" cy="36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09920" y="3805200"/>
              <a:ext cx="1440" cy="36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64040" y="3805200"/>
              <a:ext cx="1440" cy="36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63880" y="3805200"/>
              <a:ext cx="1440" cy="36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75080" y="3081240"/>
              <a:ext cx="958680" cy="338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75080" y="3081240"/>
              <a:ext cx="981000" cy="362160"/>
            </a:xfrm>
            <a:prstGeom prst="roundRect">
              <a:avLst>
                <a:gd name="adj" fmla="val 48245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99120" y="3081240"/>
              <a:ext cx="1440" cy="3384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76640" y="3081240"/>
              <a:ext cx="7920" cy="3384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30760" y="3081240"/>
              <a:ext cx="1440" cy="3384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10080" y="3081240"/>
              <a:ext cx="1440" cy="3384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11760" y="1587600"/>
              <a:ext cx="955800" cy="360360"/>
            </a:xfrm>
            <a:prstGeom prst="roundRect">
              <a:avLst>
                <a:gd name="adj" fmla="val 484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11760" y="1587600"/>
              <a:ext cx="977760" cy="385560"/>
            </a:xfrm>
            <a:prstGeom prst="roundRect">
              <a:avLst>
                <a:gd name="adj" fmla="val 45269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35800" y="1611360"/>
              <a:ext cx="0" cy="312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11880" y="1611360"/>
              <a:ext cx="144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67440" y="1611360"/>
              <a:ext cx="144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44960" y="1611360"/>
              <a:ext cx="180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21280" y="2359080"/>
              <a:ext cx="957240" cy="336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21280" y="2359080"/>
              <a:ext cx="979200" cy="360360"/>
            </a:xfrm>
            <a:prstGeom prst="roundRect">
              <a:avLst>
                <a:gd name="adj" fmla="val 48458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27760" y="20574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56160" y="2359080"/>
              <a:ext cx="957240" cy="336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456160" y="2359080"/>
              <a:ext cx="978120" cy="360360"/>
            </a:xfrm>
            <a:prstGeom prst="roundRect">
              <a:avLst>
                <a:gd name="adj" fmla="val 48458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80200" y="2382840"/>
              <a:ext cx="144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56280" y="2382840"/>
              <a:ext cx="180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11840" y="2382840"/>
              <a:ext cx="144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89720" y="2382840"/>
              <a:ext cx="144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483520" y="205740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17840" y="277956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54440" y="2189160"/>
              <a:ext cx="135000" cy="120600"/>
            </a:xfrm>
            <a:custGeom>
              <a:avLst/>
              <a:gdLst/>
              <a:ahLst/>
              <a:rect l="l" t="t" r="r" b="b"/>
              <a:pathLst>
                <a:path w="92" h="76">
                  <a:moveTo>
                    <a:pt x="76" y="31"/>
                  </a:moveTo>
                  <a:lnTo>
                    <a:pt x="92" y="46"/>
                  </a:lnTo>
                  <a:lnTo>
                    <a:pt x="0" y="76"/>
                  </a:lnTo>
                  <a:lnTo>
                    <a:pt x="61" y="0"/>
                  </a:lnTo>
                  <a:lnTo>
                    <a:pt x="76" y="31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789440" y="1802880"/>
              <a:ext cx="511200" cy="411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811840" y="2165400"/>
              <a:ext cx="111240" cy="144360"/>
            </a:xfrm>
            <a:custGeom>
              <a:avLst/>
              <a:gdLst/>
              <a:ahLst/>
              <a:rect l="l" t="t" r="r" b="b"/>
              <a:pathLst>
                <a:path w="76" h="91">
                  <a:moveTo>
                    <a:pt x="15" y="15"/>
                  </a:moveTo>
                  <a:lnTo>
                    <a:pt x="46" y="0"/>
                  </a:lnTo>
                  <a:lnTo>
                    <a:pt x="76" y="91"/>
                  </a:lnTo>
                  <a:lnTo>
                    <a:pt x="0" y="31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5522400" y="1803240"/>
              <a:ext cx="311400" cy="385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732120" y="355140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M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41520" y="3637080"/>
              <a:ext cx="13356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76" y="30"/>
                  </a:moveTo>
                  <a:lnTo>
                    <a:pt x="91" y="45"/>
                  </a:lnTo>
                  <a:lnTo>
                    <a:pt x="0" y="91"/>
                  </a:lnTo>
                  <a:lnTo>
                    <a:pt x="61" y="0"/>
                  </a:lnTo>
                  <a:lnTo>
                    <a:pt x="76" y="3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452760" y="3274920"/>
              <a:ext cx="512640" cy="4096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03880" y="3560760"/>
              <a:ext cx="65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: 3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44960" y="2382840"/>
              <a:ext cx="180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22840" y="2382840"/>
              <a:ext cx="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4455720" y="2382840"/>
              <a:ext cx="2052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54480" y="2382840"/>
              <a:ext cx="144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76640" y="4383000"/>
              <a:ext cx="246240" cy="2415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43360" y="4865760"/>
              <a:ext cx="246240" cy="28872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89640" y="4792680"/>
              <a:ext cx="133200" cy="120600"/>
            </a:xfrm>
            <a:custGeom>
              <a:avLst/>
              <a:gdLst/>
              <a:ahLst/>
              <a:rect l="l" t="t" r="r" b="b"/>
              <a:pathLst>
                <a:path w="91" h="76">
                  <a:moveTo>
                    <a:pt x="15" y="16"/>
                  </a:moveTo>
                  <a:lnTo>
                    <a:pt x="30" y="0"/>
                  </a:lnTo>
                  <a:lnTo>
                    <a:pt x="91" y="76"/>
                  </a:lnTo>
                  <a:lnTo>
                    <a:pt x="0" y="4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4187520" y="4503600"/>
              <a:ext cx="422280" cy="314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21120" y="4262400"/>
              <a:ext cx="133200" cy="120600"/>
            </a:xfrm>
            <a:custGeom>
              <a:avLst/>
              <a:gdLst/>
              <a:ahLst/>
              <a:rect l="l" t="t" r="r" b="b"/>
              <a:pathLst>
                <a:path w="91" h="76">
                  <a:moveTo>
                    <a:pt x="15" y="31"/>
                  </a:moveTo>
                  <a:lnTo>
                    <a:pt x="31" y="0"/>
                  </a:lnTo>
                  <a:lnTo>
                    <a:pt x="91" y="76"/>
                  </a:lnTo>
                  <a:lnTo>
                    <a:pt x="0" y="46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3543120" y="3973320"/>
              <a:ext cx="377640" cy="3142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08880" y="4029120"/>
              <a:ext cx="106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ter.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23040" y="4491000"/>
              <a:ext cx="86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ss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3654360" y="4503600"/>
              <a:ext cx="488880" cy="385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409920" y="4865760"/>
              <a:ext cx="244440" cy="28872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964240" y="454032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box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65760" y="131904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: 599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50120" y="1319040"/>
              <a:ext cx="41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E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148800" y="2090880"/>
              <a:ext cx="65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: 57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24720" y="2090880"/>
              <a:ext cx="65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: 54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243600" y="2813040"/>
              <a:ext cx="65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: 43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63880" y="5396040"/>
              <a:ext cx="133200" cy="120600"/>
            </a:xfrm>
            <a:custGeom>
              <a:avLst/>
              <a:gdLst/>
              <a:ahLst/>
              <a:rect l="l" t="t" r="r" b="b"/>
              <a:pathLst>
                <a:path w="91" h="76">
                  <a:moveTo>
                    <a:pt x="76" y="15"/>
                  </a:moveTo>
                  <a:lnTo>
                    <a:pt x="91" y="30"/>
                  </a:lnTo>
                  <a:lnTo>
                    <a:pt x="0" y="76"/>
                  </a:lnTo>
                  <a:lnTo>
                    <a:pt x="61" y="0"/>
                  </a:lnTo>
                  <a:lnTo>
                    <a:pt x="76" y="15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3075120" y="5010120"/>
              <a:ext cx="446040" cy="4096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10040" y="5372280"/>
              <a:ext cx="13320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15" y="30"/>
                  </a:moveTo>
                  <a:lnTo>
                    <a:pt x="30" y="0"/>
                  </a:lnTo>
                  <a:lnTo>
                    <a:pt x="91" y="91"/>
                  </a:lnTo>
                  <a:lnTo>
                    <a:pt x="0" y="45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3609720" y="5010120"/>
              <a:ext cx="422280" cy="385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98840" y="5407200"/>
              <a:ext cx="87480" cy="144360"/>
            </a:xfrm>
            <a:custGeom>
              <a:avLst/>
              <a:gdLst/>
              <a:ahLst/>
              <a:rect l="l" t="t" r="r" b="b"/>
              <a:pathLst>
                <a:path w="60" h="91">
                  <a:moveTo>
                    <a:pt x="30" y="0"/>
                  </a:moveTo>
                  <a:lnTo>
                    <a:pt x="60" y="0"/>
                  </a:lnTo>
                  <a:lnTo>
                    <a:pt x="30" y="91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43480" y="5033880"/>
              <a:ext cx="1440" cy="3142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621880" y="515628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ph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34160" y="5156280"/>
              <a:ext cx="72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am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65640" y="5178600"/>
              <a:ext cx="377640" cy="14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03080" y="515628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63720" y="5589720"/>
              <a:ext cx="222480" cy="28872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30440" y="5589720"/>
              <a:ext cx="246240" cy="28872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76640" y="5589720"/>
              <a:ext cx="246240" cy="28872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10040" y="2913120"/>
              <a:ext cx="133200" cy="120600"/>
            </a:xfrm>
            <a:custGeom>
              <a:avLst/>
              <a:gdLst/>
              <a:ahLst/>
              <a:rect l="l" t="t" r="r" b="b"/>
              <a:pathLst>
                <a:path w="91" h="76">
                  <a:moveTo>
                    <a:pt x="76" y="30"/>
                  </a:moveTo>
                  <a:lnTo>
                    <a:pt x="91" y="45"/>
                  </a:lnTo>
                  <a:lnTo>
                    <a:pt x="0" y="76"/>
                  </a:lnTo>
                  <a:lnTo>
                    <a:pt x="61" y="0"/>
                  </a:lnTo>
                  <a:lnTo>
                    <a:pt x="76" y="3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4120920" y="2527200"/>
              <a:ext cx="468360" cy="4096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erging trees under a new roo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681280" y="3602160"/>
            <a:ext cx="1063800" cy="401400"/>
          </a:xfrm>
          <a:prstGeom prst="roundRect">
            <a:avLst>
              <a:gd name="adj" fmla="val 4822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681280" y="3602160"/>
            <a:ext cx="1087560" cy="428400"/>
          </a:xfrm>
          <a:prstGeom prst="roundRect">
            <a:avLst>
              <a:gd name="adj" fmla="val 45185"/>
            </a:avLst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88400" y="2811600"/>
            <a:ext cx="30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14480" y="4459320"/>
            <a:ext cx="1065240" cy="37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14480" y="4459320"/>
            <a:ext cx="1087560" cy="401760"/>
          </a:xfrm>
          <a:prstGeom prst="roundRect">
            <a:avLst>
              <a:gd name="adj" fmla="val 48222"/>
            </a:avLst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86480" y="4124160"/>
            <a:ext cx="30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398760" y="4459320"/>
            <a:ext cx="1063800" cy="37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98760" y="4459320"/>
            <a:ext cx="1087560" cy="401760"/>
          </a:xfrm>
          <a:prstGeom prst="roundRect">
            <a:avLst>
              <a:gd name="adj" fmla="val 48222"/>
            </a:avLst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59240" y="4124160"/>
            <a:ext cx="29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67080" y="4289400"/>
            <a:ext cx="149040" cy="133200"/>
          </a:xfrm>
          <a:custGeom>
            <a:avLst/>
            <a:gdLst/>
            <a:ahLst/>
            <a:rect l="l" t="t" r="r" b="b"/>
            <a:pathLst>
              <a:path w="101" h="84">
                <a:moveTo>
                  <a:pt x="85" y="34"/>
                </a:moveTo>
                <a:lnTo>
                  <a:pt x="101" y="51"/>
                </a:lnTo>
                <a:lnTo>
                  <a:pt x="0" y="84"/>
                </a:lnTo>
                <a:lnTo>
                  <a:pt x="68" y="0"/>
                </a:lnTo>
                <a:lnTo>
                  <a:pt x="85" y="34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2608200" y="3816000"/>
            <a:ext cx="617760" cy="482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84680" y="4262400"/>
            <a:ext cx="125280" cy="160200"/>
          </a:xfrm>
          <a:custGeom>
            <a:avLst/>
            <a:gdLst/>
            <a:ahLst/>
            <a:rect l="l" t="t" r="r" b="b"/>
            <a:pathLst>
              <a:path w="85" h="101">
                <a:moveTo>
                  <a:pt x="17" y="17"/>
                </a:moveTo>
                <a:lnTo>
                  <a:pt x="51" y="0"/>
                </a:lnTo>
                <a:lnTo>
                  <a:pt x="85" y="101"/>
                </a:lnTo>
                <a:lnTo>
                  <a:pt x="0" y="34"/>
                </a:lnTo>
                <a:lnTo>
                  <a:pt x="17" y="17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3472920" y="3816360"/>
            <a:ext cx="320760" cy="455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346040" y="4299120"/>
            <a:ext cx="173160" cy="106200"/>
          </a:xfrm>
          <a:custGeom>
            <a:avLst/>
            <a:gdLst/>
            <a:ahLst/>
            <a:rect l="l" t="t" r="r" b="b"/>
            <a:pathLst>
              <a:path w="118" h="67">
                <a:moveTo>
                  <a:pt x="101" y="34"/>
                </a:moveTo>
                <a:lnTo>
                  <a:pt x="118" y="67"/>
                </a:lnTo>
                <a:lnTo>
                  <a:pt x="0" y="67"/>
                </a:lnTo>
                <a:lnTo>
                  <a:pt x="101" y="0"/>
                </a:lnTo>
                <a:lnTo>
                  <a:pt x="101" y="34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1518840" y="3816360"/>
            <a:ext cx="1460520" cy="53640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20120" y="3375000"/>
            <a:ext cx="69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: 59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66280" y="4205160"/>
            <a:ext cx="69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: 57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93720" y="4218120"/>
            <a:ext cx="76680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695960" y="4205160"/>
            <a:ext cx="69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: 54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588000" y="3602160"/>
            <a:ext cx="1062000" cy="401400"/>
          </a:xfrm>
          <a:prstGeom prst="roundRect">
            <a:avLst>
              <a:gd name="adj" fmla="val 4822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88000" y="3602160"/>
            <a:ext cx="1087560" cy="428400"/>
          </a:xfrm>
          <a:prstGeom prst="roundRect">
            <a:avLst>
              <a:gd name="adj" fmla="val 45185"/>
            </a:avLst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03520" y="2793960"/>
            <a:ext cx="1818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24560" y="4459320"/>
            <a:ext cx="1089000" cy="37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24560" y="4459320"/>
            <a:ext cx="1112760" cy="401760"/>
          </a:xfrm>
          <a:prstGeom prst="roundRect">
            <a:avLst>
              <a:gd name="adj" fmla="val 48222"/>
            </a:avLst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5080" y="4043520"/>
            <a:ext cx="30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32600" y="4459320"/>
            <a:ext cx="1063800" cy="37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32600" y="4459320"/>
            <a:ext cx="1089000" cy="401760"/>
          </a:xfrm>
          <a:prstGeom prst="roundRect">
            <a:avLst>
              <a:gd name="adj" fmla="val 48222"/>
            </a:avLst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102360" y="4289400"/>
            <a:ext cx="173160" cy="133200"/>
          </a:xfrm>
          <a:custGeom>
            <a:avLst/>
            <a:gdLst/>
            <a:ahLst/>
            <a:rect l="l" t="t" r="r" b="b"/>
            <a:pathLst>
              <a:path w="118" h="84">
                <a:moveTo>
                  <a:pt x="84" y="34"/>
                </a:moveTo>
                <a:lnTo>
                  <a:pt x="118" y="51"/>
                </a:lnTo>
                <a:lnTo>
                  <a:pt x="0" y="84"/>
                </a:lnTo>
                <a:lnTo>
                  <a:pt x="68" y="0"/>
                </a:lnTo>
                <a:lnTo>
                  <a:pt x="84" y="34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6265800" y="3816000"/>
            <a:ext cx="568440" cy="482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419960" y="4280040"/>
            <a:ext cx="123840" cy="160200"/>
          </a:xfrm>
          <a:custGeom>
            <a:avLst/>
            <a:gdLst/>
            <a:ahLst/>
            <a:rect l="l" t="t" r="r" b="b"/>
            <a:pathLst>
              <a:path w="85" h="101">
                <a:moveTo>
                  <a:pt x="17" y="17"/>
                </a:moveTo>
                <a:lnTo>
                  <a:pt x="51" y="0"/>
                </a:lnTo>
                <a:lnTo>
                  <a:pt x="85" y="101"/>
                </a:lnTo>
                <a:lnTo>
                  <a:pt x="0" y="34"/>
                </a:lnTo>
                <a:lnTo>
                  <a:pt x="17" y="17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7081560" y="3816360"/>
            <a:ext cx="345960" cy="455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114240" y="3375000"/>
            <a:ext cx="69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: 64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41360" y="4205160"/>
            <a:ext cx="69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: 45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23680" y="4205160"/>
            <a:ext cx="69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: 73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35640" y="2263680"/>
            <a:ext cx="1063440" cy="37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35640" y="2263680"/>
            <a:ext cx="1089000" cy="401760"/>
          </a:xfrm>
          <a:prstGeom prst="roundRect">
            <a:avLst>
              <a:gd name="adj" fmla="val 48222"/>
            </a:avLst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451480" y="2263680"/>
            <a:ext cx="144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203800" y="2263680"/>
            <a:ext cx="144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30920" y="2263680"/>
            <a:ext cx="144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684680" y="2263680"/>
            <a:ext cx="180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85000" y="3441600"/>
            <a:ext cx="173160" cy="133560"/>
          </a:xfrm>
          <a:custGeom>
            <a:avLst/>
            <a:gdLst/>
            <a:ahLst/>
            <a:rect l="l" t="t" r="r" b="b"/>
            <a:pathLst>
              <a:path w="118" h="84">
                <a:moveTo>
                  <a:pt x="17" y="34"/>
                </a:moveTo>
                <a:lnTo>
                  <a:pt x="34" y="0"/>
                </a:lnTo>
                <a:lnTo>
                  <a:pt x="118" y="84"/>
                </a:lnTo>
                <a:lnTo>
                  <a:pt x="0" y="51"/>
                </a:lnTo>
                <a:lnTo>
                  <a:pt x="17" y="34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26200" y="2451240"/>
            <a:ext cx="1582560" cy="10173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4920" y="3441600"/>
            <a:ext cx="147600" cy="133560"/>
          </a:xfrm>
          <a:custGeom>
            <a:avLst/>
            <a:gdLst/>
            <a:ahLst/>
            <a:rect l="l" t="t" r="r" b="b"/>
            <a:pathLst>
              <a:path w="101" h="84">
                <a:moveTo>
                  <a:pt x="84" y="17"/>
                </a:moveTo>
                <a:lnTo>
                  <a:pt x="101" y="51"/>
                </a:lnTo>
                <a:lnTo>
                  <a:pt x="0" y="84"/>
                </a:lnTo>
                <a:lnTo>
                  <a:pt x="68" y="0"/>
                </a:lnTo>
                <a:lnTo>
                  <a:pt x="84" y="17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398760" y="2451240"/>
            <a:ext cx="1433520" cy="10173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3120" y="2505240"/>
            <a:ext cx="3138480" cy="5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73120" y="2505240"/>
            <a:ext cx="3163680" cy="61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20640" y="2597040"/>
            <a:ext cx="157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#599 = #633/E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8120" y="2838600"/>
            <a:ext cx="3087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#642 = #633/NORTH AMER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17880" y="2638440"/>
            <a:ext cx="149400" cy="81000"/>
          </a:xfrm>
          <a:custGeom>
            <a:avLst/>
            <a:gdLst/>
            <a:ahLst/>
            <a:rect l="l" t="t" r="r" b="b"/>
            <a:pathLst>
              <a:path w="101" h="51">
                <a:moveTo>
                  <a:pt x="101" y="17"/>
                </a:moveTo>
                <a:lnTo>
                  <a:pt x="101" y="51"/>
                </a:lnTo>
                <a:lnTo>
                  <a:pt x="0" y="51"/>
                </a:lnTo>
                <a:lnTo>
                  <a:pt x="84" y="0"/>
                </a:lnTo>
                <a:lnTo>
                  <a:pt x="101" y="17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067280" y="2451240"/>
            <a:ext cx="542880" cy="21420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14520" y="2224080"/>
            <a:ext cx="2238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ell-known directori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107120" y="4030560"/>
            <a:ext cx="76680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167960" y="4025880"/>
            <a:ext cx="906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255560" y="1982880"/>
            <a:ext cx="75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: 633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966200" y="1982880"/>
            <a:ext cx="950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WORLD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14960" y="4459320"/>
            <a:ext cx="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067280" y="4459320"/>
            <a:ext cx="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19600" y="4459320"/>
            <a:ext cx="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71920" y="4459320"/>
            <a:ext cx="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464160" y="4459320"/>
            <a:ext cx="180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4459320"/>
            <a:ext cx="144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45040" y="4459320"/>
            <a:ext cx="180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97360" y="4459320"/>
            <a:ext cx="180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948440" y="4459320"/>
            <a:ext cx="180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701120" y="4459320"/>
            <a:ext cx="144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453440" y="4459320"/>
            <a:ext cx="144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05760" y="4459320"/>
            <a:ext cx="144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527960" y="3629160"/>
            <a:ext cx="1440" cy="37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280280" y="3629160"/>
            <a:ext cx="1440" cy="37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032600" y="3629160"/>
            <a:ext cx="1440" cy="37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786720" y="3629160"/>
            <a:ext cx="1440" cy="37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95680" y="3629160"/>
            <a:ext cx="1440" cy="37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49800" y="3629160"/>
            <a:ext cx="1440" cy="37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076560" y="3629160"/>
            <a:ext cx="1440" cy="37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828880" y="3629160"/>
            <a:ext cx="1800" cy="37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828880" y="4459320"/>
            <a:ext cx="180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83000" y="4459320"/>
            <a:ext cx="144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335320" y="4459320"/>
            <a:ext cx="144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087640" y="4459320"/>
            <a:ext cx="144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5-20T15:02:19Z</dcterms:modified>
  <cp:revision>63</cp:revision>
  <dc:subject/>
  <dc:title>Figure 15.1 A distributed multimedia system</dc:title>
</cp:coreProperties>
</file>