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11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5267-8AE9-4DFF-BEA2-2DBC2773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349-62A6-4BB4-A265-EA9799F1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FE1-19F5-4E1C-B174-B2C1B7DF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096-18C2-4B43-A7E4-DBB600CE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6183-20EF-4D22-9E47-9D11416D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CF41-D42A-459B-A059-65159348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1D30-5DE5-4D73-B676-6599A0AF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9694-3A14-41B9-89D9-6FF0F98F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B56A-18AA-4833-8B73-6B557C34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AC07-7CC2-474D-B31D-FA5F773C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89BE-6F78-439E-9170-90AF138D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A1B-E083-4B44-88A9-859A9E07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A5BD-7F0E-4DB9-8985-A8E63816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294D-6AAD-47D0-8D2A-3F8C4A99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A3C5-99A0-4DD8-B8DB-A8797BD2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E832-4E76-495E-B876-5728967E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2FB0-4DD8-4CFF-AEB4-E6EC57A0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175-10B9-45F9-8466-CEEF8DA7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EDB-9783-4A5B-85B3-902C5880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455-8A87-44AC-9777-AD38B980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7C9-E4AE-454F-8D63-2F2C8646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8F3-9413-482A-8213-3DA85F43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D42-DBE6-4F54-BCA3-B107B927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FE4-1337-45D0-A391-C5170E7E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6EEC-45E6-4D61-83CD-51CCA250B8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31DF-53F5-4165-96EC-7181E15DED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10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eer-to-Peer System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5440" y="3095640"/>
            <a:ext cx="18698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9: Pastry’s routing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5440" y="1386000"/>
            <a:ext cx="87724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10: Tapestry routing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[Zhao et al. 2004]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9600" y="1363680"/>
            <a:ext cx="8740440" cy="4156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28480" y="5521320"/>
            <a:ext cx="87584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11: Storage organization of OceanStore objec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81560" y="2425680"/>
            <a:ext cx="4387680" cy="1587600"/>
          </a:xfrm>
          <a:prstGeom prst="rect">
            <a:avLst/>
          </a:prstGeom>
          <a:noFill/>
          <a:ln w="4140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81560" y="4138560"/>
            <a:ext cx="4387680" cy="1589040"/>
          </a:xfrm>
          <a:prstGeom prst="rect">
            <a:avLst/>
          </a:prstGeom>
          <a:noFill/>
          <a:ln w="4140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50120" y="5329080"/>
            <a:ext cx="312480" cy="2509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50120" y="5329080"/>
            <a:ext cx="334800" cy="27324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39040" y="5381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88240" y="5329080"/>
            <a:ext cx="314280" cy="2509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88240" y="5329080"/>
            <a:ext cx="334800" cy="27324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86880" y="5381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27800" y="5329080"/>
            <a:ext cx="333360" cy="2509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27800" y="5329080"/>
            <a:ext cx="355680" cy="27324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34360" y="5381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26360" y="5329080"/>
            <a:ext cx="335160" cy="2509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26360" y="5329080"/>
            <a:ext cx="355680" cy="27324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29680" y="5381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86800" y="5329080"/>
            <a:ext cx="314280" cy="2509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86800" y="5329080"/>
            <a:ext cx="334800" cy="27324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82200" y="5381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84880" y="4368960"/>
            <a:ext cx="2340000" cy="230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43200" y="4398840"/>
            <a:ext cx="83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ot blo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76600" y="4857840"/>
            <a:ext cx="81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 Helvetica Condensed"/>
              </a:rPr>
              <a:t>version 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67360" y="4870440"/>
            <a:ext cx="690840" cy="230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29640" y="4870440"/>
            <a:ext cx="709560" cy="230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59480" y="4900680"/>
            <a:ext cx="1474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direction block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1080" y="4786200"/>
            <a:ext cx="104760" cy="63720"/>
          </a:xfrm>
          <a:custGeom>
            <a:avLst/>
            <a:gdLst/>
            <a:ahLst/>
            <a:rect l="l" t="t" r="r" b="b"/>
            <a:pathLst>
              <a:path w="66" h="40">
                <a:moveTo>
                  <a:pt x="39" y="0"/>
                </a:moveTo>
                <a:lnTo>
                  <a:pt x="66" y="0"/>
                </a:lnTo>
                <a:lnTo>
                  <a:pt x="39" y="40"/>
                </a:lnTo>
                <a:lnTo>
                  <a:pt x="0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93000" y="4514760"/>
            <a:ext cx="1440" cy="250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70680" y="4786200"/>
            <a:ext cx="104760" cy="84240"/>
          </a:xfrm>
          <a:custGeom>
            <a:avLst/>
            <a:gdLst/>
            <a:ahLst/>
            <a:rect l="l" t="t" r="r" b="b"/>
            <a:pathLst>
              <a:path w="66" h="53">
                <a:moveTo>
                  <a:pt x="40" y="0"/>
                </a:moveTo>
                <a:lnTo>
                  <a:pt x="66" y="0"/>
                </a:lnTo>
                <a:lnTo>
                  <a:pt x="40" y="53"/>
                </a:ln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3040" y="4514760"/>
            <a:ext cx="711360" cy="271440"/>
          </a:xfrm>
          <a:custGeom>
            <a:avLst/>
            <a:gdLst/>
            <a:ahLst/>
            <a:rect l="l" t="t" r="r" b="b"/>
            <a:pathLst>
              <a:path w="448" h="171">
                <a:moveTo>
                  <a:pt x="0" y="0"/>
                </a:moveTo>
                <a:lnTo>
                  <a:pt x="0" y="132"/>
                </a:lnTo>
                <a:lnTo>
                  <a:pt x="448" y="132"/>
                </a:lnTo>
                <a:lnTo>
                  <a:pt x="448" y="171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75400" y="5246640"/>
            <a:ext cx="84240" cy="82440"/>
          </a:xfrm>
          <a:custGeom>
            <a:avLst/>
            <a:gdLst/>
            <a:ahLst/>
            <a:rect l="l" t="t" r="r" b="b"/>
            <a:pathLst>
              <a:path w="53" h="52">
                <a:moveTo>
                  <a:pt x="26" y="0"/>
                </a:moveTo>
                <a:lnTo>
                  <a:pt x="53" y="0"/>
                </a:lnTo>
                <a:lnTo>
                  <a:pt x="26" y="52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16800" y="4995720"/>
            <a:ext cx="376200" cy="250920"/>
          </a:xfrm>
          <a:custGeom>
            <a:avLst/>
            <a:gdLst/>
            <a:ahLst/>
            <a:rect l="l" t="t" r="r" b="b"/>
            <a:pathLst>
              <a:path w="237" h="158">
                <a:moveTo>
                  <a:pt x="237" y="0"/>
                </a:moveTo>
                <a:lnTo>
                  <a:pt x="237" y="118"/>
                </a:lnTo>
                <a:lnTo>
                  <a:pt x="0" y="118"/>
                </a:lnTo>
                <a:lnTo>
                  <a:pt x="0" y="15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53440" y="5246640"/>
            <a:ext cx="83880" cy="82440"/>
          </a:xfrm>
          <a:custGeom>
            <a:avLst/>
            <a:gdLst/>
            <a:ahLst/>
            <a:rect l="l" t="t" r="r" b="b"/>
            <a:pathLst>
              <a:path w="53" h="52">
                <a:moveTo>
                  <a:pt x="26" y="0"/>
                </a:moveTo>
                <a:lnTo>
                  <a:pt x="53" y="0"/>
                </a:lnTo>
                <a:lnTo>
                  <a:pt x="26" y="52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89720" y="4995720"/>
            <a:ext cx="104760" cy="250920"/>
          </a:xfrm>
          <a:custGeom>
            <a:avLst/>
            <a:gdLst/>
            <a:ahLst/>
            <a:rect l="l" t="t" r="r" b="b"/>
            <a:pathLst>
              <a:path w="66" h="158">
                <a:moveTo>
                  <a:pt x="0" y="0"/>
                </a:moveTo>
                <a:lnTo>
                  <a:pt x="0" y="118"/>
                </a:lnTo>
                <a:lnTo>
                  <a:pt x="66" y="118"/>
                </a:lnTo>
                <a:lnTo>
                  <a:pt x="66" y="15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35840" y="5246640"/>
            <a:ext cx="82440" cy="82440"/>
          </a:xfrm>
          <a:custGeom>
            <a:avLst/>
            <a:gdLst/>
            <a:ahLst/>
            <a:rect l="l" t="t" r="r" b="b"/>
            <a:pathLst>
              <a:path w="52" h="52">
                <a:moveTo>
                  <a:pt x="26" y="0"/>
                </a:moveTo>
                <a:lnTo>
                  <a:pt x="52" y="0"/>
                </a:lnTo>
                <a:lnTo>
                  <a:pt x="26" y="52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7240" y="4995720"/>
            <a:ext cx="125280" cy="250920"/>
          </a:xfrm>
          <a:custGeom>
            <a:avLst/>
            <a:gdLst/>
            <a:ahLst/>
            <a:rect l="l" t="t" r="r" b="b"/>
            <a:pathLst>
              <a:path w="79" h="158">
                <a:moveTo>
                  <a:pt x="79" y="0"/>
                </a:moveTo>
                <a:lnTo>
                  <a:pt x="79" y="118"/>
                </a:lnTo>
                <a:lnTo>
                  <a:pt x="0" y="118"/>
                </a:lnTo>
                <a:lnTo>
                  <a:pt x="0" y="15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10600" y="5246640"/>
            <a:ext cx="82440" cy="82440"/>
          </a:xfrm>
          <a:custGeom>
            <a:avLst/>
            <a:gdLst/>
            <a:ahLst/>
            <a:rect l="l" t="t" r="r" b="b"/>
            <a:pathLst>
              <a:path w="52" h="52">
                <a:moveTo>
                  <a:pt x="26" y="0"/>
                </a:moveTo>
                <a:lnTo>
                  <a:pt x="52" y="0"/>
                </a:lnTo>
                <a:lnTo>
                  <a:pt x="26" y="52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05840" y="4995720"/>
            <a:ext cx="146160" cy="250920"/>
          </a:xfrm>
          <a:custGeom>
            <a:avLst/>
            <a:gdLst/>
            <a:ahLst/>
            <a:rect l="l" t="t" r="r" b="b"/>
            <a:pathLst>
              <a:path w="92" h="158">
                <a:moveTo>
                  <a:pt x="0" y="0"/>
                </a:moveTo>
                <a:lnTo>
                  <a:pt x="0" y="118"/>
                </a:lnTo>
                <a:lnTo>
                  <a:pt x="92" y="118"/>
                </a:lnTo>
                <a:lnTo>
                  <a:pt x="92" y="15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91560" y="5246640"/>
            <a:ext cx="104760" cy="82440"/>
          </a:xfrm>
          <a:custGeom>
            <a:avLst/>
            <a:gdLst/>
            <a:ahLst/>
            <a:rect l="l" t="t" r="r" b="b"/>
            <a:pathLst>
              <a:path w="66" h="52">
                <a:moveTo>
                  <a:pt x="40" y="0"/>
                </a:moveTo>
                <a:lnTo>
                  <a:pt x="66" y="0"/>
                </a:lnTo>
                <a:lnTo>
                  <a:pt x="40" y="52"/>
                </a:ln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54920" y="4995720"/>
            <a:ext cx="41400" cy="250920"/>
          </a:xfrm>
          <a:custGeom>
            <a:avLst/>
            <a:gdLst/>
            <a:ahLst/>
            <a:rect l="l" t="t" r="r" b="b"/>
            <a:pathLst>
              <a:path w="26" h="158">
                <a:moveTo>
                  <a:pt x="26" y="0"/>
                </a:moveTo>
                <a:lnTo>
                  <a:pt x="26" y="118"/>
                </a:lnTo>
                <a:lnTo>
                  <a:pt x="0" y="118"/>
                </a:lnTo>
                <a:lnTo>
                  <a:pt x="0" y="15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67360" y="3637080"/>
            <a:ext cx="314640" cy="2505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67360" y="3637080"/>
            <a:ext cx="335160" cy="27144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54840" y="3689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26320" y="3176640"/>
            <a:ext cx="711000" cy="230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10560" y="3094200"/>
            <a:ext cx="82440" cy="61920"/>
          </a:xfrm>
          <a:custGeom>
            <a:avLst/>
            <a:gdLst/>
            <a:ahLst/>
            <a:rect l="l" t="t" r="r" b="b"/>
            <a:pathLst>
              <a:path w="52" h="39">
                <a:moveTo>
                  <a:pt x="26" y="0"/>
                </a:moveTo>
                <a:lnTo>
                  <a:pt x="52" y="0"/>
                </a:lnTo>
                <a:lnTo>
                  <a:pt x="26" y="39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1600" y="2822400"/>
            <a:ext cx="1800" cy="250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93000" y="3552840"/>
            <a:ext cx="104760" cy="84240"/>
          </a:xfrm>
          <a:custGeom>
            <a:avLst/>
            <a:gdLst/>
            <a:ahLst/>
            <a:rect l="l" t="t" r="r" b="b"/>
            <a:pathLst>
              <a:path w="66" h="53">
                <a:moveTo>
                  <a:pt x="40" y="0"/>
                </a:moveTo>
                <a:lnTo>
                  <a:pt x="66" y="0"/>
                </a:lnTo>
                <a:lnTo>
                  <a:pt x="40" y="53"/>
                </a:ln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56360" y="3301920"/>
            <a:ext cx="104760" cy="250920"/>
          </a:xfrm>
          <a:custGeom>
            <a:avLst/>
            <a:gdLst/>
            <a:ahLst/>
            <a:rect l="l" t="t" r="r" b="b"/>
            <a:pathLst>
              <a:path w="66" h="158">
                <a:moveTo>
                  <a:pt x="66" y="0"/>
                </a:moveTo>
                <a:lnTo>
                  <a:pt x="66" y="119"/>
                </a:lnTo>
                <a:lnTo>
                  <a:pt x="0" y="119"/>
                </a:lnTo>
                <a:lnTo>
                  <a:pt x="0" y="15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73200" y="3165480"/>
            <a:ext cx="1031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 Helvetica Condensed"/>
              </a:rPr>
              <a:t>version i+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25920" y="4264200"/>
            <a:ext cx="84240" cy="63360"/>
          </a:xfrm>
          <a:custGeom>
            <a:avLst/>
            <a:gdLst/>
            <a:ahLst/>
            <a:rect l="l" t="t" r="r" b="b"/>
            <a:pathLst>
              <a:path w="53" h="40">
                <a:moveTo>
                  <a:pt x="26" y="0"/>
                </a:moveTo>
                <a:lnTo>
                  <a:pt x="53" y="0"/>
                </a:lnTo>
                <a:lnTo>
                  <a:pt x="26" y="40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67320" y="2801880"/>
            <a:ext cx="1440" cy="144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16840" y="4786200"/>
            <a:ext cx="104760" cy="63720"/>
          </a:xfrm>
          <a:custGeom>
            <a:avLst/>
            <a:gdLst/>
            <a:ahLst/>
            <a:rect l="l" t="t" r="r" b="b"/>
            <a:pathLst>
              <a:path w="66" h="40">
                <a:moveTo>
                  <a:pt x="40" y="0"/>
                </a:moveTo>
                <a:lnTo>
                  <a:pt x="66" y="0"/>
                </a:lnTo>
                <a:lnTo>
                  <a:pt x="40" y="40"/>
                </a:ln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1120" y="2822400"/>
            <a:ext cx="919080" cy="1943280"/>
          </a:xfrm>
          <a:custGeom>
            <a:avLst/>
            <a:gdLst/>
            <a:ahLst/>
            <a:rect l="l" t="t" r="r" b="b"/>
            <a:pathLst>
              <a:path w="579" h="1224">
                <a:moveTo>
                  <a:pt x="0" y="0"/>
                </a:moveTo>
                <a:lnTo>
                  <a:pt x="0" y="131"/>
                </a:lnTo>
                <a:lnTo>
                  <a:pt x="579" y="131"/>
                </a:lnTo>
                <a:lnTo>
                  <a:pt x="579" y="1224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29240" y="3637080"/>
            <a:ext cx="312840" cy="2505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29240" y="3637080"/>
            <a:ext cx="333360" cy="27144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18520" y="3689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07280" y="3637080"/>
            <a:ext cx="333360" cy="2505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07280" y="3637080"/>
            <a:ext cx="353880" cy="27144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13840" y="3689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4880" y="3552840"/>
            <a:ext cx="82440" cy="84240"/>
          </a:xfrm>
          <a:custGeom>
            <a:avLst/>
            <a:gdLst/>
            <a:ahLst/>
            <a:rect l="l" t="t" r="r" b="b"/>
            <a:pathLst>
              <a:path w="52" h="53">
                <a:moveTo>
                  <a:pt x="26" y="0"/>
                </a:moveTo>
                <a:lnTo>
                  <a:pt x="52" y="0"/>
                </a:lnTo>
                <a:lnTo>
                  <a:pt x="26" y="53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95920" y="3301920"/>
            <a:ext cx="376560" cy="250920"/>
          </a:xfrm>
          <a:custGeom>
            <a:avLst/>
            <a:gdLst/>
            <a:ahLst/>
            <a:rect l="l" t="t" r="r" b="b"/>
            <a:pathLst>
              <a:path w="237" h="158">
                <a:moveTo>
                  <a:pt x="237" y="0"/>
                </a:moveTo>
                <a:lnTo>
                  <a:pt x="237" y="119"/>
                </a:lnTo>
                <a:lnTo>
                  <a:pt x="0" y="119"/>
                </a:lnTo>
                <a:lnTo>
                  <a:pt x="0" y="15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32560" y="3552840"/>
            <a:ext cx="82800" cy="84240"/>
          </a:xfrm>
          <a:custGeom>
            <a:avLst/>
            <a:gdLst/>
            <a:ahLst/>
            <a:rect l="l" t="t" r="r" b="b"/>
            <a:pathLst>
              <a:path w="52" h="53">
                <a:moveTo>
                  <a:pt x="26" y="0"/>
                </a:moveTo>
                <a:lnTo>
                  <a:pt x="52" y="0"/>
                </a:lnTo>
                <a:lnTo>
                  <a:pt x="26" y="53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69200" y="3301920"/>
            <a:ext cx="104760" cy="250920"/>
          </a:xfrm>
          <a:custGeom>
            <a:avLst/>
            <a:gdLst/>
            <a:ahLst/>
            <a:rect l="l" t="t" r="r" b="b"/>
            <a:pathLst>
              <a:path w="66" h="158">
                <a:moveTo>
                  <a:pt x="0" y="0"/>
                </a:moveTo>
                <a:lnTo>
                  <a:pt x="0" y="119"/>
                </a:lnTo>
                <a:lnTo>
                  <a:pt x="66" y="119"/>
                </a:lnTo>
                <a:lnTo>
                  <a:pt x="66" y="15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25920" y="5789520"/>
            <a:ext cx="84240" cy="84240"/>
          </a:xfrm>
          <a:custGeom>
            <a:avLst/>
            <a:gdLst/>
            <a:ahLst/>
            <a:rect l="l" t="t" r="r" b="b"/>
            <a:pathLst>
              <a:path w="53" h="53">
                <a:moveTo>
                  <a:pt x="26" y="0"/>
                </a:moveTo>
                <a:lnTo>
                  <a:pt x="53" y="0"/>
                </a:lnTo>
                <a:lnTo>
                  <a:pt x="26" y="53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67320" y="4494240"/>
            <a:ext cx="1440" cy="1295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55880" y="1944720"/>
            <a:ext cx="1838520" cy="230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6120" y="1974960"/>
            <a:ext cx="82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rtific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25920" y="2550960"/>
            <a:ext cx="84240" cy="82800"/>
          </a:xfrm>
          <a:custGeom>
            <a:avLst/>
            <a:gdLst/>
            <a:ahLst/>
            <a:rect l="l" t="t" r="r" b="b"/>
            <a:pathLst>
              <a:path w="53" h="52">
                <a:moveTo>
                  <a:pt x="26" y="0"/>
                </a:moveTo>
                <a:lnTo>
                  <a:pt x="53" y="0"/>
                </a:lnTo>
                <a:lnTo>
                  <a:pt x="26" y="52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6840" y="2049480"/>
            <a:ext cx="960480" cy="501480"/>
          </a:xfrm>
          <a:custGeom>
            <a:avLst/>
            <a:gdLst/>
            <a:ahLst/>
            <a:rect l="l" t="t" r="r" b="b"/>
            <a:pathLst>
              <a:path w="605" h="316">
                <a:moveTo>
                  <a:pt x="0" y="0"/>
                </a:moveTo>
                <a:lnTo>
                  <a:pt x="0" y="39"/>
                </a:lnTo>
                <a:lnTo>
                  <a:pt x="605" y="39"/>
                </a:lnTo>
                <a:lnTo>
                  <a:pt x="605" y="316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62880" y="1890720"/>
            <a:ext cx="146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GUID of curr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93320" y="214308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10880" y="3249720"/>
            <a:ext cx="81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GUID o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31120" y="3438360"/>
            <a:ext cx="71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rsion 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67200" y="1384200"/>
            <a:ext cx="60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GU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7280" y="1839960"/>
            <a:ext cx="104760" cy="61920"/>
          </a:xfrm>
          <a:custGeom>
            <a:avLst/>
            <a:gdLst/>
            <a:ahLst/>
            <a:rect l="l" t="t" r="r" b="b"/>
            <a:pathLst>
              <a:path w="66" h="39">
                <a:moveTo>
                  <a:pt x="40" y="0"/>
                </a:moveTo>
                <a:lnTo>
                  <a:pt x="66" y="0"/>
                </a:lnTo>
                <a:lnTo>
                  <a:pt x="40" y="39"/>
                </a:ln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36800" y="1442880"/>
            <a:ext cx="1023840" cy="376560"/>
          </a:xfrm>
          <a:custGeom>
            <a:avLst/>
            <a:gdLst/>
            <a:ahLst/>
            <a:rect l="l" t="t" r="r" b="b"/>
            <a:pathLst>
              <a:path w="645" h="237">
                <a:moveTo>
                  <a:pt x="0" y="0"/>
                </a:moveTo>
                <a:lnTo>
                  <a:pt x="645" y="0"/>
                </a:lnTo>
                <a:lnTo>
                  <a:pt x="645" y="237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26400" y="5946840"/>
            <a:ext cx="175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GUID of version i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42040" y="2676600"/>
            <a:ext cx="2341440" cy="2286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92240" y="538164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block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7298280" y="3666960"/>
            <a:ext cx="191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GUID (copy on writ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4120" y="5259240"/>
            <a:ext cx="3611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15880" y="1719360"/>
            <a:ext cx="9023400" cy="576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12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ypes of identifier used in OceanStore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4080" y="1747800"/>
            <a:ext cx="62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80160" y="1747800"/>
            <a:ext cx="95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04240" y="1747800"/>
            <a:ext cx="1263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44880" y="173520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68960" y="173520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5160" y="2341440"/>
            <a:ext cx="843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GU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81600" y="2341440"/>
            <a:ext cx="1328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lock GU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01000" y="2341440"/>
            <a:ext cx="2937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cure hash of a data bloc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5520" y="29113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VGU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81600" y="2911320"/>
            <a:ext cx="1520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version GU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00640" y="2911320"/>
            <a:ext cx="4019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GUID of the root block of a 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5520" y="347976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GU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81600" y="3479760"/>
            <a:ext cx="1372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ctive GU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87680" y="3479760"/>
            <a:ext cx="508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Uniquely identifies all the versions of an obje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44880" y="40640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68960" y="406404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12640" y="1709640"/>
            <a:ext cx="9029520" cy="2330640"/>
            <a:chOff x="512640" y="1709640"/>
            <a:chExt cx="9029520" cy="2330640"/>
          </a:xfrm>
        </p:grpSpPr>
        <p:sp>
          <p:nvSpPr>
            <p:cNvPr id="211" name=""/>
            <p:cNvSpPr/>
            <p:nvPr/>
          </p:nvSpPr>
          <p:spPr>
            <a:xfrm>
              <a:off x="512640" y="1709640"/>
              <a:ext cx="90295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2640" y="2305080"/>
              <a:ext cx="9029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2640" y="4038480"/>
              <a:ext cx="90295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65400" y="2009880"/>
            <a:ext cx="7421400" cy="807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39200" y="18540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13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erformance evaluation of the Pond prototype emulating NF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44880" y="173520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68960" y="173520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44880" y="40640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68960" y="406404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86160" y="2000160"/>
            <a:ext cx="39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9680" y="2000160"/>
            <a:ext cx="45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W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91560" y="2000160"/>
            <a:ext cx="113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Predomina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93000" y="2228760"/>
            <a:ext cx="1146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operations 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77160" y="2476440"/>
            <a:ext cx="962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benchmar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57360" y="1557360"/>
            <a:ext cx="208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99080" y="155736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62760" y="155736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68800" y="2479680"/>
            <a:ext cx="529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86160" y="2479680"/>
            <a:ext cx="933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Linux NF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07200" y="2479680"/>
            <a:ext cx="45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Po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9320" y="2479680"/>
            <a:ext cx="933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Linux NF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50360" y="2479680"/>
            <a:ext cx="45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Po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69520" y="293688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6520" y="29368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07200" y="29368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29680" y="29368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50360" y="29368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90480" y="2936880"/>
            <a:ext cx="1311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ad and wr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69520" y="339408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86520" y="33940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07200" y="3394080"/>
            <a:ext cx="38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1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9680" y="33940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9.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50360" y="3394080"/>
            <a:ext cx="38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.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90480" y="3394080"/>
            <a:ext cx="1311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ad and wr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69520" y="385128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86520" y="38512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07200" y="38512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9680" y="38512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50360" y="38512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91560" y="385128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69520" y="43070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86520" y="43070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07200" y="43070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29680" y="43070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6.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50360" y="43070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91560" y="430704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69520" y="47642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86520" y="47642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07200" y="4764240"/>
            <a:ext cx="38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1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9680" y="4764240"/>
            <a:ext cx="38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1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50360" y="4764240"/>
            <a:ext cx="38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32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90480" y="4764240"/>
            <a:ext cx="1311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ad and wr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69520" y="5221440"/>
            <a:ext cx="45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86520" y="52214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07200" y="5221440"/>
            <a:ext cx="38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37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9680" y="5221440"/>
            <a:ext cx="38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47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50360" y="5221440"/>
            <a:ext cx="38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57360" y="568944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78400" y="568944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99080" y="568944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21200" y="568944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62760" y="568944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39840" y="1984320"/>
            <a:ext cx="7444080" cy="3700080"/>
            <a:chOff x="1239840" y="1984320"/>
            <a:chExt cx="7444080" cy="3700080"/>
          </a:xfrm>
        </p:grpSpPr>
        <p:sp>
          <p:nvSpPr>
            <p:cNvPr id="274" name=""/>
            <p:cNvSpPr/>
            <p:nvPr/>
          </p:nvSpPr>
          <p:spPr>
            <a:xfrm>
              <a:off x="1239840" y="1984320"/>
              <a:ext cx="7444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39840" y="5682960"/>
              <a:ext cx="7444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9200" y="18540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14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vy system archite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44880" y="173520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68960" y="173520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44880" y="40640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68960" y="406404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57360" y="1557360"/>
            <a:ext cx="208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99080" y="155736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62760" y="155736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57360" y="568944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78400" y="568944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99080" y="568944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21200" y="568944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62760" y="568944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90560" y="1217520"/>
            <a:ext cx="80154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85720" y="1481040"/>
            <a:ext cx="8582040" cy="212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1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tinctions between IP and overlay routing for peer-to-peer applic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90400" y="1457280"/>
          <a:ext cx="9085320" cy="70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457280"/>
                    <a:ext cx="9085320" cy="70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85720" y="5975280"/>
            <a:ext cx="856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2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apster: peer-to-peer file sharing with a centralized,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plicated index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0200" y="1592280"/>
            <a:ext cx="86659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3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tribution of information in a routing overla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34920" y="1481040"/>
            <a:ext cx="81313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4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asic programming interface for a distributed hash table (DHT) as implemented by the PAST API over Past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1789200"/>
            <a:ext cx="8781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t(GUID, da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tored in replicas at all nodes responsible for the object identifi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U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ove(GU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s all reference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U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associate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= get(GU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a associated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U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trieved from one of the nodes responsible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5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asic programming interface for distributed object location and routing (DOLR) as implemented by Tapest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3040" y="1595520"/>
            <a:ext cx="910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blish(GU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U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computed from the object (or some part of it, e.g. its name). This function makes the node performing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ion the host for the object correspond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U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publish(GU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the object correspond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U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acce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dToObj(msg, GUID, [n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the object-oriented paradigm, an invocation message is sent to an object in order to access it. This might be a request to open a TCP connection for data transfer or to return a message containing all or part of the object’s state. The final optional parame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n]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present, requests the delivery of the same message to n replicas of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6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ircular routing alone is correct but inefficien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Rowstron and Druschel [2001]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94360" y="1422360"/>
            <a:ext cx="3556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ts depict live nodes. The space is considered as circular: node 0 is adjacent to node (2128-1). The diagram illustrates the routing of a message from node 65A1FC to D46A1C using leaf set information alone, assuming leaf sets of size 8 (l = 4). This is a degenerate type of routing that would scale very poorly; it is not used in practi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70040" y="1432080"/>
            <a:ext cx="498924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7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rst four rows of a Pastry routing tab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78040" y="1324080"/>
            <a:ext cx="8015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901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8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stry routing examp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Rowstron and Druschel [2001]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55720" y="1809720"/>
            <a:ext cx="4479840" cy="4179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60760" y="1327320"/>
            <a:ext cx="544536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06T17:04:24Z</dcterms:modified>
  <cp:revision>52</cp:revision>
  <dc:subject/>
  <dc:title>Figure 15.1 A distributed multimedia system</dc:title>
</cp:coreProperties>
</file>