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F01-92B3-42BC-A6B1-615A3382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DE2-F241-4E56-B0D3-B3FB44EA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F0A-BE0E-4124-93F5-30C7ECE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15C-11D4-4C12-9719-F0123D9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CD5-05B3-40AC-9729-F9E28533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64F6-BDD6-46FF-97E5-71FBE5FF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F589-04BF-443D-B4FC-36614C4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8EF-BE03-4C51-8C22-C3DBF75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F5FB-57FA-4529-BD0A-F46CB0FC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160D-8172-4723-A57D-1823275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271A-46C3-4376-AE6A-6A5411C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903-7EED-40D2-BB8B-AEBC17AB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067-F8F2-42F6-95C1-9376D5D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0528-C750-4764-89DC-5477BE8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2A44-8145-4273-8599-C0F3530C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6EC-4484-47CB-A205-B3299A5E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2350-D38D-4807-9910-B01FBFF6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D69-6C56-4FAF-BDC0-6D234956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332-ADAC-4F5E-AAC2-658D58C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146-1DAC-4BDB-9C0C-EB3A2835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685-1D7C-48F0-ADF1-EB1B90A4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13F-62FF-458A-A660-62BE04D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159-2763-47ED-AD96-1F30881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C03-5CAA-4F8C-83D2-1DB51E4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A3D-5CF4-490C-87E0-0C147FFDD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7ED6-2BC6-4CC9-B26C-F5760156F4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7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 © Pearson Education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6360" y="2997360"/>
            <a:ext cx="18763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in us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1800" y="1407960"/>
            <a:ext cx="846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tea(char mode, FILE *infile, FILE *outfile, unsigned long k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mode is ’e’ for encrypt, ’d’ for decrypt, k[] is the key.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, Text[8];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(!feof(infile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 = fread(Text, 1, 8, in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read 8 bytes from infile into Tex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f (i &lt;= 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 (i &lt; 8) { Text[i++] = ' ';}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pad last block with spac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witch (mod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e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n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d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write(Text, 1, 8, out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write 8 bytes from Text to outfi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200" y="1344600"/>
            <a:ext cx="886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a key pa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hoose two large prime number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ach greater than 10100), and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= P x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= (P–1) x (Q–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oose any number that is relatively prim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at is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 common factor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e illustrate the computations involved using small integer values for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P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Q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3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7 –&gt;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221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9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the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m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element divisibl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se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..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 1 mod 192   = 1, 193, 385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85 is divisible by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 = 385/5 =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1200" y="1344600"/>
            <a:ext cx="8864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encrypt text using the RSA method, the plaintext is divided into equal blocks of leng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s where 2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at is, such that the numerical value of a block is always less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in practical application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usually in the range 512 to 102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k = 7, since 27 = 12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encrypting a single block of plain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e,N,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for a message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the ciphertext is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77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mod 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decrypting a block of encrypted 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produce the original plaintext block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d,N,c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vest, Shamir and Adelman prov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mutual invers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that i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D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E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for all values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the range 0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wo parameter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n be regarded as a key for the encryption function, and similarl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present a key for the decryption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we can write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&lt;e,N&gt; and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&lt;d,N&gt;, and we get the encryption func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(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e notation here indicating that the encrypted message can be decrypted only by the holder of the private ke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gital signatures with public key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58920" y="1454040"/>
            <a:ext cx="5591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-cost signatures with a shared secret ke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73400" y="1432080"/>
            <a:ext cx="5418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509 Certificate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30480" y="2389320"/>
            <a:ext cx="7723080" cy="1911240"/>
            <a:chOff x="1230480" y="2389320"/>
            <a:chExt cx="7723080" cy="1911240"/>
          </a:xfrm>
        </p:grpSpPr>
        <p:sp>
          <p:nvSpPr>
            <p:cNvPr id="330" name=""/>
            <p:cNvSpPr/>
            <p:nvPr/>
          </p:nvSpPr>
          <p:spPr>
            <a:xfrm>
              <a:off x="124740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6008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6664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6800" y="2444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j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080" y="2444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7360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3344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2840" y="25560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780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3648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0020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067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1764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26000" y="2556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3240" y="2556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6640" y="255600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0172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97120" y="25560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6320" y="255600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70800" y="255600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051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136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74360" y="25560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352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300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387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30480" y="238932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56320" y="238932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72160" y="238932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47760" y="292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9184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9560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73600" y="2924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3344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9284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780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3648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0020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0676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64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26000" y="2924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7324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76640" y="292428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0172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97120" y="292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6320" y="292428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70440" y="29242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620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6384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74720" y="292428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2916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41840" y="2924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0988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47040" y="3290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76000" y="3290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2540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31240" y="32907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968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0412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40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172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28120" y="329076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58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672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157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056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7360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34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3928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57360" y="32907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712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716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82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236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776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06800" y="32907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573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20360" y="329076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24480" y="3290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9520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071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70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3684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0020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956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012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2484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83960" y="3290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47400" y="3659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806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9220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4736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1108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76320" y="365904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1104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1724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0240" y="365904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152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20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4924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6012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5720" y="365904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2120" y="365904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002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10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360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344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98680" y="3659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480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542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6240" y="365904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3880" y="3659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520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096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512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2380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2568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400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3728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9712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3320" y="3659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592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32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7040" y="40258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7564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1160" y="40258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427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55080" y="40258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084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61360" y="402588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855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9644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55840" y="402588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52760" y="4025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648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1880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7748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4120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77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0480" y="424188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56320" y="42418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72160" y="424188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formance of encryption and secure digest algorith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031760" y="1606680"/>
            <a:ext cx="7867440" cy="4298400"/>
            <a:chOff x="1031760" y="1606680"/>
            <a:chExt cx="7867440" cy="4298400"/>
          </a:xfrm>
        </p:grpSpPr>
        <p:sp>
          <p:nvSpPr>
            <p:cNvPr id="474" name=""/>
            <p:cNvSpPr/>
            <p:nvPr/>
          </p:nvSpPr>
          <p:spPr>
            <a:xfrm>
              <a:off x="4067280" y="1755360"/>
              <a:ext cx="1736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Key size/hash siz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68840" y="2010960"/>
              <a:ext cx="50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(bit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11360" y="1755360"/>
              <a:ext cx="125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Extrapolat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36440" y="2010960"/>
              <a:ext cx="547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pe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87240" y="2266560"/>
              <a:ext cx="119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ec.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58120" y="1755360"/>
              <a:ext cx="144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RB optimiz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4080" y="2010960"/>
              <a:ext cx="922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31760" y="16066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9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4640" y="16066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336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35680" y="16066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0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3200" y="16066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90880" y="1630080"/>
              <a:ext cx="2376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1336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088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65960" y="26859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1804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0556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94760" y="26859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31760" y="2576160"/>
              <a:ext cx="2836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9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2576160"/>
              <a:ext cx="1974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1336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5680" y="2576160"/>
              <a:ext cx="144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0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23200" y="2576160"/>
              <a:ext cx="14652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90880" y="253512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1336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0088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66320" y="31032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33960" y="31032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05560" y="31032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99480" y="31032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74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90880" y="295416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1336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0088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66320" y="3522600"/>
              <a:ext cx="112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riple-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1804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0556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9480" y="35208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84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90880" y="337176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1336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0088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93984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1804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556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9480" y="39398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46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90880" y="379080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1336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67400" y="43588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18040" y="43574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4720" y="43574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37400" y="435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94760" y="435744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90880" y="4208400"/>
              <a:ext cx="2376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1336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0088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67400" y="47764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2120" y="47764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4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67200" y="4776480"/>
              <a:ext cx="18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94760" y="47764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90880" y="462564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1336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0088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67400" y="5194080"/>
              <a:ext cx="50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MD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18040" y="51940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88200" y="5194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74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83920" y="51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6242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0880" y="50446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1336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0088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66680" y="56131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804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0556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3920" y="56116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516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31760" y="58798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90880" y="54622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90880" y="5903640"/>
              <a:ext cx="237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9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14640" y="58798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336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1336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1336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5680" y="58798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0088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0088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0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23200" y="58798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Needham–Schroeder secret-key authentication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5480" y="16905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33280" y="1690560"/>
            <a:ext cx="8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87080" y="169056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2720" y="1542960"/>
            <a:ext cx="10954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00160" y="156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0016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23920" y="1542960"/>
            <a:ext cx="20084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54320" y="15652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5432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76640" y="1542960"/>
            <a:ext cx="47466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00160" y="1565280"/>
            <a:ext cx="237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54320" y="1565280"/>
            <a:ext cx="223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760" y="2055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-&gt;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37600" y="2146320"/>
            <a:ext cx="745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, B, 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82040" y="2077920"/>
            <a:ext cx="441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quests S to supply a key fo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86720" y="23288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82720" y="19987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00160" y="20224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0016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23920" y="19987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54320" y="20224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5432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76640" y="19987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00160" y="2022480"/>
            <a:ext cx="2376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54320" y="2022480"/>
            <a:ext cx="2232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760" y="2739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5800" y="2739960"/>
            <a:ext cx="1344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,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34040" y="3067200"/>
            <a:ext cx="1296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80960" y="2671920"/>
            <a:ext cx="44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returns a message encrypted in A’s 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95000" y="2922480"/>
            <a:ext cx="3979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ing a newly generated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84920" y="3173400"/>
            <a:ext cx="4644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cket’ encrypted in B’s secret key. The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080960" y="3424320"/>
            <a:ext cx="47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es that the message was sent in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78800" y="3675240"/>
            <a:ext cx="430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preceding one. A believes that S 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2400" y="3925800"/>
            <a:ext cx="428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because only S knows A’s secret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53800" y="392580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00160" y="2614680"/>
            <a:ext cx="2376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54320" y="2614680"/>
            <a:ext cx="2232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33692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83840" y="4268880"/>
            <a:ext cx="229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the ‘ticket’ to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54320" y="4211640"/>
            <a:ext cx="223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74660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B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92480" y="4678200"/>
            <a:ext cx="450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decrypts the ticket and uses the new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89600" y="4929120"/>
            <a:ext cx="2387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 another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00160" y="4621320"/>
            <a:ext cx="2376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54320" y="4621320"/>
            <a:ext cx="223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534024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79520" y="5272200"/>
            <a:ext cx="446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emonstrates to B that it was the sender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2400" y="552276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message by returning an ag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90680" y="5773680"/>
            <a:ext cx="194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orm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82720" y="60595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00160" y="5214960"/>
            <a:ext cx="2376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00160" y="60818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0016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23920" y="60595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54320" y="5214960"/>
            <a:ext cx="2232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54320" y="60818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432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76640" y="60595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3800" y="4313160"/>
            <a:ext cx="9882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7480" y="4729320"/>
            <a:ext cx="732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92320" y="5308560"/>
            <a:ext cx="1038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ystem architecture of Kerbero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299880" y="807120"/>
            <a:ext cx="9477720" cy="5737680"/>
            <a:chOff x="-299880" y="807120"/>
            <a:chExt cx="9477720" cy="5737680"/>
          </a:xfrm>
        </p:grpSpPr>
        <p:sp>
          <p:nvSpPr>
            <p:cNvPr id="629" name=""/>
            <p:cNvSpPr/>
            <p:nvPr/>
          </p:nvSpPr>
          <p:spPr>
            <a:xfrm>
              <a:off x="128736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87360" y="3652920"/>
              <a:ext cx="193536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13360" y="473544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2760" y="46893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800" y="3862440"/>
              <a:ext cx="16322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38440" y="5086440"/>
              <a:ext cx="108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564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05640" y="3652920"/>
              <a:ext cx="193680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21560" y="3862440"/>
              <a:ext cx="16574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76440" y="1670040"/>
              <a:ext cx="4805280" cy="1701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76440" y="1670040"/>
              <a:ext cx="4829400" cy="172548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79560" y="1809720"/>
              <a:ext cx="4175280" cy="142236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27200" y="189072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37440" y="2052720"/>
              <a:ext cx="79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73160" y="4059360"/>
              <a:ext cx="47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43400" y="426888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36560" y="4468680"/>
              <a:ext cx="1119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280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33640" y="4468680"/>
              <a:ext cx="2095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5268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1880" y="215100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cke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6520" y="23144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a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4520" y="250020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79320" y="1419120"/>
              <a:ext cx="285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Kerberos  Key Distribution Cent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90840" y="4959360"/>
              <a:ext cx="121284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16280" y="4959360"/>
              <a:ext cx="210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36760" y="495936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49040" y="45496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3400" y="473544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57720" y="22273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uth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03080" y="2390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10560" y="255420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81520" y="240336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36760" y="2637000"/>
              <a:ext cx="89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GS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1940040" y="2789280"/>
              <a:ext cx="396720" cy="3031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91240" y="2986200"/>
              <a:ext cx="657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  TG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8360" y="31734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26280" y="368604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7560" y="3895560"/>
              <a:ext cx="103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78160" y="415296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. 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24840" y="43624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89000" y="43164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81160" y="436248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25200" y="4502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80440" y="4549680"/>
              <a:ext cx="64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9520" y="4514400"/>
              <a:ext cx="233280" cy="211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64480" y="4961160"/>
              <a:ext cx="37152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6" y="6228"/>
                  </a:moveTo>
                  <a:arcTo wR="10800" hR="10800" stAng="-9297228" swAng="239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6" y="6228"/>
                  </a:moveTo>
                  <a:arcTo wR="10800" hR="10800" stAng="-9297228" swAng="239445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26720" y="4795920"/>
              <a:ext cx="42699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4"/>
                  </a:moveTo>
                  <a:arcTo wR="10800" hR="10800" stAng="-10007958" swAng="8857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4"/>
                  </a:moveTo>
                  <a:arcTo wR="10800" hR="10800" stAng="-10007958" swAng="8857321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10800" y="4982760"/>
              <a:ext cx="394920" cy="3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10" y="16755"/>
                  </a:moveTo>
                  <a:arcTo wR="10800" hR="10800" stAng="2007931" swAng="2436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10" y="16755"/>
                  </a:moveTo>
                  <a:arcTo wR="10800" hR="10800" stAng="2007931" swAng="2436480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20320" y="4817880"/>
              <a:ext cx="4246200" cy="77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9" y="12273"/>
                  </a:moveTo>
                  <a:arcTo wR="10800" hR="10800" stAng="470345" swAng="9440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9" y="12273"/>
                  </a:moveTo>
                  <a:arcTo wR="10800" hR="10800" stAng="470345" swAng="944016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04240" y="4923000"/>
              <a:ext cx="305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 encrypted with session k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44640" y="5295960"/>
              <a:ext cx="294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ply encrypted with session key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60480" y="465120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14040" y="483876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49160" y="4960080"/>
              <a:ext cx="30348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25" y="15058"/>
                  </a:moveTo>
                  <a:arcTo wR="10800" hR="10800" stAng="1393285" swAng="2655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25" y="15058"/>
                  </a:moveTo>
                  <a:arcTo wR="10800" hR="10800" stAng="1393285" swAng="265540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42040" y="4468680"/>
              <a:ext cx="81576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873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9480" y="2542680"/>
              <a:ext cx="30312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83120" y="2060640"/>
              <a:ext cx="868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28" swAng="189050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28" swAng="1890502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77720" y="2580840"/>
              <a:ext cx="30240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92560" y="2112840"/>
              <a:ext cx="79344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18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18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67120" y="2394000"/>
              <a:ext cx="37404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7" y="15704"/>
                  </a:moveTo>
                  <a:arcTo wR="10800" hR="10800" stAng="9179754" swAng="2356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7" y="15704"/>
                  </a:moveTo>
                  <a:arcTo wR="10800" hR="10800" stAng="9179754" swAng="2356133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74760" y="2580480"/>
              <a:ext cx="1981080" cy="27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7"/>
                  </a:moveTo>
                  <a:arcTo wR="10800" hR="10800" stAng="-10796003" swAng="49148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7"/>
                  </a:moveTo>
                  <a:arcTo wR="10800" hR="10800" stAng="-10796003" swAng="491489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72960" y="3793320"/>
              <a:ext cx="37476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6" y="6063"/>
                  </a:moveTo>
                  <a:arcTo wR="10800" hR="10800" stAng="-1560956" swAng="2408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6" y="6063"/>
                  </a:moveTo>
                  <a:arcTo wR="10800" hR="10800" stAng="-1560956" swAng="2408905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96880" y="1483560"/>
              <a:ext cx="1726920" cy="25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6"/>
                  </a:moveTo>
                  <a:arcTo wR="10800" hR="10800" stAng="-4344" swAng="481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6"/>
                  </a:moveTo>
                  <a:arcTo wR="10800" hR="10800" stAng="-4344" swAng="4811110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0240" y="4514400"/>
              <a:ext cx="374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97" y="6967"/>
                  </a:moveTo>
                  <a:arcTo wR="10800" hR="10800" stAng="-1247294" swAng="2438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97" y="6967"/>
                  </a:moveTo>
                  <a:arcTo wR="10800" hR="10800" stAng="-1247294" swAng="2438607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-299880" y="807120"/>
              <a:ext cx="6206760" cy="38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2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200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72160" y="2462400"/>
              <a:ext cx="396360" cy="37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2" y="14327"/>
                  </a:moveTo>
                  <a:arcTo wR="10800" hR="10800" stAng="9656344" swAng="2342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592" y="14327"/>
                  </a:moveTo>
                  <a:arcTo wR="10800" hR="10800" stAng="9656344" swAng="2342844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25640" y="2649960"/>
              <a:ext cx="6089400" cy="38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81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81655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1846080" y="3116160"/>
              <a:ext cx="1143000" cy="349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52920" y="421164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9680" y="4748040"/>
              <a:ext cx="115560" cy="117720"/>
            </a:xfrm>
            <a:custGeom>
              <a:avLst/>
              <a:gdLst>
                <a:gd name="textAreaLeft" fmla="*/ 13680 w 115560"/>
                <a:gd name="textAreaRight" fmla="*/ 101880 w 115560"/>
                <a:gd name="textAreaTop" fmla="*/ 13680 h 117720"/>
                <a:gd name="textAreaBottom" fmla="*/ 104040 h 117720"/>
              </a:gdLst>
              <a:ahLst/>
              <a:rect l="textAreaLeft" t="textAreaTop" r="textAreaRight" b="textAreaBottom"/>
              <a:pathLst>
                <a:path w="21600" h="22002">
                  <a:moveTo>
                    <a:pt x="8729" y="0"/>
                  </a:moveTo>
                  <a:arcTo wR="8729" hR="8729" stAng="16200000" swAng="-5400000"/>
                  <a:lnTo>
                    <a:pt x="0" y="13273"/>
                  </a:lnTo>
                  <a:arcTo wR="8729" hR="8729" stAng="10800000" swAng="-5400000"/>
                  <a:lnTo>
                    <a:pt x="12871" y="22002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62440" y="416556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00400" y="3745080"/>
              <a:ext cx="372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06800" y="3699000"/>
              <a:ext cx="115920" cy="117360"/>
            </a:xfrm>
            <a:custGeom>
              <a:avLst/>
              <a:gdLst>
                <a:gd name="textAreaLeft" fmla="*/ 13680 w 115920"/>
                <a:gd name="textAreaRight" fmla="*/ 102240 w 115920"/>
                <a:gd name="textAreaTop" fmla="*/ 13680 h 117360"/>
                <a:gd name="textAreaBottom" fmla="*/ 103680 h 117360"/>
              </a:gdLst>
              <a:ahLst/>
              <a:rect l="textAreaLeft" t="textAreaTop" r="textAreaRight" b="textAreaBottom"/>
              <a:pathLst>
                <a:path w="21600" h="21867">
                  <a:moveTo>
                    <a:pt x="8729" y="0"/>
                  </a:moveTo>
                  <a:arcTo wR="8729" hR="8729" stAng="16200000" swAng="-5400000"/>
                  <a:lnTo>
                    <a:pt x="0" y="13138"/>
                  </a:lnTo>
                  <a:arcTo wR="8729" hR="8729" stAng="10800000" swAng="-5400000"/>
                  <a:lnTo>
                    <a:pt x="12871" y="21867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13000" y="304632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89440" y="3419640"/>
              <a:ext cx="117360" cy="11556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26280" y="345276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67480" y="212400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34920" y="410688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23760" y="4898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862840" y="4946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97080" y="5419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92400" y="5607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protocol sta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290600" y="1817640"/>
            <a:ext cx="7431120" cy="3668040"/>
            <a:chOff x="1290600" y="1817640"/>
            <a:chExt cx="7431120" cy="3668040"/>
          </a:xfrm>
        </p:grpSpPr>
        <p:sp>
          <p:nvSpPr>
            <p:cNvPr id="714" name=""/>
            <p:cNvSpPr/>
            <p:nvPr/>
          </p:nvSpPr>
          <p:spPr>
            <a:xfrm>
              <a:off x="667368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73680" y="1817640"/>
              <a:ext cx="87804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0852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08520" y="1817640"/>
              <a:ext cx="87660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45120" y="1817640"/>
              <a:ext cx="134604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45120" y="1817640"/>
              <a:ext cx="137448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54360" y="1817640"/>
              <a:ext cx="13446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5436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90600" y="351468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90600" y="351468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90600" y="421632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90600" y="421632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0600" y="2871720"/>
              <a:ext cx="7400880" cy="525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90600" y="2871720"/>
              <a:ext cx="7431120" cy="55584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90600" y="1817640"/>
              <a:ext cx="13464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060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64000" y="1866960"/>
              <a:ext cx="45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05440" y="216072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andshak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44760" y="245268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1760" y="206676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Chan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30680" y="2328840"/>
              <a:ext cx="1326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 Spe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10720" y="2066760"/>
              <a:ext cx="1017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Aler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0720" y="2328840"/>
              <a:ext cx="88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03760" y="3733920"/>
              <a:ext cx="315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port layer (usually TC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06720" y="4406760"/>
              <a:ext cx="274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layer (usually I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41560" y="3032280"/>
              <a:ext cx="225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Record 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43520" y="22129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84200" y="221292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05000" y="5094360"/>
              <a:ext cx="379440" cy="350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0500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82120" y="5195880"/>
              <a:ext cx="1567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04120" y="5094360"/>
              <a:ext cx="380880" cy="350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0412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95480" y="5195880"/>
              <a:ext cx="1716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Other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08760" y="23526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963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1835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amiliar names for the protagonists in security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4880" y="2270160"/>
            <a:ext cx="5778000" cy="2584440"/>
            <a:chOff x="2144880" y="2270160"/>
            <a:chExt cx="5778000" cy="2584440"/>
          </a:xfrm>
        </p:grpSpPr>
        <p:sp>
          <p:nvSpPr>
            <p:cNvPr id="89" name=""/>
            <p:cNvSpPr/>
            <p:nvPr/>
          </p:nvSpPr>
          <p:spPr>
            <a:xfrm>
              <a:off x="2176920" y="241452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6560" y="2414520"/>
              <a:ext cx="145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st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44880" y="2270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25600" y="2270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25600" y="22924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77640" y="277488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6200" y="2774880"/>
              <a:ext cx="171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ond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25600" y="26528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6920" y="313524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2240" y="3135240"/>
              <a:ext cx="410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three- and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25600" y="301320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7280" y="34956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53680" y="3495600"/>
              <a:ext cx="312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5600" y="337356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6920" y="385596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7640" y="385596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vesdro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373392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76920" y="421632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l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6200" y="4216320"/>
              <a:ext cx="17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icious atta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25600" y="40942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7280" y="4576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58360" y="4576680"/>
              <a:ext cx="78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44880" y="4853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5600" y="44546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25600" y="4853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249720" y="2270160"/>
              <a:ext cx="4673160" cy="2584440"/>
              <a:chOff x="3249720" y="2270160"/>
              <a:chExt cx="4673160" cy="2584440"/>
            </a:xfrm>
          </p:grpSpPr>
          <p:sp>
            <p:nvSpPr>
              <p:cNvPr id="115" name=""/>
              <p:cNvSpPr/>
              <p:nvPr/>
            </p:nvSpPr>
            <p:spPr>
              <a:xfrm>
                <a:off x="3249720" y="2270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9720" y="4853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handshake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582560" y="1461960"/>
            <a:ext cx="71596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handshake configuration op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830680" y="18842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07120" y="188424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30680" y="2273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07120" y="227340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30680" y="55753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07120" y="557532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71920" y="217656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21600" y="21765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71920" y="26226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21600" y="26226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671920" y="4775040"/>
            <a:ext cx="27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321600" y="47750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676440" y="2151000"/>
            <a:ext cx="8584920" cy="2641320"/>
            <a:chOff x="676440" y="2151000"/>
            <a:chExt cx="8584920" cy="2641320"/>
          </a:xfrm>
        </p:grpSpPr>
        <p:sp>
          <p:nvSpPr>
            <p:cNvPr id="767" name=""/>
            <p:cNvSpPr/>
            <p:nvPr/>
          </p:nvSpPr>
          <p:spPr>
            <a:xfrm>
              <a:off x="713520" y="2319480"/>
              <a:ext cx="1235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07200" y="2319480"/>
              <a:ext cx="1263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57960" y="2319480"/>
              <a:ext cx="93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6440" y="21510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7192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8920" y="21510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2160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46800" y="21510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71920" y="2176560"/>
              <a:ext cx="270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21600" y="217656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2440" y="2765520"/>
              <a:ext cx="152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Key exch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240" y="3054240"/>
              <a:ext cx="80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03600" y="2765520"/>
              <a:ext cx="2730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method to be used f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03960" y="3054240"/>
              <a:ext cx="2782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xchange of a session 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55800" y="2765520"/>
              <a:ext cx="227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RSA with public-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50400" y="3054240"/>
              <a:ext cx="1174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ertificat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6440" y="26478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98920" y="26478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46800" y="26478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71920" y="2622600"/>
              <a:ext cx="270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21600" y="2622600"/>
              <a:ext cx="252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800" y="3475080"/>
              <a:ext cx="162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ipher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320" y="3763800"/>
              <a:ext cx="81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2520" y="3475080"/>
              <a:ext cx="3391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block or stream cipher to b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07200" y="3763800"/>
              <a:ext cx="138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sed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59760" y="3475080"/>
              <a:ext cx="63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1920" y="3332160"/>
              <a:ext cx="270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21600" y="3332160"/>
              <a:ext cx="252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440" y="4183200"/>
              <a:ext cx="164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ssage diges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3520" y="4471920"/>
              <a:ext cx="89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06480" y="4183200"/>
              <a:ext cx="221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or creating messa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03600" y="4471920"/>
              <a:ext cx="3152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authentication codes (MACs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59760" y="4183200"/>
              <a:ext cx="53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6440" y="4773600"/>
              <a:ext cx="1969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71920" y="4040280"/>
              <a:ext cx="270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7192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98920" y="4773600"/>
              <a:ext cx="3595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21600" y="4040280"/>
              <a:ext cx="252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2160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6800" y="4773600"/>
              <a:ext cx="291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record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843200" y="1414440"/>
            <a:ext cx="6364080" cy="4776840"/>
            <a:chOff x="1843200" y="1414440"/>
            <a:chExt cx="6364080" cy="4776840"/>
          </a:xfrm>
        </p:grpSpPr>
        <p:sp>
          <p:nvSpPr>
            <p:cNvPr id="809" name=""/>
            <p:cNvSpPr/>
            <p:nvPr/>
          </p:nvSpPr>
          <p:spPr>
            <a:xfrm>
              <a:off x="1843200" y="1500120"/>
              <a:ext cx="178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62480" y="1414440"/>
              <a:ext cx="2451240" cy="345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67080" y="14875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def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6584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3320" y="23544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7868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73880" y="2354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6596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62600" y="2354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13440" y="3220920"/>
              <a:ext cx="52056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13440" y="3220920"/>
              <a:ext cx="544320" cy="2732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3200" y="2390760"/>
              <a:ext cx="23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 protocol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44640" y="3257640"/>
              <a:ext cx="199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ressed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30920" y="4087800"/>
              <a:ext cx="471600" cy="247680"/>
            </a:xfrm>
            <a:custGeom>
              <a:avLst/>
              <a:gdLst/>
              <a:ahLst/>
              <a:rect l="l" t="t" r="r" b="b"/>
              <a:pathLst>
                <a:path w="297" h="156">
                  <a:moveTo>
                    <a:pt x="0" y="156"/>
                  </a:moveTo>
                  <a:lnTo>
                    <a:pt x="156" y="0"/>
                  </a:lnTo>
                  <a:lnTo>
                    <a:pt x="297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44640" y="412416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44640" y="501480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44640" y="588168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 pa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37280" y="4954680"/>
              <a:ext cx="520560" cy="247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37280" y="4954680"/>
              <a:ext cx="544320" cy="271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05440" y="4954680"/>
              <a:ext cx="446040" cy="22212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0" y="140"/>
                  </a:moveTo>
                  <a:lnTo>
                    <a:pt x="140" y="0"/>
                  </a:lnTo>
                  <a:lnTo>
                    <a:pt x="281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13440" y="4879800"/>
              <a:ext cx="1411200" cy="446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13440" y="5770440"/>
              <a:ext cx="138564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13440" y="5770440"/>
              <a:ext cx="1411200" cy="4208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2464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73960" y="1736640"/>
              <a:ext cx="1440" cy="420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3920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5" y="32"/>
                  </a:moveTo>
                  <a:lnTo>
                    <a:pt x="31" y="0"/>
                  </a:lnTo>
                  <a:lnTo>
                    <a:pt x="62" y="63"/>
                  </a:lnTo>
                  <a:lnTo>
                    <a:pt x="0" y="63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73960" y="1736640"/>
              <a:ext cx="1089000" cy="4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10080" y="215748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47" y="31"/>
                  </a:moveTo>
                  <a:lnTo>
                    <a:pt x="63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484600" y="1736640"/>
              <a:ext cx="1089000" cy="470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29080" y="1920960"/>
              <a:ext cx="190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ragment/comb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43840" y="283680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86240" y="3097080"/>
              <a:ext cx="100080" cy="748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31" y="0"/>
                  </a:moveTo>
                  <a:lnTo>
                    <a:pt x="63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35560" y="2652840"/>
              <a:ext cx="1440" cy="420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11800" y="47563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61120" y="3494160"/>
              <a:ext cx="1440" cy="123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830920" y="411336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32" y="15"/>
                  </a:moveTo>
                  <a:lnTo>
                    <a:pt x="47" y="0"/>
                  </a:lnTo>
                  <a:lnTo>
                    <a:pt x="63" y="62"/>
                  </a:lnTo>
                  <a:lnTo>
                    <a:pt x="0" y="3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86320" y="3468600"/>
              <a:ext cx="469800" cy="644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3840" y="38019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43120" y="451944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43480" y="541008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29280" y="47815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78600" y="4335480"/>
              <a:ext cx="1440" cy="446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57840" y="564660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07160" y="5326200"/>
              <a:ext cx="1440" cy="2966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RC4 stream cipher in IEEE 802.11 WEP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404640" y="1468440"/>
            <a:ext cx="9123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yptography not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10080" y="2308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0080" y="40006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0360" y="2374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76440" y="2354400"/>
            <a:ext cx="6521400" cy="2570040"/>
            <a:chOff x="1576440" y="2354400"/>
            <a:chExt cx="6521400" cy="2570040"/>
          </a:xfrm>
        </p:grpSpPr>
        <p:sp>
          <p:nvSpPr>
            <p:cNvPr id="122" name=""/>
            <p:cNvSpPr/>
            <p:nvPr/>
          </p:nvSpPr>
          <p:spPr>
            <a:xfrm>
              <a:off x="1614240" y="24940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1320" y="2494080"/>
              <a:ext cx="164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6440" y="235440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2880" y="235440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82880" y="237492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28432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2760" y="2843280"/>
              <a:ext cx="152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2880" y="272412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0000" y="3191040"/>
              <a:ext cx="314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8080" y="3191040"/>
              <a:ext cx="382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 shared between Alice and 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2880" y="307188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29000" y="3538440"/>
              <a:ext cx="448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8440" y="3538440"/>
              <a:ext cx="383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rivate key (known only to Alic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2880" y="3419640"/>
              <a:ext cx="2232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7920" y="388764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05920" y="3887640"/>
              <a:ext cx="492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ublic key (published by Alice for all to 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2880" y="376704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77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524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921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5760" y="4235400"/>
              <a:ext cx="8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4200" y="423540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472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3200" y="423540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ed with ke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9800" y="4235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82880" y="411624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7760" y="458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6320" y="4583160"/>
              <a:ext cx="173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4200" y="458316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73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14280" y="45831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gned with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1800" y="4583160"/>
              <a:ext cx="21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76440" y="490068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2880" y="446400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2880" y="492300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82880" y="490068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905200" y="2354400"/>
              <a:ext cx="5192640" cy="2547720"/>
              <a:chOff x="2905200" y="2354400"/>
              <a:chExt cx="5192640" cy="2547720"/>
            </a:xfrm>
          </p:grpSpPr>
          <p:sp>
            <p:nvSpPr>
              <p:cNvPr id="160" name=""/>
              <p:cNvSpPr/>
              <p:nvPr/>
            </p:nvSpPr>
            <p:spPr>
              <a:xfrm>
                <a:off x="2905200" y="235440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05200" y="490068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ice’s bank account certifica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66720" y="2948040"/>
            <a:ext cx="8513640" cy="1828800"/>
            <a:chOff x="666720" y="2948040"/>
            <a:chExt cx="8513640" cy="1828800"/>
          </a:xfrm>
        </p:grpSpPr>
        <p:sp>
          <p:nvSpPr>
            <p:cNvPr id="164" name=""/>
            <p:cNvSpPr/>
            <p:nvPr/>
          </p:nvSpPr>
          <p:spPr>
            <a:xfrm>
              <a:off x="687600" y="308124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1480" y="3081240"/>
              <a:ext cx="157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icate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5560" y="30812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0960" y="3081240"/>
              <a:ext cx="170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u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98920" y="2948040"/>
              <a:ext cx="237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600" y="34005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7240" y="340056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520" y="3400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4560" y="3400560"/>
              <a:ext cx="5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8920" y="334008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600" y="3719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6880" y="371952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67960" y="3719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1680" y="371952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2626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98920" y="3659040"/>
              <a:ext cx="2376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7600" y="40384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6160" y="4038480"/>
              <a:ext cx="20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ying 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22120" y="4038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2400" y="4038480"/>
              <a:ext cx="121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b’s 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8920" y="397836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600" y="435780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56160" y="435780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g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91800" y="4357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638160" y="4357800"/>
              <a:ext cx="3105000" cy="375480"/>
              <a:chOff x="3638160" y="4357800"/>
              <a:chExt cx="3105000" cy="375480"/>
            </a:xfrm>
          </p:grpSpPr>
          <p:sp>
            <p:nvSpPr>
              <p:cNvPr id="188" name=""/>
              <p:cNvSpPr/>
              <p:nvPr/>
            </p:nvSpPr>
            <p:spPr>
              <a:xfrm>
                <a:off x="3638160" y="4357800"/>
                <a:ext cx="2666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ges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eld 2 + field 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46080" y="4456080"/>
                <a:ext cx="39708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pr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66720" y="477684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6720" y="300528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blic-key certificate for Bob’s Ban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6680" y="2541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0560" y="254160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icat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77880" y="2541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5440" y="2541600"/>
            <a:ext cx="108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1400" y="238140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21240" y="24066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1240" y="2381400"/>
            <a:ext cx="14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6440" y="238140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21240" y="240660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6680" y="2935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6320" y="293544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2600" y="2935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4720" y="2935440"/>
            <a:ext cx="121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’s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21240" y="2800440"/>
            <a:ext cx="252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6680" y="3327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6680" y="3327480"/>
            <a:ext cx="10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34720" y="3327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74520" y="3327480"/>
            <a:ext cx="483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B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21240" y="319248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6680" y="37209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5240" y="372096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ying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44440" y="37209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1120" y="3720960"/>
            <a:ext cx="31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 – The Bankers Fe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1240" y="3586320"/>
            <a:ext cx="252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6680" y="4114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5240" y="411480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2680" y="4114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400" y="446256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1240" y="4397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46440" y="446256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27000" y="4081320"/>
            <a:ext cx="3105000" cy="375480"/>
            <a:chOff x="3627000" y="4081320"/>
            <a:chExt cx="3105000" cy="375480"/>
          </a:xfrm>
        </p:grpSpPr>
        <p:sp>
          <p:nvSpPr>
            <p:cNvPr id="224" name=""/>
            <p:cNvSpPr/>
            <p:nvPr/>
          </p:nvSpPr>
          <p:spPr>
            <a:xfrm>
              <a:off x="3627000" y="4081320"/>
              <a:ext cx="266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ig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eld 2 + field 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4920" y="4179600"/>
              <a:ext cx="397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Fpr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ipher block chain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63280" y="2398680"/>
            <a:ext cx="8131320" cy="1962360"/>
            <a:chOff x="863280" y="2398680"/>
            <a:chExt cx="8131320" cy="1962360"/>
          </a:xfrm>
        </p:grpSpPr>
        <p:sp>
          <p:nvSpPr>
            <p:cNvPr id="228" name=""/>
            <p:cNvSpPr/>
            <p:nvPr/>
          </p:nvSpPr>
          <p:spPr>
            <a:xfrm>
              <a:off x="65120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120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4480" y="3648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2735280"/>
              <a:ext cx="58248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7196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140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5120" y="2735280"/>
              <a:ext cx="5810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512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3548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86240" y="2735280"/>
              <a:ext cx="5828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6240" y="2735280"/>
              <a:ext cx="61308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904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81800" y="2552760"/>
              <a:ext cx="642960" cy="6429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3640" y="272412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96000" y="3195720"/>
              <a:ext cx="184320" cy="15408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58" y="97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116" y="97"/>
                  </a:lnTo>
                  <a:lnTo>
                    <a:pt x="58" y="9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88160" y="3379680"/>
              <a:ext cx="1440" cy="214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7720" y="2797200"/>
              <a:ext cx="15408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58"/>
                  </a:moveTo>
                  <a:lnTo>
                    <a:pt x="0" y="0"/>
                  </a:lnTo>
                  <a:lnTo>
                    <a:pt x="97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9080" y="2889360"/>
              <a:ext cx="4284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43840" y="2766960"/>
              <a:ext cx="950760" cy="9493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720" y="3092400"/>
              <a:ext cx="86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1320" y="29512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9" y="57"/>
                  </a:moveTo>
                  <a:lnTo>
                    <a:pt x="38" y="0"/>
                  </a:lnTo>
                  <a:lnTo>
                    <a:pt x="115" y="77"/>
                  </a:lnTo>
                  <a:lnTo>
                    <a:pt x="0" y="1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4760" y="2889360"/>
              <a:ext cx="766800" cy="152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4520" y="3624120"/>
              <a:ext cx="1843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96" y="58"/>
                  </a:moveTo>
                  <a:lnTo>
                    <a:pt x="116" y="116"/>
                  </a:lnTo>
                  <a:lnTo>
                    <a:pt x="0" y="97"/>
                  </a:lnTo>
                  <a:lnTo>
                    <a:pt x="77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278480" y="3440160"/>
              <a:ext cx="796680" cy="276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0560" y="3624120"/>
              <a:ext cx="5508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05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544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76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276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1188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86160" y="3624120"/>
              <a:ext cx="5526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861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83360" y="36291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65680" y="2398680"/>
              <a:ext cx="15228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0" y="58"/>
                  </a:moveTo>
                  <a:lnTo>
                    <a:pt x="0" y="0"/>
                  </a:lnTo>
                  <a:lnTo>
                    <a:pt x="96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05240" y="2490840"/>
              <a:ext cx="4604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6920" y="4176720"/>
              <a:ext cx="15264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6" y="58"/>
                  </a:moveTo>
                  <a:lnTo>
                    <a:pt x="96" y="116"/>
                  </a:lnTo>
                  <a:lnTo>
                    <a:pt x="0" y="58"/>
                  </a:lnTo>
                  <a:lnTo>
                    <a:pt x="96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519440" y="4268880"/>
              <a:ext cx="4305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4000" y="2811600"/>
              <a:ext cx="174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in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3280" y="3670200"/>
              <a:ext cx="18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ipher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eam ciph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41240" y="2608200"/>
            <a:ext cx="8593200" cy="1684440"/>
            <a:chOff x="741240" y="2608200"/>
            <a:chExt cx="8593200" cy="1684440"/>
          </a:xfrm>
        </p:grpSpPr>
        <p:sp>
          <p:nvSpPr>
            <p:cNvPr id="269" name=""/>
            <p:cNvSpPr/>
            <p:nvPr/>
          </p:nvSpPr>
          <p:spPr>
            <a:xfrm>
              <a:off x="7854840" y="3297240"/>
              <a:ext cx="1454400" cy="230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54840" y="3297240"/>
              <a:ext cx="1479600" cy="25560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12000" y="3119400"/>
              <a:ext cx="509400" cy="53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5360" y="32716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10480" y="36291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32" y="3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48" y="80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00720" y="3679560"/>
              <a:ext cx="534960" cy="3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0400" y="41655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2"/>
                  </a:moveTo>
                  <a:lnTo>
                    <a:pt x="0" y="0"/>
                  </a:lnTo>
                  <a:lnTo>
                    <a:pt x="80" y="32"/>
                  </a:lnTo>
                  <a:lnTo>
                    <a:pt x="0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12920" y="42163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5520" y="2608200"/>
              <a:ext cx="79056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35720" y="2876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1240" y="2608200"/>
              <a:ext cx="119880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51480" y="2800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7840" y="299088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084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2084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9356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82880" y="2914560"/>
              <a:ext cx="48564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82880" y="2914560"/>
              <a:ext cx="51120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5560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4636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636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584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66760" y="2940120"/>
              <a:ext cx="12888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8"/>
                  </a:moveTo>
                  <a:lnTo>
                    <a:pt x="0" y="0"/>
                  </a:lnTo>
                  <a:lnTo>
                    <a:pt x="81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40040" y="3016080"/>
              <a:ext cx="126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3240" y="2965320"/>
              <a:ext cx="127080" cy="1288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0560" y="3041640"/>
              <a:ext cx="35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95640" y="3884760"/>
              <a:ext cx="4079880" cy="203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3884760"/>
              <a:ext cx="4105080" cy="2286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15200" y="3794040"/>
              <a:ext cx="81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lain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4560" y="40244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07200" y="369252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pher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69200" y="3922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4640" y="3067200"/>
              <a:ext cx="128520" cy="1537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9"/>
                  </a:moveTo>
                  <a:lnTo>
                    <a:pt x="0" y="0"/>
                  </a:lnTo>
                  <a:lnTo>
                    <a:pt x="81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11960" y="3144960"/>
              <a:ext cx="38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7000" y="332280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6960" y="3398760"/>
              <a:ext cx="230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11680" y="29145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56080" y="2990880"/>
              <a:ext cx="255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4320" y="2762280"/>
              <a:ext cx="612720" cy="45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11840" y="288936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59720" y="31449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16" y="32"/>
                  </a:moveTo>
                  <a:lnTo>
                    <a:pt x="32" y="0"/>
                  </a:lnTo>
                  <a:lnTo>
                    <a:pt x="96" y="80"/>
                  </a:lnTo>
                  <a:lnTo>
                    <a:pt x="0" y="80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2240" y="3041640"/>
              <a:ext cx="38268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7720" y="260820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str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79800" y="2658960"/>
              <a:ext cx="127080" cy="15408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9"/>
                  </a:moveTo>
                  <a:lnTo>
                    <a:pt x="0" y="0"/>
                  </a:lnTo>
                  <a:lnTo>
                    <a:pt x="80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97120" y="27367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en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en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0; int 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+= delta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+= ((z &lt;&lt; 4) + k[0]) ^ (z+sum) ^ ((z &gt;&gt; 5) + k[1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+= ((y &lt;&lt; 4) + k[2]) ^ (y+sum) ^ ((y &gt;&gt; 5) + k[3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 text[1] = z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de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de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delta &lt;&lt; 5;  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-= ((y &lt;&lt; 4) + k[2]) ^ (y + sum) ^ ((y &gt;&gt; 5) + k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-= ((z &lt;&lt; 4) + k[0]) ^ (z + sum) ^ ((z &gt;&gt; 5) + k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-= de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text[1] = z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7T17:01:12Z</dcterms:modified>
  <cp:revision>66</cp:revision>
  <dc:subject/>
  <dc:title>Figure 15.1 A distributed multimedia system</dc:title>
</cp:coreProperties>
</file>