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ct" ContentType="image/x-pict"/>
  <Override PartName="/ppt/media/image3.pct" ContentType="image/x-pict"/>
  <Override PartName="/ppt/media/image11.png" ContentType="image/png"/>
  <Override PartName="/ppt/media/image4.pct" ContentType="image/x-pict"/>
  <Override PartName="/ppt/media/image12.png" ContentType="image/png"/>
  <Override PartName="/ppt/media/image5.pct" ContentType="image/x-pict"/>
  <Override PartName="/ppt/media/image10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FC00-3215-4555-B6DE-3D92B431C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9549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C4DA-3FE9-434B-8E7F-5F1CF1587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FC42-F801-4CA9-A064-90E8E1861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2C7F-46FC-4FDC-8E32-927764A96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0D5D5-EB02-456D-83F1-4751ABD04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ADF12-D292-4596-ABC0-BCA11F6E1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9E4DB-4B4C-4872-AD79-BCDCBBD5D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8E07F-85B7-4EC9-BFA1-BCEBF4DEA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CEEFD-19BA-44E3-82C0-9E4E9E631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04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433C4-46BD-4EE8-B9DE-9249E14B1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1F8AF-776D-4932-9EDF-09C6AE49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25CB-81BD-4907-B576-918F7272D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AC686-EBA3-4BB5-A7CD-1DBB783A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CFC13-1791-4B4F-9728-D269FF27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9549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9763C-BB26-455F-9027-CB55B612F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91E89-62F5-4976-B06A-DC5C8E759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E1A8F-89DB-451F-AC19-C74DC779C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20F6-2565-4C8A-A5F4-C98A0BF1B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62F7-E3F5-41B9-B198-FFE0BBB26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AFD5-06D4-4ED6-B21F-A4722869C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04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16B8-FC32-4C76-8DCB-66D31F3DF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A330-F717-40AE-8E10-66A26AB8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B5C6-D7AB-43D3-A88A-73D7952D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D0CF-5D3F-42A1-8E78-B9160D4A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56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280" y="6400800"/>
            <a:ext cx="147348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81080" y="6400800"/>
            <a:ext cx="5562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Instructor’s Guide for  Coulouris, Dollimore and Kindberg   Distributed Systems: Concepts and Design   Edn. 4  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©  Pearson Education 2005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20120" y="6400800"/>
            <a:ext cx="10159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F3EF0-0A8E-4FD1-8184-3CD4BF2224C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143000"/>
            <a:ext cx="815328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02C64-8370-4B13-8111-8C5D564B9E5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90920"/>
            <a:ext cx="815328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Slides for Chapter 2: </a:t>
            </a:r>
            <a:br>
              <a:rPr sz="3200"/>
            </a:b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 Architectural Models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438280" y="2895480"/>
            <a:ext cx="64008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From</a:t>
            </a:r>
            <a:r>
              <a:rPr b="0" lang="en-GB" sz="1800" spc="-1" strike="noStrike">
                <a:solidFill>
                  <a:srgbClr val="663300"/>
                </a:solidFill>
                <a:latin typeface="Arial Black"/>
              </a:rPr>
              <a:t> Coulouris, Dollimore and Kindberg</a:t>
            </a:r>
            <a:br>
              <a:rPr sz="1800"/>
            </a:br>
            <a:r>
              <a:rPr b="0" lang="en-GB" sz="2000" spc="-1" strike="noStrike">
                <a:solidFill>
                  <a:srgbClr val="663300"/>
                </a:solidFill>
                <a:latin typeface="Arial Black"/>
              </a:rPr>
              <a:t>Distributed Systems: </a:t>
            </a:r>
            <a:br>
              <a:rPr sz="2000"/>
            </a:br>
            <a:r>
              <a:rPr b="0" lang="en-GB" sz="20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0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000" spc="-1" strike="noStrike">
                <a:solidFill>
                  <a:srgbClr val="663300"/>
                </a:solidFill>
                <a:latin typeface="Arial Black"/>
              </a:rPr>
              <a:t>Concepts and Design</a:t>
            </a:r>
            <a:endParaRPr b="0" lang="en-US" sz="2000" spc="-1" strike="noStrike">
              <a:solidFill>
                <a:srgbClr val="663300"/>
              </a:solidFill>
              <a:latin typeface="Arial Black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Edition 4, © Pearson Education 2005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96800" y="3070080"/>
            <a:ext cx="1893960" cy="24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2.9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rocesses and channel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93640" y="2457360"/>
            <a:ext cx="788220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2.10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Omission and arbitrary failure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505800" y="1631880"/>
            <a:ext cx="8371800" cy="4236120"/>
            <a:chOff x="505800" y="1631880"/>
            <a:chExt cx="8371800" cy="4236120"/>
          </a:xfrm>
        </p:grpSpPr>
        <p:sp>
          <p:nvSpPr>
            <p:cNvPr id="120" name=""/>
            <p:cNvSpPr/>
            <p:nvPr/>
          </p:nvSpPr>
          <p:spPr>
            <a:xfrm>
              <a:off x="540000" y="1668600"/>
              <a:ext cx="1570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Class of fail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371680" y="1668600"/>
              <a:ext cx="691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ffec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295080" y="1668600"/>
              <a:ext cx="1203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escrip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8440" y="1631880"/>
              <a:ext cx="179784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388240" y="1631880"/>
              <a:ext cx="92160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333240" y="1631880"/>
              <a:ext cx="520920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42160" y="1992240"/>
              <a:ext cx="906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ail-sto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61520" y="19922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c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119760" y="1992240"/>
              <a:ext cx="5564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cess halts and remains halted. Other processes ma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279600" y="2266920"/>
              <a:ext cx="1631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tect this stat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568440" y="1982880"/>
              <a:ext cx="7974000" cy="1440"/>
              <a:chOff x="568440" y="1982880"/>
              <a:chExt cx="7974000" cy="1440"/>
            </a:xfrm>
          </p:grpSpPr>
          <p:sp>
            <p:nvSpPr>
              <p:cNvPr id="131" name=""/>
              <p:cNvSpPr/>
              <p:nvPr/>
            </p:nvSpPr>
            <p:spPr>
              <a:xfrm>
                <a:off x="568440" y="1982880"/>
                <a:ext cx="1797840" cy="144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388240" y="1982880"/>
                <a:ext cx="921600" cy="144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333240" y="1982880"/>
                <a:ext cx="5209200" cy="144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554400" y="2541600"/>
              <a:ext cx="595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ras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61520" y="254160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c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19760" y="2541600"/>
              <a:ext cx="5564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cess halts and remains halted. Other processes ma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222000" y="2816280"/>
              <a:ext cx="3076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ot be able to detect this stat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38920" y="3090960"/>
              <a:ext cx="977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mis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258640" y="3090960"/>
              <a:ext cx="849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hann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110040" y="3090960"/>
              <a:ext cx="5767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 message inserted in an outgoing message buffer ne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132000" y="3365640"/>
              <a:ext cx="5227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rrives at the other end’s incoming message buffer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6600" y="3639960"/>
              <a:ext cx="1517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nd-omis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261520" y="363996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c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49000" y="3639960"/>
              <a:ext cx="2350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 process completes a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41760" y="3639960"/>
              <a:ext cx="532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send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816880" y="3639960"/>
              <a:ext cx="2705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ut the message is not p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215160" y="3914640"/>
              <a:ext cx="3153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 its outgoing message buffer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05800" y="4189320"/>
              <a:ext cx="1824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ceive-omis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261520" y="418932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c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36680" y="4189320"/>
              <a:ext cx="5141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 message is put in a process’s incoming mess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168000" y="4464000"/>
              <a:ext cx="4342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uffer, but that process does not receive it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39640" y="4738680"/>
              <a:ext cx="950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rbitra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29920" y="5013360"/>
              <a:ext cx="1203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Byzantin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49280" y="4738680"/>
              <a:ext cx="1056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cess 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261160" y="5013360"/>
              <a:ext cx="793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hann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130200" y="4738680"/>
              <a:ext cx="5316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cess/channel exhibits arbitrary behaviour: it ma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136320" y="5013360"/>
              <a:ext cx="5206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nd/transmit arbitrary messages at arbitrary times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142440" y="5288040"/>
              <a:ext cx="4999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mmit omissions; a process may stop or take 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5360" y="5562720"/>
              <a:ext cx="1443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correct step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68440" y="5864400"/>
              <a:ext cx="179784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88240" y="5864400"/>
              <a:ext cx="92160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333240" y="5864400"/>
              <a:ext cx="520920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2.1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iming failure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533160" y="2151000"/>
            <a:ext cx="8266680" cy="2049840"/>
            <a:chOff x="533160" y="2151000"/>
            <a:chExt cx="8266680" cy="2049840"/>
          </a:xfrm>
        </p:grpSpPr>
        <p:sp>
          <p:nvSpPr>
            <p:cNvPr id="165" name=""/>
            <p:cNvSpPr/>
            <p:nvPr/>
          </p:nvSpPr>
          <p:spPr>
            <a:xfrm>
              <a:off x="533160" y="2187720"/>
              <a:ext cx="165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Class of Fail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367000" y="2187720"/>
              <a:ext cx="691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ffec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16960" y="2187720"/>
              <a:ext cx="1203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escrip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5200" y="2151000"/>
              <a:ext cx="179496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383920" y="2151000"/>
              <a:ext cx="174960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55480" y="2151000"/>
              <a:ext cx="437400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74560" y="2525760"/>
              <a:ext cx="608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lo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62320" y="252576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c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971520" y="2525760"/>
              <a:ext cx="480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cess’s local clock exceeds the bounds on 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055400" y="2798640"/>
              <a:ext cx="2746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ate of drift from real tim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565200" y="2487600"/>
              <a:ext cx="7963920" cy="1440"/>
              <a:chOff x="565200" y="2487600"/>
              <a:chExt cx="7963920" cy="1440"/>
            </a:xfrm>
          </p:grpSpPr>
          <p:sp>
            <p:nvSpPr>
              <p:cNvPr id="176" name=""/>
              <p:cNvSpPr/>
              <p:nvPr/>
            </p:nvSpPr>
            <p:spPr>
              <a:xfrm>
                <a:off x="565200" y="2487600"/>
                <a:ext cx="1794960" cy="144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383560" y="2487600"/>
                <a:ext cx="1749240" cy="144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155120" y="2487600"/>
                <a:ext cx="4374000" cy="144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>
              <a:off x="545400" y="3073320"/>
              <a:ext cx="1303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erform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62320" y="307332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c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988800" y="3073320"/>
              <a:ext cx="4363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cess exceeds the bounds on the inter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087800" y="3348000"/>
              <a:ext cx="1933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etween two step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5400" y="3622680"/>
              <a:ext cx="1303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erform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59440" y="3622680"/>
              <a:ext cx="849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hann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971160" y="3622680"/>
              <a:ext cx="4828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 message’s transmission takes longer than t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109760" y="3895560"/>
              <a:ext cx="1361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tated bound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65200" y="4195800"/>
              <a:ext cx="179496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383920" y="4195800"/>
              <a:ext cx="174960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155480" y="4195800"/>
              <a:ext cx="437400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2.12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Objects and principal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98600" y="1957320"/>
            <a:ext cx="8092800" cy="28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2.13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e enemy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866880" y="2158920"/>
            <a:ext cx="7270200" cy="2519280"/>
            <a:chOff x="866880" y="2158920"/>
            <a:chExt cx="7270200" cy="2519280"/>
          </a:xfrm>
        </p:grpSpPr>
        <p:sp>
          <p:nvSpPr>
            <p:cNvPr id="194" name=""/>
            <p:cNvSpPr/>
            <p:nvPr/>
          </p:nvSpPr>
          <p:spPr>
            <a:xfrm>
              <a:off x="2406960" y="2685960"/>
              <a:ext cx="4162680" cy="1992240"/>
            </a:xfrm>
            <a:custGeom>
              <a:avLst/>
              <a:gdLst/>
              <a:ahLst/>
              <a:rect l="l" t="t" r="r" b="b"/>
              <a:pathLst>
                <a:path w="2841" h="1255">
                  <a:moveTo>
                    <a:pt x="2472" y="111"/>
                  </a:moveTo>
                  <a:lnTo>
                    <a:pt x="2011" y="74"/>
                  </a:lnTo>
                  <a:lnTo>
                    <a:pt x="1568" y="0"/>
                  </a:lnTo>
                  <a:lnTo>
                    <a:pt x="1236" y="0"/>
                  </a:lnTo>
                  <a:lnTo>
                    <a:pt x="904" y="37"/>
                  </a:lnTo>
                  <a:lnTo>
                    <a:pt x="259" y="129"/>
                  </a:lnTo>
                  <a:lnTo>
                    <a:pt x="111" y="185"/>
                  </a:lnTo>
                  <a:lnTo>
                    <a:pt x="56" y="314"/>
                  </a:lnTo>
                  <a:lnTo>
                    <a:pt x="19" y="609"/>
                  </a:lnTo>
                  <a:lnTo>
                    <a:pt x="0" y="775"/>
                  </a:lnTo>
                  <a:lnTo>
                    <a:pt x="93" y="923"/>
                  </a:lnTo>
                  <a:lnTo>
                    <a:pt x="406" y="1125"/>
                  </a:lnTo>
                  <a:lnTo>
                    <a:pt x="591" y="1199"/>
                  </a:lnTo>
                  <a:lnTo>
                    <a:pt x="775" y="1236"/>
                  </a:lnTo>
                  <a:lnTo>
                    <a:pt x="1181" y="1255"/>
                  </a:lnTo>
                  <a:lnTo>
                    <a:pt x="1993" y="1181"/>
                  </a:lnTo>
                  <a:lnTo>
                    <a:pt x="2306" y="1144"/>
                  </a:lnTo>
                  <a:lnTo>
                    <a:pt x="2601" y="1033"/>
                  </a:lnTo>
                  <a:lnTo>
                    <a:pt x="2712" y="941"/>
                  </a:lnTo>
                  <a:lnTo>
                    <a:pt x="2804" y="812"/>
                  </a:lnTo>
                  <a:lnTo>
                    <a:pt x="2841" y="683"/>
                  </a:lnTo>
                  <a:lnTo>
                    <a:pt x="2823" y="535"/>
                  </a:lnTo>
                  <a:lnTo>
                    <a:pt x="2730" y="259"/>
                  </a:lnTo>
                  <a:lnTo>
                    <a:pt x="2638" y="166"/>
                  </a:lnTo>
                  <a:lnTo>
                    <a:pt x="2491" y="129"/>
                  </a:lnTo>
                  <a:lnTo>
                    <a:pt x="2472" y="111"/>
                  </a:lnTo>
                  <a:close/>
                </a:path>
              </a:pathLst>
            </a:custGeom>
            <a:solidFill>
              <a:srgbClr val="ffdc99"/>
            </a:solidFill>
            <a:ln w="42840">
              <a:solidFill>
                <a:srgbClr val="ffd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650760" y="2722680"/>
              <a:ext cx="1919160" cy="703080"/>
            </a:xfrm>
            <a:prstGeom prst="ellipse">
              <a:avLst/>
            </a:prstGeom>
            <a:solidFill>
              <a:srgbClr val="ffffff"/>
            </a:solidFill>
            <a:ln w="1015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445200" y="3900600"/>
              <a:ext cx="2586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Communication channel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774880" y="2197080"/>
              <a:ext cx="898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Copy of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606480" y="2173320"/>
              <a:ext cx="2232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04280" y="3184560"/>
              <a:ext cx="1432800" cy="966600"/>
            </a:xfrm>
            <a:prstGeom prst="ellipse">
              <a:avLst/>
            </a:prstGeom>
            <a:solidFill>
              <a:srgbClr val="ffffff"/>
            </a:solidFill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66880" y="3271680"/>
              <a:ext cx="1378800" cy="820800"/>
            </a:xfrm>
            <a:prstGeom prst="ellipse">
              <a:avLst/>
            </a:prstGeom>
            <a:solidFill>
              <a:srgbClr val="ffffff"/>
            </a:solidFill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191320" y="3535200"/>
              <a:ext cx="4566960" cy="180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191320" y="3798720"/>
              <a:ext cx="4566960" cy="180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12320" y="3514680"/>
              <a:ext cx="938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883160" y="349092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919200" y="3544920"/>
              <a:ext cx="938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790040" y="352116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855160" y="3490920"/>
              <a:ext cx="2232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516120" y="3594240"/>
              <a:ext cx="108000" cy="145800"/>
            </a:xfrm>
            <a:custGeom>
              <a:avLst/>
              <a:gdLst/>
              <a:ahLst/>
              <a:rect l="l" t="t" r="r" b="b"/>
              <a:pathLst>
                <a:path w="74" h="92">
                  <a:moveTo>
                    <a:pt x="0" y="37"/>
                  </a:moveTo>
                  <a:lnTo>
                    <a:pt x="0" y="0"/>
                  </a:lnTo>
                  <a:lnTo>
                    <a:pt x="74" y="37"/>
                  </a:lnTo>
                  <a:lnTo>
                    <a:pt x="0" y="92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42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137760" y="3652920"/>
              <a:ext cx="378000" cy="144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025520" y="2913120"/>
              <a:ext cx="1207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The enemy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758320" y="2158920"/>
              <a:ext cx="1161720" cy="381240"/>
            </a:xfrm>
            <a:prstGeom prst="rect">
              <a:avLst/>
            </a:prstGeom>
            <a:noFill/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489000" y="3594240"/>
              <a:ext cx="108360" cy="145800"/>
            </a:xfrm>
            <a:custGeom>
              <a:avLst/>
              <a:gdLst/>
              <a:ahLst/>
              <a:rect l="l" t="t" r="r" b="b"/>
              <a:pathLst>
                <a:path w="74" h="92">
                  <a:moveTo>
                    <a:pt x="0" y="37"/>
                  </a:moveTo>
                  <a:lnTo>
                    <a:pt x="0" y="0"/>
                  </a:lnTo>
                  <a:lnTo>
                    <a:pt x="74" y="37"/>
                  </a:lnTo>
                  <a:lnTo>
                    <a:pt x="0" y="92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42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109560" y="3652920"/>
              <a:ext cx="351360" cy="144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716800" y="3139920"/>
              <a:ext cx="28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Arial"/>
                </a:rPr>
                <a:t>m’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flipV="1">
              <a:off x="5866200" y="3417480"/>
              <a:ext cx="216720" cy="23508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759120" y="3448080"/>
              <a:ext cx="80280" cy="439560"/>
            </a:xfrm>
            <a:prstGeom prst="ellipse">
              <a:avLst/>
            </a:prstGeom>
            <a:solidFill>
              <a:srgbClr val="ffffff"/>
            </a:solidFill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3813480" y="3360600"/>
              <a:ext cx="54000" cy="11592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705120" y="2511360"/>
              <a:ext cx="243000" cy="790560"/>
            </a:xfrm>
            <a:custGeom>
              <a:avLst/>
              <a:gdLst/>
              <a:ahLst/>
              <a:rect l="l" t="t" r="r" b="b"/>
              <a:pathLst>
                <a:path w="166" h="498">
                  <a:moveTo>
                    <a:pt x="0" y="0"/>
                  </a:moveTo>
                  <a:lnTo>
                    <a:pt x="147" y="313"/>
                  </a:lnTo>
                  <a:lnTo>
                    <a:pt x="166" y="424"/>
                  </a:lnTo>
                  <a:lnTo>
                    <a:pt x="129" y="498"/>
                  </a:lnTo>
                </a:path>
              </a:pathLst>
            </a:custGeom>
            <a:noFill/>
            <a:ln w="42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2.14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ecure channel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75240" y="2502000"/>
            <a:ext cx="991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incipal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14840" y="2484360"/>
            <a:ext cx="17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7457760" y="2705040"/>
            <a:ext cx="136440" cy="26532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70800" y="2941560"/>
            <a:ext cx="1657080" cy="12067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30240">
            <a:solidFill>
              <a:srgbClr val="d9aa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78800" y="3059280"/>
            <a:ext cx="1441440" cy="971280"/>
          </a:xfrm>
          <a:prstGeom prst="ellipse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49160" y="2941560"/>
            <a:ext cx="1683000" cy="1176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30240">
            <a:solidFill>
              <a:srgbClr val="d9aa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11160" y="3117960"/>
            <a:ext cx="1386000" cy="823680"/>
          </a:xfrm>
          <a:prstGeom prst="ellipse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460600" y="2529000"/>
            <a:ext cx="4183200" cy="2001600"/>
          </a:xfrm>
          <a:custGeom>
            <a:avLst/>
            <a:gdLst/>
            <a:ahLst/>
            <a:rect l="l" t="t" r="r" b="b"/>
            <a:pathLst>
              <a:path w="2855" h="1261">
                <a:moveTo>
                  <a:pt x="2484" y="111"/>
                </a:moveTo>
                <a:lnTo>
                  <a:pt x="2021" y="74"/>
                </a:lnTo>
                <a:lnTo>
                  <a:pt x="1576" y="19"/>
                </a:lnTo>
                <a:lnTo>
                  <a:pt x="1242" y="0"/>
                </a:lnTo>
                <a:lnTo>
                  <a:pt x="908" y="37"/>
                </a:lnTo>
                <a:lnTo>
                  <a:pt x="259" y="130"/>
                </a:lnTo>
                <a:lnTo>
                  <a:pt x="111" y="204"/>
                </a:lnTo>
                <a:lnTo>
                  <a:pt x="56" y="315"/>
                </a:lnTo>
                <a:lnTo>
                  <a:pt x="18" y="612"/>
                </a:lnTo>
                <a:lnTo>
                  <a:pt x="0" y="797"/>
                </a:lnTo>
                <a:lnTo>
                  <a:pt x="93" y="946"/>
                </a:lnTo>
                <a:lnTo>
                  <a:pt x="408" y="1131"/>
                </a:lnTo>
                <a:lnTo>
                  <a:pt x="593" y="1224"/>
                </a:lnTo>
                <a:lnTo>
                  <a:pt x="797" y="1261"/>
                </a:lnTo>
                <a:lnTo>
                  <a:pt x="1186" y="1261"/>
                </a:lnTo>
                <a:lnTo>
                  <a:pt x="2002" y="1205"/>
                </a:lnTo>
                <a:lnTo>
                  <a:pt x="2317" y="1168"/>
                </a:lnTo>
                <a:lnTo>
                  <a:pt x="2614" y="1038"/>
                </a:lnTo>
                <a:lnTo>
                  <a:pt x="2725" y="946"/>
                </a:lnTo>
                <a:lnTo>
                  <a:pt x="2818" y="834"/>
                </a:lnTo>
                <a:lnTo>
                  <a:pt x="2855" y="686"/>
                </a:lnTo>
                <a:lnTo>
                  <a:pt x="2836" y="538"/>
                </a:lnTo>
                <a:lnTo>
                  <a:pt x="2744" y="278"/>
                </a:lnTo>
                <a:lnTo>
                  <a:pt x="2651" y="167"/>
                </a:lnTo>
                <a:lnTo>
                  <a:pt x="2503" y="148"/>
                </a:lnTo>
                <a:lnTo>
                  <a:pt x="2484" y="111"/>
                </a:lnTo>
                <a:close/>
              </a:path>
            </a:pathLst>
          </a:custGeom>
          <a:solidFill>
            <a:srgbClr val="ffdc99"/>
          </a:solidFill>
          <a:ln w="30240">
            <a:solidFill>
              <a:srgbClr val="ffd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43160" y="3382920"/>
            <a:ext cx="458928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2243160" y="3668760"/>
            <a:ext cx="4605480" cy="144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772440" y="3367080"/>
            <a:ext cx="1675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cure chann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061280" y="3355920"/>
            <a:ext cx="938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oces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37160" y="33386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997680" y="3367080"/>
            <a:ext cx="938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oces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872840" y="336708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513920" y="2414520"/>
            <a:ext cx="991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incipal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469720" y="2379600"/>
            <a:ext cx="17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74600" y="2793960"/>
            <a:ext cx="135000" cy="26532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2.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oftware and hardware service layers in distributed system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70040" y="1433520"/>
            <a:ext cx="754704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2.2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ents invoke individual server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55480" y="1976400"/>
            <a:ext cx="797580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2.3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 distributed application based on peer processe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535040" y="1230480"/>
            <a:ext cx="638820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2.4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 service provided by multiple server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461960" y="1455840"/>
            <a:ext cx="5908680" cy="45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2.5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Web proxy server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5760" y="2117880"/>
            <a:ext cx="806580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2.6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Web applet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77720" y="1620720"/>
            <a:ext cx="8110800" cy="42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2.7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n clients and compute server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74880" y="2928960"/>
            <a:ext cx="1834920" cy="128916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931000" y="2552760"/>
            <a:ext cx="2539800" cy="195084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35080" y="3144960"/>
            <a:ext cx="1512720" cy="87156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39080" y="330048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60960" y="3613320"/>
            <a:ext cx="715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380280" y="3075120"/>
            <a:ext cx="1641240" cy="9064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552000" y="3230640"/>
            <a:ext cx="1369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43880" y="3543480"/>
            <a:ext cx="1011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53160" y="2394000"/>
            <a:ext cx="3057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twork computer or P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19720" y="2149560"/>
            <a:ext cx="1987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ute ser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47800" y="3492360"/>
            <a:ext cx="533520" cy="73080"/>
          </a:xfrm>
          <a:custGeom>
            <a:avLst/>
            <a:gdLst/>
            <a:ahLst/>
            <a:rect l="l" t="t" r="r" b="b"/>
            <a:pathLst>
              <a:path w="263" h="66">
                <a:moveTo>
                  <a:pt x="0" y="22"/>
                </a:moveTo>
                <a:lnTo>
                  <a:pt x="66" y="0"/>
                </a:lnTo>
                <a:lnTo>
                  <a:pt x="176" y="22"/>
                </a:lnTo>
                <a:lnTo>
                  <a:pt x="220" y="44"/>
                </a:lnTo>
                <a:lnTo>
                  <a:pt x="263" y="66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46800" y="3492360"/>
            <a:ext cx="965160" cy="34920"/>
          </a:xfrm>
          <a:custGeom>
            <a:avLst/>
            <a:gdLst/>
            <a:ahLst/>
            <a:rect l="l" t="t" r="r" b="b"/>
            <a:pathLst>
              <a:path w="659" h="22">
                <a:moveTo>
                  <a:pt x="659" y="0"/>
                </a:moveTo>
                <a:lnTo>
                  <a:pt x="527" y="22"/>
                </a:lnTo>
                <a:lnTo>
                  <a:pt x="286" y="22"/>
                </a:lnTo>
                <a:lnTo>
                  <a:pt x="110" y="22"/>
                </a:lnTo>
                <a:lnTo>
                  <a:pt x="0" y="22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75120" y="2865600"/>
            <a:ext cx="2606400" cy="1150920"/>
          </a:xfrm>
          <a:custGeom>
            <a:avLst/>
            <a:gdLst/>
            <a:ahLst/>
            <a:rect l="l" t="t" r="r" b="b"/>
            <a:pathLst>
              <a:path w="1779" h="725">
                <a:moveTo>
                  <a:pt x="44" y="176"/>
                </a:moveTo>
                <a:lnTo>
                  <a:pt x="66" y="132"/>
                </a:lnTo>
                <a:lnTo>
                  <a:pt x="176" y="66"/>
                </a:lnTo>
                <a:lnTo>
                  <a:pt x="286" y="44"/>
                </a:lnTo>
                <a:lnTo>
                  <a:pt x="352" y="44"/>
                </a:lnTo>
                <a:lnTo>
                  <a:pt x="396" y="22"/>
                </a:lnTo>
                <a:lnTo>
                  <a:pt x="527" y="44"/>
                </a:lnTo>
                <a:lnTo>
                  <a:pt x="659" y="66"/>
                </a:lnTo>
                <a:lnTo>
                  <a:pt x="791" y="66"/>
                </a:lnTo>
                <a:lnTo>
                  <a:pt x="923" y="66"/>
                </a:lnTo>
                <a:lnTo>
                  <a:pt x="1010" y="44"/>
                </a:lnTo>
                <a:lnTo>
                  <a:pt x="1076" y="22"/>
                </a:lnTo>
                <a:lnTo>
                  <a:pt x="1164" y="0"/>
                </a:lnTo>
                <a:lnTo>
                  <a:pt x="1274" y="0"/>
                </a:lnTo>
                <a:lnTo>
                  <a:pt x="1362" y="0"/>
                </a:lnTo>
                <a:lnTo>
                  <a:pt x="1428" y="22"/>
                </a:lnTo>
                <a:lnTo>
                  <a:pt x="1472" y="44"/>
                </a:lnTo>
                <a:lnTo>
                  <a:pt x="1559" y="66"/>
                </a:lnTo>
                <a:lnTo>
                  <a:pt x="1647" y="132"/>
                </a:lnTo>
                <a:lnTo>
                  <a:pt x="1757" y="220"/>
                </a:lnTo>
                <a:lnTo>
                  <a:pt x="1779" y="351"/>
                </a:lnTo>
                <a:lnTo>
                  <a:pt x="1779" y="439"/>
                </a:lnTo>
                <a:lnTo>
                  <a:pt x="1757" y="505"/>
                </a:lnTo>
                <a:lnTo>
                  <a:pt x="1713" y="637"/>
                </a:lnTo>
                <a:lnTo>
                  <a:pt x="1625" y="681"/>
                </a:lnTo>
                <a:lnTo>
                  <a:pt x="1494" y="725"/>
                </a:lnTo>
                <a:lnTo>
                  <a:pt x="1362" y="703"/>
                </a:lnTo>
                <a:lnTo>
                  <a:pt x="1230" y="681"/>
                </a:lnTo>
                <a:lnTo>
                  <a:pt x="1120" y="681"/>
                </a:lnTo>
                <a:lnTo>
                  <a:pt x="1010" y="659"/>
                </a:lnTo>
                <a:lnTo>
                  <a:pt x="879" y="659"/>
                </a:lnTo>
                <a:lnTo>
                  <a:pt x="769" y="659"/>
                </a:lnTo>
                <a:lnTo>
                  <a:pt x="681" y="681"/>
                </a:lnTo>
                <a:lnTo>
                  <a:pt x="593" y="681"/>
                </a:lnTo>
                <a:lnTo>
                  <a:pt x="505" y="681"/>
                </a:lnTo>
                <a:lnTo>
                  <a:pt x="418" y="703"/>
                </a:lnTo>
                <a:lnTo>
                  <a:pt x="330" y="703"/>
                </a:lnTo>
                <a:lnTo>
                  <a:pt x="264" y="703"/>
                </a:lnTo>
                <a:lnTo>
                  <a:pt x="198" y="681"/>
                </a:lnTo>
                <a:lnTo>
                  <a:pt x="154" y="659"/>
                </a:lnTo>
                <a:lnTo>
                  <a:pt x="132" y="637"/>
                </a:lnTo>
                <a:lnTo>
                  <a:pt x="110" y="615"/>
                </a:lnTo>
                <a:lnTo>
                  <a:pt x="66" y="571"/>
                </a:lnTo>
                <a:lnTo>
                  <a:pt x="22" y="483"/>
                </a:lnTo>
                <a:lnTo>
                  <a:pt x="0" y="417"/>
                </a:lnTo>
                <a:lnTo>
                  <a:pt x="0" y="351"/>
                </a:lnTo>
                <a:lnTo>
                  <a:pt x="0" y="286"/>
                </a:lnTo>
                <a:lnTo>
                  <a:pt x="22" y="220"/>
                </a:lnTo>
                <a:lnTo>
                  <a:pt x="44" y="176"/>
                </a:lnTo>
                <a:lnTo>
                  <a:pt x="44" y="176"/>
                </a:lnTo>
                <a:close/>
              </a:path>
            </a:pathLst>
          </a:custGeom>
          <a:solidFill>
            <a:srgbClr val="ffdc99"/>
          </a:solidFill>
          <a:ln w="50760">
            <a:solidFill>
              <a:srgbClr val="ffd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46960" y="3282840"/>
            <a:ext cx="979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2.8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eal-time ordering of event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82760" y="1654200"/>
            <a:ext cx="802944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8T21:59:47Z</dcterms:created>
  <dc:creator>George Coulouris</dc:creator>
  <dc:description/>
  <dc:language>en-US</dc:language>
  <cp:lastModifiedBy>George Coulouris</cp:lastModifiedBy>
  <cp:lastPrinted>2000-11-12T21:05:10Z</cp:lastPrinted>
  <dcterms:modified xsi:type="dcterms:W3CDTF">2005-05-20T13:14:43Z</dcterms:modified>
  <cp:revision>54</cp:revision>
  <dc:subject/>
  <dc:title>Figure 15.1 A distributed multimedia system</dc:title>
</cp:coreProperties>
</file>