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4919C-7D48-437F-86F8-7B3BA16A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4200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4643B-75F5-4176-BA4E-2BC31451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3460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4200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94200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6F414-4ADE-43E3-A9D9-31BB943D9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3460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3460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4200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94200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94200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4FEE9-931D-4B1B-9A18-B01A279BC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A5AA-099C-4C6F-AB7D-7C54B22FB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3460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2E98-12DE-4663-826B-2EEAF108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BDA5-E9B2-4AB1-A437-FCDDE549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3460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D833-4B11-41EC-9C23-E805FEA5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3C1D-BE92-4FCC-9E77-6B0A788C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04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CD56-6C7B-4CB3-A209-0B2794D1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3460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4200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8DFD-B665-4C0A-B76E-B3D2BBE1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3460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87E2D-71C0-4900-8597-63203554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3460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94200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97A2-19BC-41B3-B6CE-73284D24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3460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4200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550B-7904-4894-BC6A-E727A568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4200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F548-D72B-4D33-8DDE-ED4E0D09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3460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4200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94200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C7B5-0536-47A8-A04F-347F1D566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3460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3460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4200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94200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94200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8F1F-2D45-4930-98CB-EBF132CDB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A985A-BA50-4827-8C60-2EAE571F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3460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45679-CEEA-4E29-A9DB-4355AFE6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39B19-9081-43EC-AAB8-8E9F6C0E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04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EDC4B-3C06-4F09-B7C8-814A2584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3460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4200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EC915-3259-4FD1-887D-7D776D42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3460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94200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F0978-3222-4B6E-8011-9CB378E9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3460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4200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39C5E-658B-44DC-93D6-D9748A24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280" y="6400800"/>
            <a:ext cx="14734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620120" y="6400800"/>
            <a:ext cx="1015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EFDA-208D-4FBD-8FBE-A4CFB6FF74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1143000"/>
            <a:ext cx="815328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2145960" y="6400800"/>
            <a:ext cx="60260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4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Pearson Education 200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5C1F-C054-4E6D-B3D3-62C37FFA8A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90920"/>
            <a:ext cx="815328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lides for Chapter 14: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Distributed transactions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438280" y="28954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18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1800"/>
            </a:b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000"/>
            </a:b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0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Edition 4, © Addison-Wesley 2005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41360" y="2801880"/>
            <a:ext cx="187812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"/>
          <p:cNvGrpSpPr/>
          <p:nvPr/>
        </p:nvGrpSpPr>
        <p:grpSpPr>
          <a:xfrm>
            <a:off x="471600" y="2246400"/>
            <a:ext cx="7846920" cy="672480"/>
            <a:chOff x="471600" y="2246400"/>
            <a:chExt cx="7846920" cy="672480"/>
          </a:xfrm>
        </p:grpSpPr>
        <p:sp>
          <p:nvSpPr>
            <p:cNvPr id="488" name=""/>
            <p:cNvSpPr/>
            <p:nvPr/>
          </p:nvSpPr>
          <p:spPr>
            <a:xfrm>
              <a:off x="3951360" y="2246400"/>
              <a:ext cx="4367160" cy="6724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71600" y="2246400"/>
              <a:ext cx="4367160" cy="6724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4.9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Information held by coordinators of nested transac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13880" y="2347920"/>
            <a:ext cx="1451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Coordinator of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13520" y="2641680"/>
            <a:ext cx="1096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341800" y="2347920"/>
            <a:ext cx="535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343600" y="2641680"/>
            <a:ext cx="1189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918240" y="2347920"/>
            <a:ext cx="1098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Participa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647320" y="2347920"/>
            <a:ext cx="1123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Provision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646960" y="2641680"/>
            <a:ext cx="1064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commit lis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056720" y="2347920"/>
            <a:ext cx="904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Abort lis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12800" y="29541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365920" y="295416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493360" y="303228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616120" y="2954160"/>
            <a:ext cx="244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, 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871000" y="303228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918600" y="2954160"/>
            <a:ext cx="320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772600" y="295416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901480" y="303228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24600" y="2954160"/>
            <a:ext cx="244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, 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289200" y="303228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080840" y="295416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18000" y="303228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421400" y="2954160"/>
            <a:ext cx="244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, 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78080" y="303228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37280" y="324792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866160" y="332568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365920" y="324792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501640" y="332568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706480" y="3247920"/>
            <a:ext cx="244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, 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971440" y="332568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918600" y="3247920"/>
            <a:ext cx="320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772600" y="324792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901480" y="332568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24600" y="3247920"/>
            <a:ext cx="244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, 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289200" y="332568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080840" y="324792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218000" y="332568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37280" y="354168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66160" y="3619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365920" y="354168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501640" y="361944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2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706480" y="3541680"/>
            <a:ext cx="244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, 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971440" y="361944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2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917520" y="3541680"/>
            <a:ext cx="1186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no (aborted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080840" y="354168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209720" y="3619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37280" y="383544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74440" y="391320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917520" y="3835440"/>
            <a:ext cx="1186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no (aborted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080840" y="383544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218000" y="391320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37280" y="412920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74440" y="420696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077840" y="4129200"/>
            <a:ext cx="244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, 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344240" y="420696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2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942360" y="412920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77720" y="420696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242600" y="4129200"/>
            <a:ext cx="738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but no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968000" y="410040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105160" y="417816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2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772600" y="412920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909760" y="420696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2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113520" y="4129200"/>
            <a:ext cx="244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, 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378120" y="420696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7280" y="442908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74440" y="450684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2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33720" y="4429080"/>
            <a:ext cx="1849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no (parent aborted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772600" y="442908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909760" y="450684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2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11200" y="2233440"/>
            <a:ext cx="7711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11200" y="4756320"/>
            <a:ext cx="7711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4.10</a:t>
            </a:r>
            <a:br>
              <a:rPr sz="2000"/>
            </a:b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canCommit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?  for hierarchic two-phase commit protocol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79520" y="1978200"/>
            <a:ext cx="795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anCommit?(trans, subTrans) -&gt; Yes /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ll a coordinator to ask coordinator of child subtransaction whether it can commit a subtransactio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ubTra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e first argumen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ra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the transaction identifier of top-level transaction. Participant replies with its vot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4.11</a:t>
            </a:r>
            <a:br>
              <a:rPr sz="2000"/>
            </a:b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canCommit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? for flat two-phase commit protoco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07880" y="2536920"/>
            <a:ext cx="7750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anCommit?(trans, abortList) -&gt; Yes /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ll from coordinator to participant to ask whether it can commit a transaction. Participant replies with it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ot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4141800" y="1738440"/>
            <a:ext cx="4367160" cy="43164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62040" y="1738440"/>
            <a:ext cx="4367160" cy="43164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4.12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Interleavings of transactions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622520" y="1871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274640" y="187164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51240" y="1871640"/>
            <a:ext cx="19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24240" y="2282760"/>
            <a:ext cx="1215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.deposit(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181600" y="2255760"/>
            <a:ext cx="45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625840" y="2255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378600" y="2670120"/>
            <a:ext cx="1215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.deposit(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958280" y="2644920"/>
            <a:ext cx="45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401800" y="264492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585200" y="2522520"/>
            <a:ext cx="1908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24240" y="3059280"/>
            <a:ext cx="1215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.deposit(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181600" y="3032280"/>
            <a:ext cx="45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625480" y="30322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958280" y="2962440"/>
            <a:ext cx="22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192640" y="29624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152800" y="2911320"/>
            <a:ext cx="20520" cy="3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585200" y="2911320"/>
            <a:ext cx="19080" cy="3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181600" y="3332160"/>
            <a:ext cx="22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415960" y="333216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585200" y="3298680"/>
            <a:ext cx="19080" cy="2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156360" y="3633840"/>
            <a:ext cx="12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.deposit(3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715880" y="3606840"/>
            <a:ext cx="45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159400" y="3606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686720" y="3484440"/>
            <a:ext cx="19080" cy="38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24600" y="4021200"/>
            <a:ext cx="141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.withdraw(3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180520" y="3994200"/>
            <a:ext cx="67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it 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57680" y="3994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715880" y="3924360"/>
            <a:ext cx="22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948440" y="39243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86720" y="3873600"/>
            <a:ext cx="19080" cy="3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378600" y="4408560"/>
            <a:ext cx="140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.withdraw(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956840" y="4381560"/>
            <a:ext cx="73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it a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699160" y="43815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686720" y="4260960"/>
            <a:ext cx="19080" cy="3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157080" y="4797360"/>
            <a:ext cx="141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.withdraw(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714800" y="4770360"/>
            <a:ext cx="67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it 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91240" y="477036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254320" y="4648320"/>
            <a:ext cx="2052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686720" y="4648320"/>
            <a:ext cx="1908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85800" y="1739880"/>
            <a:ext cx="781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11360" y="5384880"/>
            <a:ext cx="786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1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istributed deadlock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644400" y="1682640"/>
            <a:ext cx="7853040" cy="4254480"/>
            <a:chOff x="644400" y="1682640"/>
            <a:chExt cx="7853040" cy="4254480"/>
          </a:xfrm>
        </p:grpSpPr>
        <p:sp>
          <p:nvSpPr>
            <p:cNvPr id="610" name=""/>
            <p:cNvSpPr/>
            <p:nvPr/>
          </p:nvSpPr>
          <p:spPr>
            <a:xfrm>
              <a:off x="644400" y="2571840"/>
              <a:ext cx="1101960" cy="11080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848680" y="4830840"/>
              <a:ext cx="1101960" cy="1106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30040" y="2550960"/>
              <a:ext cx="1101960" cy="11066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84520" y="2768760"/>
              <a:ext cx="180360" cy="303120"/>
            </a:xfrm>
            <a:custGeom>
              <a:avLst/>
              <a:gdLst>
                <a:gd name="textAreaLeft" fmla="*/ 24840 w 180360"/>
                <a:gd name="textAreaRight" fmla="*/ 155520 w 180360"/>
                <a:gd name="textAreaTop" fmla="*/ 24840 h 303120"/>
                <a:gd name="textAreaBottom" fmla="*/ 278280 h 303120"/>
              </a:gdLst>
              <a:ahLst/>
              <a:rect l="textAreaLeft" t="textAreaTop" r="textAreaRight" b="textAreaBottom"/>
              <a:pathLst>
                <a:path w="21600" h="36273">
                  <a:moveTo>
                    <a:pt x="10185" y="0"/>
                  </a:moveTo>
                  <a:arcTo wR="10185" hR="10185" stAng="16200000" swAng="-5400000"/>
                  <a:lnTo>
                    <a:pt x="0" y="26088"/>
                  </a:lnTo>
                  <a:arcTo wR="10185" hR="10185" stAng="10800000" swAng="-5400000"/>
                  <a:lnTo>
                    <a:pt x="11415" y="36273"/>
                  </a:lnTo>
                  <a:arcTo wR="10185" hR="10185" stAng="5400000" swAng="-5400000"/>
                  <a:lnTo>
                    <a:pt x="21600" y="10185"/>
                  </a:lnTo>
                  <a:arcTo wR="10185" hR="10185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84520" y="2768760"/>
              <a:ext cx="200880" cy="325440"/>
            </a:xfrm>
            <a:custGeom>
              <a:avLst/>
              <a:gdLst>
                <a:gd name="textAreaLeft" fmla="*/ 24840 w 200880"/>
                <a:gd name="textAreaRight" fmla="*/ 176040 w 200880"/>
                <a:gd name="textAreaTop" fmla="*/ 24840 h 325440"/>
                <a:gd name="textAreaBottom" fmla="*/ 300600 h 325440"/>
              </a:gdLst>
              <a:ahLst/>
              <a:rect l="textAreaLeft" t="textAreaTop" r="textAreaRight" b="textAreaBottom"/>
              <a:pathLst>
                <a:path w="21600" h="34970">
                  <a:moveTo>
                    <a:pt x="9145" y="0"/>
                  </a:moveTo>
                  <a:arcTo wR="9145" hR="9145" stAng="16200000" swAng="-5400000"/>
                  <a:lnTo>
                    <a:pt x="0" y="25825"/>
                  </a:lnTo>
                  <a:arcTo wR="9145" hR="9145" stAng="10800000" swAng="-5400000"/>
                  <a:lnTo>
                    <a:pt x="12455" y="34970"/>
                  </a:lnTo>
                  <a:arcTo wR="9145" hR="9145" stAng="5400000" swAng="-5400000"/>
                  <a:lnTo>
                    <a:pt x="21600" y="9145"/>
                  </a:lnTo>
                  <a:arcTo wR="9145" hR="9145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903600" y="2941560"/>
              <a:ext cx="160920" cy="1303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03600" y="2941560"/>
              <a:ext cx="181440" cy="15264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84520" y="2768760"/>
              <a:ext cx="200880" cy="325440"/>
            </a:xfrm>
            <a:custGeom>
              <a:avLst/>
              <a:gdLst>
                <a:gd name="textAreaLeft" fmla="*/ 24840 w 200880"/>
                <a:gd name="textAreaRight" fmla="*/ 176040 w 200880"/>
                <a:gd name="textAreaTop" fmla="*/ 24840 h 325440"/>
                <a:gd name="textAreaBottom" fmla="*/ 300600 h 325440"/>
              </a:gdLst>
              <a:ahLst/>
              <a:rect l="textAreaLeft" t="textAreaTop" r="textAreaRight" b="textAreaBottom"/>
              <a:pathLst>
                <a:path w="21600" h="34970">
                  <a:moveTo>
                    <a:pt x="9145" y="0"/>
                  </a:moveTo>
                  <a:arcTo wR="9145" hR="9145" stAng="16200000" swAng="-5400000"/>
                  <a:lnTo>
                    <a:pt x="0" y="25825"/>
                  </a:lnTo>
                  <a:arcTo wR="9145" hR="9145" stAng="10800000" swAng="-5400000"/>
                  <a:lnTo>
                    <a:pt x="12455" y="34970"/>
                  </a:lnTo>
                  <a:arcTo wR="9145" hR="9145" stAng="5400000" swAng="-5400000"/>
                  <a:lnTo>
                    <a:pt x="21600" y="9145"/>
                  </a:lnTo>
                  <a:arcTo wR="9145" hR="9145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84520" y="2919240"/>
              <a:ext cx="1803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405080" y="2768760"/>
              <a:ext cx="180000" cy="303120"/>
            </a:xfrm>
            <a:custGeom>
              <a:avLst/>
              <a:gdLst>
                <a:gd name="textAreaLeft" fmla="*/ 24840 w 180000"/>
                <a:gd name="textAreaRight" fmla="*/ 155160 w 180000"/>
                <a:gd name="textAreaTop" fmla="*/ 24840 h 303120"/>
                <a:gd name="textAreaBottom" fmla="*/ 278280 h 303120"/>
              </a:gdLst>
              <a:ahLst/>
              <a:rect l="textAreaLeft" t="textAreaTop" r="textAreaRight" b="textAreaBottom"/>
              <a:pathLst>
                <a:path w="21600" h="36345">
                  <a:moveTo>
                    <a:pt x="10185" y="0"/>
                  </a:moveTo>
                  <a:arcTo wR="10185" hR="10185" stAng="16200000" swAng="-5400000"/>
                  <a:lnTo>
                    <a:pt x="0" y="26160"/>
                  </a:lnTo>
                  <a:arcTo wR="10185" hR="10185" stAng="10800000" swAng="-5400000"/>
                  <a:lnTo>
                    <a:pt x="11415" y="36345"/>
                  </a:lnTo>
                  <a:arcTo wR="10185" hR="10185" stAng="5400000" swAng="-5400000"/>
                  <a:lnTo>
                    <a:pt x="21600" y="10185"/>
                  </a:lnTo>
                  <a:arcTo wR="10185" hR="10185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405080" y="2768760"/>
              <a:ext cx="200520" cy="325440"/>
            </a:xfrm>
            <a:custGeom>
              <a:avLst/>
              <a:gdLst>
                <a:gd name="textAreaLeft" fmla="*/ 24840 w 200520"/>
                <a:gd name="textAreaRight" fmla="*/ 175680 w 200520"/>
                <a:gd name="textAreaTop" fmla="*/ 24840 h 325440"/>
                <a:gd name="textAreaBottom" fmla="*/ 300600 h 325440"/>
              </a:gdLst>
              <a:ahLst/>
              <a:rect l="textAreaLeft" t="textAreaTop" r="textAreaRight" b="textAreaBottom"/>
              <a:pathLst>
                <a:path w="21600" h="35032">
                  <a:moveTo>
                    <a:pt x="9145" y="0"/>
                  </a:moveTo>
                  <a:arcTo wR="9145" hR="9145" stAng="16200000" swAng="-5400000"/>
                  <a:lnTo>
                    <a:pt x="0" y="25887"/>
                  </a:lnTo>
                  <a:arcTo wR="9145" hR="9145" stAng="10800000" swAng="-5400000"/>
                  <a:lnTo>
                    <a:pt x="12455" y="35032"/>
                  </a:lnTo>
                  <a:arcTo wR="9145" hR="9145" stAng="5400000" swAng="-5400000"/>
                  <a:lnTo>
                    <a:pt x="21600" y="9145"/>
                  </a:lnTo>
                  <a:arcTo wR="9145" hR="9145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405080" y="2941560"/>
              <a:ext cx="180000" cy="1303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405080" y="2941560"/>
              <a:ext cx="200520" cy="15264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405080" y="2768760"/>
              <a:ext cx="200520" cy="325440"/>
            </a:xfrm>
            <a:custGeom>
              <a:avLst/>
              <a:gdLst>
                <a:gd name="textAreaLeft" fmla="*/ 24840 w 200520"/>
                <a:gd name="textAreaRight" fmla="*/ 175680 w 200520"/>
                <a:gd name="textAreaTop" fmla="*/ 24840 h 325440"/>
                <a:gd name="textAreaBottom" fmla="*/ 300600 h 325440"/>
              </a:gdLst>
              <a:ahLst/>
              <a:rect l="textAreaLeft" t="textAreaTop" r="textAreaRight" b="textAreaBottom"/>
              <a:pathLst>
                <a:path w="21600" h="35032">
                  <a:moveTo>
                    <a:pt x="9145" y="0"/>
                  </a:moveTo>
                  <a:arcTo wR="9145" hR="9145" stAng="16200000" swAng="-5400000"/>
                  <a:lnTo>
                    <a:pt x="0" y="25887"/>
                  </a:lnTo>
                  <a:arcTo wR="9145" hR="9145" stAng="10800000" swAng="-5400000"/>
                  <a:lnTo>
                    <a:pt x="12455" y="35032"/>
                  </a:lnTo>
                  <a:arcTo wR="9145" hR="9145" stAng="5400000" swAng="-5400000"/>
                  <a:lnTo>
                    <a:pt x="21600" y="9145"/>
                  </a:lnTo>
                  <a:arcTo wR="9145" hR="9145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405080" y="2919240"/>
              <a:ext cx="1800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130640" y="2746440"/>
              <a:ext cx="180000" cy="282600"/>
            </a:xfrm>
            <a:custGeom>
              <a:avLst/>
              <a:gdLst>
                <a:gd name="textAreaLeft" fmla="*/ 24840 w 180000"/>
                <a:gd name="textAreaRight" fmla="*/ 155160 w 180000"/>
                <a:gd name="textAreaTop" fmla="*/ 24840 h 282600"/>
                <a:gd name="textAreaBottom" fmla="*/ 257760 h 282600"/>
              </a:gdLst>
              <a:ahLst/>
              <a:rect l="textAreaLeft" t="textAreaTop" r="textAreaRight" b="textAreaBottom"/>
              <a:pathLst>
                <a:path w="21600" h="33887">
                  <a:moveTo>
                    <a:pt x="10185" y="0"/>
                  </a:moveTo>
                  <a:arcTo wR="10185" hR="10185" stAng="16200000" swAng="-5400000"/>
                  <a:lnTo>
                    <a:pt x="0" y="23702"/>
                  </a:lnTo>
                  <a:arcTo wR="10185" hR="10185" stAng="10800000" swAng="-5400000"/>
                  <a:lnTo>
                    <a:pt x="11415" y="33887"/>
                  </a:lnTo>
                  <a:arcTo wR="10185" hR="10185" stAng="5400000" swAng="-5400000"/>
                  <a:lnTo>
                    <a:pt x="21600" y="10185"/>
                  </a:lnTo>
                  <a:arcTo wR="10185" hR="10185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130640" y="2746440"/>
              <a:ext cx="200520" cy="303120"/>
            </a:xfrm>
            <a:custGeom>
              <a:avLst/>
              <a:gdLst>
                <a:gd name="textAreaLeft" fmla="*/ 24840 w 200520"/>
                <a:gd name="textAreaRight" fmla="*/ 175680 w 200520"/>
                <a:gd name="textAreaTop" fmla="*/ 24840 h 303120"/>
                <a:gd name="textAreaBottom" fmla="*/ 278280 h 303120"/>
              </a:gdLst>
              <a:ahLst/>
              <a:rect l="textAreaLeft" t="textAreaTop" r="textAreaRight" b="textAreaBottom"/>
              <a:pathLst>
                <a:path w="21600" h="32632">
                  <a:moveTo>
                    <a:pt x="9145" y="0"/>
                  </a:moveTo>
                  <a:arcTo wR="9145" hR="9145" stAng="16200000" swAng="-5400000"/>
                  <a:lnTo>
                    <a:pt x="0" y="23487"/>
                  </a:lnTo>
                  <a:arcTo wR="9145" hR="9145" stAng="10800000" swAng="-5400000"/>
                  <a:lnTo>
                    <a:pt x="12455" y="32632"/>
                  </a:lnTo>
                  <a:arcTo wR="9145" hR="9145" stAng="5400000" swAng="-5400000"/>
                  <a:lnTo>
                    <a:pt x="21600" y="9145"/>
                  </a:lnTo>
                  <a:arcTo wR="9145" hR="9145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130640" y="2898720"/>
              <a:ext cx="180000" cy="1508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130640" y="2898720"/>
              <a:ext cx="200520" cy="17316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130640" y="2746440"/>
              <a:ext cx="200520" cy="303120"/>
            </a:xfrm>
            <a:custGeom>
              <a:avLst/>
              <a:gdLst>
                <a:gd name="textAreaLeft" fmla="*/ 24840 w 200520"/>
                <a:gd name="textAreaRight" fmla="*/ 175680 w 200520"/>
                <a:gd name="textAreaTop" fmla="*/ 24840 h 303120"/>
                <a:gd name="textAreaBottom" fmla="*/ 278280 h 303120"/>
              </a:gdLst>
              <a:ahLst/>
              <a:rect l="textAreaLeft" t="textAreaTop" r="textAreaRight" b="textAreaBottom"/>
              <a:pathLst>
                <a:path w="21600" h="32632">
                  <a:moveTo>
                    <a:pt x="9145" y="0"/>
                  </a:moveTo>
                  <a:arcTo wR="9145" hR="9145" stAng="16200000" swAng="-5400000"/>
                  <a:lnTo>
                    <a:pt x="0" y="23487"/>
                  </a:lnTo>
                  <a:arcTo wR="9145" hR="9145" stAng="10800000" swAng="-5400000"/>
                  <a:lnTo>
                    <a:pt x="12455" y="32632"/>
                  </a:lnTo>
                  <a:arcTo wR="9145" hR="9145" stAng="5400000" swAng="-5400000"/>
                  <a:lnTo>
                    <a:pt x="21600" y="9145"/>
                  </a:lnTo>
                  <a:arcTo wR="9145" hR="9145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130640" y="2898720"/>
              <a:ext cx="1800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289680" y="5264280"/>
              <a:ext cx="180000" cy="282600"/>
            </a:xfrm>
            <a:custGeom>
              <a:avLst/>
              <a:gdLst>
                <a:gd name="textAreaLeft" fmla="*/ 24840 w 180000"/>
                <a:gd name="textAreaRight" fmla="*/ 155160 w 180000"/>
                <a:gd name="textAreaTop" fmla="*/ 24840 h 282600"/>
                <a:gd name="textAreaBottom" fmla="*/ 257760 h 282600"/>
              </a:gdLst>
              <a:ahLst/>
              <a:rect l="textAreaLeft" t="textAreaTop" r="textAreaRight" b="textAreaBottom"/>
              <a:pathLst>
                <a:path w="21600" h="33887">
                  <a:moveTo>
                    <a:pt x="10185" y="0"/>
                  </a:moveTo>
                  <a:arcTo wR="10185" hR="10185" stAng="16200000" swAng="-5400000"/>
                  <a:lnTo>
                    <a:pt x="0" y="23702"/>
                  </a:lnTo>
                  <a:arcTo wR="10185" hR="10185" stAng="10800000" swAng="-5400000"/>
                  <a:lnTo>
                    <a:pt x="11415" y="33887"/>
                  </a:lnTo>
                  <a:arcTo wR="10185" hR="10185" stAng="5400000" swAng="-5400000"/>
                  <a:lnTo>
                    <a:pt x="21600" y="10185"/>
                  </a:lnTo>
                  <a:arcTo wR="10185" hR="10185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89680" y="5264280"/>
              <a:ext cx="200520" cy="304560"/>
            </a:xfrm>
            <a:custGeom>
              <a:avLst/>
              <a:gdLst>
                <a:gd name="textAreaLeft" fmla="*/ 24840 w 200520"/>
                <a:gd name="textAreaRight" fmla="*/ 175680 w 200520"/>
                <a:gd name="textAreaTop" fmla="*/ 24840 h 304560"/>
                <a:gd name="textAreaBottom" fmla="*/ 279720 h 304560"/>
              </a:gdLst>
              <a:ahLst/>
              <a:rect l="textAreaLeft" t="textAreaTop" r="textAreaRight" b="textAreaBottom"/>
              <a:pathLst>
                <a:path w="21600" h="32787">
                  <a:moveTo>
                    <a:pt x="9145" y="0"/>
                  </a:moveTo>
                  <a:arcTo wR="9145" hR="9145" stAng="16200000" swAng="-5400000"/>
                  <a:lnTo>
                    <a:pt x="0" y="23642"/>
                  </a:lnTo>
                  <a:arcTo wR="9145" hR="9145" stAng="10800000" swAng="-5400000"/>
                  <a:lnTo>
                    <a:pt x="12455" y="32787"/>
                  </a:lnTo>
                  <a:arcTo wR="9145" hR="9145" stAng="5400000" swAng="-5400000"/>
                  <a:lnTo>
                    <a:pt x="21600" y="9145"/>
                  </a:lnTo>
                  <a:arcTo wR="9145" hR="9145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289680" y="5416560"/>
              <a:ext cx="180000" cy="1303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289680" y="5416560"/>
              <a:ext cx="200520" cy="15228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289680" y="5264280"/>
              <a:ext cx="200520" cy="304560"/>
            </a:xfrm>
            <a:custGeom>
              <a:avLst/>
              <a:gdLst>
                <a:gd name="textAreaLeft" fmla="*/ 24840 w 200520"/>
                <a:gd name="textAreaRight" fmla="*/ 175680 w 200520"/>
                <a:gd name="textAreaTop" fmla="*/ 24840 h 304560"/>
                <a:gd name="textAreaBottom" fmla="*/ 279720 h 304560"/>
              </a:gdLst>
              <a:ahLst/>
              <a:rect l="textAreaLeft" t="textAreaTop" r="textAreaRight" b="textAreaBottom"/>
              <a:pathLst>
                <a:path w="21600" h="32787">
                  <a:moveTo>
                    <a:pt x="9145" y="0"/>
                  </a:moveTo>
                  <a:arcTo wR="9145" hR="9145" stAng="16200000" swAng="-5400000"/>
                  <a:lnTo>
                    <a:pt x="0" y="23642"/>
                  </a:lnTo>
                  <a:arcTo wR="9145" hR="9145" stAng="10800000" swAng="-5400000"/>
                  <a:lnTo>
                    <a:pt x="12455" y="32787"/>
                  </a:lnTo>
                  <a:arcTo wR="9145" hR="9145" stAng="5400000" swAng="-5400000"/>
                  <a:lnTo>
                    <a:pt x="21600" y="9145"/>
                  </a:lnTo>
                  <a:arcTo wR="9145" hR="9145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289680" y="5394240"/>
              <a:ext cx="1800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209240" y="2820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206440" y="1768320"/>
              <a:ext cx="100800" cy="130320"/>
            </a:xfrm>
            <a:custGeom>
              <a:avLst/>
              <a:gdLst/>
              <a:ahLst/>
              <a:rect l="l" t="t" r="r" b="b"/>
              <a:pathLst>
                <a:path w="69" h="82">
                  <a:moveTo>
                    <a:pt x="0" y="41"/>
                  </a:moveTo>
                  <a:lnTo>
                    <a:pt x="0" y="0"/>
                  </a:lnTo>
                  <a:lnTo>
                    <a:pt x="69" y="41"/>
                  </a:lnTo>
                  <a:lnTo>
                    <a:pt x="0" y="82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965160" y="1833480"/>
              <a:ext cx="1240920" cy="912960"/>
            </a:xfrm>
            <a:custGeom>
              <a:avLst/>
              <a:gdLst/>
              <a:ahLst/>
              <a:rect l="l" t="t" r="r" b="b"/>
              <a:pathLst>
                <a:path w="847" h="575">
                  <a:moveTo>
                    <a:pt x="0" y="575"/>
                  </a:moveTo>
                  <a:lnTo>
                    <a:pt x="13" y="479"/>
                  </a:lnTo>
                  <a:lnTo>
                    <a:pt x="54" y="370"/>
                  </a:lnTo>
                  <a:lnTo>
                    <a:pt x="136" y="274"/>
                  </a:lnTo>
                  <a:lnTo>
                    <a:pt x="232" y="192"/>
                  </a:lnTo>
                  <a:lnTo>
                    <a:pt x="506" y="69"/>
                  </a:lnTo>
                  <a:lnTo>
                    <a:pt x="847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449160" y="5351400"/>
              <a:ext cx="101160" cy="130320"/>
            </a:xfrm>
            <a:custGeom>
              <a:avLst/>
              <a:gdLst/>
              <a:ahLst/>
              <a:rect l="l" t="t" r="r" b="b"/>
              <a:pathLst>
                <a:path w="69" h="82">
                  <a:moveTo>
                    <a:pt x="69" y="41"/>
                  </a:moveTo>
                  <a:lnTo>
                    <a:pt x="69" y="82"/>
                  </a:lnTo>
                  <a:lnTo>
                    <a:pt x="0" y="41"/>
                  </a:lnTo>
                  <a:lnTo>
                    <a:pt x="69" y="0"/>
                  </a:lnTo>
                  <a:lnTo>
                    <a:pt x="69" y="4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569400" y="4656240"/>
              <a:ext cx="1983960" cy="760320"/>
            </a:xfrm>
            <a:custGeom>
              <a:avLst/>
              <a:gdLst/>
              <a:ahLst/>
              <a:rect l="l" t="t" r="r" b="b"/>
              <a:pathLst>
                <a:path w="1354" h="479">
                  <a:moveTo>
                    <a:pt x="1354" y="0"/>
                  </a:moveTo>
                  <a:lnTo>
                    <a:pt x="1327" y="82"/>
                  </a:lnTo>
                  <a:lnTo>
                    <a:pt x="1259" y="178"/>
                  </a:lnTo>
                  <a:lnTo>
                    <a:pt x="1122" y="260"/>
                  </a:lnTo>
                  <a:lnTo>
                    <a:pt x="958" y="329"/>
                  </a:lnTo>
                  <a:lnTo>
                    <a:pt x="534" y="438"/>
                  </a:lnTo>
                  <a:lnTo>
                    <a:pt x="0" y="479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87120" y="4635360"/>
              <a:ext cx="11988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41" y="68"/>
                  </a:moveTo>
                  <a:lnTo>
                    <a:pt x="0" y="82"/>
                  </a:lnTo>
                  <a:lnTo>
                    <a:pt x="13" y="0"/>
                  </a:lnTo>
                  <a:lnTo>
                    <a:pt x="82" y="54"/>
                  </a:lnTo>
                  <a:lnTo>
                    <a:pt x="41" y="6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947240" y="4765680"/>
              <a:ext cx="1302480" cy="628560"/>
            </a:xfrm>
            <a:custGeom>
              <a:avLst/>
              <a:gdLst/>
              <a:ahLst/>
              <a:rect l="l" t="t" r="r" b="b"/>
              <a:pathLst>
                <a:path w="889" h="396">
                  <a:moveTo>
                    <a:pt x="889" y="396"/>
                  </a:moveTo>
                  <a:lnTo>
                    <a:pt x="588" y="369"/>
                  </a:lnTo>
                  <a:lnTo>
                    <a:pt x="328" y="287"/>
                  </a:lnTo>
                  <a:lnTo>
                    <a:pt x="123" y="164"/>
                  </a:lnTo>
                  <a:lnTo>
                    <a:pt x="54" y="82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925360" y="2048040"/>
              <a:ext cx="70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s f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62120" y="407988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963360" y="4297320"/>
              <a:ext cx="20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382400" y="2117880"/>
              <a:ext cx="60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ld b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070600" y="3819600"/>
              <a:ext cx="36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l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210280" y="403704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004560" y="49705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288320" y="4957920"/>
              <a:ext cx="70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s f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929600" y="5173560"/>
              <a:ext cx="36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l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089800" y="539100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130640" y="2593800"/>
              <a:ext cx="12024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41" y="14"/>
                  </a:moveTo>
                  <a:lnTo>
                    <a:pt x="82" y="0"/>
                  </a:lnTo>
                  <a:lnTo>
                    <a:pt x="69" y="82"/>
                  </a:lnTo>
                  <a:lnTo>
                    <a:pt x="0" y="27"/>
                  </a:lnTo>
                  <a:lnTo>
                    <a:pt x="41" y="14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628360" y="1855800"/>
              <a:ext cx="1562040" cy="738000"/>
            </a:xfrm>
            <a:custGeom>
              <a:avLst/>
              <a:gdLst/>
              <a:ahLst/>
              <a:rect l="l" t="t" r="r" b="b"/>
              <a:pathLst>
                <a:path w="1066" h="465">
                  <a:moveTo>
                    <a:pt x="0" y="0"/>
                  </a:moveTo>
                  <a:lnTo>
                    <a:pt x="355" y="27"/>
                  </a:lnTo>
                  <a:lnTo>
                    <a:pt x="683" y="123"/>
                  </a:lnTo>
                  <a:lnTo>
                    <a:pt x="930" y="274"/>
                  </a:lnTo>
                  <a:lnTo>
                    <a:pt x="1012" y="369"/>
                  </a:lnTo>
                  <a:lnTo>
                    <a:pt x="1066" y="465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454000" y="4265640"/>
              <a:ext cx="120240" cy="109440"/>
            </a:xfrm>
            <a:custGeom>
              <a:avLst/>
              <a:gdLst/>
              <a:ahLst/>
              <a:rect l="l" t="t" r="r" b="b"/>
              <a:pathLst>
                <a:path w="82" h="69">
                  <a:moveTo>
                    <a:pt x="41" y="0"/>
                  </a:moveTo>
                  <a:lnTo>
                    <a:pt x="82" y="0"/>
                  </a:lnTo>
                  <a:lnTo>
                    <a:pt x="55" y="69"/>
                  </a:lnTo>
                  <a:lnTo>
                    <a:pt x="0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352040" y="2919240"/>
              <a:ext cx="1162080" cy="1346400"/>
            </a:xfrm>
            <a:custGeom>
              <a:avLst/>
              <a:gdLst/>
              <a:ahLst/>
              <a:rect l="l" t="t" r="r" b="b"/>
              <a:pathLst>
                <a:path w="793" h="848">
                  <a:moveTo>
                    <a:pt x="0" y="0"/>
                  </a:moveTo>
                  <a:lnTo>
                    <a:pt x="150" y="14"/>
                  </a:lnTo>
                  <a:lnTo>
                    <a:pt x="287" y="69"/>
                  </a:lnTo>
                  <a:lnTo>
                    <a:pt x="410" y="137"/>
                  </a:lnTo>
                  <a:lnTo>
                    <a:pt x="533" y="246"/>
                  </a:lnTo>
                  <a:lnTo>
                    <a:pt x="629" y="370"/>
                  </a:lnTo>
                  <a:lnTo>
                    <a:pt x="711" y="506"/>
                  </a:lnTo>
                  <a:lnTo>
                    <a:pt x="766" y="670"/>
                  </a:lnTo>
                  <a:lnTo>
                    <a:pt x="793" y="84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924480" y="3179880"/>
              <a:ext cx="119880" cy="109440"/>
            </a:xfrm>
            <a:custGeom>
              <a:avLst/>
              <a:gdLst/>
              <a:ahLst/>
              <a:rect l="l" t="t" r="r" b="b"/>
              <a:pathLst>
                <a:path w="82" h="69">
                  <a:moveTo>
                    <a:pt x="41" y="69"/>
                  </a:moveTo>
                  <a:lnTo>
                    <a:pt x="0" y="69"/>
                  </a:lnTo>
                  <a:lnTo>
                    <a:pt x="41" y="0"/>
                  </a:lnTo>
                  <a:lnTo>
                    <a:pt x="82" y="69"/>
                  </a:lnTo>
                  <a:lnTo>
                    <a:pt x="41" y="69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984240" y="3309840"/>
              <a:ext cx="821880" cy="1150920"/>
            </a:xfrm>
            <a:custGeom>
              <a:avLst/>
              <a:gdLst/>
              <a:ahLst/>
              <a:rect l="l" t="t" r="r" b="b"/>
              <a:pathLst>
                <a:path w="561" h="725">
                  <a:moveTo>
                    <a:pt x="561" y="725"/>
                  </a:moveTo>
                  <a:lnTo>
                    <a:pt x="451" y="712"/>
                  </a:lnTo>
                  <a:lnTo>
                    <a:pt x="356" y="671"/>
                  </a:lnTo>
                  <a:lnTo>
                    <a:pt x="274" y="616"/>
                  </a:lnTo>
                  <a:lnTo>
                    <a:pt x="192" y="520"/>
                  </a:lnTo>
                  <a:lnTo>
                    <a:pt x="69" y="288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273640" y="4505400"/>
              <a:ext cx="9936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0" y="27"/>
                  </a:moveTo>
                  <a:lnTo>
                    <a:pt x="0" y="0"/>
                  </a:lnTo>
                  <a:lnTo>
                    <a:pt x="68" y="27"/>
                  </a:lnTo>
                  <a:lnTo>
                    <a:pt x="0" y="68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485360" y="3049560"/>
              <a:ext cx="3788280" cy="1498680"/>
            </a:xfrm>
            <a:custGeom>
              <a:avLst/>
              <a:gdLst/>
              <a:ahLst/>
              <a:rect l="l" t="t" r="r" b="b"/>
              <a:pathLst>
                <a:path w="2585" h="944">
                  <a:moveTo>
                    <a:pt x="2585" y="944"/>
                  </a:moveTo>
                  <a:lnTo>
                    <a:pt x="2065" y="930"/>
                  </a:lnTo>
                  <a:lnTo>
                    <a:pt x="1573" y="876"/>
                  </a:lnTo>
                  <a:lnTo>
                    <a:pt x="1135" y="780"/>
                  </a:lnTo>
                  <a:lnTo>
                    <a:pt x="752" y="670"/>
                  </a:lnTo>
                  <a:lnTo>
                    <a:pt x="438" y="520"/>
                  </a:lnTo>
                  <a:lnTo>
                    <a:pt x="205" y="370"/>
                  </a:lnTo>
                  <a:lnTo>
                    <a:pt x="55" y="192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330080" y="3429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347640" y="57085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143720" y="34513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967480" y="3994200"/>
              <a:ext cx="60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ld b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326680" y="1682640"/>
              <a:ext cx="26064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326680" y="1682640"/>
              <a:ext cx="280800" cy="303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86440" y="174312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393880" y="4395960"/>
              <a:ext cx="260640" cy="2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393880" y="4395960"/>
              <a:ext cx="279720" cy="282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472720" y="44355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766880" y="4352760"/>
              <a:ext cx="259200" cy="26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766880" y="4352760"/>
              <a:ext cx="279720" cy="282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864800" y="4414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923640" y="2863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81120" y="2843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314560" y="4245120"/>
              <a:ext cx="109440" cy="98280"/>
            </a:xfrm>
            <a:custGeom>
              <a:avLst/>
              <a:gdLst/>
              <a:ahLst/>
              <a:rect l="l" t="t" r="r" b="b"/>
              <a:pathLst>
                <a:path w="75" h="62">
                  <a:moveTo>
                    <a:pt x="38" y="0"/>
                  </a:moveTo>
                  <a:lnTo>
                    <a:pt x="75" y="0"/>
                  </a:lnTo>
                  <a:lnTo>
                    <a:pt x="38" y="62"/>
                  </a:lnTo>
                  <a:lnTo>
                    <a:pt x="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527600" y="1986120"/>
              <a:ext cx="842400" cy="2238120"/>
            </a:xfrm>
            <a:custGeom>
              <a:avLst/>
              <a:gdLst/>
              <a:ahLst/>
              <a:rect l="l" t="t" r="r" b="b"/>
              <a:pathLst>
                <a:path w="575" h="1410">
                  <a:moveTo>
                    <a:pt x="0" y="0"/>
                  </a:moveTo>
                  <a:lnTo>
                    <a:pt x="113" y="25"/>
                  </a:lnTo>
                  <a:lnTo>
                    <a:pt x="213" y="112"/>
                  </a:lnTo>
                  <a:lnTo>
                    <a:pt x="312" y="237"/>
                  </a:lnTo>
                  <a:lnTo>
                    <a:pt x="400" y="412"/>
                  </a:lnTo>
                  <a:lnTo>
                    <a:pt x="525" y="861"/>
                  </a:lnTo>
                  <a:lnTo>
                    <a:pt x="575" y="141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199280" y="1906560"/>
              <a:ext cx="109800" cy="11916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12" y="37"/>
                  </a:moveTo>
                  <a:lnTo>
                    <a:pt x="0" y="0"/>
                  </a:lnTo>
                  <a:lnTo>
                    <a:pt x="75" y="25"/>
                  </a:lnTo>
                  <a:lnTo>
                    <a:pt x="12" y="75"/>
                  </a:lnTo>
                  <a:lnTo>
                    <a:pt x="12" y="3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29960" y="1965240"/>
              <a:ext cx="769320" cy="1447920"/>
            </a:xfrm>
            <a:custGeom>
              <a:avLst/>
              <a:gdLst/>
              <a:ahLst/>
              <a:rect l="l" t="t" r="r" b="b"/>
              <a:pathLst>
                <a:path w="525" h="912">
                  <a:moveTo>
                    <a:pt x="0" y="912"/>
                  </a:moveTo>
                  <a:lnTo>
                    <a:pt x="38" y="600"/>
                  </a:lnTo>
                  <a:lnTo>
                    <a:pt x="150" y="312"/>
                  </a:lnTo>
                  <a:lnTo>
                    <a:pt x="225" y="200"/>
                  </a:lnTo>
                  <a:lnTo>
                    <a:pt x="312" y="113"/>
                  </a:lnTo>
                  <a:lnTo>
                    <a:pt x="412" y="38"/>
                  </a:lnTo>
                  <a:lnTo>
                    <a:pt x="52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412320" y="3749760"/>
              <a:ext cx="109800" cy="98280"/>
            </a:xfrm>
            <a:custGeom>
              <a:avLst/>
              <a:gdLst/>
              <a:ahLst/>
              <a:rect l="l" t="t" r="r" b="b"/>
              <a:pathLst>
                <a:path w="75" h="62">
                  <a:moveTo>
                    <a:pt x="37" y="50"/>
                  </a:moveTo>
                  <a:lnTo>
                    <a:pt x="0" y="62"/>
                  </a:lnTo>
                  <a:lnTo>
                    <a:pt x="12" y="0"/>
                  </a:lnTo>
                  <a:lnTo>
                    <a:pt x="75" y="37"/>
                  </a:lnTo>
                  <a:lnTo>
                    <a:pt x="37" y="5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466320" y="3848040"/>
              <a:ext cx="1774440" cy="635040"/>
            </a:xfrm>
            <a:custGeom>
              <a:avLst/>
              <a:gdLst/>
              <a:ahLst/>
              <a:rect l="l" t="t" r="r" b="b"/>
              <a:pathLst>
                <a:path w="1211" h="400">
                  <a:moveTo>
                    <a:pt x="1211" y="400"/>
                  </a:moveTo>
                  <a:lnTo>
                    <a:pt x="799" y="375"/>
                  </a:lnTo>
                  <a:lnTo>
                    <a:pt x="437" y="287"/>
                  </a:lnTo>
                  <a:lnTo>
                    <a:pt x="163" y="162"/>
                  </a:lnTo>
                  <a:lnTo>
                    <a:pt x="63" y="88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309440" y="1866960"/>
              <a:ext cx="23724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309440" y="1866960"/>
              <a:ext cx="254880" cy="277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38880" y="3452760"/>
              <a:ext cx="237600" cy="25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338880" y="3452760"/>
              <a:ext cx="256320" cy="276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241120" y="4343400"/>
              <a:ext cx="23868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241120" y="4343400"/>
              <a:ext cx="256320" cy="277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367400" y="190332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423480" y="348948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302320" y="43797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639720" y="123336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560920" y="12333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1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ocal and global wait-for graph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504360" y="2095560"/>
            <a:ext cx="8248320" cy="2670120"/>
            <a:chOff x="504360" y="2095560"/>
            <a:chExt cx="8248320" cy="2670120"/>
          </a:xfrm>
        </p:grpSpPr>
        <p:sp>
          <p:nvSpPr>
            <p:cNvPr id="696" name=""/>
            <p:cNvSpPr/>
            <p:nvPr/>
          </p:nvSpPr>
          <p:spPr>
            <a:xfrm>
              <a:off x="633600" y="2739960"/>
              <a:ext cx="1979640" cy="20257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995120" y="3176640"/>
              <a:ext cx="512640" cy="515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497600" y="4348080"/>
              <a:ext cx="212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48080" y="3211560"/>
              <a:ext cx="513000" cy="515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903240" y="326700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702080" y="3375000"/>
              <a:ext cx="256320" cy="119160"/>
            </a:xfrm>
            <a:custGeom>
              <a:avLst/>
              <a:gdLst/>
              <a:ahLst/>
              <a:rect l="l" t="t" r="r" b="b"/>
              <a:pathLst>
                <a:path w="175" h="75">
                  <a:moveTo>
                    <a:pt x="0" y="25"/>
                  </a:moveTo>
                  <a:lnTo>
                    <a:pt x="0" y="0"/>
                  </a:lnTo>
                  <a:lnTo>
                    <a:pt x="175" y="25"/>
                  </a:lnTo>
                  <a:lnTo>
                    <a:pt x="0" y="7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247760" y="3414600"/>
              <a:ext cx="4777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130840" y="326700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539520" y="2739960"/>
              <a:ext cx="1967760" cy="20145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467960" y="4340160"/>
              <a:ext cx="212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887360" y="3174840"/>
              <a:ext cx="511200" cy="513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649320" y="3174840"/>
              <a:ext cx="509400" cy="513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811320" y="3263760"/>
              <a:ext cx="212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632480" y="3371760"/>
              <a:ext cx="218160" cy="119160"/>
            </a:xfrm>
            <a:custGeom>
              <a:avLst/>
              <a:gdLst/>
              <a:ahLst/>
              <a:rect l="l" t="t" r="r" b="b"/>
              <a:pathLst>
                <a:path w="149" h="75">
                  <a:moveTo>
                    <a:pt x="0" y="25"/>
                  </a:moveTo>
                  <a:lnTo>
                    <a:pt x="0" y="0"/>
                  </a:lnTo>
                  <a:lnTo>
                    <a:pt x="149" y="25"/>
                  </a:lnTo>
                  <a:lnTo>
                    <a:pt x="0" y="7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146120" y="3411360"/>
              <a:ext cx="4730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059800" y="326376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743240" y="3965400"/>
              <a:ext cx="51120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743240" y="3965400"/>
              <a:ext cx="547920" cy="594000"/>
            </a:xfrm>
            <a:prstGeom prst="rect">
              <a:avLst/>
            </a:prstGeom>
            <a:noFill/>
            <a:ln w="58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648480" y="3965400"/>
              <a:ext cx="51120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648480" y="3965400"/>
              <a:ext cx="547920" cy="594000"/>
            </a:xfrm>
            <a:prstGeom prst="rect">
              <a:avLst/>
            </a:prstGeom>
            <a:noFill/>
            <a:ln w="58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467040" y="2739960"/>
              <a:ext cx="1968840" cy="20160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648480" y="3965400"/>
              <a:ext cx="547920" cy="59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743240" y="3965400"/>
              <a:ext cx="547920" cy="59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60040" y="2938320"/>
              <a:ext cx="509760" cy="552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322400" y="302724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976800" y="3689280"/>
              <a:ext cx="182880" cy="23652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100" y="25"/>
                  </a:moveTo>
                  <a:lnTo>
                    <a:pt x="125" y="50"/>
                  </a:lnTo>
                  <a:lnTo>
                    <a:pt x="0" y="149"/>
                  </a:lnTo>
                  <a:lnTo>
                    <a:pt x="50" y="0"/>
                  </a:lnTo>
                  <a:lnTo>
                    <a:pt x="100" y="25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7100280" y="3476520"/>
              <a:ext cx="218160" cy="23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561800" y="3490920"/>
              <a:ext cx="181080" cy="23796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99" y="125"/>
                  </a:moveTo>
                  <a:lnTo>
                    <a:pt x="74" y="150"/>
                  </a:lnTo>
                  <a:lnTo>
                    <a:pt x="0" y="0"/>
                  </a:lnTo>
                  <a:lnTo>
                    <a:pt x="124" y="100"/>
                  </a:lnTo>
                  <a:lnTo>
                    <a:pt x="99" y="125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 flipV="1">
              <a:off x="7730280" y="3703320"/>
              <a:ext cx="219600" cy="23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775920" y="409572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924320" y="4056120"/>
              <a:ext cx="212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04360" y="2095560"/>
              <a:ext cx="205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wait-for grap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581640" y="2095560"/>
              <a:ext cx="200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wait-for grap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316560" y="2095560"/>
              <a:ext cx="243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deadlock dete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1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robes transmitted to detect deadlock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629640" y="1255680"/>
            <a:ext cx="7604640" cy="4718880"/>
            <a:chOff x="629640" y="1255680"/>
            <a:chExt cx="7604640" cy="4718880"/>
          </a:xfrm>
        </p:grpSpPr>
        <p:sp>
          <p:nvSpPr>
            <p:cNvPr id="732" name=""/>
            <p:cNvSpPr/>
            <p:nvPr/>
          </p:nvSpPr>
          <p:spPr>
            <a:xfrm>
              <a:off x="7006320" y="2097000"/>
              <a:ext cx="994680" cy="10270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07120" y="4913280"/>
              <a:ext cx="971280" cy="10256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003040" y="1887480"/>
              <a:ext cx="994680" cy="10256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367720" y="2097000"/>
              <a:ext cx="218160" cy="368280"/>
            </a:xfrm>
            <a:custGeom>
              <a:avLst/>
              <a:gdLst>
                <a:gd name="textAreaLeft" fmla="*/ 29880 w 218160"/>
                <a:gd name="textAreaRight" fmla="*/ 188280 w 218160"/>
                <a:gd name="textAreaTop" fmla="*/ 29880 h 368280"/>
                <a:gd name="textAreaBottom" fmla="*/ 338400 h 368280"/>
              </a:gdLst>
              <a:ahLst/>
              <a:rect l="textAreaLeft" t="textAreaTop" r="textAreaRight" b="textAreaBottom"/>
              <a:pathLst>
                <a:path w="21600" h="36439">
                  <a:moveTo>
                    <a:pt x="10148" y="0"/>
                  </a:moveTo>
                  <a:arcTo wR="10148" hR="10148" stAng="16200000" swAng="-5400000"/>
                  <a:lnTo>
                    <a:pt x="0" y="26291"/>
                  </a:lnTo>
                  <a:arcTo wR="10148" hR="10148" stAng="10800000" swAng="-5400000"/>
                  <a:lnTo>
                    <a:pt x="11452" y="36439"/>
                  </a:lnTo>
                  <a:arcTo wR="10148" hR="10148" stAng="5400000" swAng="-5400000"/>
                  <a:lnTo>
                    <a:pt x="21600" y="10148"/>
                  </a:lnTo>
                  <a:arcTo wR="10148" hR="1014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367720" y="2097000"/>
              <a:ext cx="241560" cy="395280"/>
            </a:xfrm>
            <a:custGeom>
              <a:avLst/>
              <a:gdLst>
                <a:gd name="textAreaLeft" fmla="*/ 29880 w 241560"/>
                <a:gd name="textAreaRight" fmla="*/ 211680 w 241560"/>
                <a:gd name="textAreaTop" fmla="*/ 29880 h 395280"/>
                <a:gd name="textAreaBottom" fmla="*/ 365400 h 395280"/>
              </a:gdLst>
              <a:ahLst/>
              <a:rect l="textAreaLeft" t="textAreaTop" r="textAreaRight" b="textAreaBottom"/>
              <a:pathLst>
                <a:path w="21600" h="35325">
                  <a:moveTo>
                    <a:pt x="9164" y="0"/>
                  </a:moveTo>
                  <a:arcTo wR="9164" hR="9164" stAng="16200000" swAng="-5400000"/>
                  <a:lnTo>
                    <a:pt x="0" y="26161"/>
                  </a:lnTo>
                  <a:arcTo wR="9164" hR="9164" stAng="10800000" swAng="-5400000"/>
                  <a:lnTo>
                    <a:pt x="12436" y="35325"/>
                  </a:lnTo>
                  <a:arcTo wR="9164" hR="9164" stAng="5400000" swAng="-5400000"/>
                  <a:lnTo>
                    <a:pt x="21600" y="9164"/>
                  </a:lnTo>
                  <a:arcTo wR="9164" hR="9164" stAng="0" swAng="-5400000"/>
                  <a:close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367720" y="2281320"/>
              <a:ext cx="218160" cy="1839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367720" y="2281320"/>
              <a:ext cx="241560" cy="210960"/>
            </a:xfrm>
            <a:prstGeom prst="rect">
              <a:avLst/>
            </a:pr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367720" y="2097000"/>
              <a:ext cx="241560" cy="395280"/>
            </a:xfrm>
            <a:custGeom>
              <a:avLst/>
              <a:gdLst>
                <a:gd name="textAreaLeft" fmla="*/ 29880 w 241560"/>
                <a:gd name="textAreaRight" fmla="*/ 211680 w 241560"/>
                <a:gd name="textAreaTop" fmla="*/ 29880 h 395280"/>
                <a:gd name="textAreaBottom" fmla="*/ 365400 h 395280"/>
              </a:gdLst>
              <a:ahLst/>
              <a:rect l="textAreaLeft" t="textAreaTop" r="textAreaRight" b="textAreaBottom"/>
              <a:pathLst>
                <a:path w="21600" h="35325">
                  <a:moveTo>
                    <a:pt x="9164" y="0"/>
                  </a:moveTo>
                  <a:arcTo wR="9164" hR="9164" stAng="16200000" swAng="-5400000"/>
                  <a:lnTo>
                    <a:pt x="0" y="26161"/>
                  </a:lnTo>
                  <a:arcTo wR="9164" hR="9164" stAng="10800000" swAng="-5400000"/>
                  <a:lnTo>
                    <a:pt x="12436" y="35325"/>
                  </a:lnTo>
                  <a:arcTo wR="9164" hR="9164" stAng="5400000" swAng="-5400000"/>
                  <a:lnTo>
                    <a:pt x="21600" y="9164"/>
                  </a:lnTo>
                  <a:arcTo wR="9164" hR="9164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367720" y="2281320"/>
              <a:ext cx="218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467480" y="2440080"/>
              <a:ext cx="218160" cy="341280"/>
            </a:xfrm>
            <a:custGeom>
              <a:avLst/>
              <a:gdLst>
                <a:gd name="textAreaLeft" fmla="*/ 29880 w 218160"/>
                <a:gd name="textAreaRight" fmla="*/ 188280 w 218160"/>
                <a:gd name="textAreaTop" fmla="*/ 29880 h 341280"/>
                <a:gd name="textAreaBottom" fmla="*/ 311400 h 341280"/>
              </a:gdLst>
              <a:ahLst/>
              <a:rect l="textAreaLeft" t="textAreaTop" r="textAreaRight" b="textAreaBottom"/>
              <a:pathLst>
                <a:path w="21600" h="33770">
                  <a:moveTo>
                    <a:pt x="10148" y="0"/>
                  </a:moveTo>
                  <a:arcTo wR="10148" hR="10148" stAng="16200000" swAng="-5400000"/>
                  <a:lnTo>
                    <a:pt x="0" y="23622"/>
                  </a:lnTo>
                  <a:arcTo wR="10148" hR="10148" stAng="10800000" swAng="-5400000"/>
                  <a:lnTo>
                    <a:pt x="11452" y="33770"/>
                  </a:lnTo>
                  <a:arcTo wR="10148" hR="10148" stAng="5400000" swAng="-5400000"/>
                  <a:lnTo>
                    <a:pt x="21600" y="10148"/>
                  </a:lnTo>
                  <a:arcTo wR="10148" hR="1014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467480" y="2440080"/>
              <a:ext cx="241560" cy="368280"/>
            </a:xfrm>
            <a:custGeom>
              <a:avLst/>
              <a:gdLst>
                <a:gd name="textAreaLeft" fmla="*/ 29880 w 241560"/>
                <a:gd name="textAreaRight" fmla="*/ 211680 w 241560"/>
                <a:gd name="textAreaTop" fmla="*/ 29880 h 368280"/>
                <a:gd name="textAreaBottom" fmla="*/ 338400 h 368280"/>
              </a:gdLst>
              <a:ahLst/>
              <a:rect l="textAreaLeft" t="textAreaTop" r="textAreaRight" b="textAreaBottom"/>
              <a:pathLst>
                <a:path w="21600" h="32914">
                  <a:moveTo>
                    <a:pt x="9164" y="0"/>
                  </a:moveTo>
                  <a:arcTo wR="9164" hR="9164" stAng="16200000" swAng="-5400000"/>
                  <a:lnTo>
                    <a:pt x="0" y="23750"/>
                  </a:lnTo>
                  <a:arcTo wR="9164" hR="9164" stAng="10800000" swAng="-5400000"/>
                  <a:lnTo>
                    <a:pt x="12436" y="32914"/>
                  </a:lnTo>
                  <a:arcTo wR="9164" hR="9164" stAng="5400000" swAng="-5400000"/>
                  <a:lnTo>
                    <a:pt x="21600" y="9164"/>
                  </a:lnTo>
                  <a:arcTo wR="9164" hR="9164" stAng="0" swAng="-5400000"/>
                  <a:close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467480" y="2624040"/>
              <a:ext cx="218160" cy="1843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467480" y="2624040"/>
              <a:ext cx="241560" cy="209520"/>
            </a:xfrm>
            <a:prstGeom prst="rect">
              <a:avLst/>
            </a:pr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467480" y="2440080"/>
              <a:ext cx="241560" cy="368280"/>
            </a:xfrm>
            <a:custGeom>
              <a:avLst/>
              <a:gdLst>
                <a:gd name="textAreaLeft" fmla="*/ 29880 w 241560"/>
                <a:gd name="textAreaRight" fmla="*/ 211680 w 241560"/>
                <a:gd name="textAreaTop" fmla="*/ 29880 h 368280"/>
                <a:gd name="textAreaBottom" fmla="*/ 338400 h 368280"/>
              </a:gdLst>
              <a:ahLst/>
              <a:rect l="textAreaLeft" t="textAreaTop" r="textAreaRight" b="textAreaBottom"/>
              <a:pathLst>
                <a:path w="21600" h="32914">
                  <a:moveTo>
                    <a:pt x="9164" y="0"/>
                  </a:moveTo>
                  <a:arcTo wR="9164" hR="9164" stAng="16200000" swAng="-5400000"/>
                  <a:lnTo>
                    <a:pt x="0" y="23750"/>
                  </a:lnTo>
                  <a:arcTo wR="9164" hR="9164" stAng="10800000" swAng="-5400000"/>
                  <a:lnTo>
                    <a:pt x="12436" y="32914"/>
                  </a:lnTo>
                  <a:arcTo wR="9164" hR="9164" stAng="5400000" swAng="-5400000"/>
                  <a:lnTo>
                    <a:pt x="21600" y="9164"/>
                  </a:lnTo>
                  <a:arcTo wR="9164" hR="9164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467480" y="2624040"/>
              <a:ext cx="2181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771800" y="5254560"/>
              <a:ext cx="218520" cy="343080"/>
            </a:xfrm>
            <a:custGeom>
              <a:avLst/>
              <a:gdLst>
                <a:gd name="textAreaLeft" fmla="*/ 29880 w 218520"/>
                <a:gd name="textAreaRight" fmla="*/ 188640 w 218520"/>
                <a:gd name="textAreaTop" fmla="*/ 29880 h 343080"/>
                <a:gd name="textAreaBottom" fmla="*/ 313200 h 343080"/>
              </a:gdLst>
              <a:ahLst/>
              <a:rect l="textAreaLeft" t="textAreaTop" r="textAreaRight" b="textAreaBottom"/>
              <a:pathLst>
                <a:path w="21600" h="33892">
                  <a:moveTo>
                    <a:pt x="10148" y="0"/>
                  </a:moveTo>
                  <a:arcTo wR="10148" hR="10148" stAng="16200000" swAng="-5400000"/>
                  <a:lnTo>
                    <a:pt x="0" y="23744"/>
                  </a:lnTo>
                  <a:arcTo wR="10148" hR="10148" stAng="10800000" swAng="-5400000"/>
                  <a:lnTo>
                    <a:pt x="11452" y="33892"/>
                  </a:lnTo>
                  <a:arcTo wR="10148" hR="10148" stAng="5400000" swAng="-5400000"/>
                  <a:lnTo>
                    <a:pt x="21600" y="10148"/>
                  </a:lnTo>
                  <a:arcTo wR="10148" hR="1014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771800" y="5254560"/>
              <a:ext cx="241560" cy="368280"/>
            </a:xfrm>
            <a:custGeom>
              <a:avLst/>
              <a:gdLst>
                <a:gd name="textAreaLeft" fmla="*/ 29880 w 241560"/>
                <a:gd name="textAreaRight" fmla="*/ 211680 w 241560"/>
                <a:gd name="textAreaTop" fmla="*/ 29880 h 368280"/>
                <a:gd name="textAreaBottom" fmla="*/ 338400 h 368280"/>
              </a:gdLst>
              <a:ahLst/>
              <a:rect l="textAreaLeft" t="textAreaTop" r="textAreaRight" b="textAreaBottom"/>
              <a:pathLst>
                <a:path w="21600" h="32914">
                  <a:moveTo>
                    <a:pt x="9164" y="0"/>
                  </a:moveTo>
                  <a:arcTo wR="9164" hR="9164" stAng="16200000" swAng="-5400000"/>
                  <a:lnTo>
                    <a:pt x="0" y="23750"/>
                  </a:lnTo>
                  <a:arcTo wR="9164" hR="9164" stAng="10800000" swAng="-5400000"/>
                  <a:lnTo>
                    <a:pt x="12436" y="32914"/>
                  </a:lnTo>
                  <a:arcTo wR="9164" hR="9164" stAng="5400000" swAng="-5400000"/>
                  <a:lnTo>
                    <a:pt x="21600" y="9164"/>
                  </a:lnTo>
                  <a:arcTo wR="9164" hR="9164" stAng="0" swAng="-5400000"/>
                  <a:close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795560" y="5438880"/>
              <a:ext cx="194760" cy="1587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795560" y="5438880"/>
              <a:ext cx="218160" cy="183960"/>
            </a:xfrm>
            <a:prstGeom prst="rect">
              <a:avLst/>
            </a:pr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771800" y="5254560"/>
              <a:ext cx="241560" cy="368280"/>
            </a:xfrm>
            <a:custGeom>
              <a:avLst/>
              <a:gdLst>
                <a:gd name="textAreaLeft" fmla="*/ 29880 w 241560"/>
                <a:gd name="textAreaRight" fmla="*/ 211680 w 241560"/>
                <a:gd name="textAreaTop" fmla="*/ 29880 h 368280"/>
                <a:gd name="textAreaBottom" fmla="*/ 338400 h 368280"/>
              </a:gdLst>
              <a:ahLst/>
              <a:rect l="textAreaLeft" t="textAreaTop" r="textAreaRight" b="textAreaBottom"/>
              <a:pathLst>
                <a:path w="21600" h="32914">
                  <a:moveTo>
                    <a:pt x="9164" y="0"/>
                  </a:moveTo>
                  <a:arcTo wR="9164" hR="9164" stAng="16200000" swAng="-5400000"/>
                  <a:lnTo>
                    <a:pt x="0" y="23750"/>
                  </a:lnTo>
                  <a:arcTo wR="9164" hR="9164" stAng="10800000" swAng="-5400000"/>
                  <a:lnTo>
                    <a:pt x="12436" y="32914"/>
                  </a:lnTo>
                  <a:arcTo wR="9164" hR="9164" stAng="5400000" swAng="-5400000"/>
                  <a:lnTo>
                    <a:pt x="21600" y="9164"/>
                  </a:lnTo>
                  <a:arcTo wR="9164" hR="9164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771800" y="5413320"/>
              <a:ext cx="2185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900880" y="4202280"/>
              <a:ext cx="291600" cy="42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900880" y="4202280"/>
              <a:ext cx="316440" cy="447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977560" y="431172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112000" y="1255680"/>
              <a:ext cx="314640" cy="42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112000" y="1255680"/>
              <a:ext cx="339840" cy="4478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517560" y="1689120"/>
              <a:ext cx="73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eld b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609640" y="2281320"/>
              <a:ext cx="97920" cy="131760"/>
            </a:xfrm>
            <a:custGeom>
              <a:avLst/>
              <a:gdLst/>
              <a:ahLst/>
              <a:rect l="l" t="t" r="r" b="b"/>
              <a:pathLst>
                <a:path w="67" h="83">
                  <a:moveTo>
                    <a:pt x="50" y="67"/>
                  </a:moveTo>
                  <a:lnTo>
                    <a:pt x="17" y="83"/>
                  </a:lnTo>
                  <a:lnTo>
                    <a:pt x="0" y="0"/>
                  </a:lnTo>
                  <a:lnTo>
                    <a:pt x="67" y="50"/>
                  </a:lnTo>
                  <a:lnTo>
                    <a:pt x="50" y="67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682720" y="2387520"/>
              <a:ext cx="2089080" cy="302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990320" y="5281560"/>
              <a:ext cx="121320" cy="13176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66" y="16"/>
                  </a:moveTo>
                  <a:lnTo>
                    <a:pt x="83" y="33"/>
                  </a:lnTo>
                  <a:lnTo>
                    <a:pt x="0" y="83"/>
                  </a:lnTo>
                  <a:lnTo>
                    <a:pt x="49" y="0"/>
                  </a:lnTo>
                  <a:lnTo>
                    <a:pt x="66" y="16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5087160" y="2755440"/>
              <a:ext cx="2403720" cy="255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171040" y="1373040"/>
              <a:ext cx="204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826240" y="5504040"/>
              <a:ext cx="852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aits f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885760" y="5425920"/>
              <a:ext cx="73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eld b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940040" y="350532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ait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941120" y="3741840"/>
              <a:ext cx="25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883120" y="1716120"/>
              <a:ext cx="852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aits f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111680" y="2030400"/>
              <a:ext cx="904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Deadloc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113120" y="2293920"/>
              <a:ext cx="82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detecte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593040" y="4361040"/>
              <a:ext cx="314640" cy="44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593040" y="4361040"/>
              <a:ext cx="339840" cy="473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675480" y="447840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097000" y="218916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287480" y="255744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703040" y="563580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118560" y="3057480"/>
              <a:ext cx="900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Initia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29640" y="1662120"/>
              <a:ext cx="204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44920" y="1635120"/>
              <a:ext cx="195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043280" y="1662120"/>
              <a:ext cx="276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U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356120" y="1635120"/>
              <a:ext cx="195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553040" y="1662120"/>
              <a:ext cx="323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V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889280" y="1635120"/>
              <a:ext cx="195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085840" y="1662120"/>
              <a:ext cx="264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755320" y="3714840"/>
              <a:ext cx="204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971680" y="3687840"/>
              <a:ext cx="195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169680" y="371484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602160" y="3321000"/>
              <a:ext cx="204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843360" y="3294000"/>
              <a:ext cx="195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041000" y="3321000"/>
              <a:ext cx="276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U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329000" y="3294000"/>
              <a:ext cx="195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525560" y="3321000"/>
              <a:ext cx="264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58440" y="5834160"/>
              <a:ext cx="96480" cy="131760"/>
            </a:xfrm>
            <a:custGeom>
              <a:avLst/>
              <a:gdLst/>
              <a:ahLst/>
              <a:rect l="l" t="t" r="r" b="b"/>
              <a:pathLst>
                <a:path w="66" h="83">
                  <a:moveTo>
                    <a:pt x="50" y="50"/>
                  </a:moveTo>
                  <a:lnTo>
                    <a:pt x="66" y="83"/>
                  </a:lnTo>
                  <a:lnTo>
                    <a:pt x="0" y="50"/>
                  </a:lnTo>
                  <a:lnTo>
                    <a:pt x="50" y="0"/>
                  </a:lnTo>
                  <a:lnTo>
                    <a:pt x="50" y="5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154920" y="5202360"/>
              <a:ext cx="1602360" cy="711000"/>
            </a:xfrm>
            <a:custGeom>
              <a:avLst/>
              <a:gdLst/>
              <a:ahLst/>
              <a:rect l="l" t="t" r="r" b="b"/>
              <a:pathLst>
                <a:path w="1094" h="448">
                  <a:moveTo>
                    <a:pt x="1094" y="0"/>
                  </a:moveTo>
                  <a:lnTo>
                    <a:pt x="1078" y="83"/>
                  </a:lnTo>
                  <a:lnTo>
                    <a:pt x="1012" y="166"/>
                  </a:lnTo>
                  <a:lnTo>
                    <a:pt x="780" y="315"/>
                  </a:lnTo>
                  <a:lnTo>
                    <a:pt x="431" y="398"/>
                  </a:lnTo>
                  <a:lnTo>
                    <a:pt x="0" y="448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990320" y="5413320"/>
              <a:ext cx="9648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33"/>
                  </a:moveTo>
                  <a:lnTo>
                    <a:pt x="66" y="66"/>
                  </a:lnTo>
                  <a:lnTo>
                    <a:pt x="0" y="33"/>
                  </a:lnTo>
                  <a:lnTo>
                    <a:pt x="66" y="0"/>
                  </a:lnTo>
                  <a:lnTo>
                    <a:pt x="66" y="33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087160" y="4808520"/>
              <a:ext cx="1675800" cy="657360"/>
            </a:xfrm>
            <a:custGeom>
              <a:avLst/>
              <a:gdLst/>
              <a:ahLst/>
              <a:rect l="l" t="t" r="r" b="b"/>
              <a:pathLst>
                <a:path w="1144" h="414">
                  <a:moveTo>
                    <a:pt x="1144" y="0"/>
                  </a:moveTo>
                  <a:lnTo>
                    <a:pt x="1111" y="82"/>
                  </a:lnTo>
                  <a:lnTo>
                    <a:pt x="1044" y="149"/>
                  </a:lnTo>
                  <a:lnTo>
                    <a:pt x="812" y="281"/>
                  </a:lnTo>
                  <a:lnTo>
                    <a:pt x="448" y="381"/>
                  </a:lnTo>
                  <a:lnTo>
                    <a:pt x="0" y="41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022560" y="4624560"/>
              <a:ext cx="9648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33" y="49"/>
                  </a:moveTo>
                  <a:lnTo>
                    <a:pt x="0" y="66"/>
                  </a:lnTo>
                  <a:lnTo>
                    <a:pt x="17" y="0"/>
                  </a:lnTo>
                  <a:lnTo>
                    <a:pt x="66" y="49"/>
                  </a:lnTo>
                  <a:lnTo>
                    <a:pt x="33" y="49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71160" y="4729320"/>
              <a:ext cx="1700640" cy="736560"/>
            </a:xfrm>
            <a:custGeom>
              <a:avLst/>
              <a:gdLst/>
              <a:ahLst/>
              <a:rect l="l" t="t" r="r" b="b"/>
              <a:pathLst>
                <a:path w="1161" h="464">
                  <a:moveTo>
                    <a:pt x="1161" y="464"/>
                  </a:moveTo>
                  <a:lnTo>
                    <a:pt x="730" y="431"/>
                  </a:lnTo>
                  <a:lnTo>
                    <a:pt x="365" y="331"/>
                  </a:lnTo>
                  <a:lnTo>
                    <a:pt x="116" y="182"/>
                  </a:lnTo>
                  <a:lnTo>
                    <a:pt x="33" y="99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439720" y="2492280"/>
              <a:ext cx="98280" cy="10476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33" y="66"/>
                  </a:moveTo>
                  <a:lnTo>
                    <a:pt x="0" y="66"/>
                  </a:lnTo>
                  <a:lnTo>
                    <a:pt x="33" y="0"/>
                  </a:lnTo>
                  <a:lnTo>
                    <a:pt x="67" y="66"/>
                  </a:lnTo>
                  <a:lnTo>
                    <a:pt x="33" y="66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487960" y="2597040"/>
              <a:ext cx="412920" cy="1816200"/>
            </a:xfrm>
            <a:custGeom>
              <a:avLst/>
              <a:gdLst/>
              <a:ahLst/>
              <a:rect l="l" t="t" r="r" b="b"/>
              <a:pathLst>
                <a:path w="282" h="1144">
                  <a:moveTo>
                    <a:pt x="282" y="1144"/>
                  </a:moveTo>
                  <a:lnTo>
                    <a:pt x="232" y="1127"/>
                  </a:lnTo>
                  <a:lnTo>
                    <a:pt x="183" y="1061"/>
                  </a:lnTo>
                  <a:lnTo>
                    <a:pt x="83" y="812"/>
                  </a:lnTo>
                  <a:lnTo>
                    <a:pt x="34" y="448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990320" y="1360440"/>
              <a:ext cx="71640" cy="106560"/>
            </a:xfrm>
            <a:custGeom>
              <a:avLst/>
              <a:gdLst/>
              <a:ahLst/>
              <a:rect l="l" t="t" r="r" b="b"/>
              <a:pathLst>
                <a:path w="49" h="67">
                  <a:moveTo>
                    <a:pt x="0" y="33"/>
                  </a:moveTo>
                  <a:lnTo>
                    <a:pt x="0" y="0"/>
                  </a:lnTo>
                  <a:lnTo>
                    <a:pt x="49" y="33"/>
                  </a:lnTo>
                  <a:lnTo>
                    <a:pt x="0" y="6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512800" y="1413000"/>
              <a:ext cx="2452320" cy="738000"/>
            </a:xfrm>
            <a:custGeom>
              <a:avLst/>
              <a:gdLst/>
              <a:ahLst/>
              <a:rect l="l" t="t" r="r" b="b"/>
              <a:pathLst>
                <a:path w="1674" h="465">
                  <a:moveTo>
                    <a:pt x="0" y="465"/>
                  </a:moveTo>
                  <a:lnTo>
                    <a:pt x="33" y="365"/>
                  </a:lnTo>
                  <a:lnTo>
                    <a:pt x="133" y="282"/>
                  </a:lnTo>
                  <a:lnTo>
                    <a:pt x="497" y="133"/>
                  </a:lnTo>
                  <a:lnTo>
                    <a:pt x="1028" y="34"/>
                  </a:lnTo>
                  <a:lnTo>
                    <a:pt x="167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516080" y="2308320"/>
              <a:ext cx="9648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33" y="17"/>
                  </a:moveTo>
                  <a:lnTo>
                    <a:pt x="66" y="0"/>
                  </a:lnTo>
                  <a:lnTo>
                    <a:pt x="49" y="66"/>
                  </a:lnTo>
                  <a:lnTo>
                    <a:pt x="0" y="17"/>
                  </a:lnTo>
                  <a:lnTo>
                    <a:pt x="33" y="17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427000" y="1440000"/>
              <a:ext cx="2136960" cy="868320"/>
            </a:xfrm>
            <a:custGeom>
              <a:avLst/>
              <a:gdLst/>
              <a:ahLst/>
              <a:rect l="l" t="t" r="r" b="b"/>
              <a:pathLst>
                <a:path w="1459" h="547">
                  <a:moveTo>
                    <a:pt x="0" y="0"/>
                  </a:moveTo>
                  <a:lnTo>
                    <a:pt x="531" y="50"/>
                  </a:lnTo>
                  <a:lnTo>
                    <a:pt x="995" y="166"/>
                  </a:lnTo>
                  <a:lnTo>
                    <a:pt x="1177" y="232"/>
                  </a:lnTo>
                  <a:lnTo>
                    <a:pt x="1310" y="332"/>
                  </a:lnTo>
                  <a:lnTo>
                    <a:pt x="1409" y="431"/>
                  </a:lnTo>
                  <a:lnTo>
                    <a:pt x="1459" y="54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908040" y="4465800"/>
              <a:ext cx="97920" cy="10476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50" y="33"/>
                  </a:moveTo>
                  <a:lnTo>
                    <a:pt x="67" y="66"/>
                  </a:lnTo>
                  <a:lnTo>
                    <a:pt x="0" y="33"/>
                  </a:lnTo>
                  <a:lnTo>
                    <a:pt x="50" y="0"/>
                  </a:lnTo>
                  <a:lnTo>
                    <a:pt x="50" y="33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006320" y="2833560"/>
              <a:ext cx="581400" cy="1684440"/>
            </a:xfrm>
            <a:custGeom>
              <a:avLst/>
              <a:gdLst/>
              <a:ahLst/>
              <a:rect l="l" t="t" r="r" b="b"/>
              <a:pathLst>
                <a:path w="397" h="1061">
                  <a:moveTo>
                    <a:pt x="397" y="0"/>
                  </a:moveTo>
                  <a:lnTo>
                    <a:pt x="364" y="382"/>
                  </a:lnTo>
                  <a:lnTo>
                    <a:pt x="281" y="697"/>
                  </a:lnTo>
                  <a:lnTo>
                    <a:pt x="165" y="945"/>
                  </a:lnTo>
                  <a:lnTo>
                    <a:pt x="82" y="1012"/>
                  </a:lnTo>
                  <a:lnTo>
                    <a:pt x="0" y="106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835280" y="27147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215600" y="571500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088840" y="295272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1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wo probes initiated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07240" y="1623960"/>
            <a:ext cx="168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) initial sit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733840" y="1623960"/>
            <a:ext cx="318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b) detection initiated at object requested by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708520" y="1606680"/>
            <a:ext cx="312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c) detection initiated at object requested by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444240" y="2374920"/>
            <a:ext cx="8223480" cy="2565720"/>
            <a:chOff x="444240" y="2374920"/>
            <a:chExt cx="8223480" cy="2565720"/>
          </a:xfrm>
        </p:grpSpPr>
        <p:sp>
          <p:nvSpPr>
            <p:cNvPr id="815" name=""/>
            <p:cNvSpPr/>
            <p:nvPr/>
          </p:nvSpPr>
          <p:spPr>
            <a:xfrm flipH="1">
              <a:off x="4376520" y="3216240"/>
              <a:ext cx="701640" cy="123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390920" y="3684600"/>
              <a:ext cx="1239840" cy="214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6129360" y="2755440"/>
              <a:ext cx="67788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415120" y="2862360"/>
              <a:ext cx="1369800" cy="231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209000" y="2646360"/>
              <a:ext cx="703080" cy="89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784920" y="3130560"/>
              <a:ext cx="1882800" cy="231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 flipV="1">
              <a:off x="3390840" y="3571920"/>
              <a:ext cx="679680" cy="998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806560" y="3827520"/>
              <a:ext cx="1617840" cy="268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576440" y="2674800"/>
              <a:ext cx="115920" cy="12564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0" y="47"/>
                  </a:moveTo>
                  <a:lnTo>
                    <a:pt x="0" y="0"/>
                  </a:lnTo>
                  <a:lnTo>
                    <a:pt x="79" y="32"/>
                  </a:lnTo>
                  <a:lnTo>
                    <a:pt x="0" y="79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933480" y="2749680"/>
              <a:ext cx="620640" cy="498240"/>
            </a:xfrm>
            <a:custGeom>
              <a:avLst/>
              <a:gdLst/>
              <a:ahLst/>
              <a:rect l="l" t="t" r="r" b="b"/>
              <a:pathLst>
                <a:path w="424" h="314">
                  <a:moveTo>
                    <a:pt x="0" y="314"/>
                  </a:moveTo>
                  <a:lnTo>
                    <a:pt x="32" y="204"/>
                  </a:lnTo>
                  <a:lnTo>
                    <a:pt x="126" y="110"/>
                  </a:lnTo>
                  <a:lnTo>
                    <a:pt x="251" y="47"/>
                  </a:lnTo>
                  <a:lnTo>
                    <a:pt x="424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692360" y="2576520"/>
              <a:ext cx="276120" cy="322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95240" y="3247920"/>
              <a:ext cx="276480" cy="29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117440" y="3968640"/>
              <a:ext cx="298440" cy="32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030400" y="32716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733040" y="26352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30160" y="32716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134720" y="40273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438200" y="4043520"/>
              <a:ext cx="115920" cy="12384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9" y="47"/>
                  </a:moveTo>
                  <a:lnTo>
                    <a:pt x="79" y="78"/>
                  </a:lnTo>
                  <a:lnTo>
                    <a:pt x="0" y="47"/>
                  </a:lnTo>
                  <a:lnTo>
                    <a:pt x="63" y="0"/>
                  </a:lnTo>
                  <a:lnTo>
                    <a:pt x="79" y="4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554120" y="3546360"/>
              <a:ext cx="550800" cy="546120"/>
            </a:xfrm>
            <a:custGeom>
              <a:avLst/>
              <a:gdLst/>
              <a:ahLst/>
              <a:rect l="l" t="t" r="r" b="b"/>
              <a:pathLst>
                <a:path w="376" h="344">
                  <a:moveTo>
                    <a:pt x="376" y="0"/>
                  </a:moveTo>
                  <a:lnTo>
                    <a:pt x="344" y="109"/>
                  </a:lnTo>
                  <a:lnTo>
                    <a:pt x="266" y="219"/>
                  </a:lnTo>
                  <a:lnTo>
                    <a:pt x="156" y="297"/>
                  </a:lnTo>
                  <a:lnTo>
                    <a:pt x="0" y="34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989000" y="3247920"/>
              <a:ext cx="300240" cy="322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44240" y="2627280"/>
              <a:ext cx="802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s f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874880" y="4092480"/>
              <a:ext cx="596880" cy="44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874880" y="4092480"/>
              <a:ext cx="9360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63"/>
                  </a:moveTo>
                  <a:lnTo>
                    <a:pt x="0" y="0"/>
                  </a:lnTo>
                  <a:lnTo>
                    <a:pt x="63" y="0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381400" y="4092480"/>
              <a:ext cx="90360" cy="10008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0" y="0"/>
                  </a:moveTo>
                  <a:lnTo>
                    <a:pt x="62" y="0"/>
                  </a:lnTo>
                  <a:lnTo>
                    <a:pt x="62" y="63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381400" y="4441680"/>
              <a:ext cx="9036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0"/>
                  </a:moveTo>
                  <a:lnTo>
                    <a:pt x="62" y="62"/>
                  </a:lnTo>
                  <a:lnTo>
                    <a:pt x="0" y="62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104920" y="4092480"/>
              <a:ext cx="160560" cy="1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2104920" y="4540320"/>
              <a:ext cx="16056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874880" y="4441680"/>
              <a:ext cx="93600" cy="9864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63" y="62"/>
                  </a:moveTo>
                  <a:lnTo>
                    <a:pt x="0" y="62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924920" y="3984480"/>
              <a:ext cx="50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925640" y="4208400"/>
              <a:ext cx="23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772160" y="3049560"/>
              <a:ext cx="129960" cy="119160"/>
            </a:xfrm>
            <a:custGeom>
              <a:avLst/>
              <a:gdLst/>
              <a:ahLst/>
              <a:rect l="l" t="t" r="r" b="b"/>
              <a:pathLst>
                <a:path w="89" h="75">
                  <a:moveTo>
                    <a:pt x="15" y="45"/>
                  </a:moveTo>
                  <a:lnTo>
                    <a:pt x="45" y="0"/>
                  </a:lnTo>
                  <a:lnTo>
                    <a:pt x="89" y="75"/>
                  </a:lnTo>
                  <a:lnTo>
                    <a:pt x="0" y="75"/>
                  </a:lnTo>
                  <a:lnTo>
                    <a:pt x="15" y="45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332240" y="2859120"/>
              <a:ext cx="461880" cy="262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324240" y="3476520"/>
              <a:ext cx="111240" cy="142920"/>
            </a:xfrm>
            <a:custGeom>
              <a:avLst/>
              <a:gdLst/>
              <a:ahLst/>
              <a:rect l="l" t="t" r="r" b="b"/>
              <a:pathLst>
                <a:path w="75" h="90">
                  <a:moveTo>
                    <a:pt x="45" y="60"/>
                  </a:moveTo>
                  <a:lnTo>
                    <a:pt x="15" y="90"/>
                  </a:lnTo>
                  <a:lnTo>
                    <a:pt x="0" y="0"/>
                  </a:lnTo>
                  <a:lnTo>
                    <a:pt x="75" y="30"/>
                  </a:lnTo>
                  <a:lnTo>
                    <a:pt x="45" y="6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236400" y="321480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192480" y="3192480"/>
              <a:ext cx="285840" cy="307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873600" y="2670120"/>
              <a:ext cx="109440" cy="117360"/>
            </a:xfrm>
            <a:custGeom>
              <a:avLst/>
              <a:gdLst/>
              <a:ahLst/>
              <a:rect l="l" t="t" r="r" b="b"/>
              <a:pathLst>
                <a:path w="75" h="74">
                  <a:moveTo>
                    <a:pt x="0" y="30"/>
                  </a:moveTo>
                  <a:lnTo>
                    <a:pt x="0" y="0"/>
                  </a:lnTo>
                  <a:lnTo>
                    <a:pt x="75" y="30"/>
                  </a:lnTo>
                  <a:lnTo>
                    <a:pt x="15" y="7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346560" y="2739960"/>
              <a:ext cx="527040" cy="405000"/>
            </a:xfrm>
            <a:custGeom>
              <a:avLst/>
              <a:gdLst/>
              <a:ahLst/>
              <a:rect l="l" t="t" r="r" b="b"/>
              <a:pathLst>
                <a:path w="359" h="255">
                  <a:moveTo>
                    <a:pt x="0" y="255"/>
                  </a:moveTo>
                  <a:lnTo>
                    <a:pt x="30" y="165"/>
                  </a:lnTo>
                  <a:lnTo>
                    <a:pt x="105" y="90"/>
                  </a:lnTo>
                  <a:lnTo>
                    <a:pt x="210" y="30"/>
                  </a:lnTo>
                  <a:lnTo>
                    <a:pt x="359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070520" y="4570560"/>
              <a:ext cx="239400" cy="2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060080" y="4592520"/>
              <a:ext cx="204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332240" y="4427640"/>
              <a:ext cx="111240" cy="11880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0" y="15"/>
                  </a:moveTo>
                  <a:lnTo>
                    <a:pt x="75" y="45"/>
                  </a:lnTo>
                  <a:lnTo>
                    <a:pt x="0" y="75"/>
                  </a:lnTo>
                  <a:lnTo>
                    <a:pt x="0" y="0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902120" y="3192480"/>
              <a:ext cx="243000" cy="28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902120" y="3192480"/>
              <a:ext cx="265320" cy="307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923360" y="321480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048200" y="2622600"/>
              <a:ext cx="261720" cy="2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048200" y="2622600"/>
              <a:ext cx="284040" cy="284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098240" y="264492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882880" y="38368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984040" y="37893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065760" y="3789360"/>
              <a:ext cx="195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238560" y="37893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315960" y="38368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444480" y="37893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518280" y="3789360"/>
              <a:ext cx="195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676680" y="37893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768480" y="38368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927240" y="37893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008960" y="3789360"/>
              <a:ext cx="195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182840" y="37893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260240" y="38368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481640" y="36799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597200" y="363204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665960" y="3632040"/>
              <a:ext cx="195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830840" y="363204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916160" y="36799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035320" y="363204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118480" y="3632040"/>
              <a:ext cx="195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289480" y="363204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368680" y="367992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544640" y="275436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647960" y="270684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727880" y="2706840"/>
              <a:ext cx="195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903560" y="270684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976640" y="275436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16640" y="2631960"/>
              <a:ext cx="75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Waits f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986600" y="3679920"/>
              <a:ext cx="30024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986600" y="3679920"/>
              <a:ext cx="327240" cy="352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048160" y="37116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283520" y="4657680"/>
              <a:ext cx="150840" cy="136440"/>
            </a:xfrm>
            <a:custGeom>
              <a:avLst/>
              <a:gdLst/>
              <a:ahLst/>
              <a:rect l="l" t="t" r="r" b="b"/>
              <a:pathLst>
                <a:path w="103" h="86">
                  <a:moveTo>
                    <a:pt x="86" y="35"/>
                  </a:moveTo>
                  <a:lnTo>
                    <a:pt x="103" y="86"/>
                  </a:lnTo>
                  <a:lnTo>
                    <a:pt x="0" y="52"/>
                  </a:lnTo>
                  <a:lnTo>
                    <a:pt x="86" y="0"/>
                  </a:lnTo>
                  <a:lnTo>
                    <a:pt x="86" y="35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434360" y="3978360"/>
              <a:ext cx="679320" cy="734760"/>
            </a:xfrm>
            <a:custGeom>
              <a:avLst/>
              <a:gdLst/>
              <a:ahLst/>
              <a:rect l="l" t="t" r="r" b="b"/>
              <a:pathLst>
                <a:path w="463" h="463">
                  <a:moveTo>
                    <a:pt x="463" y="0"/>
                  </a:moveTo>
                  <a:lnTo>
                    <a:pt x="428" y="154"/>
                  </a:lnTo>
                  <a:lnTo>
                    <a:pt x="326" y="291"/>
                  </a:lnTo>
                  <a:lnTo>
                    <a:pt x="188" y="411"/>
                  </a:lnTo>
                  <a:lnTo>
                    <a:pt x="0" y="463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979960" y="3298680"/>
              <a:ext cx="30024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979960" y="3298680"/>
              <a:ext cx="325440" cy="354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046920" y="33307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58080" y="2374920"/>
              <a:ext cx="276120" cy="29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958080" y="2374920"/>
              <a:ext cx="301680" cy="325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9120" y="240660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58080" y="4603680"/>
              <a:ext cx="276120" cy="29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052880" y="4532400"/>
              <a:ext cx="299880" cy="326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973200" y="4635360"/>
              <a:ext cx="24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540400" y="28576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736960" y="280368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816880" y="2803680"/>
              <a:ext cx="227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005160" y="280368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101640" y="28576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240240" y="280368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323400" y="2803680"/>
              <a:ext cx="227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506640" y="280368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642000" y="28400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144920" y="276876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195680" y="276876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867360" y="31370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044840" y="308304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144200" y="3083040"/>
              <a:ext cx="227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337160" y="308304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430400" y="31370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571880" y="308304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650360" y="3083040"/>
              <a:ext cx="227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837200" y="308304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937280" y="31370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048520" y="3083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145720" y="3083040"/>
              <a:ext cx="227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340480" y="308304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432280" y="31370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575200" y="308304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075360" y="4151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270120" y="409716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351840" y="4097160"/>
              <a:ext cx="227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536880" y="409716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636600" y="41511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643440" y="448164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692400" y="448164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037360" y="4413240"/>
              <a:ext cx="627120" cy="51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037360" y="4413240"/>
              <a:ext cx="100080" cy="10944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0" y="69"/>
                  </a:moveTo>
                  <a:lnTo>
                    <a:pt x="0" y="0"/>
                  </a:lnTo>
                  <a:lnTo>
                    <a:pt x="69" y="0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564400" y="4413240"/>
              <a:ext cx="100080" cy="109440"/>
            </a:xfrm>
            <a:custGeom>
              <a:avLst/>
              <a:gdLst/>
              <a:ahLst/>
              <a:rect l="l" t="t" r="r" b="b"/>
              <a:pathLst>
                <a:path w="68" h="69">
                  <a:moveTo>
                    <a:pt x="0" y="0"/>
                  </a:moveTo>
                  <a:lnTo>
                    <a:pt x="68" y="0"/>
                  </a:lnTo>
                  <a:lnTo>
                    <a:pt x="68" y="69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564400" y="4821120"/>
              <a:ext cx="100080" cy="109800"/>
            </a:xfrm>
            <a:custGeom>
              <a:avLst/>
              <a:gdLst/>
              <a:ahLst/>
              <a:rect l="l" t="t" r="r" b="b"/>
              <a:pathLst>
                <a:path w="68" h="69">
                  <a:moveTo>
                    <a:pt x="68" y="0"/>
                  </a:moveTo>
                  <a:lnTo>
                    <a:pt x="68" y="69"/>
                  </a:lnTo>
                  <a:lnTo>
                    <a:pt x="0" y="69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263080" y="4413240"/>
              <a:ext cx="17604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8262720" y="4930920"/>
              <a:ext cx="17604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8037360" y="4821120"/>
              <a:ext cx="100080" cy="10980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69" y="69"/>
                  </a:moveTo>
                  <a:lnTo>
                    <a:pt x="0" y="69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8076960" y="4398840"/>
              <a:ext cx="57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a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8076960" y="4643280"/>
              <a:ext cx="26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254640" y="3570120"/>
              <a:ext cx="127080" cy="163800"/>
            </a:xfrm>
            <a:custGeom>
              <a:avLst/>
              <a:gdLst/>
              <a:ahLst/>
              <a:rect l="l" t="t" r="r" b="b"/>
              <a:pathLst>
                <a:path w="86" h="103">
                  <a:moveTo>
                    <a:pt x="51" y="69"/>
                  </a:moveTo>
                  <a:lnTo>
                    <a:pt x="17" y="103"/>
                  </a:lnTo>
                  <a:lnTo>
                    <a:pt x="0" y="0"/>
                  </a:lnTo>
                  <a:lnTo>
                    <a:pt x="86" y="35"/>
                  </a:lnTo>
                  <a:lnTo>
                    <a:pt x="51" y="69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 flipV="1">
              <a:off x="6329160" y="3679920"/>
              <a:ext cx="804600" cy="92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773760" y="2646360"/>
              <a:ext cx="149400" cy="163440"/>
            </a:xfrm>
            <a:custGeom>
              <a:avLst/>
              <a:gdLst/>
              <a:ahLst/>
              <a:rect l="l" t="t" r="r" b="b"/>
              <a:pathLst>
                <a:path w="102" h="103">
                  <a:moveTo>
                    <a:pt x="34" y="52"/>
                  </a:moveTo>
                  <a:lnTo>
                    <a:pt x="0" y="17"/>
                  </a:lnTo>
                  <a:lnTo>
                    <a:pt x="102" y="0"/>
                  </a:lnTo>
                  <a:lnTo>
                    <a:pt x="68" y="103"/>
                  </a:lnTo>
                  <a:lnTo>
                    <a:pt x="34" y="52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861320" y="3516480"/>
              <a:ext cx="125280" cy="163440"/>
            </a:xfrm>
            <a:custGeom>
              <a:avLst/>
              <a:gdLst/>
              <a:ahLst/>
              <a:rect l="l" t="t" r="r" b="b"/>
              <a:pathLst>
                <a:path w="86" h="103">
                  <a:moveTo>
                    <a:pt x="35" y="34"/>
                  </a:moveTo>
                  <a:lnTo>
                    <a:pt x="69" y="0"/>
                  </a:lnTo>
                  <a:lnTo>
                    <a:pt x="86" y="103"/>
                  </a:lnTo>
                  <a:lnTo>
                    <a:pt x="0" y="69"/>
                  </a:lnTo>
                  <a:lnTo>
                    <a:pt x="35" y="34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958080" y="4603680"/>
              <a:ext cx="301680" cy="327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1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robes travel downhill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483240" y="88596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509520" y="1081080"/>
            <a:ext cx="17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526640" y="1628640"/>
            <a:ext cx="430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) Probe is forwarded when V starts wa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56120" y="1646280"/>
            <a:ext cx="38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) V stores probe when U starts wa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628560" y="2438280"/>
            <a:ext cx="7861320" cy="2734560"/>
            <a:chOff x="628560" y="2438280"/>
            <a:chExt cx="7861320" cy="2734560"/>
          </a:xfrm>
        </p:grpSpPr>
        <p:sp>
          <p:nvSpPr>
            <p:cNvPr id="955" name=""/>
            <p:cNvSpPr/>
            <p:nvPr/>
          </p:nvSpPr>
          <p:spPr>
            <a:xfrm>
              <a:off x="1459080" y="4686480"/>
              <a:ext cx="938160" cy="3585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149560" y="2438280"/>
              <a:ext cx="303120" cy="43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162160" y="2438280"/>
              <a:ext cx="330120" cy="46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900080" y="4254480"/>
              <a:ext cx="30348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900080" y="4254480"/>
              <a:ext cx="331920" cy="46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197160" y="3179880"/>
              <a:ext cx="303120" cy="43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197160" y="3179880"/>
              <a:ext cx="330120" cy="465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276720" y="32529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201400" y="2498760"/>
              <a:ext cx="22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979280" y="43290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260440" y="4362480"/>
              <a:ext cx="109800" cy="144360"/>
            </a:xfrm>
            <a:custGeom>
              <a:avLst/>
              <a:gdLst/>
              <a:ahLst/>
              <a:rect l="l" t="t" r="r" b="b"/>
              <a:pathLst>
                <a:path w="75" h="91">
                  <a:moveTo>
                    <a:pt x="75" y="45"/>
                  </a:moveTo>
                  <a:lnTo>
                    <a:pt x="75" y="91"/>
                  </a:lnTo>
                  <a:lnTo>
                    <a:pt x="0" y="45"/>
                  </a:lnTo>
                  <a:lnTo>
                    <a:pt x="75" y="0"/>
                  </a:lnTo>
                  <a:lnTo>
                    <a:pt x="75" y="45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397240" y="3573360"/>
              <a:ext cx="938160" cy="860400"/>
            </a:xfrm>
            <a:custGeom>
              <a:avLst/>
              <a:gdLst/>
              <a:ahLst/>
              <a:rect l="l" t="t" r="r" b="b"/>
              <a:pathLst>
                <a:path w="640" h="542">
                  <a:moveTo>
                    <a:pt x="640" y="0"/>
                  </a:moveTo>
                  <a:lnTo>
                    <a:pt x="583" y="181"/>
                  </a:lnTo>
                  <a:lnTo>
                    <a:pt x="452" y="362"/>
                  </a:lnTo>
                  <a:lnTo>
                    <a:pt x="245" y="475"/>
                  </a:lnTo>
                  <a:lnTo>
                    <a:pt x="0" y="542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28560" y="4611600"/>
              <a:ext cx="618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b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28560" y="4883040"/>
              <a:ext cx="671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566720" y="4722840"/>
              <a:ext cx="24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U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838520" y="4702320"/>
              <a:ext cx="227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064240" y="4722840"/>
              <a:ext cx="22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130920" y="4308480"/>
              <a:ext cx="951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Waits fo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130200" y="461628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207120" y="4572000"/>
              <a:ext cx="177840" cy="128520"/>
            </a:xfrm>
            <a:custGeom>
              <a:avLst/>
              <a:gdLst/>
              <a:ahLst/>
              <a:rect l="l" t="t" r="r" b="b"/>
              <a:pathLst>
                <a:path w="121" h="81">
                  <a:moveTo>
                    <a:pt x="121" y="41"/>
                  </a:moveTo>
                  <a:lnTo>
                    <a:pt x="121" y="81"/>
                  </a:lnTo>
                  <a:lnTo>
                    <a:pt x="0" y="41"/>
                  </a:lnTo>
                  <a:lnTo>
                    <a:pt x="121" y="0"/>
                  </a:lnTo>
                  <a:lnTo>
                    <a:pt x="121" y="4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338880" y="4059360"/>
              <a:ext cx="1123920" cy="577800"/>
            </a:xfrm>
            <a:custGeom>
              <a:avLst/>
              <a:gdLst/>
              <a:ahLst/>
              <a:rect l="l" t="t" r="r" b="b"/>
              <a:pathLst>
                <a:path w="767" h="364">
                  <a:moveTo>
                    <a:pt x="767" y="0"/>
                  </a:moveTo>
                  <a:lnTo>
                    <a:pt x="707" y="142"/>
                  </a:lnTo>
                  <a:lnTo>
                    <a:pt x="545" y="243"/>
                  </a:lnTo>
                  <a:lnTo>
                    <a:pt x="303" y="323"/>
                  </a:lnTo>
                  <a:lnTo>
                    <a:pt x="0" y="36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634080" y="2746440"/>
              <a:ext cx="1095480" cy="7682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221960" y="4460760"/>
              <a:ext cx="951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Waits fo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221240" y="472752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619880" y="3178080"/>
              <a:ext cx="60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Wai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619160" y="3467160"/>
              <a:ext cx="523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for 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748200" y="3122640"/>
              <a:ext cx="178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951600" y="3114720"/>
              <a:ext cx="238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192080" y="3122640"/>
              <a:ext cx="3268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072120" y="2841480"/>
              <a:ext cx="208080" cy="160560"/>
            </a:xfrm>
            <a:custGeom>
              <a:avLst/>
              <a:gdLst/>
              <a:ahLst/>
              <a:rect l="l" t="t" r="r" b="b"/>
              <a:pathLst>
                <a:path w="142" h="101">
                  <a:moveTo>
                    <a:pt x="142" y="41"/>
                  </a:moveTo>
                  <a:lnTo>
                    <a:pt x="0" y="101"/>
                  </a:lnTo>
                  <a:lnTo>
                    <a:pt x="0" y="0"/>
                  </a:lnTo>
                  <a:lnTo>
                    <a:pt x="142" y="41"/>
                  </a:lnTo>
                  <a:close/>
                </a:path>
              </a:pathLst>
            </a:custGeom>
            <a:solidFill>
              <a:srgbClr val="000000"/>
            </a:solidFill>
            <a:ln w="47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214960" y="2907000"/>
              <a:ext cx="2130120" cy="179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823" y="21182"/>
                  </a:moveTo>
                  <a:arcTo wR="10800" hR="10800" stAng="6360101" swAng="9303258"/>
                  <a:lnTo>
                    <a:pt x="10800" y="10800"/>
                  </a:lnTo>
                  <a:close/>
                </a:path>
                <a:path fill="none" w="21600" h="21600">
                  <a:moveTo>
                    <a:pt x="7823" y="21182"/>
                  </a:moveTo>
                  <a:arcTo wR="10800" hR="10800" stAng="6360101" swAng="9303258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189840" y="3098880"/>
              <a:ext cx="207720" cy="288720"/>
            </a:xfrm>
            <a:custGeom>
              <a:avLst/>
              <a:gdLst/>
              <a:ahLst/>
              <a:rect l="l" t="t" r="r" b="b"/>
              <a:pathLst>
                <a:path w="142" h="182">
                  <a:moveTo>
                    <a:pt x="121" y="0"/>
                  </a:moveTo>
                  <a:lnTo>
                    <a:pt x="142" y="182"/>
                  </a:lnTo>
                  <a:lnTo>
                    <a:pt x="0" y="161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6013440" y="3387240"/>
              <a:ext cx="266760" cy="102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748200" y="2801880"/>
              <a:ext cx="267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U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281360" y="2801880"/>
              <a:ext cx="2534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272200" y="4765680"/>
              <a:ext cx="1036440" cy="3524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280200" y="2693880"/>
              <a:ext cx="384120" cy="416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835600" y="4413240"/>
              <a:ext cx="325440" cy="35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835600" y="4413240"/>
              <a:ext cx="354240" cy="384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284960" y="3675240"/>
              <a:ext cx="385920" cy="417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920920" y="4437000"/>
              <a:ext cx="178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446440" y="4789440"/>
              <a:ext cx="267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U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708520" y="4781520"/>
              <a:ext cx="238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949720" y="4789440"/>
              <a:ext cx="2534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219360" y="3595680"/>
              <a:ext cx="267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U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475320" y="3552840"/>
              <a:ext cx="3848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811560" y="3595680"/>
              <a:ext cx="178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402320" y="37004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021440" y="2782800"/>
              <a:ext cx="238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367320" y="2770200"/>
              <a:ext cx="252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818120" y="2887560"/>
              <a:ext cx="618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b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818480" y="3159000"/>
              <a:ext cx="671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1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ypes of entry in a recovery fil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363600" y="1862280"/>
            <a:ext cx="8258400" cy="2500560"/>
            <a:chOff x="363600" y="1862280"/>
            <a:chExt cx="8258400" cy="2500560"/>
          </a:xfrm>
        </p:grpSpPr>
        <p:grpSp>
          <p:nvGrpSpPr>
            <p:cNvPr id="1009" name=""/>
            <p:cNvGrpSpPr/>
            <p:nvPr/>
          </p:nvGrpSpPr>
          <p:grpSpPr>
            <a:xfrm>
              <a:off x="407880" y="1890720"/>
              <a:ext cx="8049960" cy="431640"/>
              <a:chOff x="407880" y="1890720"/>
              <a:chExt cx="8049960" cy="431640"/>
            </a:xfrm>
          </p:grpSpPr>
          <p:sp>
            <p:nvSpPr>
              <p:cNvPr id="1010" name=""/>
              <p:cNvSpPr/>
              <p:nvPr/>
            </p:nvSpPr>
            <p:spPr>
              <a:xfrm>
                <a:off x="3977640" y="1890720"/>
                <a:ext cx="4480200" cy="431640"/>
              </a:xfrm>
              <a:prstGeom prst="rect">
                <a:avLst/>
              </a:prstGeom>
              <a:solidFill>
                <a:srgbClr val="d9aa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407880" y="1890720"/>
                <a:ext cx="4480200" cy="431640"/>
              </a:xfrm>
              <a:prstGeom prst="rect">
                <a:avLst/>
              </a:prstGeom>
              <a:solidFill>
                <a:srgbClr val="d9aa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2" name=""/>
            <p:cNvSpPr/>
            <p:nvPr/>
          </p:nvSpPr>
          <p:spPr>
            <a:xfrm>
              <a:off x="430920" y="1925640"/>
              <a:ext cx="1344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ype of en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306160" y="1925640"/>
              <a:ext cx="3227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scription of contents of en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32000" y="2295360"/>
              <a:ext cx="678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080360" y="229536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306520" y="2295360"/>
              <a:ext cx="213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 value of an objec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30920" y="2624040"/>
              <a:ext cx="1846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ransaction stat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298600" y="2624040"/>
              <a:ext cx="423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ransaction identifier, transaction status (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513120" y="2624040"/>
              <a:ext cx="936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pa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395480" y="26240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534080" y="2624040"/>
              <a:ext cx="1061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ommit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233080" y="2900520"/>
              <a:ext cx="794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bor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041280" y="2900520"/>
              <a:ext cx="4911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  and other status values used for the two-ph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307960" y="3176640"/>
              <a:ext cx="1756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mit protocol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955320" y="31766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32000" y="3505320"/>
              <a:ext cx="1393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tentions li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293200" y="3505320"/>
              <a:ext cx="6024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ransaction identifier and a sequence of intentions, each o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292120" y="3781440"/>
              <a:ext cx="6329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ich consists of &lt;identifier of object&gt;, &lt;position in recove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300040" y="4057560"/>
              <a:ext cx="240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ile of value of object&gt;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604400" y="405756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63600" y="4361040"/>
              <a:ext cx="8091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79440" y="1862280"/>
              <a:ext cx="8091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istributed transac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4000" y="130968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) Flat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17120" y="1309680"/>
            <a:ext cx="25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) Nested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51000" y="1862280"/>
            <a:ext cx="6564240" cy="3916080"/>
            <a:chOff x="1251000" y="1862280"/>
            <a:chExt cx="6564240" cy="3916080"/>
          </a:xfrm>
        </p:grpSpPr>
        <p:sp>
          <p:nvSpPr>
            <p:cNvPr id="91" name=""/>
            <p:cNvSpPr/>
            <p:nvPr/>
          </p:nvSpPr>
          <p:spPr>
            <a:xfrm>
              <a:off x="4417920" y="3225960"/>
              <a:ext cx="747720" cy="9000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17920" y="3225960"/>
              <a:ext cx="770040" cy="92232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72000" y="3506760"/>
              <a:ext cx="428760" cy="376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067520" y="1862280"/>
              <a:ext cx="747720" cy="9000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067520" y="4848120"/>
              <a:ext cx="747720" cy="9003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067520" y="3311640"/>
              <a:ext cx="747720" cy="9237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02400" y="3855960"/>
              <a:ext cx="745920" cy="9223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19680" y="2698920"/>
              <a:ext cx="747720" cy="9223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21560" y="3308400"/>
              <a:ext cx="430200" cy="376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21560" y="5149800"/>
              <a:ext cx="430200" cy="376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721560" y="2127240"/>
              <a:ext cx="430200" cy="376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21560" y="3862440"/>
              <a:ext cx="430200" cy="376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18280" y="2970360"/>
              <a:ext cx="428400" cy="376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18280" y="4079880"/>
              <a:ext cx="428400" cy="376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30440" y="3368520"/>
              <a:ext cx="745920" cy="8971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19280" y="3355920"/>
              <a:ext cx="766800" cy="91908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28800" y="4848120"/>
              <a:ext cx="746280" cy="9208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16200" y="4835520"/>
              <a:ext cx="766800" cy="94284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27240" y="5218200"/>
              <a:ext cx="185760" cy="290520"/>
            </a:xfrm>
            <a:custGeom>
              <a:avLst/>
              <a:gdLst>
                <a:gd name="textAreaLeft" fmla="*/ 25560 w 185760"/>
                <a:gd name="textAreaRight" fmla="*/ 160200 w 185760"/>
                <a:gd name="textAreaTop" fmla="*/ 25560 h 290520"/>
                <a:gd name="textAreaBottom" fmla="*/ 264960 h 290520"/>
              </a:gdLst>
              <a:ahLst/>
              <a:rect l="textAreaLeft" t="textAreaTop" r="textAreaRight" b="textAreaBottom"/>
              <a:pathLst>
                <a:path w="21600" h="33758">
                  <a:moveTo>
                    <a:pt x="10205" y="0"/>
                  </a:moveTo>
                  <a:arcTo wR="10205" hR="10205" stAng="16200000" swAng="-5400000"/>
                  <a:lnTo>
                    <a:pt x="0" y="23553"/>
                  </a:lnTo>
                  <a:arcTo wR="10205" hR="10205" stAng="10800000" swAng="-5400000"/>
                  <a:lnTo>
                    <a:pt x="11395" y="33758"/>
                  </a:lnTo>
                  <a:arcTo wR="10205" hR="10205" stAng="5400000" swAng="-5400000"/>
                  <a:lnTo>
                    <a:pt x="21600" y="10205"/>
                  </a:lnTo>
                  <a:arcTo wR="10205" hR="10205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27240" y="5218200"/>
              <a:ext cx="206640" cy="314280"/>
            </a:xfrm>
            <a:custGeom>
              <a:avLst/>
              <a:gdLst>
                <a:gd name="textAreaLeft" fmla="*/ 25560 w 206640"/>
                <a:gd name="textAreaRight" fmla="*/ 181080 w 206640"/>
                <a:gd name="textAreaTop" fmla="*/ 25560 h 314280"/>
                <a:gd name="textAreaBottom" fmla="*/ 288720 h 314280"/>
              </a:gdLst>
              <a:ahLst/>
              <a:rect l="textAreaLeft" t="textAreaTop" r="textAreaRight" b="textAreaBottom"/>
              <a:pathLst>
                <a:path w="21600" h="32832">
                  <a:moveTo>
                    <a:pt x="9191" y="0"/>
                  </a:moveTo>
                  <a:arcTo wR="9191" hR="9191" stAng="16200000" swAng="-5400000"/>
                  <a:lnTo>
                    <a:pt x="0" y="23641"/>
                  </a:lnTo>
                  <a:arcTo wR="9191" hR="9191" stAng="10800000" swAng="-5400000"/>
                  <a:lnTo>
                    <a:pt x="12409" y="32832"/>
                  </a:lnTo>
                  <a:arcTo wR="9191" hR="9191" stAng="5400000" swAng="-5400000"/>
                  <a:lnTo>
                    <a:pt x="21600" y="9191"/>
                  </a:lnTo>
                  <a:arcTo wR="9191" hR="9191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27240" y="5375160"/>
              <a:ext cx="185760" cy="1335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27240" y="5375160"/>
              <a:ext cx="206640" cy="15732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27240" y="5218200"/>
              <a:ext cx="206640" cy="314280"/>
            </a:xfrm>
            <a:custGeom>
              <a:avLst/>
              <a:gdLst>
                <a:gd name="textAreaLeft" fmla="*/ 25560 w 206640"/>
                <a:gd name="textAreaRight" fmla="*/ 181080 w 206640"/>
                <a:gd name="textAreaTop" fmla="*/ 25560 h 314280"/>
                <a:gd name="textAreaBottom" fmla="*/ 288720 h 314280"/>
              </a:gdLst>
              <a:ahLst/>
              <a:rect l="textAreaLeft" t="textAreaTop" r="textAreaRight" b="textAreaBottom"/>
              <a:pathLst>
                <a:path w="21600" h="32832">
                  <a:moveTo>
                    <a:pt x="9191" y="0"/>
                  </a:moveTo>
                  <a:arcTo wR="9191" hR="9191" stAng="16200000" swAng="-5400000"/>
                  <a:lnTo>
                    <a:pt x="0" y="23641"/>
                  </a:lnTo>
                  <a:arcTo wR="9191" hR="9191" stAng="10800000" swAng="-5400000"/>
                  <a:lnTo>
                    <a:pt x="12409" y="32832"/>
                  </a:lnTo>
                  <a:arcTo wR="9191" hR="9191" stAng="5400000" swAng="-5400000"/>
                  <a:lnTo>
                    <a:pt x="21600" y="9191"/>
                  </a:lnTo>
                  <a:arcTo wR="9191" hR="9191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27240" y="5351400"/>
              <a:ext cx="1857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28800" y="3390840"/>
              <a:ext cx="746280" cy="8971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16200" y="3378240"/>
              <a:ext cx="766800" cy="91908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48120" y="3646440"/>
              <a:ext cx="185760" cy="292320"/>
            </a:xfrm>
            <a:custGeom>
              <a:avLst/>
              <a:gdLst>
                <a:gd name="textAreaLeft" fmla="*/ 25560 w 185760"/>
                <a:gd name="textAreaRight" fmla="*/ 160200 w 185760"/>
                <a:gd name="textAreaTop" fmla="*/ 25560 h 292320"/>
                <a:gd name="textAreaBottom" fmla="*/ 266760 h 292320"/>
              </a:gdLst>
              <a:ahLst/>
              <a:rect l="textAreaLeft" t="textAreaTop" r="textAreaRight" b="textAreaBottom"/>
              <a:pathLst>
                <a:path w="21600" h="33967">
                  <a:moveTo>
                    <a:pt x="10205" y="0"/>
                  </a:moveTo>
                  <a:arcTo wR="10205" hR="10205" stAng="16200000" swAng="-5400000"/>
                  <a:lnTo>
                    <a:pt x="0" y="23762"/>
                  </a:lnTo>
                  <a:arcTo wR="10205" hR="10205" stAng="10800000" swAng="-5400000"/>
                  <a:lnTo>
                    <a:pt x="11395" y="33967"/>
                  </a:lnTo>
                  <a:arcTo wR="10205" hR="10205" stAng="5400000" swAng="-5400000"/>
                  <a:lnTo>
                    <a:pt x="21600" y="10205"/>
                  </a:lnTo>
                  <a:arcTo wR="10205" hR="10205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48120" y="3646440"/>
              <a:ext cx="207720" cy="314280"/>
            </a:xfrm>
            <a:custGeom>
              <a:avLst/>
              <a:gdLst>
                <a:gd name="textAreaLeft" fmla="*/ 25560 w 207720"/>
                <a:gd name="textAreaRight" fmla="*/ 182160 w 207720"/>
                <a:gd name="textAreaTop" fmla="*/ 25560 h 314280"/>
                <a:gd name="textAreaBottom" fmla="*/ 288720 h 314280"/>
              </a:gdLst>
              <a:ahLst/>
              <a:rect l="textAreaLeft" t="textAreaTop" r="textAreaRight" b="textAreaBottom"/>
              <a:pathLst>
                <a:path w="21600" h="32662">
                  <a:moveTo>
                    <a:pt x="9127" y="0"/>
                  </a:moveTo>
                  <a:arcTo wR="9127" hR="9127" stAng="16200000" swAng="-5400000"/>
                  <a:lnTo>
                    <a:pt x="0" y="23535"/>
                  </a:lnTo>
                  <a:arcTo wR="9127" hR="9127" stAng="10800000" swAng="-5400000"/>
                  <a:lnTo>
                    <a:pt x="12473" y="32662"/>
                  </a:lnTo>
                  <a:arcTo wR="9127" hR="9127" stAng="5400000" swAng="-5400000"/>
                  <a:lnTo>
                    <a:pt x="21600" y="9127"/>
                  </a:lnTo>
                  <a:arcTo wR="9127" hR="9127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8120" y="3803760"/>
              <a:ext cx="185760" cy="1350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3803760"/>
              <a:ext cx="207720" cy="15696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48120" y="3646440"/>
              <a:ext cx="207720" cy="314280"/>
            </a:xfrm>
            <a:custGeom>
              <a:avLst/>
              <a:gdLst>
                <a:gd name="textAreaLeft" fmla="*/ 25560 w 207720"/>
                <a:gd name="textAreaRight" fmla="*/ 182160 w 207720"/>
                <a:gd name="textAreaTop" fmla="*/ 25560 h 314280"/>
                <a:gd name="textAreaBottom" fmla="*/ 288720 h 314280"/>
              </a:gdLst>
              <a:ahLst/>
              <a:rect l="textAreaLeft" t="textAreaTop" r="textAreaRight" b="textAreaBottom"/>
              <a:pathLst>
                <a:path w="21600" h="32662">
                  <a:moveTo>
                    <a:pt x="9127" y="0"/>
                  </a:moveTo>
                  <a:arcTo wR="9127" hR="9127" stAng="16200000" swAng="-5400000"/>
                  <a:lnTo>
                    <a:pt x="0" y="23535"/>
                  </a:lnTo>
                  <a:arcTo wR="9127" hR="9127" stAng="10800000" swAng="-5400000"/>
                  <a:lnTo>
                    <a:pt x="12473" y="32662"/>
                  </a:lnTo>
                  <a:arcTo wR="9127" hR="9127" stAng="5400000" swAng="-5400000"/>
                  <a:lnTo>
                    <a:pt x="21600" y="9127"/>
                  </a:lnTo>
                  <a:arcTo wR="9127" hR="9127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48120" y="3781440"/>
              <a:ext cx="1857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28800" y="1909800"/>
              <a:ext cx="746280" cy="8967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16200" y="1897200"/>
              <a:ext cx="766800" cy="91908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48120" y="2189160"/>
              <a:ext cx="185760" cy="314280"/>
            </a:xfrm>
            <a:custGeom>
              <a:avLst/>
              <a:gdLst>
                <a:gd name="textAreaLeft" fmla="*/ 25560 w 185760"/>
                <a:gd name="textAreaRight" fmla="*/ 160200 w 185760"/>
                <a:gd name="textAreaTop" fmla="*/ 25560 h 314280"/>
                <a:gd name="textAreaBottom" fmla="*/ 288720 h 314280"/>
              </a:gdLst>
              <a:ahLst/>
              <a:rect l="textAreaLeft" t="textAreaTop" r="textAreaRight" b="textAreaBottom"/>
              <a:pathLst>
                <a:path w="21600" h="36515">
                  <a:moveTo>
                    <a:pt x="10205" y="0"/>
                  </a:moveTo>
                  <a:arcTo wR="10205" hR="10205" stAng="16200000" swAng="-5400000"/>
                  <a:lnTo>
                    <a:pt x="0" y="26310"/>
                  </a:lnTo>
                  <a:arcTo wR="10205" hR="10205" stAng="10800000" swAng="-5400000"/>
                  <a:lnTo>
                    <a:pt x="11395" y="36515"/>
                  </a:lnTo>
                  <a:arcTo wR="10205" hR="10205" stAng="5400000" swAng="-5400000"/>
                  <a:lnTo>
                    <a:pt x="21600" y="10205"/>
                  </a:lnTo>
                  <a:arcTo wR="10205" hR="10205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48120" y="2189160"/>
              <a:ext cx="207720" cy="336600"/>
            </a:xfrm>
            <a:custGeom>
              <a:avLst/>
              <a:gdLst>
                <a:gd name="textAreaLeft" fmla="*/ 25560 w 207720"/>
                <a:gd name="textAreaRight" fmla="*/ 182160 w 207720"/>
                <a:gd name="textAreaTop" fmla="*/ 25560 h 336600"/>
                <a:gd name="textAreaBottom" fmla="*/ 311040 h 336600"/>
              </a:gdLst>
              <a:ahLst/>
              <a:rect l="textAreaLeft" t="textAreaTop" r="textAreaRight" b="textAreaBottom"/>
              <a:pathLst>
                <a:path w="21600" h="34979">
                  <a:moveTo>
                    <a:pt x="9127" y="0"/>
                  </a:moveTo>
                  <a:arcTo wR="9127" hR="9127" stAng="16200000" swAng="-5400000"/>
                  <a:lnTo>
                    <a:pt x="0" y="25852"/>
                  </a:lnTo>
                  <a:arcTo wR="9127" hR="9127" stAng="10800000" swAng="-5400000"/>
                  <a:lnTo>
                    <a:pt x="12473" y="34979"/>
                  </a:lnTo>
                  <a:arcTo wR="9127" hR="9127" stAng="5400000" swAng="-5400000"/>
                  <a:lnTo>
                    <a:pt x="21600" y="9127"/>
                  </a:lnTo>
                  <a:arcTo wR="9127" hR="9127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48120" y="2346480"/>
              <a:ext cx="185760" cy="1569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8120" y="2346480"/>
              <a:ext cx="207720" cy="17928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2189160"/>
              <a:ext cx="207720" cy="336600"/>
            </a:xfrm>
            <a:custGeom>
              <a:avLst/>
              <a:gdLst>
                <a:gd name="textAreaLeft" fmla="*/ 25560 w 207720"/>
                <a:gd name="textAreaRight" fmla="*/ 182160 w 207720"/>
                <a:gd name="textAreaTop" fmla="*/ 25560 h 336600"/>
                <a:gd name="textAreaBottom" fmla="*/ 311040 h 336600"/>
              </a:gdLst>
              <a:ahLst/>
              <a:rect l="textAreaLeft" t="textAreaTop" r="textAreaRight" b="textAreaBottom"/>
              <a:pathLst>
                <a:path w="21600" h="34979">
                  <a:moveTo>
                    <a:pt x="9127" y="0"/>
                  </a:moveTo>
                  <a:arcTo wR="9127" hR="9127" stAng="16200000" swAng="-5400000"/>
                  <a:lnTo>
                    <a:pt x="0" y="25852"/>
                  </a:lnTo>
                  <a:arcTo wR="9127" hR="9127" stAng="10800000" swAng="-5400000"/>
                  <a:lnTo>
                    <a:pt x="12473" y="34979"/>
                  </a:lnTo>
                  <a:arcTo wR="9127" hR="9127" stAng="5400000" swAng="-5400000"/>
                  <a:lnTo>
                    <a:pt x="21600" y="9127"/>
                  </a:lnTo>
                  <a:arcTo wR="9127" hR="9127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48120" y="2346480"/>
              <a:ext cx="1857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38720" y="4308480"/>
              <a:ext cx="489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94000" y="204156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73480" y="347832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73120" y="498168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44800" y="3759120"/>
              <a:ext cx="82440" cy="9072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0" y="28"/>
                  </a:moveTo>
                  <a:lnTo>
                    <a:pt x="0" y="0"/>
                  </a:lnTo>
                  <a:lnTo>
                    <a:pt x="56" y="28"/>
                  </a:lnTo>
                  <a:lnTo>
                    <a:pt x="0" y="5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44800" y="2368440"/>
              <a:ext cx="8244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14" y="42"/>
                  </a:moveTo>
                  <a:lnTo>
                    <a:pt x="0" y="14"/>
                  </a:lnTo>
                  <a:lnTo>
                    <a:pt x="56" y="0"/>
                  </a:lnTo>
                  <a:lnTo>
                    <a:pt x="42" y="56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44800" y="5262480"/>
              <a:ext cx="8244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14" y="14"/>
                  </a:moveTo>
                  <a:lnTo>
                    <a:pt x="42" y="0"/>
                  </a:lnTo>
                  <a:lnTo>
                    <a:pt x="56" y="56"/>
                  </a:lnTo>
                  <a:lnTo>
                    <a:pt x="0" y="28"/>
                  </a:lnTo>
                  <a:lnTo>
                    <a:pt x="14" y="14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53160" y="5138640"/>
              <a:ext cx="189000" cy="292320"/>
            </a:xfrm>
            <a:custGeom>
              <a:avLst/>
              <a:gdLst>
                <a:gd name="textAreaLeft" fmla="*/ 25920 w 189000"/>
                <a:gd name="textAreaRight" fmla="*/ 163080 w 189000"/>
                <a:gd name="textAreaTop" fmla="*/ 25920 h 292320"/>
                <a:gd name="textAreaBottom" fmla="*/ 266400 h 292320"/>
              </a:gdLst>
              <a:ahLst/>
              <a:rect l="textAreaLeft" t="textAreaTop" r="textAreaRight" b="textAreaBottom"/>
              <a:pathLst>
                <a:path w="21600" h="33386">
                  <a:moveTo>
                    <a:pt x="10125" y="0"/>
                  </a:moveTo>
                  <a:arcTo wR="10125" hR="10125" stAng="16200000" swAng="-5400000"/>
                  <a:lnTo>
                    <a:pt x="0" y="23261"/>
                  </a:lnTo>
                  <a:arcTo wR="10125" hR="10125" stAng="10800000" swAng="-5400000"/>
                  <a:lnTo>
                    <a:pt x="11475" y="33386"/>
                  </a:lnTo>
                  <a:arcTo wR="10125" hR="10125" stAng="5400000" swAng="-5400000"/>
                  <a:lnTo>
                    <a:pt x="21600" y="10125"/>
                  </a:lnTo>
                  <a:arcTo wR="10125" hR="10125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53160" y="5138640"/>
              <a:ext cx="209880" cy="314280"/>
            </a:xfrm>
            <a:custGeom>
              <a:avLst/>
              <a:gdLst>
                <a:gd name="textAreaLeft" fmla="*/ 25920 w 209880"/>
                <a:gd name="textAreaRight" fmla="*/ 183960 w 209880"/>
                <a:gd name="textAreaTop" fmla="*/ 25920 h 314280"/>
                <a:gd name="textAreaBottom" fmla="*/ 288360 h 314280"/>
              </a:gdLst>
              <a:ahLst/>
              <a:rect l="textAreaLeft" t="textAreaTop" r="textAreaRight" b="textAreaBottom"/>
              <a:pathLst>
                <a:path w="21600" h="32326">
                  <a:moveTo>
                    <a:pt x="9127" y="0"/>
                  </a:moveTo>
                  <a:arcTo wR="9127" hR="9127" stAng="16200000" swAng="-5400000"/>
                  <a:lnTo>
                    <a:pt x="0" y="23199"/>
                  </a:lnTo>
                  <a:arcTo wR="9127" hR="9127" stAng="10800000" swAng="-5400000"/>
                  <a:lnTo>
                    <a:pt x="12473" y="32326"/>
                  </a:lnTo>
                  <a:arcTo wR="9127" hR="9127" stAng="5400000" swAng="-5400000"/>
                  <a:lnTo>
                    <a:pt x="21600" y="9127"/>
                  </a:lnTo>
                  <a:arcTo wR="9127" hR="9127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553160" y="5295960"/>
              <a:ext cx="189000" cy="1569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53160" y="5295960"/>
              <a:ext cx="209880" cy="17928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53160" y="5138640"/>
              <a:ext cx="209880" cy="314280"/>
            </a:xfrm>
            <a:custGeom>
              <a:avLst/>
              <a:gdLst>
                <a:gd name="textAreaLeft" fmla="*/ 25920 w 209880"/>
                <a:gd name="textAreaRight" fmla="*/ 183960 w 209880"/>
                <a:gd name="textAreaTop" fmla="*/ 25920 h 314280"/>
                <a:gd name="textAreaBottom" fmla="*/ 288360 h 314280"/>
              </a:gdLst>
              <a:ahLst/>
              <a:rect l="textAreaLeft" t="textAreaTop" r="textAreaRight" b="textAreaBottom"/>
              <a:pathLst>
                <a:path w="21600" h="32326">
                  <a:moveTo>
                    <a:pt x="9127" y="0"/>
                  </a:moveTo>
                  <a:arcTo wR="9127" hR="9127" stAng="16200000" swAng="-5400000"/>
                  <a:lnTo>
                    <a:pt x="0" y="23199"/>
                  </a:lnTo>
                  <a:arcTo wR="9127" hR="9127" stAng="10800000" swAng="-5400000"/>
                  <a:lnTo>
                    <a:pt x="12473" y="32326"/>
                  </a:lnTo>
                  <a:arcTo wR="9127" hR="9127" stAng="5400000" swAng="-5400000"/>
                  <a:lnTo>
                    <a:pt x="21600" y="9127"/>
                  </a:lnTo>
                  <a:arcTo wR="9127" hR="9127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53160" y="5295960"/>
              <a:ext cx="189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74040" y="3855960"/>
              <a:ext cx="189000" cy="292320"/>
            </a:xfrm>
            <a:custGeom>
              <a:avLst/>
              <a:gdLst>
                <a:gd name="textAreaLeft" fmla="*/ 25920 w 189000"/>
                <a:gd name="textAreaRight" fmla="*/ 163080 w 189000"/>
                <a:gd name="textAreaTop" fmla="*/ 25920 h 292320"/>
                <a:gd name="textAreaBottom" fmla="*/ 266400 h 292320"/>
              </a:gdLst>
              <a:ahLst/>
              <a:rect l="textAreaLeft" t="textAreaTop" r="textAreaRight" b="textAreaBottom"/>
              <a:pathLst>
                <a:path w="21600" h="33386">
                  <a:moveTo>
                    <a:pt x="10125" y="0"/>
                  </a:moveTo>
                  <a:arcTo wR="10125" hR="10125" stAng="16200000" swAng="-5400000"/>
                  <a:lnTo>
                    <a:pt x="0" y="23261"/>
                  </a:lnTo>
                  <a:arcTo wR="10125" hR="10125" stAng="10800000" swAng="-5400000"/>
                  <a:lnTo>
                    <a:pt x="11475" y="33386"/>
                  </a:lnTo>
                  <a:arcTo wR="10125" hR="10125" stAng="5400000" swAng="-5400000"/>
                  <a:lnTo>
                    <a:pt x="21600" y="10125"/>
                  </a:lnTo>
                  <a:arcTo wR="10125" hR="10125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74040" y="3855960"/>
              <a:ext cx="207720" cy="314280"/>
            </a:xfrm>
            <a:custGeom>
              <a:avLst/>
              <a:gdLst>
                <a:gd name="textAreaLeft" fmla="*/ 25560 w 207720"/>
                <a:gd name="textAreaRight" fmla="*/ 182160 w 207720"/>
                <a:gd name="textAreaTop" fmla="*/ 25560 h 314280"/>
                <a:gd name="textAreaBottom" fmla="*/ 288720 h 314280"/>
              </a:gdLst>
              <a:ahLst/>
              <a:rect l="textAreaLeft" t="textAreaTop" r="textAreaRight" b="textAreaBottom"/>
              <a:pathLst>
                <a:path w="21600" h="32662">
                  <a:moveTo>
                    <a:pt x="9127" y="0"/>
                  </a:moveTo>
                  <a:arcTo wR="9127" hR="9127" stAng="16200000" swAng="-5400000"/>
                  <a:lnTo>
                    <a:pt x="0" y="23535"/>
                  </a:lnTo>
                  <a:arcTo wR="9127" hR="9127" stAng="10800000" swAng="-5400000"/>
                  <a:lnTo>
                    <a:pt x="12473" y="32662"/>
                  </a:lnTo>
                  <a:arcTo wR="9127" hR="9127" stAng="5400000" swAng="-5400000"/>
                  <a:lnTo>
                    <a:pt x="21600" y="9127"/>
                  </a:lnTo>
                  <a:arcTo wR="9127" hR="9127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574040" y="4013280"/>
              <a:ext cx="189000" cy="1350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74040" y="4013280"/>
              <a:ext cx="207720" cy="15696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574040" y="3855960"/>
              <a:ext cx="207720" cy="314280"/>
            </a:xfrm>
            <a:custGeom>
              <a:avLst/>
              <a:gdLst>
                <a:gd name="textAreaLeft" fmla="*/ 25560 w 207720"/>
                <a:gd name="textAreaRight" fmla="*/ 182160 w 207720"/>
                <a:gd name="textAreaTop" fmla="*/ 25560 h 314280"/>
                <a:gd name="textAreaBottom" fmla="*/ 288720 h 314280"/>
              </a:gdLst>
              <a:ahLst/>
              <a:rect l="textAreaLeft" t="textAreaTop" r="textAreaRight" b="textAreaBottom"/>
              <a:pathLst>
                <a:path w="21600" h="32662">
                  <a:moveTo>
                    <a:pt x="9127" y="0"/>
                  </a:moveTo>
                  <a:arcTo wR="9127" hR="9127" stAng="16200000" swAng="-5400000"/>
                  <a:lnTo>
                    <a:pt x="0" y="23535"/>
                  </a:lnTo>
                  <a:arcTo wR="9127" hR="9127" stAng="10800000" swAng="-5400000"/>
                  <a:lnTo>
                    <a:pt x="12473" y="32662"/>
                  </a:lnTo>
                  <a:arcTo wR="9127" hR="9127" stAng="5400000" swAng="-5400000"/>
                  <a:lnTo>
                    <a:pt x="21600" y="9127"/>
                  </a:lnTo>
                  <a:arcTo wR="9127" hR="9127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74040" y="3990960"/>
              <a:ext cx="189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74040" y="3405240"/>
              <a:ext cx="189000" cy="293760"/>
            </a:xfrm>
            <a:custGeom>
              <a:avLst/>
              <a:gdLst>
                <a:gd name="textAreaLeft" fmla="*/ 25920 w 189000"/>
                <a:gd name="textAreaRight" fmla="*/ 163080 w 189000"/>
                <a:gd name="textAreaTop" fmla="*/ 25920 h 293760"/>
                <a:gd name="textAreaBottom" fmla="*/ 267840 h 293760"/>
              </a:gdLst>
              <a:ahLst/>
              <a:rect l="textAreaLeft" t="textAreaTop" r="textAreaRight" b="textAreaBottom"/>
              <a:pathLst>
                <a:path w="21600" h="33550">
                  <a:moveTo>
                    <a:pt x="10125" y="0"/>
                  </a:moveTo>
                  <a:arcTo wR="10125" hR="10125" stAng="16200000" swAng="-5400000"/>
                  <a:lnTo>
                    <a:pt x="0" y="23425"/>
                  </a:lnTo>
                  <a:arcTo wR="10125" hR="10125" stAng="10800000" swAng="-5400000"/>
                  <a:lnTo>
                    <a:pt x="11475" y="33550"/>
                  </a:lnTo>
                  <a:arcTo wR="10125" hR="10125" stAng="5400000" swAng="-5400000"/>
                  <a:lnTo>
                    <a:pt x="21600" y="10125"/>
                  </a:lnTo>
                  <a:arcTo wR="10125" hR="10125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74040" y="3405240"/>
              <a:ext cx="207720" cy="315720"/>
            </a:xfrm>
            <a:custGeom>
              <a:avLst/>
              <a:gdLst>
                <a:gd name="textAreaLeft" fmla="*/ 25560 w 207720"/>
                <a:gd name="textAreaRight" fmla="*/ 182160 w 207720"/>
                <a:gd name="textAreaTop" fmla="*/ 25560 h 315720"/>
                <a:gd name="textAreaBottom" fmla="*/ 290160 h 315720"/>
              </a:gdLst>
              <a:ahLst/>
              <a:rect l="textAreaLeft" t="textAreaTop" r="textAreaRight" b="textAreaBottom"/>
              <a:pathLst>
                <a:path w="21600" h="32811">
                  <a:moveTo>
                    <a:pt x="9127" y="0"/>
                  </a:moveTo>
                  <a:arcTo wR="9127" hR="9127" stAng="16200000" swAng="-5400000"/>
                  <a:lnTo>
                    <a:pt x="0" y="23684"/>
                  </a:lnTo>
                  <a:arcTo wR="9127" hR="9127" stAng="10800000" swAng="-5400000"/>
                  <a:lnTo>
                    <a:pt x="12473" y="32811"/>
                  </a:lnTo>
                  <a:arcTo wR="9127" hR="9127" stAng="5400000" swAng="-5400000"/>
                  <a:lnTo>
                    <a:pt x="21600" y="9127"/>
                  </a:lnTo>
                  <a:arcTo wR="9127" hR="9127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74040" y="3564000"/>
              <a:ext cx="189000" cy="1350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74040" y="3564000"/>
              <a:ext cx="207720" cy="15696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74040" y="3405240"/>
              <a:ext cx="207720" cy="315720"/>
            </a:xfrm>
            <a:custGeom>
              <a:avLst/>
              <a:gdLst>
                <a:gd name="textAreaLeft" fmla="*/ 25560 w 207720"/>
                <a:gd name="textAreaRight" fmla="*/ 182160 w 207720"/>
                <a:gd name="textAreaTop" fmla="*/ 25560 h 315720"/>
                <a:gd name="textAreaBottom" fmla="*/ 290160 h 315720"/>
              </a:gdLst>
              <a:ahLst/>
              <a:rect l="textAreaLeft" t="textAreaTop" r="textAreaRight" b="textAreaBottom"/>
              <a:pathLst>
                <a:path w="21600" h="32811">
                  <a:moveTo>
                    <a:pt x="9127" y="0"/>
                  </a:moveTo>
                  <a:arcTo wR="9127" hR="9127" stAng="16200000" swAng="-5400000"/>
                  <a:lnTo>
                    <a:pt x="0" y="23684"/>
                  </a:lnTo>
                  <a:arcTo wR="9127" hR="9127" stAng="10800000" swAng="-5400000"/>
                  <a:lnTo>
                    <a:pt x="12473" y="32811"/>
                  </a:lnTo>
                  <a:arcTo wR="9127" hR="9127" stAng="5400000" swAng="-5400000"/>
                  <a:lnTo>
                    <a:pt x="21600" y="9127"/>
                  </a:lnTo>
                  <a:arcTo wR="9127" hR="9127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74040" y="3540240"/>
              <a:ext cx="189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74040" y="2168640"/>
              <a:ext cx="189000" cy="291960"/>
            </a:xfrm>
            <a:custGeom>
              <a:avLst/>
              <a:gdLst>
                <a:gd name="textAreaLeft" fmla="*/ 25920 w 189000"/>
                <a:gd name="textAreaRight" fmla="*/ 163080 w 189000"/>
                <a:gd name="textAreaTop" fmla="*/ 25920 h 291960"/>
                <a:gd name="textAreaBottom" fmla="*/ 266040 h 291960"/>
              </a:gdLst>
              <a:ahLst/>
              <a:rect l="textAreaLeft" t="textAreaTop" r="textAreaRight" b="textAreaBottom"/>
              <a:pathLst>
                <a:path w="21600" h="33344">
                  <a:moveTo>
                    <a:pt x="10125" y="0"/>
                  </a:moveTo>
                  <a:arcTo wR="10125" hR="10125" stAng="16200000" swAng="-5400000"/>
                  <a:lnTo>
                    <a:pt x="0" y="23219"/>
                  </a:lnTo>
                  <a:arcTo wR="10125" hR="10125" stAng="10800000" swAng="-5400000"/>
                  <a:lnTo>
                    <a:pt x="11475" y="33344"/>
                  </a:lnTo>
                  <a:arcTo wR="10125" hR="10125" stAng="5400000" swAng="-5400000"/>
                  <a:lnTo>
                    <a:pt x="21600" y="10125"/>
                  </a:lnTo>
                  <a:arcTo wR="10125" hR="10125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574040" y="2168640"/>
              <a:ext cx="207720" cy="314280"/>
            </a:xfrm>
            <a:custGeom>
              <a:avLst/>
              <a:gdLst>
                <a:gd name="textAreaLeft" fmla="*/ 25560 w 207720"/>
                <a:gd name="textAreaRight" fmla="*/ 182160 w 207720"/>
                <a:gd name="textAreaTop" fmla="*/ 25560 h 314280"/>
                <a:gd name="textAreaBottom" fmla="*/ 288720 h 314280"/>
              </a:gdLst>
              <a:ahLst/>
              <a:rect l="textAreaLeft" t="textAreaTop" r="textAreaRight" b="textAreaBottom"/>
              <a:pathLst>
                <a:path w="21600" h="32662">
                  <a:moveTo>
                    <a:pt x="9127" y="0"/>
                  </a:moveTo>
                  <a:arcTo wR="9127" hR="9127" stAng="16200000" swAng="-5400000"/>
                  <a:lnTo>
                    <a:pt x="0" y="23535"/>
                  </a:lnTo>
                  <a:arcTo wR="9127" hR="9127" stAng="10800000" swAng="-5400000"/>
                  <a:lnTo>
                    <a:pt x="12473" y="32662"/>
                  </a:lnTo>
                  <a:arcTo wR="9127" hR="9127" stAng="5400000" swAng="-5400000"/>
                  <a:lnTo>
                    <a:pt x="21600" y="9127"/>
                  </a:lnTo>
                  <a:arcTo wR="9127" hR="9127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74040" y="2325600"/>
              <a:ext cx="189000" cy="1350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74040" y="2325600"/>
              <a:ext cx="207720" cy="15732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574040" y="2168640"/>
              <a:ext cx="207720" cy="314280"/>
            </a:xfrm>
            <a:custGeom>
              <a:avLst/>
              <a:gdLst>
                <a:gd name="textAreaLeft" fmla="*/ 25560 w 207720"/>
                <a:gd name="textAreaRight" fmla="*/ 182160 w 207720"/>
                <a:gd name="textAreaTop" fmla="*/ 25560 h 314280"/>
                <a:gd name="textAreaBottom" fmla="*/ 288720 h 314280"/>
              </a:gdLst>
              <a:ahLst/>
              <a:rect l="textAreaLeft" t="textAreaTop" r="textAreaRight" b="textAreaBottom"/>
              <a:pathLst>
                <a:path w="21600" h="32662">
                  <a:moveTo>
                    <a:pt x="9127" y="0"/>
                  </a:moveTo>
                  <a:arcTo wR="9127" hR="9127" stAng="16200000" swAng="-5400000"/>
                  <a:lnTo>
                    <a:pt x="0" y="23535"/>
                  </a:lnTo>
                  <a:arcTo wR="9127" hR="9127" stAng="10800000" swAng="-5400000"/>
                  <a:lnTo>
                    <a:pt x="12473" y="32662"/>
                  </a:lnTo>
                  <a:arcTo wR="9127" hR="9127" stAng="5400000" swAng="-5400000"/>
                  <a:lnTo>
                    <a:pt x="21600" y="9127"/>
                  </a:lnTo>
                  <a:arcTo wR="9127" hR="9127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74040" y="2303640"/>
              <a:ext cx="189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83360" y="4170240"/>
              <a:ext cx="208080" cy="292320"/>
            </a:xfrm>
            <a:custGeom>
              <a:avLst/>
              <a:gdLst>
                <a:gd name="textAreaLeft" fmla="*/ 25560 w 208080"/>
                <a:gd name="textAreaRight" fmla="*/ 182520 w 208080"/>
                <a:gd name="textAreaTop" fmla="*/ 25560 h 292320"/>
                <a:gd name="textAreaBottom" fmla="*/ 266760 h 292320"/>
              </a:gdLst>
              <a:ahLst/>
              <a:rect l="textAreaLeft" t="textAreaTop" r="textAreaRight" b="textAreaBottom"/>
              <a:pathLst>
                <a:path w="21600" h="30330">
                  <a:moveTo>
                    <a:pt x="9127" y="0"/>
                  </a:moveTo>
                  <a:arcTo wR="9127" hR="9127" stAng="16200000" swAng="-5400000"/>
                  <a:lnTo>
                    <a:pt x="0" y="21203"/>
                  </a:lnTo>
                  <a:arcTo wR="9127" hR="9127" stAng="10800000" swAng="-5400000"/>
                  <a:lnTo>
                    <a:pt x="12473" y="30330"/>
                  </a:lnTo>
                  <a:arcTo wR="9127" hR="9127" stAng="5400000" swAng="-5400000"/>
                  <a:lnTo>
                    <a:pt x="21600" y="9127"/>
                  </a:lnTo>
                  <a:arcTo wR="9127" hR="9127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83360" y="4170240"/>
              <a:ext cx="228600" cy="316080"/>
            </a:xfrm>
            <a:custGeom>
              <a:avLst/>
              <a:gdLst>
                <a:gd name="textAreaLeft" fmla="*/ 25560 w 228600"/>
                <a:gd name="textAreaRight" fmla="*/ 203040 w 228600"/>
                <a:gd name="textAreaTop" fmla="*/ 25560 h 316080"/>
                <a:gd name="textAreaBottom" fmla="*/ 290520 h 316080"/>
              </a:gdLst>
              <a:ahLst/>
              <a:rect l="textAreaLeft" t="textAreaTop" r="textAreaRight" b="textAreaBottom"/>
              <a:pathLst>
                <a:path w="21600" h="29853">
                  <a:moveTo>
                    <a:pt x="8308" y="0"/>
                  </a:moveTo>
                  <a:arcTo wR="8308" hR="8308" stAng="16200000" swAng="-5400000"/>
                  <a:lnTo>
                    <a:pt x="0" y="21545"/>
                  </a:lnTo>
                  <a:arcTo wR="8308" hR="8308" stAng="10800000" swAng="-5400000"/>
                  <a:lnTo>
                    <a:pt x="13292" y="29853"/>
                  </a:lnTo>
                  <a:arcTo wR="8308" hR="8308" stAng="5400000" swAng="-5400000"/>
                  <a:lnTo>
                    <a:pt x="21600" y="8308"/>
                  </a:lnTo>
                  <a:arcTo wR="8308" hR="8308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03880" y="4327560"/>
              <a:ext cx="187560" cy="1587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03880" y="4327560"/>
              <a:ext cx="208080" cy="18108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83360" y="4170240"/>
              <a:ext cx="228600" cy="316080"/>
            </a:xfrm>
            <a:custGeom>
              <a:avLst/>
              <a:gdLst>
                <a:gd name="textAreaLeft" fmla="*/ 25560 w 228600"/>
                <a:gd name="textAreaRight" fmla="*/ 203040 w 228600"/>
                <a:gd name="textAreaTop" fmla="*/ 25560 h 316080"/>
                <a:gd name="textAreaBottom" fmla="*/ 290520 h 316080"/>
              </a:gdLst>
              <a:ahLst/>
              <a:rect l="textAreaLeft" t="textAreaTop" r="textAreaRight" b="textAreaBottom"/>
              <a:pathLst>
                <a:path w="21600" h="29853">
                  <a:moveTo>
                    <a:pt x="8308" y="0"/>
                  </a:moveTo>
                  <a:arcTo wR="8308" hR="8308" stAng="16200000" swAng="-5400000"/>
                  <a:lnTo>
                    <a:pt x="0" y="21545"/>
                  </a:lnTo>
                  <a:arcTo wR="8308" hR="8308" stAng="10800000" swAng="-5400000"/>
                  <a:lnTo>
                    <a:pt x="13292" y="29853"/>
                  </a:lnTo>
                  <a:arcTo wR="8308" hR="8308" stAng="5400000" swAng="-5400000"/>
                  <a:lnTo>
                    <a:pt x="21600" y="8308"/>
                  </a:lnTo>
                  <a:arcTo wR="8308" hR="8308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83360" y="4327560"/>
              <a:ext cx="208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03880" y="2978280"/>
              <a:ext cx="187560" cy="314280"/>
            </a:xfrm>
            <a:custGeom>
              <a:avLst/>
              <a:gdLst>
                <a:gd name="textAreaLeft" fmla="*/ 25560 w 187560"/>
                <a:gd name="textAreaRight" fmla="*/ 162000 w 187560"/>
                <a:gd name="textAreaTop" fmla="*/ 25560 h 314280"/>
                <a:gd name="textAreaBottom" fmla="*/ 288720 h 314280"/>
              </a:gdLst>
              <a:ahLst/>
              <a:rect l="textAreaLeft" t="textAreaTop" r="textAreaRight" b="textAreaBottom"/>
              <a:pathLst>
                <a:path w="21600" h="36166">
                  <a:moveTo>
                    <a:pt x="10125" y="0"/>
                  </a:moveTo>
                  <a:arcTo wR="10125" hR="10125" stAng="16200000" swAng="-5400000"/>
                  <a:lnTo>
                    <a:pt x="0" y="26041"/>
                  </a:lnTo>
                  <a:arcTo wR="10125" hR="10125" stAng="10800000" swAng="-5400000"/>
                  <a:lnTo>
                    <a:pt x="11475" y="36166"/>
                  </a:lnTo>
                  <a:arcTo wR="10125" hR="10125" stAng="5400000" swAng="-5400000"/>
                  <a:lnTo>
                    <a:pt x="21600" y="10125"/>
                  </a:lnTo>
                  <a:arcTo wR="10125" hR="10125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03880" y="2978280"/>
              <a:ext cx="208080" cy="338040"/>
            </a:xfrm>
            <a:custGeom>
              <a:avLst/>
              <a:gdLst>
                <a:gd name="textAreaLeft" fmla="*/ 25560 w 208080"/>
                <a:gd name="textAreaRight" fmla="*/ 182520 w 208080"/>
                <a:gd name="textAreaTop" fmla="*/ 25560 h 338040"/>
                <a:gd name="textAreaBottom" fmla="*/ 312480 h 338040"/>
              </a:gdLst>
              <a:ahLst/>
              <a:rect l="textAreaLeft" t="textAreaTop" r="textAreaRight" b="textAreaBottom"/>
              <a:pathLst>
                <a:path w="21600" h="35067">
                  <a:moveTo>
                    <a:pt x="9127" y="0"/>
                  </a:moveTo>
                  <a:arcTo wR="9127" hR="9127" stAng="16200000" swAng="-5400000"/>
                  <a:lnTo>
                    <a:pt x="0" y="25940"/>
                  </a:lnTo>
                  <a:arcTo wR="9127" hR="9127" stAng="10800000" swAng="-5400000"/>
                  <a:lnTo>
                    <a:pt x="12473" y="35067"/>
                  </a:lnTo>
                  <a:arcTo wR="9127" hR="9127" stAng="5400000" swAng="-5400000"/>
                  <a:lnTo>
                    <a:pt x="21600" y="9127"/>
                  </a:lnTo>
                  <a:arcTo wR="9127" hR="9127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03880" y="3135240"/>
              <a:ext cx="187560" cy="1573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203880" y="3135240"/>
              <a:ext cx="208080" cy="18108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203880" y="2978280"/>
              <a:ext cx="208080" cy="338040"/>
            </a:xfrm>
            <a:custGeom>
              <a:avLst/>
              <a:gdLst>
                <a:gd name="textAreaLeft" fmla="*/ 25560 w 208080"/>
                <a:gd name="textAreaRight" fmla="*/ 182520 w 208080"/>
                <a:gd name="textAreaTop" fmla="*/ 25560 h 338040"/>
                <a:gd name="textAreaBottom" fmla="*/ 312480 h 338040"/>
              </a:gdLst>
              <a:ahLst/>
              <a:rect l="textAreaLeft" t="textAreaTop" r="textAreaRight" b="textAreaBottom"/>
              <a:pathLst>
                <a:path w="21600" h="35067">
                  <a:moveTo>
                    <a:pt x="9127" y="0"/>
                  </a:moveTo>
                  <a:arcTo wR="9127" hR="9127" stAng="16200000" swAng="-5400000"/>
                  <a:lnTo>
                    <a:pt x="0" y="25940"/>
                  </a:lnTo>
                  <a:arcTo wR="9127" hR="9127" stAng="10800000" swAng="-5400000"/>
                  <a:lnTo>
                    <a:pt x="12473" y="35067"/>
                  </a:lnTo>
                  <a:arcTo wR="9127" hR="9127" stAng="5400000" swAng="-5400000"/>
                  <a:lnTo>
                    <a:pt x="21600" y="9127"/>
                  </a:lnTo>
                  <a:arcTo wR="9127" hR="9127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03880" y="3135240"/>
              <a:ext cx="1875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62520" y="271944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48480" y="456408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191360" y="1886040"/>
              <a:ext cx="159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472520" y="305604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38520" y="30290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30680" y="3154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38520" y="411948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7680" y="4243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54400" y="220176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62760" y="2316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15400" y="3033720"/>
              <a:ext cx="489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172280" y="485604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08480" y="3135240"/>
              <a:ext cx="81000" cy="6840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14" y="29"/>
                  </a:moveTo>
                  <a:lnTo>
                    <a:pt x="0" y="0"/>
                  </a:lnTo>
                  <a:lnTo>
                    <a:pt x="56" y="0"/>
                  </a:lnTo>
                  <a:lnTo>
                    <a:pt x="42" y="43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772160" y="3180960"/>
              <a:ext cx="457200" cy="31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229360" y="4192560"/>
              <a:ext cx="8244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14" y="29"/>
                  </a:moveTo>
                  <a:lnTo>
                    <a:pt x="28" y="0"/>
                  </a:lnTo>
                  <a:lnTo>
                    <a:pt x="57" y="57"/>
                  </a:lnTo>
                  <a:lnTo>
                    <a:pt x="0" y="57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72160" y="3855960"/>
              <a:ext cx="476280" cy="38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20040" y="2325600"/>
              <a:ext cx="82440" cy="9072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15" y="28"/>
                  </a:moveTo>
                  <a:lnTo>
                    <a:pt x="0" y="0"/>
                  </a:lnTo>
                  <a:lnTo>
                    <a:pt x="57" y="0"/>
                  </a:lnTo>
                  <a:lnTo>
                    <a:pt x="29" y="5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5746680" y="2370240"/>
              <a:ext cx="893880" cy="652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640560" y="3451320"/>
              <a:ext cx="8244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0" y="28"/>
                  </a:moveTo>
                  <a:lnTo>
                    <a:pt x="14" y="0"/>
                  </a:lnTo>
                  <a:lnTo>
                    <a:pt x="56" y="28"/>
                  </a:lnTo>
                  <a:lnTo>
                    <a:pt x="0" y="5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46680" y="3316320"/>
              <a:ext cx="89388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61080" y="3968640"/>
              <a:ext cx="84240" cy="889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0" y="28"/>
                  </a:moveTo>
                  <a:lnTo>
                    <a:pt x="0" y="0"/>
                  </a:lnTo>
                  <a:lnTo>
                    <a:pt x="57" y="14"/>
                  </a:lnTo>
                  <a:lnTo>
                    <a:pt x="14" y="5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767560" y="4012920"/>
              <a:ext cx="893520" cy="13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61080" y="5160960"/>
              <a:ext cx="8424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14" y="28"/>
                  </a:moveTo>
                  <a:lnTo>
                    <a:pt x="28" y="0"/>
                  </a:lnTo>
                  <a:lnTo>
                    <a:pt x="57" y="57"/>
                  </a:lnTo>
                  <a:lnTo>
                    <a:pt x="0" y="57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89520" y="4440240"/>
              <a:ext cx="871560" cy="76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00920" y="3090960"/>
              <a:ext cx="82440" cy="112680"/>
            </a:xfrm>
            <a:custGeom>
              <a:avLst/>
              <a:gdLst/>
              <a:ahLst/>
              <a:rect l="l" t="t" r="r" b="b"/>
              <a:pathLst>
                <a:path w="57" h="71">
                  <a:moveTo>
                    <a:pt x="0" y="28"/>
                  </a:moveTo>
                  <a:lnTo>
                    <a:pt x="0" y="0"/>
                  </a:lnTo>
                  <a:lnTo>
                    <a:pt x="57" y="28"/>
                  </a:lnTo>
                  <a:lnTo>
                    <a:pt x="0" y="7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46680" y="3135240"/>
              <a:ext cx="3542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00920" y="4260960"/>
              <a:ext cx="8244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0" y="28"/>
                  </a:moveTo>
                  <a:lnTo>
                    <a:pt x="0" y="0"/>
                  </a:lnTo>
                  <a:lnTo>
                    <a:pt x="57" y="28"/>
                  </a:lnTo>
                  <a:lnTo>
                    <a:pt x="0" y="5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46680" y="4305240"/>
              <a:ext cx="3542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23920" y="36068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02200" y="33638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942240" y="34956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43240" y="38894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50160" y="4038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29200" y="51721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935760" y="53211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72520" y="2257560"/>
              <a:ext cx="80640" cy="112680"/>
            </a:xfrm>
            <a:custGeom>
              <a:avLst/>
              <a:gdLst/>
              <a:ahLst/>
              <a:rect l="l" t="t" r="r" b="b"/>
              <a:pathLst>
                <a:path w="56" h="71">
                  <a:moveTo>
                    <a:pt x="0" y="29"/>
                  </a:moveTo>
                  <a:lnTo>
                    <a:pt x="0" y="0"/>
                  </a:lnTo>
                  <a:lnTo>
                    <a:pt x="56" y="29"/>
                  </a:lnTo>
                  <a:lnTo>
                    <a:pt x="0" y="7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0200" y="2303640"/>
              <a:ext cx="2923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72520" y="3495600"/>
              <a:ext cx="80640" cy="9072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0" y="28"/>
                  </a:moveTo>
                  <a:lnTo>
                    <a:pt x="0" y="0"/>
                  </a:lnTo>
                  <a:lnTo>
                    <a:pt x="56" y="28"/>
                  </a:lnTo>
                  <a:lnTo>
                    <a:pt x="0" y="5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0200" y="3540240"/>
              <a:ext cx="270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472520" y="3944880"/>
              <a:ext cx="80640" cy="9072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0" y="29"/>
                  </a:moveTo>
                  <a:lnTo>
                    <a:pt x="0" y="0"/>
                  </a:lnTo>
                  <a:lnTo>
                    <a:pt x="56" y="29"/>
                  </a:lnTo>
                  <a:lnTo>
                    <a:pt x="0" y="57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59680" y="3990960"/>
              <a:ext cx="31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472520" y="5205240"/>
              <a:ext cx="80640" cy="113040"/>
            </a:xfrm>
            <a:custGeom>
              <a:avLst/>
              <a:gdLst/>
              <a:ahLst/>
              <a:rect l="l" t="t" r="r" b="b"/>
              <a:pathLst>
                <a:path w="56" h="71">
                  <a:moveTo>
                    <a:pt x="0" y="43"/>
                  </a:moveTo>
                  <a:lnTo>
                    <a:pt x="0" y="0"/>
                  </a:lnTo>
                  <a:lnTo>
                    <a:pt x="56" y="43"/>
                  </a:lnTo>
                  <a:lnTo>
                    <a:pt x="0" y="7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180200" y="5273640"/>
              <a:ext cx="2923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51000" y="3206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1990800" y="2435400"/>
              <a:ext cx="974520" cy="1211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90800" y="3803760"/>
              <a:ext cx="954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82720" y="3632040"/>
              <a:ext cx="430200" cy="376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25280" y="37274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90800" y="3983040"/>
              <a:ext cx="974520" cy="130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/>
          <p:nvPr/>
        </p:nvSpPr>
        <p:spPr>
          <a:xfrm>
            <a:off x="3925800" y="2144880"/>
            <a:ext cx="4710240" cy="113004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46040" y="2144880"/>
            <a:ext cx="4710240" cy="113004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1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og for banking servic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92120" y="1881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98320" y="19382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898720" y="1881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004920" y="19382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700440" y="1881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806640" y="19382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502160" y="1881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609800" y="19382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303880" y="1881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411520" y="19382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267600" y="1881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373440" y="19382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7070760" y="1881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176960" y="19382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7872480" y="1881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978680" y="19382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266840" y="1941480"/>
            <a:ext cx="190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070000" y="1941480"/>
            <a:ext cx="176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871720" y="1941480"/>
            <a:ext cx="176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675240" y="1941480"/>
            <a:ext cx="172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476600" y="1941480"/>
            <a:ext cx="176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280120" y="1941480"/>
            <a:ext cx="172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240600" y="1941480"/>
            <a:ext cx="190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043760" y="1941480"/>
            <a:ext cx="172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845480" y="1941480"/>
            <a:ext cx="172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54320" y="2182680"/>
            <a:ext cx="59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044720" y="21826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256040" y="2182680"/>
            <a:ext cx="59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846080" y="21826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046600" y="2182680"/>
            <a:ext cx="59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648880" y="21826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873520" y="2182680"/>
            <a:ext cx="59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451320" y="21826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662640" y="2182680"/>
            <a:ext cx="59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254480" y="21826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413600" y="2182680"/>
            <a:ext cx="569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019480" y="2182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202720" y="2182680"/>
            <a:ext cx="569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821200" y="2182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191280" y="2182680"/>
            <a:ext cx="59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819120" y="21826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994440" y="2182680"/>
            <a:ext cx="64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675560" y="21826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770960" y="2195640"/>
            <a:ext cx="569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8389440" y="21826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91040" y="239544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293120" y="2395440"/>
            <a:ext cx="357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095920" y="239544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898000" y="23954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699360" y="239544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502160" y="2395440"/>
            <a:ext cx="71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p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240520" y="2395440"/>
            <a:ext cx="86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it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266520" y="239544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7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069680" y="239544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872480" y="2395440"/>
            <a:ext cx="71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p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501800" y="260820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610160" y="2608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716720" y="2608200"/>
            <a:ext cx="10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824360" y="2608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930560" y="26654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038200" y="260820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872120" y="260820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977960" y="260820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8104320" y="2608200"/>
            <a:ext cx="10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8210520" y="2608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8318160" y="26654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8415000" y="260820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501800" y="281952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610160" y="281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716720" y="2819520"/>
            <a:ext cx="10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824360" y="281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930560" y="28764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038200" y="281952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872120" y="281952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7978680" y="281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8086680" y="2819520"/>
            <a:ext cx="10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8193240" y="281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300880" y="28764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8397360" y="281952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502160" y="303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609800" y="30891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303880" y="303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411520" y="30891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872480" y="303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978680" y="30891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44600" y="2146320"/>
            <a:ext cx="820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220760" y="2146320"/>
            <a:ext cx="0" cy="1144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44600" y="3290760"/>
            <a:ext cx="820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014560" y="2146320"/>
            <a:ext cx="0" cy="1144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789280" y="2163600"/>
            <a:ext cx="0" cy="1144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840040" y="2163600"/>
            <a:ext cx="0" cy="1144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616200" y="2147760"/>
            <a:ext cx="0" cy="1144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406760" y="2147760"/>
            <a:ext cx="0" cy="1144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200560" y="2146320"/>
            <a:ext cx="0" cy="1144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985080" y="2146320"/>
            <a:ext cx="0" cy="1144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7826400" y="2146320"/>
            <a:ext cx="0" cy="1144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8653320" y="1897200"/>
            <a:ext cx="0" cy="1358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28760" y="1897200"/>
            <a:ext cx="0" cy="1358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800680" y="3449520"/>
            <a:ext cx="158760" cy="169920"/>
          </a:xfrm>
          <a:custGeom>
            <a:avLst/>
            <a:gdLst/>
            <a:ahLst/>
            <a:rect l="l" t="t" r="r" b="b"/>
            <a:pathLst>
              <a:path w="109" h="107">
                <a:moveTo>
                  <a:pt x="82" y="80"/>
                </a:moveTo>
                <a:lnTo>
                  <a:pt x="54" y="107"/>
                </a:lnTo>
                <a:lnTo>
                  <a:pt x="0" y="0"/>
                </a:lnTo>
                <a:lnTo>
                  <a:pt x="109" y="67"/>
                </a:lnTo>
                <a:lnTo>
                  <a:pt x="82" y="8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915160" y="3289320"/>
            <a:ext cx="2284200" cy="620640"/>
          </a:xfrm>
          <a:custGeom>
            <a:avLst/>
            <a:gdLst/>
            <a:ahLst/>
            <a:rect l="l" t="t" r="r" b="b"/>
            <a:pathLst>
              <a:path w="1364" h="306">
                <a:moveTo>
                  <a:pt x="1364" y="0"/>
                </a:moveTo>
                <a:lnTo>
                  <a:pt x="1310" y="120"/>
                </a:lnTo>
                <a:lnTo>
                  <a:pt x="1160" y="213"/>
                </a:lnTo>
                <a:lnTo>
                  <a:pt x="941" y="280"/>
                </a:lnTo>
                <a:lnTo>
                  <a:pt x="682" y="306"/>
                </a:lnTo>
                <a:lnTo>
                  <a:pt x="273" y="280"/>
                </a:lnTo>
                <a:lnTo>
                  <a:pt x="109" y="240"/>
                </a:lnTo>
                <a:lnTo>
                  <a:pt x="0" y="16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780080" y="3416400"/>
            <a:ext cx="120600" cy="190440"/>
          </a:xfrm>
          <a:custGeom>
            <a:avLst/>
            <a:gdLst/>
            <a:ahLst/>
            <a:rect l="l" t="t" r="r" b="b"/>
            <a:pathLst>
              <a:path w="82" h="120">
                <a:moveTo>
                  <a:pt x="41" y="107"/>
                </a:moveTo>
                <a:lnTo>
                  <a:pt x="14" y="120"/>
                </a:lnTo>
                <a:lnTo>
                  <a:pt x="0" y="0"/>
                </a:lnTo>
                <a:lnTo>
                  <a:pt x="82" y="94"/>
                </a:lnTo>
                <a:lnTo>
                  <a:pt x="41" y="107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871880" y="3309840"/>
            <a:ext cx="858960" cy="523800"/>
          </a:xfrm>
          <a:custGeom>
            <a:avLst/>
            <a:gdLst/>
            <a:ahLst/>
            <a:rect l="l" t="t" r="r" b="b"/>
            <a:pathLst>
              <a:path w="586" h="306">
                <a:moveTo>
                  <a:pt x="586" y="0"/>
                </a:moveTo>
                <a:lnTo>
                  <a:pt x="573" y="120"/>
                </a:lnTo>
                <a:lnTo>
                  <a:pt x="505" y="213"/>
                </a:lnTo>
                <a:lnTo>
                  <a:pt x="409" y="280"/>
                </a:lnTo>
                <a:lnTo>
                  <a:pt x="286" y="306"/>
                </a:lnTo>
                <a:lnTo>
                  <a:pt x="109" y="280"/>
                </a:lnTo>
                <a:lnTo>
                  <a:pt x="41" y="240"/>
                </a:lnTo>
                <a:lnTo>
                  <a:pt x="0" y="17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864440" y="340524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268480" y="3548160"/>
            <a:ext cx="31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8126640" y="3781440"/>
            <a:ext cx="43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lo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09560" y="3444840"/>
            <a:ext cx="140040" cy="147600"/>
          </a:xfrm>
          <a:custGeom>
            <a:avLst/>
            <a:gdLst/>
            <a:ahLst/>
            <a:rect l="l" t="t" r="r" b="b"/>
            <a:pathLst>
              <a:path w="95" h="93">
                <a:moveTo>
                  <a:pt x="81" y="80"/>
                </a:moveTo>
                <a:lnTo>
                  <a:pt x="54" y="93"/>
                </a:lnTo>
                <a:lnTo>
                  <a:pt x="0" y="0"/>
                </a:lnTo>
                <a:lnTo>
                  <a:pt x="95" y="53"/>
                </a:lnTo>
                <a:lnTo>
                  <a:pt x="81" y="8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728720" y="3322800"/>
            <a:ext cx="2957760" cy="574560"/>
          </a:xfrm>
          <a:custGeom>
            <a:avLst/>
            <a:gdLst/>
            <a:ahLst/>
            <a:rect l="l" t="t" r="r" b="b"/>
            <a:pathLst>
              <a:path w="2198" h="306">
                <a:moveTo>
                  <a:pt x="2198" y="0"/>
                </a:moveTo>
                <a:lnTo>
                  <a:pt x="2184" y="53"/>
                </a:lnTo>
                <a:lnTo>
                  <a:pt x="2116" y="120"/>
                </a:lnTo>
                <a:lnTo>
                  <a:pt x="1884" y="213"/>
                </a:lnTo>
                <a:lnTo>
                  <a:pt x="1543" y="280"/>
                </a:lnTo>
                <a:lnTo>
                  <a:pt x="1106" y="306"/>
                </a:lnTo>
                <a:lnTo>
                  <a:pt x="437" y="280"/>
                </a:lnTo>
                <a:lnTo>
                  <a:pt x="178" y="226"/>
                </a:lnTo>
                <a:lnTo>
                  <a:pt x="0" y="13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143760" y="2146320"/>
            <a:ext cx="0" cy="1144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4" name=""/>
          <p:cNvGrpSpPr/>
          <p:nvPr/>
        </p:nvGrpSpPr>
        <p:grpSpPr>
          <a:xfrm>
            <a:off x="2770200" y="4506840"/>
            <a:ext cx="3973320" cy="292320"/>
            <a:chOff x="2770200" y="4506840"/>
            <a:chExt cx="3973320" cy="292320"/>
          </a:xfrm>
        </p:grpSpPr>
        <p:sp>
          <p:nvSpPr>
            <p:cNvPr id="1145" name=""/>
            <p:cNvSpPr/>
            <p:nvPr/>
          </p:nvSpPr>
          <p:spPr>
            <a:xfrm>
              <a:off x="4718160" y="4506840"/>
              <a:ext cx="2025360" cy="2923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770200" y="4506840"/>
              <a:ext cx="2025360" cy="2923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7" name=""/>
          <p:cNvSpPr/>
          <p:nvPr/>
        </p:nvSpPr>
        <p:spPr>
          <a:xfrm>
            <a:off x="4471920" y="1738440"/>
            <a:ext cx="3618000" cy="41904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979560" y="1738440"/>
            <a:ext cx="3618000" cy="41904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2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hadow vers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6770520" y="4506840"/>
            <a:ext cx="824040" cy="304920"/>
          </a:xfrm>
          <a:prstGeom prst="rect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547040" y="4506840"/>
            <a:ext cx="825480" cy="304920"/>
          </a:xfrm>
          <a:prstGeom prst="rect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814760" y="1792440"/>
            <a:ext cx="1132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ap at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791240" y="1792440"/>
            <a:ext cx="19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ap when T com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969560" y="218592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262600" y="2185920"/>
            <a:ext cx="11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445840" y="218592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626920" y="228456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357520" y="218592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5569560" y="2185920"/>
            <a:ext cx="11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832000" y="218592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013080" y="228456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969560" y="25462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149920" y="2546280"/>
            <a:ext cx="11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445840" y="25462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626920" y="264492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747880" y="2546280"/>
            <a:ext cx="4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357520" y="25462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569560" y="2546280"/>
            <a:ext cx="11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832000" y="25462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013080" y="264492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969920" y="2906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180160" y="2906640"/>
            <a:ext cx="11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474640" y="290664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655360" y="300528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778120" y="2906640"/>
            <a:ext cx="93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357520" y="2906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569560" y="2906640"/>
            <a:ext cx="11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862240" y="290664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044760" y="300528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164280" y="2906640"/>
            <a:ext cx="93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908440" y="4046400"/>
            <a:ext cx="163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052440" y="412416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768840" y="4046400"/>
            <a:ext cx="163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909600" y="412416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011480" y="4046400"/>
            <a:ext cx="57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532400" y="4046400"/>
            <a:ext cx="163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673160" y="412416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775400" y="4046400"/>
            <a:ext cx="109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280120" y="4046400"/>
            <a:ext cx="163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419440" y="412416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135840" y="4046400"/>
            <a:ext cx="163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281280" y="412416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899400" y="4046400"/>
            <a:ext cx="163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7044840" y="412416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7664400" y="4046400"/>
            <a:ext cx="163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7810200" y="412416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160640" y="3936960"/>
            <a:ext cx="2376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786040" y="3936960"/>
            <a:ext cx="2232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646440" y="3936960"/>
            <a:ext cx="2376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410000" y="3936960"/>
            <a:ext cx="2376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149800" y="3936960"/>
            <a:ext cx="2880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012000" y="3936960"/>
            <a:ext cx="2700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780240" y="3936960"/>
            <a:ext cx="2232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7542360" y="3936960"/>
            <a:ext cx="2376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8380440" y="3936960"/>
            <a:ext cx="2376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499400" y="4535640"/>
            <a:ext cx="1158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Version sto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968920" y="449748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834000" y="449748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594320" y="449748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5456880" y="44974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202440" y="449748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2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962760" y="451476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7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728120" y="451476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4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160640" y="4508640"/>
            <a:ext cx="1625400" cy="2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2786040" y="454644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noFill/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646440" y="4508640"/>
            <a:ext cx="1800" cy="144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410000" y="4508640"/>
            <a:ext cx="1800" cy="144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149800" y="4508640"/>
            <a:ext cx="1800" cy="144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012000" y="4508640"/>
            <a:ext cx="1440" cy="144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7542360" y="4525920"/>
            <a:ext cx="1440" cy="180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160640" y="4532400"/>
            <a:ext cx="2376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1160640" y="4818240"/>
            <a:ext cx="162540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786040" y="48182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noFill/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646440" y="4532400"/>
            <a:ext cx="1800" cy="261720"/>
          </a:xfrm>
          <a:prstGeom prst="line">
            <a:avLst/>
          </a:prstGeom>
          <a:ln w="39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3646440" y="4818240"/>
            <a:ext cx="1800" cy="144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376880" y="4532400"/>
            <a:ext cx="1440" cy="261720"/>
          </a:xfrm>
          <a:prstGeom prst="line">
            <a:avLst/>
          </a:prstGeom>
          <a:ln w="39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410000" y="4818240"/>
            <a:ext cx="1800" cy="144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149800" y="4532400"/>
            <a:ext cx="1800" cy="26172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149800" y="4818240"/>
            <a:ext cx="1800" cy="144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6012000" y="4532400"/>
            <a:ext cx="1440" cy="261720"/>
          </a:xfrm>
          <a:prstGeom prst="line">
            <a:avLst/>
          </a:prstGeom>
          <a:ln w="39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6012000" y="4818240"/>
            <a:ext cx="1440" cy="144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542360" y="4835520"/>
            <a:ext cx="1440" cy="144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445200" y="487692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heck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203800" y="4532400"/>
            <a:ext cx="1440" cy="26172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590080" y="2238480"/>
            <a:ext cx="18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211840" y="2577960"/>
            <a:ext cx="18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211840" y="2936880"/>
            <a:ext cx="18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590080" y="2560680"/>
            <a:ext cx="18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590080" y="2935440"/>
            <a:ext cx="18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211840" y="2220840"/>
            <a:ext cx="18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492800" y="1744560"/>
            <a:ext cx="0" cy="152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974880" y="1727280"/>
            <a:ext cx="7099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973080" y="3282840"/>
            <a:ext cx="7099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2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og with entries relating to two-phase  commit protocol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245" name=""/>
          <p:cNvGrpSpPr/>
          <p:nvPr/>
        </p:nvGrpSpPr>
        <p:grpSpPr>
          <a:xfrm>
            <a:off x="2948040" y="1954080"/>
            <a:ext cx="1954080" cy="1472400"/>
            <a:chOff x="2948040" y="1954080"/>
            <a:chExt cx="1954080" cy="1472400"/>
          </a:xfrm>
        </p:grpSpPr>
        <p:sp>
          <p:nvSpPr>
            <p:cNvPr id="1246" name=""/>
            <p:cNvSpPr/>
            <p:nvPr/>
          </p:nvSpPr>
          <p:spPr>
            <a:xfrm>
              <a:off x="3906000" y="1954080"/>
              <a:ext cx="996120" cy="14724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948040" y="1954080"/>
              <a:ext cx="996120" cy="14724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8" name=""/>
          <p:cNvGrpSpPr/>
          <p:nvPr/>
        </p:nvGrpSpPr>
        <p:grpSpPr>
          <a:xfrm>
            <a:off x="5500800" y="1954080"/>
            <a:ext cx="2931480" cy="1446840"/>
            <a:chOff x="5500800" y="1954080"/>
            <a:chExt cx="2931480" cy="1446840"/>
          </a:xfrm>
        </p:grpSpPr>
        <p:sp>
          <p:nvSpPr>
            <p:cNvPr id="1249" name=""/>
            <p:cNvSpPr/>
            <p:nvPr/>
          </p:nvSpPr>
          <p:spPr>
            <a:xfrm>
              <a:off x="6937920" y="1954080"/>
              <a:ext cx="1494360" cy="14468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500800" y="1954080"/>
              <a:ext cx="1494360" cy="14468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1" name=""/>
          <p:cNvGrpSpPr/>
          <p:nvPr/>
        </p:nvGrpSpPr>
        <p:grpSpPr>
          <a:xfrm>
            <a:off x="420840" y="1967040"/>
            <a:ext cx="1903320" cy="1472040"/>
            <a:chOff x="420840" y="1967040"/>
            <a:chExt cx="1903320" cy="1472040"/>
          </a:xfrm>
        </p:grpSpPr>
        <p:sp>
          <p:nvSpPr>
            <p:cNvPr id="1252" name=""/>
            <p:cNvSpPr/>
            <p:nvPr/>
          </p:nvSpPr>
          <p:spPr>
            <a:xfrm>
              <a:off x="1353960" y="1967040"/>
              <a:ext cx="970200" cy="14720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20840" y="1967040"/>
              <a:ext cx="970200" cy="14720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>
            <a:off x="505800" y="1989000"/>
            <a:ext cx="552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ran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012680" y="19890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461240" y="1989000"/>
            <a:ext cx="744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Coord’r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187720" y="19890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080520" y="1989000"/>
            <a:ext cx="552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ran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638520" y="19890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034880" y="1989000"/>
            <a:ext cx="552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ran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605840" y="198900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479920" y="1989000"/>
            <a:ext cx="851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Part’pa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318720" y="200664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6536520" y="1989000"/>
            <a:ext cx="552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ran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080840" y="198900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490880" y="2001960"/>
            <a:ext cx="552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ran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8074440" y="198900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06160" y="2454120"/>
            <a:ext cx="756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repar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461960" y="2454120"/>
            <a:ext cx="779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part’pa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460160" y="2685960"/>
            <a:ext cx="651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list: . .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018240" y="2454120"/>
            <a:ext cx="922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ommitt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4035240" y="2454120"/>
            <a:ext cx="756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repar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5509440" y="2454120"/>
            <a:ext cx="96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Coord’r: .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6575040" y="2454120"/>
            <a:ext cx="803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uncertai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7491960" y="2454120"/>
            <a:ext cx="922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ommitt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55760" y="2917800"/>
            <a:ext cx="851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intention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506880" y="3149640"/>
            <a:ext cx="262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035600" y="2917800"/>
            <a:ext cx="95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intention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V="1">
            <a:off x="209520" y="3416040"/>
            <a:ext cx="2351160" cy="1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27160" y="1951200"/>
            <a:ext cx="2350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319720" y="3397320"/>
            <a:ext cx="3301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913120" y="3397320"/>
            <a:ext cx="226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913120" y="1949400"/>
            <a:ext cx="226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286240" y="1949400"/>
            <a:ext cx="330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338120" y="1986120"/>
            <a:ext cx="0" cy="1430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970440" y="1968480"/>
            <a:ext cx="0" cy="1430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507000" y="1951200"/>
            <a:ext cx="0" cy="1430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432560" y="1968480"/>
            <a:ext cx="0" cy="1430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2394000" y="2055960"/>
            <a:ext cx="100080" cy="10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716200" y="2055960"/>
            <a:ext cx="98280" cy="10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927680" y="2055960"/>
            <a:ext cx="100080" cy="10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243400" y="2055960"/>
            <a:ext cx="98640" cy="10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029480" y="3149640"/>
            <a:ext cx="262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2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Recovery of the two-phase commit protocol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295" name=""/>
          <p:cNvGrpSpPr/>
          <p:nvPr/>
        </p:nvGrpSpPr>
        <p:grpSpPr>
          <a:xfrm>
            <a:off x="500040" y="1246320"/>
            <a:ext cx="8439840" cy="5067000"/>
            <a:chOff x="500040" y="1246320"/>
            <a:chExt cx="8439840" cy="5067000"/>
          </a:xfrm>
        </p:grpSpPr>
        <p:grpSp>
          <p:nvGrpSpPr>
            <p:cNvPr id="1296" name=""/>
            <p:cNvGrpSpPr/>
            <p:nvPr/>
          </p:nvGrpSpPr>
          <p:grpSpPr>
            <a:xfrm>
              <a:off x="522360" y="1268280"/>
              <a:ext cx="8164080" cy="291600"/>
              <a:chOff x="522360" y="1268280"/>
              <a:chExt cx="8164080" cy="291600"/>
            </a:xfrm>
          </p:grpSpPr>
          <p:sp>
            <p:nvSpPr>
              <p:cNvPr id="1297" name=""/>
              <p:cNvSpPr/>
              <p:nvPr/>
            </p:nvSpPr>
            <p:spPr>
              <a:xfrm>
                <a:off x="4524840" y="1268280"/>
                <a:ext cx="4161600" cy="291600"/>
              </a:xfrm>
              <a:prstGeom prst="rect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22360" y="1268280"/>
                <a:ext cx="4161600" cy="291600"/>
              </a:xfrm>
              <a:prstGeom prst="rect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9" name=""/>
            <p:cNvSpPr/>
            <p:nvPr/>
          </p:nvSpPr>
          <p:spPr>
            <a:xfrm>
              <a:off x="540720" y="1284120"/>
              <a:ext cx="39708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ol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723680" y="1284120"/>
              <a:ext cx="52812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Statu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784600" y="1284120"/>
              <a:ext cx="242244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Action of recovery 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40720" y="1615680"/>
              <a:ext cx="104472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oordinat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723680" y="1615680"/>
              <a:ext cx="79308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prepare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781360" y="1615680"/>
              <a:ext cx="542628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 decision had been reached before the server failed. It send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711160" y="1850760"/>
              <a:ext cx="151236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abortTransac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205520" y="1850760"/>
              <a:ext cx="444924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 all the servers in the participant list and adds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787120" y="2085840"/>
              <a:ext cx="154764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ransaction status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287240" y="2085840"/>
              <a:ext cx="67284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aborte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907880" y="2085840"/>
              <a:ext cx="356076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in its recovery file. Same action for sta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787120" y="2320560"/>
              <a:ext cx="67284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aborte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417120" y="2320560"/>
              <a:ext cx="528156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. If there is no participant list, the participants will eventuall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785680" y="2555640"/>
              <a:ext cx="289944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imeout and abort the transac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40720" y="2790720"/>
              <a:ext cx="104472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oordinat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723320" y="2790720"/>
              <a:ext cx="90144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committe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2781360" y="2790720"/>
              <a:ext cx="577368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 decision to commit had been reached before the server failed.  I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723040" y="3024000"/>
              <a:ext cx="68652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sends a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394440" y="3024000"/>
              <a:ext cx="90288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doCommi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286520" y="3024000"/>
              <a:ext cx="436680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 all the participants in its participant list (in cas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2780640" y="3258720"/>
              <a:ext cx="615924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it had not done so before) and resumes the two-phase protocol at step 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785680" y="3493800"/>
              <a:ext cx="92124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(Fig 13.5)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41440" y="3728880"/>
              <a:ext cx="93492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articip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723320" y="3728880"/>
              <a:ext cx="90144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committe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721960" y="3728880"/>
              <a:ext cx="205524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he participant sends a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753080" y="3728880"/>
              <a:ext cx="135864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haveCommitte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059160" y="3728880"/>
              <a:ext cx="267228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message to the coordinator (i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781360" y="3963600"/>
              <a:ext cx="612108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case this was not done before it failed). This will allow the coordinat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784240" y="4198680"/>
              <a:ext cx="583452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 discard information about this transaction at the next checkpoint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41440" y="4433760"/>
              <a:ext cx="93492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articip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723320" y="4433760"/>
              <a:ext cx="82836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ncertai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782800" y="4433760"/>
              <a:ext cx="607680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he participant failed before it knew the outcome of the transaction. I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785320" y="4668480"/>
              <a:ext cx="573084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cannot determine the status of the transaction until the coordinat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632320" y="4903560"/>
              <a:ext cx="346032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informs it of the decision. It will send a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073560" y="4903560"/>
              <a:ext cx="103248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getDecis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085520" y="4903560"/>
              <a:ext cx="159156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o the coordinat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783520" y="5138640"/>
              <a:ext cx="605700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 determine the status of the transaction. When it receives the reply i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786040" y="5373360"/>
              <a:ext cx="291168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will commit or abort accordingly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41440" y="5694120"/>
              <a:ext cx="93492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articip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723680" y="5694120"/>
              <a:ext cx="79308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prepare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782440" y="5694120"/>
              <a:ext cx="543672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he participant has not yet voted and can abort the transac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40720" y="6016320"/>
              <a:ext cx="104472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Coordinat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722960" y="6016320"/>
              <a:ext cx="42120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don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117160" y="6016320"/>
              <a:ext cx="5544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784960" y="6016320"/>
              <a:ext cx="187524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 action is required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00040" y="1246320"/>
              <a:ext cx="8194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00040" y="6313320"/>
              <a:ext cx="8194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"/>
          <p:cNvSpPr/>
          <p:nvPr/>
        </p:nvSpPr>
        <p:spPr>
          <a:xfrm>
            <a:off x="6364440" y="2970360"/>
            <a:ext cx="468000" cy="3682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389640" y="3363840"/>
            <a:ext cx="468360" cy="3682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923160" y="2957400"/>
            <a:ext cx="468360" cy="3682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7558200" y="2957400"/>
            <a:ext cx="468360" cy="3682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7545240" y="3363840"/>
            <a:ext cx="468360" cy="3682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8040600" y="2957400"/>
            <a:ext cx="468360" cy="3682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5614920" y="2932200"/>
            <a:ext cx="468360" cy="3682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056200" y="3338640"/>
            <a:ext cx="468360" cy="3682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056200" y="2944800"/>
            <a:ext cx="468360" cy="3682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383000" y="2957400"/>
            <a:ext cx="468360" cy="3682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2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ested transac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534960" y="33130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785880" y="3149280"/>
            <a:ext cx="100944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762120" y="3479760"/>
            <a:ext cx="1057320" cy="331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V="1">
            <a:off x="2171880" y="2921040"/>
            <a:ext cx="915840" cy="17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H="1" flipV="1">
            <a:off x="2147400" y="3276720"/>
            <a:ext cx="916200" cy="17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523760" y="29811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649760" y="30765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131800" y="30067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256360" y="31021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427080" y="29923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551640" y="30877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7670160" y="29811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796160" y="30765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5180760" y="33386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5307120" y="3432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470480" y="3924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584600" y="40179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410080" y="3924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524560" y="401796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769080" y="3924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883560" y="401796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893000" y="3924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8007480" y="40179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664960" y="29811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789880" y="307656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435000" y="33386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561360" y="343224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965280" y="30067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7093080" y="31021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616160" y="33638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742520" y="345744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8224200" y="30067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8350200" y="31021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800520" y="2373480"/>
            <a:ext cx="104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 of 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903320" y="303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019240" y="31798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903320" y="3695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2019240" y="37893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158280" y="2727360"/>
            <a:ext cx="2552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129120" y="3338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243600" y="343224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260960" y="2921040"/>
            <a:ext cx="93600" cy="101520"/>
          </a:xfrm>
          <a:custGeom>
            <a:avLst/>
            <a:gdLst/>
            <a:ahLst/>
            <a:rect l="l" t="t" r="r" b="b"/>
            <a:pathLst>
              <a:path w="64" h="64">
                <a:moveTo>
                  <a:pt x="0" y="32"/>
                </a:moveTo>
                <a:lnTo>
                  <a:pt x="0" y="0"/>
                </a:lnTo>
                <a:lnTo>
                  <a:pt x="64" y="48"/>
                </a:lnTo>
                <a:lnTo>
                  <a:pt x="0" y="64"/>
                </a:lnTo>
                <a:lnTo>
                  <a:pt x="0" y="32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4049640" y="2639880"/>
            <a:ext cx="211320" cy="331920"/>
          </a:xfrm>
          <a:custGeom>
            <a:avLst/>
            <a:gdLst/>
            <a:ahLst/>
            <a:rect l="l" t="t" r="r" b="b"/>
            <a:pathLst>
              <a:path w="144" h="209">
                <a:moveTo>
                  <a:pt x="144" y="209"/>
                </a:moveTo>
                <a:lnTo>
                  <a:pt x="32" y="129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5073480" y="3822840"/>
            <a:ext cx="9734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512120" y="3822840"/>
            <a:ext cx="9730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373800" y="3822840"/>
            <a:ext cx="9748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ested banking transac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16960" y="1771560"/>
            <a:ext cx="7258680" cy="4226760"/>
            <a:chOff x="516960" y="1771560"/>
            <a:chExt cx="7258680" cy="4226760"/>
          </a:xfrm>
        </p:grpSpPr>
        <p:sp>
          <p:nvSpPr>
            <p:cNvPr id="225" name=""/>
            <p:cNvSpPr/>
            <p:nvPr/>
          </p:nvSpPr>
          <p:spPr>
            <a:xfrm>
              <a:off x="4473720" y="5310360"/>
              <a:ext cx="512640" cy="465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73720" y="4756320"/>
              <a:ext cx="512640" cy="465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73720" y="3594240"/>
              <a:ext cx="512640" cy="465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3720" y="2163600"/>
              <a:ext cx="512640" cy="465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3553560" y="2346120"/>
              <a:ext cx="79416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28720" y="2763720"/>
              <a:ext cx="867240" cy="73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431880" y="2946240"/>
              <a:ext cx="987480" cy="172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63040" y="2946240"/>
              <a:ext cx="1132560" cy="224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29600" y="2071800"/>
              <a:ext cx="867600" cy="10429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005280" y="2521080"/>
              <a:ext cx="513000" cy="465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30000" y="3246480"/>
              <a:ext cx="867600" cy="10429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18480" y="3233880"/>
              <a:ext cx="890640" cy="106992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130000" y="1784520"/>
              <a:ext cx="867600" cy="10443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18480" y="1771560"/>
              <a:ext cx="890640" cy="106992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130000" y="4681440"/>
              <a:ext cx="867600" cy="10429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18480" y="4668840"/>
              <a:ext cx="890640" cy="106992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55440" y="2163600"/>
              <a:ext cx="216720" cy="365400"/>
            </a:xfrm>
            <a:custGeom>
              <a:avLst/>
              <a:gdLst>
                <a:gd name="textAreaLeft" fmla="*/ 29520 w 216720"/>
                <a:gd name="textAreaRight" fmla="*/ 187200 w 216720"/>
                <a:gd name="textAreaTop" fmla="*/ 29520 h 365400"/>
                <a:gd name="textAreaBottom" fmla="*/ 335880 h 365400"/>
              </a:gdLst>
              <a:ahLst/>
              <a:rect l="textAreaLeft" t="textAreaTop" r="textAreaRight" b="textAreaBottom"/>
              <a:pathLst>
                <a:path w="21600" h="36394">
                  <a:moveTo>
                    <a:pt x="10143" y="0"/>
                  </a:moveTo>
                  <a:arcTo wR="10143" hR="10143" stAng="16200000" swAng="-5400000"/>
                  <a:lnTo>
                    <a:pt x="0" y="26251"/>
                  </a:lnTo>
                  <a:arcTo wR="10143" hR="10143" stAng="10800000" swAng="-5400000"/>
                  <a:lnTo>
                    <a:pt x="11457" y="36394"/>
                  </a:lnTo>
                  <a:arcTo wR="10143" hR="10143" stAng="5400000" swAng="-5400000"/>
                  <a:lnTo>
                    <a:pt x="21600" y="10143"/>
                  </a:lnTo>
                  <a:arcTo wR="10143" hR="10143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55440" y="2163600"/>
              <a:ext cx="241560" cy="390600"/>
            </a:xfrm>
            <a:custGeom>
              <a:avLst/>
              <a:gdLst>
                <a:gd name="textAreaLeft" fmla="*/ 29520 w 241560"/>
                <a:gd name="textAreaRight" fmla="*/ 212040 w 241560"/>
                <a:gd name="textAreaTop" fmla="*/ 29520 h 390600"/>
                <a:gd name="textAreaBottom" fmla="*/ 361080 h 390600"/>
              </a:gdLst>
              <a:ahLst/>
              <a:rect l="textAreaLeft" t="textAreaTop" r="textAreaRight" b="textAreaBottom"/>
              <a:pathLst>
                <a:path w="21600" h="34907">
                  <a:moveTo>
                    <a:pt x="9098" y="0"/>
                  </a:moveTo>
                  <a:arcTo wR="9098" hR="9098" stAng="16200000" swAng="-5400000"/>
                  <a:lnTo>
                    <a:pt x="0" y="25809"/>
                  </a:lnTo>
                  <a:arcTo wR="9098" hR="9098" stAng="10800000" swAng="-5400000"/>
                  <a:lnTo>
                    <a:pt x="12502" y="34907"/>
                  </a:lnTo>
                  <a:arcTo wR="9098" hR="9098" stAng="5400000" swAng="-5400000"/>
                  <a:lnTo>
                    <a:pt x="21600" y="9098"/>
                  </a:lnTo>
                  <a:arcTo wR="9098" hR="9098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455440" y="2346480"/>
              <a:ext cx="216720" cy="1825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55440" y="2346480"/>
              <a:ext cx="241560" cy="20772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455440" y="2163600"/>
              <a:ext cx="241560" cy="390600"/>
            </a:xfrm>
            <a:custGeom>
              <a:avLst/>
              <a:gdLst>
                <a:gd name="textAreaLeft" fmla="*/ 29520 w 241560"/>
                <a:gd name="textAreaRight" fmla="*/ 212040 w 241560"/>
                <a:gd name="textAreaTop" fmla="*/ 29520 h 390600"/>
                <a:gd name="textAreaBottom" fmla="*/ 361080 h 390600"/>
              </a:gdLst>
              <a:ahLst/>
              <a:rect l="textAreaLeft" t="textAreaTop" r="textAreaRight" b="textAreaBottom"/>
              <a:pathLst>
                <a:path w="21600" h="34907">
                  <a:moveTo>
                    <a:pt x="9098" y="0"/>
                  </a:moveTo>
                  <a:arcTo wR="9098" hR="9098" stAng="16200000" swAng="-5400000"/>
                  <a:lnTo>
                    <a:pt x="0" y="25809"/>
                  </a:lnTo>
                  <a:arcTo wR="9098" hR="9098" stAng="10800000" swAng="-5400000"/>
                  <a:lnTo>
                    <a:pt x="12502" y="34907"/>
                  </a:lnTo>
                  <a:arcTo wR="9098" hR="9098" stAng="5400000" swAng="-5400000"/>
                  <a:lnTo>
                    <a:pt x="21600" y="9098"/>
                  </a:lnTo>
                  <a:arcTo wR="9098" hR="9098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455440" y="2346480"/>
              <a:ext cx="216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55440" y="3598920"/>
              <a:ext cx="216720" cy="365040"/>
            </a:xfrm>
            <a:custGeom>
              <a:avLst/>
              <a:gdLst>
                <a:gd name="textAreaLeft" fmla="*/ 29520 w 216720"/>
                <a:gd name="textAreaRight" fmla="*/ 187200 w 216720"/>
                <a:gd name="textAreaTop" fmla="*/ 29520 h 365040"/>
                <a:gd name="textAreaBottom" fmla="*/ 335520 h 365040"/>
              </a:gdLst>
              <a:ahLst/>
              <a:rect l="textAreaLeft" t="textAreaTop" r="textAreaRight" b="textAreaBottom"/>
              <a:pathLst>
                <a:path w="21600" h="36358">
                  <a:moveTo>
                    <a:pt x="10143" y="0"/>
                  </a:moveTo>
                  <a:arcTo wR="10143" hR="10143" stAng="16200000" swAng="-5400000"/>
                  <a:lnTo>
                    <a:pt x="0" y="26215"/>
                  </a:lnTo>
                  <a:arcTo wR="10143" hR="10143" stAng="10800000" swAng="-5400000"/>
                  <a:lnTo>
                    <a:pt x="11457" y="36358"/>
                  </a:lnTo>
                  <a:arcTo wR="10143" hR="10143" stAng="5400000" swAng="-5400000"/>
                  <a:lnTo>
                    <a:pt x="21600" y="10143"/>
                  </a:lnTo>
                  <a:arcTo wR="10143" hR="10143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455440" y="3598920"/>
              <a:ext cx="241560" cy="390600"/>
            </a:xfrm>
            <a:custGeom>
              <a:avLst/>
              <a:gdLst>
                <a:gd name="textAreaLeft" fmla="*/ 29520 w 241560"/>
                <a:gd name="textAreaRight" fmla="*/ 212040 w 241560"/>
                <a:gd name="textAreaTop" fmla="*/ 29520 h 390600"/>
                <a:gd name="textAreaBottom" fmla="*/ 361080 h 390600"/>
              </a:gdLst>
              <a:ahLst/>
              <a:rect l="textAreaLeft" t="textAreaTop" r="textAreaRight" b="textAreaBottom"/>
              <a:pathLst>
                <a:path w="21600" h="34907">
                  <a:moveTo>
                    <a:pt x="9098" y="0"/>
                  </a:moveTo>
                  <a:arcTo wR="9098" hR="9098" stAng="16200000" swAng="-5400000"/>
                  <a:lnTo>
                    <a:pt x="0" y="25809"/>
                  </a:lnTo>
                  <a:arcTo wR="9098" hR="9098" stAng="10800000" swAng="-5400000"/>
                  <a:lnTo>
                    <a:pt x="12502" y="34907"/>
                  </a:lnTo>
                  <a:arcTo wR="9098" hR="9098" stAng="5400000" swAng="-5400000"/>
                  <a:lnTo>
                    <a:pt x="21600" y="9098"/>
                  </a:lnTo>
                  <a:arcTo wR="9098" hR="9098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55440" y="3781440"/>
              <a:ext cx="216720" cy="1825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55440" y="3781440"/>
              <a:ext cx="241560" cy="20808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55440" y="3598920"/>
              <a:ext cx="241560" cy="390600"/>
            </a:xfrm>
            <a:custGeom>
              <a:avLst/>
              <a:gdLst>
                <a:gd name="textAreaLeft" fmla="*/ 29520 w 241560"/>
                <a:gd name="textAreaRight" fmla="*/ 212040 w 241560"/>
                <a:gd name="textAreaTop" fmla="*/ 29520 h 390600"/>
                <a:gd name="textAreaBottom" fmla="*/ 361080 h 390600"/>
              </a:gdLst>
              <a:ahLst/>
              <a:rect l="textAreaLeft" t="textAreaTop" r="textAreaRight" b="textAreaBottom"/>
              <a:pathLst>
                <a:path w="21600" h="34907">
                  <a:moveTo>
                    <a:pt x="9098" y="0"/>
                  </a:moveTo>
                  <a:arcTo wR="9098" hR="9098" stAng="16200000" swAng="-5400000"/>
                  <a:lnTo>
                    <a:pt x="0" y="25809"/>
                  </a:lnTo>
                  <a:arcTo wR="9098" hR="9098" stAng="10800000" swAng="-5400000"/>
                  <a:lnTo>
                    <a:pt x="12502" y="34907"/>
                  </a:lnTo>
                  <a:arcTo wR="9098" hR="9098" stAng="5400000" swAng="-5400000"/>
                  <a:lnTo>
                    <a:pt x="21600" y="9098"/>
                  </a:lnTo>
                  <a:arcTo wR="9098" hR="9098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55440" y="3781440"/>
              <a:ext cx="216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55440" y="4799160"/>
              <a:ext cx="216720" cy="339480"/>
            </a:xfrm>
            <a:custGeom>
              <a:avLst/>
              <a:gdLst>
                <a:gd name="textAreaLeft" fmla="*/ 29520 w 216720"/>
                <a:gd name="textAreaRight" fmla="*/ 187200 w 216720"/>
                <a:gd name="textAreaTop" fmla="*/ 29520 h 339480"/>
                <a:gd name="textAreaBottom" fmla="*/ 309960 h 339480"/>
              </a:gdLst>
              <a:ahLst/>
              <a:rect l="textAreaLeft" t="textAreaTop" r="textAreaRight" b="textAreaBottom"/>
              <a:pathLst>
                <a:path w="21600" h="33815">
                  <a:moveTo>
                    <a:pt x="10143" y="0"/>
                  </a:moveTo>
                  <a:arcTo wR="10143" hR="10143" stAng="16200000" swAng="-5400000"/>
                  <a:lnTo>
                    <a:pt x="0" y="23672"/>
                  </a:lnTo>
                  <a:arcTo wR="10143" hR="10143" stAng="10800000" swAng="-5400000"/>
                  <a:lnTo>
                    <a:pt x="11457" y="33815"/>
                  </a:lnTo>
                  <a:arcTo wR="10143" hR="10143" stAng="5400000" swAng="-5400000"/>
                  <a:lnTo>
                    <a:pt x="21600" y="10143"/>
                  </a:lnTo>
                  <a:arcTo wR="10143" hR="10143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55440" y="4799160"/>
              <a:ext cx="241560" cy="365040"/>
            </a:xfrm>
            <a:custGeom>
              <a:avLst/>
              <a:gdLst>
                <a:gd name="textAreaLeft" fmla="*/ 29520 w 241560"/>
                <a:gd name="textAreaRight" fmla="*/ 212040 w 241560"/>
                <a:gd name="textAreaTop" fmla="*/ 29520 h 365040"/>
                <a:gd name="textAreaBottom" fmla="*/ 335520 h 365040"/>
              </a:gdLst>
              <a:ahLst/>
              <a:rect l="textAreaLeft" t="textAreaTop" r="textAreaRight" b="textAreaBottom"/>
              <a:pathLst>
                <a:path w="21600" h="32625">
                  <a:moveTo>
                    <a:pt x="9098" y="0"/>
                  </a:moveTo>
                  <a:arcTo wR="9098" hR="9098" stAng="16200000" swAng="-5400000"/>
                  <a:lnTo>
                    <a:pt x="0" y="23527"/>
                  </a:lnTo>
                  <a:arcTo wR="9098" hR="9098" stAng="10800000" swAng="-5400000"/>
                  <a:lnTo>
                    <a:pt x="12502" y="32625"/>
                  </a:lnTo>
                  <a:arcTo wR="9098" hR="9098" stAng="5400000" swAng="-5400000"/>
                  <a:lnTo>
                    <a:pt x="21600" y="9098"/>
                  </a:lnTo>
                  <a:arcTo wR="9098" hR="9098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55440" y="4981680"/>
              <a:ext cx="216720" cy="1825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55440" y="4981680"/>
              <a:ext cx="241560" cy="20952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55440" y="4799160"/>
              <a:ext cx="241560" cy="365040"/>
            </a:xfrm>
            <a:custGeom>
              <a:avLst/>
              <a:gdLst>
                <a:gd name="textAreaLeft" fmla="*/ 29520 w 241560"/>
                <a:gd name="textAreaRight" fmla="*/ 212040 w 241560"/>
                <a:gd name="textAreaTop" fmla="*/ 29520 h 365040"/>
                <a:gd name="textAreaBottom" fmla="*/ 335520 h 365040"/>
              </a:gdLst>
              <a:ahLst/>
              <a:rect l="textAreaLeft" t="textAreaTop" r="textAreaRight" b="textAreaBottom"/>
              <a:pathLst>
                <a:path w="21600" h="32625">
                  <a:moveTo>
                    <a:pt x="9098" y="0"/>
                  </a:moveTo>
                  <a:arcTo wR="9098" hR="9098" stAng="16200000" swAng="-5400000"/>
                  <a:lnTo>
                    <a:pt x="0" y="23527"/>
                  </a:lnTo>
                  <a:arcTo wR="9098" hR="9098" stAng="10800000" swAng="-5400000"/>
                  <a:lnTo>
                    <a:pt x="12502" y="32625"/>
                  </a:lnTo>
                  <a:arcTo wR="9098" hR="9098" stAng="5400000" swAng="-5400000"/>
                  <a:lnTo>
                    <a:pt x="21600" y="9098"/>
                  </a:lnTo>
                  <a:arcTo wR="9098" hR="9098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455440" y="4981680"/>
              <a:ext cx="216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32040" y="5268960"/>
              <a:ext cx="216360" cy="339840"/>
            </a:xfrm>
            <a:custGeom>
              <a:avLst/>
              <a:gdLst>
                <a:gd name="textAreaLeft" fmla="*/ 29520 w 216360"/>
                <a:gd name="textAreaRight" fmla="*/ 186840 w 216360"/>
                <a:gd name="textAreaTop" fmla="*/ 29520 h 339840"/>
                <a:gd name="textAreaBottom" fmla="*/ 310320 h 339840"/>
              </a:gdLst>
              <a:ahLst/>
              <a:rect l="textAreaLeft" t="textAreaTop" r="textAreaRight" b="textAreaBottom"/>
              <a:pathLst>
                <a:path w="21600" h="33907">
                  <a:moveTo>
                    <a:pt x="10143" y="0"/>
                  </a:moveTo>
                  <a:arcTo wR="10143" hR="10143" stAng="16200000" swAng="-5400000"/>
                  <a:lnTo>
                    <a:pt x="0" y="23764"/>
                  </a:lnTo>
                  <a:arcTo wR="10143" hR="10143" stAng="10800000" swAng="-5400000"/>
                  <a:lnTo>
                    <a:pt x="11457" y="33907"/>
                  </a:lnTo>
                  <a:arcTo wR="10143" hR="10143" stAng="5400000" swAng="-5400000"/>
                  <a:lnTo>
                    <a:pt x="21600" y="10143"/>
                  </a:lnTo>
                  <a:arcTo wR="10143" hR="10143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32040" y="5268960"/>
              <a:ext cx="240120" cy="365040"/>
            </a:xfrm>
            <a:custGeom>
              <a:avLst/>
              <a:gdLst>
                <a:gd name="textAreaLeft" fmla="*/ 29520 w 240120"/>
                <a:gd name="textAreaRight" fmla="*/ 210600 w 240120"/>
                <a:gd name="textAreaTop" fmla="*/ 29520 h 365040"/>
                <a:gd name="textAreaBottom" fmla="*/ 335520 h 365040"/>
              </a:gdLst>
              <a:ahLst/>
              <a:rect l="textAreaLeft" t="textAreaTop" r="textAreaRight" b="textAreaBottom"/>
              <a:pathLst>
                <a:path w="21600" h="32820">
                  <a:moveTo>
                    <a:pt x="9154" y="0"/>
                  </a:moveTo>
                  <a:arcTo wR="9154" hR="9154" stAng="16200000" swAng="-5400000"/>
                  <a:lnTo>
                    <a:pt x="0" y="23666"/>
                  </a:lnTo>
                  <a:arcTo wR="9154" hR="9154" stAng="10800000" swAng="-5400000"/>
                  <a:lnTo>
                    <a:pt x="12446" y="32820"/>
                  </a:lnTo>
                  <a:arcTo wR="9154" hR="9154" stAng="5400000" swAng="-5400000"/>
                  <a:lnTo>
                    <a:pt x="21600" y="9154"/>
                  </a:lnTo>
                  <a:arcTo wR="9154" hR="9154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32040" y="5451480"/>
              <a:ext cx="216360" cy="1573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32040" y="5451480"/>
              <a:ext cx="240120" cy="18252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32040" y="5268960"/>
              <a:ext cx="240120" cy="365040"/>
            </a:xfrm>
            <a:custGeom>
              <a:avLst/>
              <a:gdLst>
                <a:gd name="textAreaLeft" fmla="*/ 29520 w 240120"/>
                <a:gd name="textAreaRight" fmla="*/ 210600 w 240120"/>
                <a:gd name="textAreaTop" fmla="*/ 29520 h 365040"/>
                <a:gd name="textAreaBottom" fmla="*/ 335520 h 365040"/>
              </a:gdLst>
              <a:ahLst/>
              <a:rect l="textAreaLeft" t="textAreaTop" r="textAreaRight" b="textAreaBottom"/>
              <a:pathLst>
                <a:path w="21600" h="32820">
                  <a:moveTo>
                    <a:pt x="9154" y="0"/>
                  </a:moveTo>
                  <a:arcTo wR="9154" hR="9154" stAng="16200000" swAng="-5400000"/>
                  <a:lnTo>
                    <a:pt x="0" y="23666"/>
                  </a:lnTo>
                  <a:arcTo wR="9154" hR="9154" stAng="10800000" swAng="-5400000"/>
                  <a:lnTo>
                    <a:pt x="12446" y="32820"/>
                  </a:lnTo>
                  <a:arcTo wR="9154" hR="9154" stAng="5400000" swAng="-5400000"/>
                  <a:lnTo>
                    <a:pt x="21600" y="9154"/>
                  </a:lnTo>
                  <a:arcTo wR="9154" hR="9154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32040" y="5451480"/>
              <a:ext cx="2163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56160" y="2227320"/>
              <a:ext cx="1419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a.withdraw(10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56880" y="4889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54080" y="48117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C Helvetica Condensed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507000" y="4889520"/>
              <a:ext cx="1082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deposit(10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56160" y="3767040"/>
              <a:ext cx="1419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b.withdraw(20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56880" y="5359320"/>
              <a:ext cx="1262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d.deposit(20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806200" y="2058840"/>
              <a:ext cx="890640" cy="107028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13120" y="2201760"/>
              <a:ext cx="555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76200" y="225432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76200" y="374184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775120" y="49165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08000" y="227952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12040" y="2427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628160" y="368928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66040" y="3836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628160" y="4863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766040" y="5011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628160" y="543708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766040" y="5584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174120" y="262728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775120" y="54118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47720" y="2266920"/>
              <a:ext cx="9648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16" y="33"/>
                  </a:moveTo>
                  <a:lnTo>
                    <a:pt x="0" y="0"/>
                  </a:lnTo>
                  <a:lnTo>
                    <a:pt x="66" y="17"/>
                  </a:lnTo>
                  <a:lnTo>
                    <a:pt x="16" y="66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371120" y="3468600"/>
              <a:ext cx="96480" cy="10332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17" y="16"/>
                  </a:moveTo>
                  <a:lnTo>
                    <a:pt x="33" y="0"/>
                  </a:lnTo>
                  <a:lnTo>
                    <a:pt x="66" y="65"/>
                  </a:lnTo>
                  <a:lnTo>
                    <a:pt x="0" y="49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371120" y="4641840"/>
              <a:ext cx="9648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33" y="17"/>
                  </a:moveTo>
                  <a:lnTo>
                    <a:pt x="66" y="0"/>
                  </a:lnTo>
                  <a:lnTo>
                    <a:pt x="66" y="66"/>
                  </a:lnTo>
                  <a:lnTo>
                    <a:pt x="0" y="33"/>
                  </a:lnTo>
                  <a:lnTo>
                    <a:pt x="33" y="1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347720" y="5191200"/>
              <a:ext cx="96480" cy="10296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33" y="16"/>
                  </a:moveTo>
                  <a:lnTo>
                    <a:pt x="66" y="0"/>
                  </a:lnTo>
                  <a:lnTo>
                    <a:pt x="66" y="65"/>
                  </a:lnTo>
                  <a:lnTo>
                    <a:pt x="0" y="33"/>
                  </a:lnTo>
                  <a:lnTo>
                    <a:pt x="33" y="16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335200" y="2266920"/>
              <a:ext cx="96480" cy="131760"/>
            </a:xfrm>
            <a:custGeom>
              <a:avLst/>
              <a:gdLst/>
              <a:ahLst/>
              <a:rect l="l" t="t" r="r" b="b"/>
              <a:pathLst>
                <a:path w="66" h="83">
                  <a:moveTo>
                    <a:pt x="0" y="33"/>
                  </a:moveTo>
                  <a:lnTo>
                    <a:pt x="0" y="0"/>
                  </a:lnTo>
                  <a:lnTo>
                    <a:pt x="66" y="33"/>
                  </a:lnTo>
                  <a:lnTo>
                    <a:pt x="0" y="8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973400" y="2319480"/>
              <a:ext cx="36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35200" y="3728880"/>
              <a:ext cx="9648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0" y="33"/>
                  </a:moveTo>
                  <a:lnTo>
                    <a:pt x="0" y="0"/>
                  </a:lnTo>
                  <a:lnTo>
                    <a:pt x="66" y="33"/>
                  </a:lnTo>
                  <a:lnTo>
                    <a:pt x="0" y="6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973400" y="3781440"/>
              <a:ext cx="36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35200" y="4956120"/>
              <a:ext cx="71640" cy="103320"/>
            </a:xfrm>
            <a:custGeom>
              <a:avLst/>
              <a:gdLst/>
              <a:ahLst/>
              <a:rect l="l" t="t" r="r" b="b"/>
              <a:pathLst>
                <a:path w="49" h="65">
                  <a:moveTo>
                    <a:pt x="0" y="33"/>
                  </a:moveTo>
                  <a:lnTo>
                    <a:pt x="0" y="0"/>
                  </a:lnTo>
                  <a:lnTo>
                    <a:pt x="49" y="33"/>
                  </a:lnTo>
                  <a:lnTo>
                    <a:pt x="0" y="65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950000" y="5008680"/>
              <a:ext cx="36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311800" y="5398920"/>
              <a:ext cx="95040" cy="10512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0" y="33"/>
                  </a:moveTo>
                  <a:lnTo>
                    <a:pt x="0" y="0"/>
                  </a:lnTo>
                  <a:lnTo>
                    <a:pt x="65" y="33"/>
                  </a:lnTo>
                  <a:lnTo>
                    <a:pt x="0" y="6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50000" y="5451480"/>
              <a:ext cx="36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92120" y="183672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979160" y="324468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81320" y="449892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4680" y="3338640"/>
              <a:ext cx="37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72280" y="3338640"/>
              <a:ext cx="1613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Arial"/>
                </a:rPr>
                <a:t>openTransac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05520" y="367020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66520" y="359424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C Helvetica Condensed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7280" y="3670200"/>
              <a:ext cx="199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Arial"/>
                </a:rPr>
                <a:t>openSubTransac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58840" y="3900600"/>
              <a:ext cx="147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a.withdraw(10);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6960" y="5738760"/>
              <a:ext cx="1994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Arial"/>
                </a:rPr>
                <a:t>closeTransac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5520" y="418140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66520" y="410544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C Helvetica Condensed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917280" y="4181400"/>
              <a:ext cx="199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Arial"/>
                </a:rPr>
                <a:t>openSubTransac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158840" y="4411800"/>
              <a:ext cx="147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b.withdraw(20);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3000" y="4718160"/>
              <a:ext cx="2296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Arial"/>
                </a:rPr>
                <a:t>openSubTransac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159200" y="4948200"/>
              <a:ext cx="1309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.deposit(10);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3360" y="5203800"/>
              <a:ext cx="2355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Arial"/>
                </a:rPr>
                <a:t>openSubTransac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159920" y="5432400"/>
              <a:ext cx="1321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d.deposit(20);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distributed banking transac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45960" y="1371600"/>
            <a:ext cx="8431200" cy="4718880"/>
            <a:chOff x="345960" y="1371600"/>
            <a:chExt cx="8431200" cy="4718880"/>
          </a:xfrm>
        </p:grpSpPr>
        <p:sp>
          <p:nvSpPr>
            <p:cNvPr id="318" name=""/>
            <p:cNvSpPr/>
            <p:nvPr/>
          </p:nvSpPr>
          <p:spPr>
            <a:xfrm>
              <a:off x="2249640" y="2198520"/>
              <a:ext cx="1370160" cy="16527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08280" y="2897280"/>
              <a:ext cx="445680" cy="393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731040" y="1371600"/>
              <a:ext cx="224280" cy="339840"/>
            </a:xfrm>
            <a:custGeom>
              <a:avLst/>
              <a:gdLst>
                <a:gd name="textAreaLeft" fmla="*/ 27720 w 224280"/>
                <a:gd name="textAreaRight" fmla="*/ 196560 w 224280"/>
                <a:gd name="textAreaTop" fmla="*/ 27720 h 339840"/>
                <a:gd name="textAreaBottom" fmla="*/ 312120 h 339840"/>
              </a:gdLst>
              <a:ahLst/>
              <a:rect l="textAreaLeft" t="textAreaTop" r="textAreaRight" b="textAreaBottom"/>
              <a:pathLst>
                <a:path w="21600" h="32712">
                  <a:moveTo>
                    <a:pt x="9176" y="0"/>
                  </a:moveTo>
                  <a:arcTo wR="9176" hR="9176" stAng="16200000" swAng="-5400000"/>
                  <a:lnTo>
                    <a:pt x="0" y="23536"/>
                  </a:lnTo>
                  <a:arcTo wR="9176" hR="9176" stAng="10800000" swAng="-5400000"/>
                  <a:lnTo>
                    <a:pt x="12424" y="32712"/>
                  </a:lnTo>
                  <a:arcTo wR="9176" hR="9176" stAng="5400000" swAng="-5400000"/>
                  <a:lnTo>
                    <a:pt x="21600" y="9176"/>
                  </a:lnTo>
                  <a:arcTo wR="9176" hR="9176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731040" y="1371600"/>
              <a:ext cx="247320" cy="365040"/>
            </a:xfrm>
            <a:custGeom>
              <a:avLst/>
              <a:gdLst>
                <a:gd name="textAreaLeft" fmla="*/ 27720 w 247320"/>
                <a:gd name="textAreaRight" fmla="*/ 219600 w 247320"/>
                <a:gd name="textAreaTop" fmla="*/ 27720 h 365040"/>
                <a:gd name="textAreaBottom" fmla="*/ 337320 h 365040"/>
              </a:gdLst>
              <a:ahLst/>
              <a:rect l="textAreaLeft" t="textAreaTop" r="textAreaRight" b="textAreaBottom"/>
              <a:pathLst>
                <a:path w="21600" h="31866">
                  <a:moveTo>
                    <a:pt x="8308" y="0"/>
                  </a:moveTo>
                  <a:arcTo wR="8308" hR="8308" stAng="16200000" swAng="-5400000"/>
                  <a:lnTo>
                    <a:pt x="0" y="23558"/>
                  </a:lnTo>
                  <a:arcTo wR="8308" hR="8308" stAng="10800000" swAng="-5400000"/>
                  <a:lnTo>
                    <a:pt x="13292" y="31866"/>
                  </a:lnTo>
                  <a:arcTo wR="8308" hR="8308" stAng="5400000" swAng="-5400000"/>
                  <a:lnTo>
                    <a:pt x="21600" y="8308"/>
                  </a:lnTo>
                  <a:arcTo wR="8308" hR="8308" stAng="0" swAng="-5400000"/>
                  <a:close/>
                </a:path>
              </a:pathLst>
            </a:cu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753000" y="1371600"/>
              <a:ext cx="202320" cy="16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753000" y="1371600"/>
              <a:ext cx="225360" cy="1936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731040" y="1371600"/>
              <a:ext cx="247320" cy="365040"/>
            </a:xfrm>
            <a:custGeom>
              <a:avLst/>
              <a:gdLst>
                <a:gd name="textAreaLeft" fmla="*/ 27720 w 247320"/>
                <a:gd name="textAreaRight" fmla="*/ 219600 w 247320"/>
                <a:gd name="textAreaTop" fmla="*/ 27720 h 365040"/>
                <a:gd name="textAreaBottom" fmla="*/ 337320 h 365040"/>
              </a:gdLst>
              <a:ahLst/>
              <a:rect l="textAreaLeft" t="textAreaTop" r="textAreaRight" b="textAreaBottom"/>
              <a:pathLst>
                <a:path w="21600" h="31866">
                  <a:moveTo>
                    <a:pt x="8308" y="0"/>
                  </a:moveTo>
                  <a:arcTo wR="8308" hR="8308" stAng="16200000" swAng="-5400000"/>
                  <a:lnTo>
                    <a:pt x="0" y="23558"/>
                  </a:lnTo>
                  <a:arcTo wR="8308" hR="8308" stAng="10800000" swAng="-5400000"/>
                  <a:lnTo>
                    <a:pt x="13292" y="31866"/>
                  </a:lnTo>
                  <a:arcTo wR="8308" hR="8308" stAng="5400000" swAng="-5400000"/>
                  <a:lnTo>
                    <a:pt x="21600" y="8308"/>
                  </a:lnTo>
                  <a:arcTo wR="8308" hR="8308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731040" y="1541520"/>
              <a:ext cx="224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98680" y="3024360"/>
              <a:ext cx="1368720" cy="14349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98680" y="4629240"/>
              <a:ext cx="1368720" cy="14349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98680" y="1468440"/>
              <a:ext cx="1368720" cy="14097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87960" y="1809720"/>
              <a:ext cx="202320" cy="316080"/>
            </a:xfrm>
            <a:custGeom>
              <a:avLst/>
              <a:gdLst>
                <a:gd name="textAreaLeft" fmla="*/ 27720 w 202320"/>
                <a:gd name="textAreaRight" fmla="*/ 174600 w 202320"/>
                <a:gd name="textAreaTop" fmla="*/ 27720 h 316080"/>
                <a:gd name="textAreaBottom" fmla="*/ 288360 h 316080"/>
              </a:gdLst>
              <a:ahLst/>
              <a:rect l="textAreaLeft" t="textAreaTop" r="textAreaRight" b="textAreaBottom"/>
              <a:pathLst>
                <a:path w="21600" h="33724">
                  <a:moveTo>
                    <a:pt x="10174" y="0"/>
                  </a:moveTo>
                  <a:arcTo wR="10174" hR="10174" stAng="16200000" swAng="-5400000"/>
                  <a:lnTo>
                    <a:pt x="0" y="23550"/>
                  </a:lnTo>
                  <a:arcTo wR="10174" hR="10174" stAng="10800000" swAng="-5400000"/>
                  <a:lnTo>
                    <a:pt x="11426" y="33724"/>
                  </a:lnTo>
                  <a:arcTo wR="10174" hR="10174" stAng="5400000" swAng="-5400000"/>
                  <a:lnTo>
                    <a:pt x="21600" y="10174"/>
                  </a:lnTo>
                  <a:arcTo wR="10174" hR="10174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87960" y="1809720"/>
              <a:ext cx="224280" cy="339840"/>
            </a:xfrm>
            <a:custGeom>
              <a:avLst/>
              <a:gdLst>
                <a:gd name="textAreaLeft" fmla="*/ 27720 w 224280"/>
                <a:gd name="textAreaRight" fmla="*/ 196560 w 224280"/>
                <a:gd name="textAreaTop" fmla="*/ 27720 h 339840"/>
                <a:gd name="textAreaBottom" fmla="*/ 312120 h 339840"/>
              </a:gdLst>
              <a:ahLst/>
              <a:rect l="textAreaLeft" t="textAreaTop" r="textAreaRight" b="textAreaBottom"/>
              <a:pathLst>
                <a:path w="21600" h="32712">
                  <a:moveTo>
                    <a:pt x="9176" y="0"/>
                  </a:moveTo>
                  <a:arcTo wR="9176" hR="9176" stAng="16200000" swAng="-5400000"/>
                  <a:lnTo>
                    <a:pt x="0" y="23536"/>
                  </a:lnTo>
                  <a:arcTo wR="9176" hR="9176" stAng="10800000" swAng="-5400000"/>
                  <a:lnTo>
                    <a:pt x="12424" y="32712"/>
                  </a:lnTo>
                  <a:arcTo wR="9176" hR="9176" stAng="5400000" swAng="-5400000"/>
                  <a:lnTo>
                    <a:pt x="21600" y="9176"/>
                  </a:lnTo>
                  <a:arcTo wR="9176" hR="9176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87960" y="1979640"/>
              <a:ext cx="202320" cy="1699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87960" y="1979640"/>
              <a:ext cx="224280" cy="19368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87960" y="1809720"/>
              <a:ext cx="224280" cy="339840"/>
            </a:xfrm>
            <a:custGeom>
              <a:avLst/>
              <a:gdLst>
                <a:gd name="textAreaLeft" fmla="*/ 27720 w 224280"/>
                <a:gd name="textAreaRight" fmla="*/ 196560 w 224280"/>
                <a:gd name="textAreaTop" fmla="*/ 27720 h 339840"/>
                <a:gd name="textAreaBottom" fmla="*/ 312120 h 339840"/>
              </a:gdLst>
              <a:ahLst/>
              <a:rect l="textAreaLeft" t="textAreaTop" r="textAreaRight" b="textAreaBottom"/>
              <a:pathLst>
                <a:path w="21600" h="32712">
                  <a:moveTo>
                    <a:pt x="9176" y="0"/>
                  </a:moveTo>
                  <a:arcTo wR="9176" hR="9176" stAng="16200000" swAng="-5400000"/>
                  <a:lnTo>
                    <a:pt x="0" y="23536"/>
                  </a:lnTo>
                  <a:arcTo wR="9176" hR="9176" stAng="10800000" swAng="-5400000"/>
                  <a:lnTo>
                    <a:pt x="12424" y="32712"/>
                  </a:lnTo>
                  <a:arcTo wR="9176" hR="9176" stAng="5400000" swAng="-5400000"/>
                  <a:lnTo>
                    <a:pt x="21600" y="9176"/>
                  </a:lnTo>
                  <a:arcTo wR="9176" hR="9176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087960" y="1979640"/>
              <a:ext cx="2023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940800" y="1857240"/>
              <a:ext cx="202320" cy="316080"/>
            </a:xfrm>
            <a:custGeom>
              <a:avLst/>
              <a:gdLst>
                <a:gd name="textAreaLeft" fmla="*/ 27720 w 202320"/>
                <a:gd name="textAreaRight" fmla="*/ 174600 w 202320"/>
                <a:gd name="textAreaTop" fmla="*/ 27720 h 316080"/>
                <a:gd name="textAreaBottom" fmla="*/ 288360 h 316080"/>
              </a:gdLst>
              <a:ahLst/>
              <a:rect l="textAreaLeft" t="textAreaTop" r="textAreaRight" b="textAreaBottom"/>
              <a:pathLst>
                <a:path w="21600" h="33724">
                  <a:moveTo>
                    <a:pt x="10174" y="0"/>
                  </a:moveTo>
                  <a:arcTo wR="10174" hR="10174" stAng="16200000" swAng="-5400000"/>
                  <a:lnTo>
                    <a:pt x="0" y="23550"/>
                  </a:lnTo>
                  <a:arcTo wR="10174" hR="10174" stAng="10800000" swAng="-5400000"/>
                  <a:lnTo>
                    <a:pt x="11426" y="33724"/>
                  </a:lnTo>
                  <a:arcTo wR="10174" hR="10174" stAng="5400000" swAng="-5400000"/>
                  <a:lnTo>
                    <a:pt x="21600" y="10174"/>
                  </a:lnTo>
                  <a:arcTo wR="10174" hR="10174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940800" y="1857240"/>
              <a:ext cx="224280" cy="341280"/>
            </a:xfrm>
            <a:custGeom>
              <a:avLst/>
              <a:gdLst>
                <a:gd name="textAreaLeft" fmla="*/ 27720 w 224280"/>
                <a:gd name="textAreaRight" fmla="*/ 196560 w 224280"/>
                <a:gd name="textAreaTop" fmla="*/ 27720 h 341280"/>
                <a:gd name="textAreaBottom" fmla="*/ 313560 h 341280"/>
              </a:gdLst>
              <a:ahLst/>
              <a:rect l="textAreaLeft" t="textAreaTop" r="textAreaRight" b="textAreaBottom"/>
              <a:pathLst>
                <a:path w="21600" h="32850">
                  <a:moveTo>
                    <a:pt x="9176" y="0"/>
                  </a:moveTo>
                  <a:arcTo wR="9176" hR="9176" stAng="16200000" swAng="-5400000"/>
                  <a:lnTo>
                    <a:pt x="0" y="23674"/>
                  </a:lnTo>
                  <a:arcTo wR="9176" hR="9176" stAng="10800000" swAng="-5400000"/>
                  <a:lnTo>
                    <a:pt x="12424" y="32850"/>
                  </a:lnTo>
                  <a:arcTo wR="9176" hR="9176" stAng="5400000" swAng="-5400000"/>
                  <a:lnTo>
                    <a:pt x="21600" y="9176"/>
                  </a:lnTo>
                  <a:arcTo wR="9176" hR="9176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940800" y="2027160"/>
              <a:ext cx="202320" cy="1713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940800" y="2027160"/>
              <a:ext cx="224280" cy="19548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940800" y="1857240"/>
              <a:ext cx="224280" cy="341280"/>
            </a:xfrm>
            <a:custGeom>
              <a:avLst/>
              <a:gdLst>
                <a:gd name="textAreaLeft" fmla="*/ 27720 w 224280"/>
                <a:gd name="textAreaRight" fmla="*/ 196560 w 224280"/>
                <a:gd name="textAreaTop" fmla="*/ 27720 h 341280"/>
                <a:gd name="textAreaBottom" fmla="*/ 313560 h 341280"/>
              </a:gdLst>
              <a:ahLst/>
              <a:rect l="textAreaLeft" t="textAreaTop" r="textAreaRight" b="textAreaBottom"/>
              <a:pathLst>
                <a:path w="21600" h="32850">
                  <a:moveTo>
                    <a:pt x="9176" y="0"/>
                  </a:moveTo>
                  <a:arcTo wR="9176" hR="9176" stAng="16200000" swAng="-5400000"/>
                  <a:lnTo>
                    <a:pt x="0" y="23674"/>
                  </a:lnTo>
                  <a:arcTo wR="9176" hR="9176" stAng="10800000" swAng="-5400000"/>
                  <a:lnTo>
                    <a:pt x="12424" y="32850"/>
                  </a:lnTo>
                  <a:arcTo wR="9176" hR="9176" stAng="5400000" swAng="-5400000"/>
                  <a:lnTo>
                    <a:pt x="21600" y="9176"/>
                  </a:lnTo>
                  <a:arcTo wR="9176" hR="9176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940800" y="2027160"/>
              <a:ext cx="2023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087960" y="3340080"/>
              <a:ext cx="202320" cy="317520"/>
            </a:xfrm>
            <a:custGeom>
              <a:avLst/>
              <a:gdLst>
                <a:gd name="textAreaLeft" fmla="*/ 27720 w 202320"/>
                <a:gd name="textAreaRight" fmla="*/ 174600 w 202320"/>
                <a:gd name="textAreaTop" fmla="*/ 27720 h 317520"/>
                <a:gd name="textAreaBottom" fmla="*/ 289800 h 317520"/>
              </a:gdLst>
              <a:ahLst/>
              <a:rect l="textAreaLeft" t="textAreaTop" r="textAreaRight" b="textAreaBottom"/>
              <a:pathLst>
                <a:path w="21600" h="33877">
                  <a:moveTo>
                    <a:pt x="10174" y="0"/>
                  </a:moveTo>
                  <a:arcTo wR="10174" hR="10174" stAng="16200000" swAng="-5400000"/>
                  <a:lnTo>
                    <a:pt x="0" y="23703"/>
                  </a:lnTo>
                  <a:arcTo wR="10174" hR="10174" stAng="10800000" swAng="-5400000"/>
                  <a:lnTo>
                    <a:pt x="11426" y="33877"/>
                  </a:lnTo>
                  <a:arcTo wR="10174" hR="10174" stAng="5400000" swAng="-5400000"/>
                  <a:lnTo>
                    <a:pt x="21600" y="10174"/>
                  </a:lnTo>
                  <a:arcTo wR="10174" hR="10174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87960" y="3340080"/>
              <a:ext cx="224280" cy="341280"/>
            </a:xfrm>
            <a:custGeom>
              <a:avLst/>
              <a:gdLst>
                <a:gd name="textAreaLeft" fmla="*/ 27720 w 224280"/>
                <a:gd name="textAreaRight" fmla="*/ 196560 w 224280"/>
                <a:gd name="textAreaTop" fmla="*/ 27720 h 341280"/>
                <a:gd name="textAreaBottom" fmla="*/ 313560 h 341280"/>
              </a:gdLst>
              <a:ahLst/>
              <a:rect l="textAreaLeft" t="textAreaTop" r="textAreaRight" b="textAreaBottom"/>
              <a:pathLst>
                <a:path w="21600" h="32850">
                  <a:moveTo>
                    <a:pt x="9176" y="0"/>
                  </a:moveTo>
                  <a:arcTo wR="9176" hR="9176" stAng="16200000" swAng="-5400000"/>
                  <a:lnTo>
                    <a:pt x="0" y="23674"/>
                  </a:lnTo>
                  <a:arcTo wR="9176" hR="9176" stAng="10800000" swAng="-5400000"/>
                  <a:lnTo>
                    <a:pt x="12424" y="32850"/>
                  </a:lnTo>
                  <a:arcTo wR="9176" hR="9176" stAng="5400000" swAng="-5400000"/>
                  <a:lnTo>
                    <a:pt x="21600" y="9176"/>
                  </a:lnTo>
                  <a:arcTo wR="9176" hR="9176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87960" y="3511440"/>
              <a:ext cx="202320" cy="1461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087960" y="3511440"/>
              <a:ext cx="224280" cy="16992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87960" y="3340080"/>
              <a:ext cx="224280" cy="341280"/>
            </a:xfrm>
            <a:custGeom>
              <a:avLst/>
              <a:gdLst>
                <a:gd name="textAreaLeft" fmla="*/ 27720 w 224280"/>
                <a:gd name="textAreaRight" fmla="*/ 196560 w 224280"/>
                <a:gd name="textAreaTop" fmla="*/ 27720 h 341280"/>
                <a:gd name="textAreaBottom" fmla="*/ 313560 h 341280"/>
              </a:gdLst>
              <a:ahLst/>
              <a:rect l="textAreaLeft" t="textAreaTop" r="textAreaRight" b="textAreaBottom"/>
              <a:pathLst>
                <a:path w="21600" h="32850">
                  <a:moveTo>
                    <a:pt x="9176" y="0"/>
                  </a:moveTo>
                  <a:arcTo wR="9176" hR="9176" stAng="16200000" swAng="-5400000"/>
                  <a:lnTo>
                    <a:pt x="0" y="23674"/>
                  </a:lnTo>
                  <a:arcTo wR="9176" hR="9176" stAng="10800000" swAng="-5400000"/>
                  <a:lnTo>
                    <a:pt x="12424" y="32850"/>
                  </a:lnTo>
                  <a:arcTo wR="9176" hR="9176" stAng="5400000" swAng="-5400000"/>
                  <a:lnTo>
                    <a:pt x="21600" y="9176"/>
                  </a:lnTo>
                  <a:arcTo wR="9176" hR="9176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087960" y="3486240"/>
              <a:ext cx="2023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964560" y="3535200"/>
              <a:ext cx="200520" cy="339840"/>
            </a:xfrm>
            <a:custGeom>
              <a:avLst/>
              <a:gdLst>
                <a:gd name="textAreaLeft" fmla="*/ 27720 w 200520"/>
                <a:gd name="textAreaRight" fmla="*/ 172800 w 200520"/>
                <a:gd name="textAreaTop" fmla="*/ 27720 h 339840"/>
                <a:gd name="textAreaBottom" fmla="*/ 312120 h 339840"/>
              </a:gdLst>
              <a:ahLst/>
              <a:rect l="textAreaLeft" t="textAreaTop" r="textAreaRight" b="textAreaBottom"/>
              <a:pathLst>
                <a:path w="21600" h="36581">
                  <a:moveTo>
                    <a:pt x="10248" y="0"/>
                  </a:moveTo>
                  <a:arcTo wR="10248" hR="10248" stAng="16200000" swAng="-5400000"/>
                  <a:lnTo>
                    <a:pt x="0" y="26333"/>
                  </a:lnTo>
                  <a:arcTo wR="10248" hR="10248" stAng="10800000" swAng="-5400000"/>
                  <a:lnTo>
                    <a:pt x="11352" y="36581"/>
                  </a:lnTo>
                  <a:arcTo wR="10248" hR="10248" stAng="5400000" swAng="-5400000"/>
                  <a:lnTo>
                    <a:pt x="21600" y="10248"/>
                  </a:lnTo>
                  <a:arcTo wR="10248" hR="1024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964560" y="3535200"/>
              <a:ext cx="224280" cy="365400"/>
            </a:xfrm>
            <a:custGeom>
              <a:avLst/>
              <a:gdLst>
                <a:gd name="textAreaLeft" fmla="*/ 27720 w 224280"/>
                <a:gd name="textAreaRight" fmla="*/ 196560 w 224280"/>
                <a:gd name="textAreaTop" fmla="*/ 27720 h 365400"/>
                <a:gd name="textAreaBottom" fmla="*/ 337680 h 365400"/>
              </a:gdLst>
              <a:ahLst/>
              <a:rect l="textAreaLeft" t="textAreaTop" r="textAreaRight" b="textAreaBottom"/>
              <a:pathLst>
                <a:path w="21600" h="35169">
                  <a:moveTo>
                    <a:pt x="9176" y="0"/>
                  </a:moveTo>
                  <a:arcTo wR="9176" hR="9176" stAng="16200000" swAng="-5400000"/>
                  <a:lnTo>
                    <a:pt x="0" y="25993"/>
                  </a:lnTo>
                  <a:arcTo wR="9176" hR="9176" stAng="10800000" swAng="-5400000"/>
                  <a:lnTo>
                    <a:pt x="12424" y="35169"/>
                  </a:lnTo>
                  <a:arcTo wR="9176" hR="9176" stAng="5400000" swAng="-5400000"/>
                  <a:lnTo>
                    <a:pt x="21600" y="9176"/>
                  </a:lnTo>
                  <a:arcTo wR="9176" hR="9176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964560" y="3728880"/>
              <a:ext cx="200520" cy="1461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64560" y="3728880"/>
              <a:ext cx="224280" cy="17172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964560" y="3535200"/>
              <a:ext cx="224280" cy="365400"/>
            </a:xfrm>
            <a:custGeom>
              <a:avLst/>
              <a:gdLst>
                <a:gd name="textAreaLeft" fmla="*/ 27720 w 224280"/>
                <a:gd name="textAreaRight" fmla="*/ 196560 w 224280"/>
                <a:gd name="textAreaTop" fmla="*/ 27720 h 365400"/>
                <a:gd name="textAreaBottom" fmla="*/ 337680 h 365400"/>
              </a:gdLst>
              <a:ahLst/>
              <a:rect l="textAreaLeft" t="textAreaTop" r="textAreaRight" b="textAreaBottom"/>
              <a:pathLst>
                <a:path w="21600" h="35169">
                  <a:moveTo>
                    <a:pt x="9176" y="0"/>
                  </a:moveTo>
                  <a:arcTo wR="9176" hR="9176" stAng="16200000" swAng="-5400000"/>
                  <a:lnTo>
                    <a:pt x="0" y="25993"/>
                  </a:lnTo>
                  <a:arcTo wR="9176" hR="9176" stAng="10800000" swAng="-5400000"/>
                  <a:lnTo>
                    <a:pt x="12424" y="35169"/>
                  </a:lnTo>
                  <a:arcTo wR="9176" hR="9176" stAng="5400000" swAng="-5400000"/>
                  <a:lnTo>
                    <a:pt x="21600" y="9176"/>
                  </a:lnTo>
                  <a:arcTo wR="9176" hR="9176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64560" y="3705120"/>
              <a:ext cx="2005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087960" y="4871880"/>
              <a:ext cx="202320" cy="316080"/>
            </a:xfrm>
            <a:custGeom>
              <a:avLst/>
              <a:gdLst>
                <a:gd name="textAreaLeft" fmla="*/ 27720 w 202320"/>
                <a:gd name="textAreaRight" fmla="*/ 174600 w 202320"/>
                <a:gd name="textAreaTop" fmla="*/ 27720 h 316080"/>
                <a:gd name="textAreaBottom" fmla="*/ 288360 h 316080"/>
              </a:gdLst>
              <a:ahLst/>
              <a:rect l="textAreaLeft" t="textAreaTop" r="textAreaRight" b="textAreaBottom"/>
              <a:pathLst>
                <a:path w="21600" h="33724">
                  <a:moveTo>
                    <a:pt x="10174" y="0"/>
                  </a:moveTo>
                  <a:arcTo wR="10174" hR="10174" stAng="16200000" swAng="-5400000"/>
                  <a:lnTo>
                    <a:pt x="0" y="23550"/>
                  </a:lnTo>
                  <a:arcTo wR="10174" hR="10174" stAng="10800000" swAng="-5400000"/>
                  <a:lnTo>
                    <a:pt x="11426" y="33724"/>
                  </a:lnTo>
                  <a:arcTo wR="10174" hR="10174" stAng="5400000" swAng="-5400000"/>
                  <a:lnTo>
                    <a:pt x="21600" y="10174"/>
                  </a:lnTo>
                  <a:arcTo wR="10174" hR="10174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87960" y="4871880"/>
              <a:ext cx="224280" cy="341640"/>
            </a:xfrm>
            <a:custGeom>
              <a:avLst/>
              <a:gdLst>
                <a:gd name="textAreaLeft" fmla="*/ 27720 w 224280"/>
                <a:gd name="textAreaRight" fmla="*/ 196560 w 224280"/>
                <a:gd name="textAreaTop" fmla="*/ 27720 h 341640"/>
                <a:gd name="textAreaBottom" fmla="*/ 313920 h 341640"/>
              </a:gdLst>
              <a:ahLst/>
              <a:rect l="textAreaLeft" t="textAreaTop" r="textAreaRight" b="textAreaBottom"/>
              <a:pathLst>
                <a:path w="21600" h="32885">
                  <a:moveTo>
                    <a:pt x="9176" y="0"/>
                  </a:moveTo>
                  <a:arcTo wR="9176" hR="9176" stAng="16200000" swAng="-5400000"/>
                  <a:lnTo>
                    <a:pt x="0" y="23709"/>
                  </a:lnTo>
                  <a:arcTo wR="9176" hR="9176" stAng="10800000" swAng="-5400000"/>
                  <a:lnTo>
                    <a:pt x="12424" y="32885"/>
                  </a:lnTo>
                  <a:arcTo wR="9176" hR="9176" stAng="5400000" swAng="-5400000"/>
                  <a:lnTo>
                    <a:pt x="21600" y="9176"/>
                  </a:lnTo>
                  <a:arcTo wR="9176" hR="9176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87960" y="5041800"/>
              <a:ext cx="202320" cy="1461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087960" y="5041800"/>
              <a:ext cx="224280" cy="17172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087960" y="4871880"/>
              <a:ext cx="224280" cy="341640"/>
            </a:xfrm>
            <a:custGeom>
              <a:avLst/>
              <a:gdLst>
                <a:gd name="textAreaLeft" fmla="*/ 27720 w 224280"/>
                <a:gd name="textAreaRight" fmla="*/ 196560 w 224280"/>
                <a:gd name="textAreaTop" fmla="*/ 27720 h 341640"/>
                <a:gd name="textAreaBottom" fmla="*/ 313920 h 341640"/>
              </a:gdLst>
              <a:ahLst/>
              <a:rect l="textAreaLeft" t="textAreaTop" r="textAreaRight" b="textAreaBottom"/>
              <a:pathLst>
                <a:path w="21600" h="32885">
                  <a:moveTo>
                    <a:pt x="9176" y="0"/>
                  </a:moveTo>
                  <a:arcTo wR="9176" hR="9176" stAng="16200000" swAng="-5400000"/>
                  <a:lnTo>
                    <a:pt x="0" y="23709"/>
                  </a:lnTo>
                  <a:arcTo wR="9176" hR="9176" stAng="10800000" swAng="-5400000"/>
                  <a:lnTo>
                    <a:pt x="12424" y="32885"/>
                  </a:lnTo>
                  <a:arcTo wR="9176" hR="9176" stAng="5400000" swAng="-5400000"/>
                  <a:lnTo>
                    <a:pt x="21600" y="9176"/>
                  </a:lnTo>
                  <a:arcTo wR="9176" hR="9176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087960" y="5018040"/>
              <a:ext cx="2023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40800" y="4871880"/>
              <a:ext cx="202320" cy="341640"/>
            </a:xfrm>
            <a:custGeom>
              <a:avLst/>
              <a:gdLst>
                <a:gd name="textAreaLeft" fmla="*/ 27720 w 202320"/>
                <a:gd name="textAreaRight" fmla="*/ 174600 w 202320"/>
                <a:gd name="textAreaTop" fmla="*/ 27720 h 341640"/>
                <a:gd name="textAreaBottom" fmla="*/ 313920 h 341640"/>
              </a:gdLst>
              <a:ahLst/>
              <a:rect l="textAreaLeft" t="textAreaTop" r="textAreaRight" b="textAreaBottom"/>
              <a:pathLst>
                <a:path w="21600" h="36448">
                  <a:moveTo>
                    <a:pt x="10174" y="0"/>
                  </a:moveTo>
                  <a:arcTo wR="10174" hR="10174" stAng="16200000" swAng="-5400000"/>
                  <a:lnTo>
                    <a:pt x="0" y="26274"/>
                  </a:lnTo>
                  <a:arcTo wR="10174" hR="10174" stAng="10800000" swAng="-5400000"/>
                  <a:lnTo>
                    <a:pt x="11426" y="36448"/>
                  </a:lnTo>
                  <a:arcTo wR="10174" hR="10174" stAng="5400000" swAng="-5400000"/>
                  <a:lnTo>
                    <a:pt x="21600" y="10174"/>
                  </a:lnTo>
                  <a:arcTo wR="10174" hR="10174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40800" y="4871880"/>
              <a:ext cx="224280" cy="365400"/>
            </a:xfrm>
            <a:custGeom>
              <a:avLst/>
              <a:gdLst>
                <a:gd name="textAreaLeft" fmla="*/ 27720 w 224280"/>
                <a:gd name="textAreaRight" fmla="*/ 196560 w 224280"/>
                <a:gd name="textAreaTop" fmla="*/ 27720 h 365400"/>
                <a:gd name="textAreaBottom" fmla="*/ 337680 h 365400"/>
              </a:gdLst>
              <a:ahLst/>
              <a:rect l="textAreaLeft" t="textAreaTop" r="textAreaRight" b="textAreaBottom"/>
              <a:pathLst>
                <a:path w="21600" h="35169">
                  <a:moveTo>
                    <a:pt x="9176" y="0"/>
                  </a:moveTo>
                  <a:arcTo wR="9176" hR="9176" stAng="16200000" swAng="-5400000"/>
                  <a:lnTo>
                    <a:pt x="0" y="25993"/>
                  </a:lnTo>
                  <a:arcTo wR="9176" hR="9176" stAng="10800000" swAng="-5400000"/>
                  <a:lnTo>
                    <a:pt x="12424" y="35169"/>
                  </a:lnTo>
                  <a:arcTo wR="9176" hR="9176" stAng="5400000" swAng="-5400000"/>
                  <a:lnTo>
                    <a:pt x="21600" y="9176"/>
                  </a:lnTo>
                  <a:arcTo wR="9176" hR="9176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940800" y="5067360"/>
              <a:ext cx="202320" cy="1461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940800" y="5067360"/>
              <a:ext cx="224280" cy="16992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40800" y="4871880"/>
              <a:ext cx="224280" cy="365400"/>
            </a:xfrm>
            <a:custGeom>
              <a:avLst/>
              <a:gdLst>
                <a:gd name="textAreaLeft" fmla="*/ 27720 w 224280"/>
                <a:gd name="textAreaRight" fmla="*/ 196560 w 224280"/>
                <a:gd name="textAreaTop" fmla="*/ 27720 h 365400"/>
                <a:gd name="textAreaBottom" fmla="*/ 337680 h 365400"/>
              </a:gdLst>
              <a:ahLst/>
              <a:rect l="textAreaLeft" t="textAreaTop" r="textAreaRight" b="textAreaBottom"/>
              <a:pathLst>
                <a:path w="21600" h="35169">
                  <a:moveTo>
                    <a:pt x="9176" y="0"/>
                  </a:moveTo>
                  <a:arcTo wR="9176" hR="9176" stAng="16200000" swAng="-5400000"/>
                  <a:lnTo>
                    <a:pt x="0" y="25993"/>
                  </a:lnTo>
                  <a:arcTo wR="9176" hR="9176" stAng="10800000" swAng="-5400000"/>
                  <a:lnTo>
                    <a:pt x="12424" y="35169"/>
                  </a:lnTo>
                  <a:arcTo wR="9176" hR="9176" stAng="5400000" swAng="-5400000"/>
                  <a:lnTo>
                    <a:pt x="21600" y="9176"/>
                  </a:lnTo>
                  <a:arcTo wR="9176" hR="9176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940800" y="5041800"/>
              <a:ext cx="2023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18840" y="5359320"/>
              <a:ext cx="202320" cy="339840"/>
            </a:xfrm>
            <a:custGeom>
              <a:avLst/>
              <a:gdLst>
                <a:gd name="textAreaLeft" fmla="*/ 27720 w 202320"/>
                <a:gd name="textAreaRight" fmla="*/ 174600 w 202320"/>
                <a:gd name="textAreaTop" fmla="*/ 27720 h 339840"/>
                <a:gd name="textAreaBottom" fmla="*/ 312120 h 339840"/>
              </a:gdLst>
              <a:ahLst/>
              <a:rect l="textAreaLeft" t="textAreaTop" r="textAreaRight" b="textAreaBottom"/>
              <a:pathLst>
                <a:path w="21600" h="36256">
                  <a:moveTo>
                    <a:pt x="10174" y="0"/>
                  </a:moveTo>
                  <a:arcTo wR="10174" hR="10174" stAng="16200000" swAng="-5400000"/>
                  <a:lnTo>
                    <a:pt x="0" y="26082"/>
                  </a:lnTo>
                  <a:arcTo wR="10174" hR="10174" stAng="10800000" swAng="-5400000"/>
                  <a:lnTo>
                    <a:pt x="11426" y="36256"/>
                  </a:lnTo>
                  <a:arcTo wR="10174" hR="10174" stAng="5400000" swAng="-5400000"/>
                  <a:lnTo>
                    <a:pt x="21600" y="10174"/>
                  </a:lnTo>
                  <a:arcTo wR="10174" hR="10174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918840" y="5359320"/>
              <a:ext cx="224280" cy="363600"/>
            </a:xfrm>
            <a:custGeom>
              <a:avLst/>
              <a:gdLst>
                <a:gd name="textAreaLeft" fmla="*/ 27720 w 224280"/>
                <a:gd name="textAreaRight" fmla="*/ 196560 w 224280"/>
                <a:gd name="textAreaTop" fmla="*/ 27720 h 363600"/>
                <a:gd name="textAreaBottom" fmla="*/ 335880 h 363600"/>
              </a:gdLst>
              <a:ahLst/>
              <a:rect l="textAreaLeft" t="textAreaTop" r="textAreaRight" b="textAreaBottom"/>
              <a:pathLst>
                <a:path w="21600" h="34996">
                  <a:moveTo>
                    <a:pt x="9176" y="0"/>
                  </a:moveTo>
                  <a:arcTo wR="9176" hR="9176" stAng="16200000" swAng="-5400000"/>
                  <a:lnTo>
                    <a:pt x="0" y="25820"/>
                  </a:lnTo>
                  <a:arcTo wR="9176" hR="9176" stAng="10800000" swAng="-5400000"/>
                  <a:lnTo>
                    <a:pt x="12424" y="34996"/>
                  </a:lnTo>
                  <a:arcTo wR="9176" hR="9176" stAng="5400000" swAng="-5400000"/>
                  <a:lnTo>
                    <a:pt x="21600" y="9176"/>
                  </a:lnTo>
                  <a:arcTo wR="9176" hR="9176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940800" y="5553000"/>
              <a:ext cx="180360" cy="1461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40800" y="5553000"/>
              <a:ext cx="202320" cy="16992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18840" y="5359320"/>
              <a:ext cx="224280" cy="363600"/>
            </a:xfrm>
            <a:custGeom>
              <a:avLst/>
              <a:gdLst>
                <a:gd name="textAreaLeft" fmla="*/ 27720 w 224280"/>
                <a:gd name="textAreaRight" fmla="*/ 196560 w 224280"/>
                <a:gd name="textAreaTop" fmla="*/ 27720 h 363600"/>
                <a:gd name="textAreaBottom" fmla="*/ 335880 h 363600"/>
              </a:gdLst>
              <a:ahLst/>
              <a:rect l="textAreaLeft" t="textAreaTop" r="textAreaRight" b="textAreaBottom"/>
              <a:pathLst>
                <a:path w="21600" h="34996">
                  <a:moveTo>
                    <a:pt x="9176" y="0"/>
                  </a:moveTo>
                  <a:arcTo wR="9176" hR="9176" stAng="16200000" swAng="-5400000"/>
                  <a:lnTo>
                    <a:pt x="0" y="25820"/>
                  </a:lnTo>
                  <a:arcTo wR="9176" hR="9176" stAng="10800000" swAng="-5400000"/>
                  <a:lnTo>
                    <a:pt x="12424" y="34996"/>
                  </a:lnTo>
                  <a:arcTo wR="9176" hR="9176" stAng="5400000" swAng="-5400000"/>
                  <a:lnTo>
                    <a:pt x="21600" y="9176"/>
                  </a:lnTo>
                  <a:arcTo wR="9176" hR="9176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918840" y="5529240"/>
              <a:ext cx="2023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809960" y="21128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09960" y="21128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17080" y="5832360"/>
              <a:ext cx="76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ranc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93680" y="2622600"/>
              <a:ext cx="77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ranch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63120" y="3110040"/>
              <a:ext cx="93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rticip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027840" y="4665600"/>
              <a:ext cx="93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rticip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05640" y="51022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605640" y="54673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401200" y="3619440"/>
              <a:ext cx="52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493680" y="4203720"/>
              <a:ext cx="77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ranch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604560" y="36687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604560" y="19908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19560" y="1577880"/>
              <a:ext cx="93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rticip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955680" y="1494000"/>
              <a:ext cx="90720" cy="968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2" y="30"/>
                  </a:moveTo>
                  <a:lnTo>
                    <a:pt x="46" y="61"/>
                  </a:lnTo>
                  <a:lnTo>
                    <a:pt x="0" y="15"/>
                  </a:lnTo>
                  <a:lnTo>
                    <a:pt x="62" y="0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 flipV="1">
              <a:off x="4046040" y="1541520"/>
              <a:ext cx="2041560" cy="41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955680" y="1663560"/>
              <a:ext cx="90720" cy="968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46" y="30"/>
                  </a:moveTo>
                  <a:lnTo>
                    <a:pt x="16" y="61"/>
                  </a:lnTo>
                  <a:lnTo>
                    <a:pt x="0" y="0"/>
                  </a:lnTo>
                  <a:lnTo>
                    <a:pt x="62" y="0"/>
                  </a:lnTo>
                  <a:lnTo>
                    <a:pt x="46" y="3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>
              <a:off x="4023000" y="1711440"/>
              <a:ext cx="2064960" cy="180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866040" y="1711440"/>
              <a:ext cx="89280" cy="982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31" y="46"/>
                  </a:moveTo>
                  <a:lnTo>
                    <a:pt x="0" y="62"/>
                  </a:lnTo>
                  <a:lnTo>
                    <a:pt x="0" y="0"/>
                  </a:lnTo>
                  <a:lnTo>
                    <a:pt x="61" y="31"/>
                  </a:lnTo>
                  <a:lnTo>
                    <a:pt x="31" y="46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3911760" y="1784520"/>
              <a:ext cx="2154240" cy="32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22200" y="1504800"/>
              <a:ext cx="54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jo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809960" y="2324160"/>
              <a:ext cx="54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jo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083920" y="4300560"/>
              <a:ext cx="54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jo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883960" y="29876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65440" y="1990800"/>
              <a:ext cx="1611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a.withdraw(4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212240" y="5005440"/>
              <a:ext cx="1456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c.deposit(4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65440" y="3668760"/>
              <a:ext cx="1611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b.withdraw(3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147440" y="5491080"/>
              <a:ext cx="1467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d.deposit(3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135680" y="3267000"/>
              <a:ext cx="111240" cy="98640"/>
            </a:xfrm>
            <a:custGeom>
              <a:avLst/>
              <a:gdLst/>
              <a:ahLst/>
              <a:rect l="l" t="t" r="r" b="b"/>
              <a:pathLst>
                <a:path w="76" h="62">
                  <a:moveTo>
                    <a:pt x="15" y="31"/>
                  </a:moveTo>
                  <a:lnTo>
                    <a:pt x="15" y="0"/>
                  </a:lnTo>
                  <a:lnTo>
                    <a:pt x="76" y="46"/>
                  </a:lnTo>
                  <a:lnTo>
                    <a:pt x="0" y="62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193560" y="3073320"/>
              <a:ext cx="942120" cy="24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641760" y="1565280"/>
              <a:ext cx="89280" cy="982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30" y="46"/>
                  </a:moveTo>
                  <a:lnTo>
                    <a:pt x="0" y="16"/>
                  </a:lnTo>
                  <a:lnTo>
                    <a:pt x="61" y="0"/>
                  </a:lnTo>
                  <a:lnTo>
                    <a:pt x="46" y="62"/>
                  </a:lnTo>
                  <a:lnTo>
                    <a:pt x="30" y="46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2923560" y="1638360"/>
              <a:ext cx="740160" cy="1192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92960" y="1523880"/>
              <a:ext cx="151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openTrans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69960" y="3473280"/>
              <a:ext cx="184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b.withdraw(T, 3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895760" y="1728720"/>
              <a:ext cx="171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closeTrans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8520" y="4114800"/>
              <a:ext cx="334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81640" y="4114800"/>
              <a:ext cx="1428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Arial"/>
                </a:rPr>
                <a:t>openTransa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38640" y="4352760"/>
              <a:ext cx="152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a.withdraw(4);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36840" y="4613400"/>
              <a:ext cx="1377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c.deposit(4);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8640" y="4826160"/>
              <a:ext cx="152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b.withdraw(3);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37920" y="5040360"/>
              <a:ext cx="1387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d.deposit(3);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26680" y="5276880"/>
              <a:ext cx="177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i="1" lang="en-GB" sz="1500" spc="-1" strike="noStrike">
                  <a:solidFill>
                    <a:srgbClr val="000000"/>
                  </a:solidFill>
                  <a:latin typeface="Arial"/>
                </a:rPr>
                <a:t>closeTransa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45960" y="5630760"/>
              <a:ext cx="553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ote: the coordinator is in one of the servers, e.g. Branch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perations for two-phase commit protocol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12720" y="1353960"/>
            <a:ext cx="779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canCommit?(trans)-&gt; Yes / 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ll from coordinator to participant to ask whether it can commit a transaction. Participant replies with its vo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oCommit(trans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ll from coordinator to participant to tell participant to commit its part of a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oAbort(trans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ll from coordinator to participant to tell participant to abort its part of a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haveCommitted(trans, participant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ll from participant to coordinator to confirm that it has committed the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getDecision(trans) -&gt; Yes / 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ll from participant to coordinator to ask for the decision on a transaction after it has voted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ut has still had no reply after some delay. Used to recover from server crash or delayed mess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two-phase commit protocol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85640" y="1322280"/>
            <a:ext cx="8047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hase 1 (voting phase)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0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coordinator sends a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canCommi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? request to each of the participants in the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0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hen a participant receives a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canCommi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? request it replies with its vote 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 to the coordinator. Before voting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it prepares to commit by saving objects in permanent storage. If the vote is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he participant aborts immediate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hase 2 (completion according to outcome of vot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0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coordinator collects the votes (including its own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06480" indent="-3697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f there are no failures and all the votes are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he coordinator decides to commit the transaction and sends a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oCommi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request to each of the participan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06480" indent="-3697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therwise the coordinator decides to abort the transaction and sends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oAbor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requests to all participants that voted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0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4.  Participants that voted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re waiting for a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oCommi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oAbor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request from the coordinator. When a participant receives one of these messages it acts accordingly and in the case of commit, makes a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haveCommitte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call as confirmation to the coordina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mmunication in two-phase commit protocol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531720" y="2360520"/>
            <a:ext cx="7883280" cy="2590920"/>
            <a:chOff x="531720" y="2360520"/>
            <a:chExt cx="7883280" cy="2590920"/>
          </a:xfrm>
        </p:grpSpPr>
        <p:sp>
          <p:nvSpPr>
            <p:cNvPr id="419" name=""/>
            <p:cNvSpPr/>
            <p:nvPr/>
          </p:nvSpPr>
          <p:spPr>
            <a:xfrm>
              <a:off x="543240" y="2373480"/>
              <a:ext cx="2675520" cy="25682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31720" y="2360520"/>
              <a:ext cx="2694600" cy="259092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86600" y="2505240"/>
              <a:ext cx="2207880" cy="22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86600" y="2505240"/>
              <a:ext cx="2228760" cy="2304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32280" y="2373480"/>
              <a:ext cx="2674080" cy="25682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720400" y="2360520"/>
              <a:ext cx="2694600" cy="259092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94840" y="3274920"/>
              <a:ext cx="100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canCommit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253040" y="3643200"/>
              <a:ext cx="30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011840" y="3973680"/>
              <a:ext cx="81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doCom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774240" y="4299120"/>
              <a:ext cx="1248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haveCommit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035880" y="4635360"/>
              <a:ext cx="100800" cy="65160"/>
            </a:xfrm>
            <a:custGeom>
              <a:avLst/>
              <a:gdLst/>
              <a:ahLst/>
              <a:rect l="l" t="t" r="r" b="b"/>
              <a:pathLst>
                <a:path w="69" h="41">
                  <a:moveTo>
                    <a:pt x="69" y="13"/>
                  </a:moveTo>
                  <a:lnTo>
                    <a:pt x="69" y="41"/>
                  </a:lnTo>
                  <a:lnTo>
                    <a:pt x="0" y="27"/>
                  </a:lnTo>
                  <a:lnTo>
                    <a:pt x="69" y="0"/>
                  </a:lnTo>
                  <a:lnTo>
                    <a:pt x="69" y="13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3136680" y="4437000"/>
              <a:ext cx="2999520" cy="219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35880" y="3932280"/>
              <a:ext cx="100800" cy="65160"/>
            </a:xfrm>
            <a:custGeom>
              <a:avLst/>
              <a:gdLst/>
              <a:ahLst/>
              <a:rect l="l" t="t" r="r" b="b"/>
              <a:pathLst>
                <a:path w="69" h="41">
                  <a:moveTo>
                    <a:pt x="69" y="28"/>
                  </a:moveTo>
                  <a:lnTo>
                    <a:pt x="69" y="41"/>
                  </a:lnTo>
                  <a:lnTo>
                    <a:pt x="0" y="28"/>
                  </a:lnTo>
                  <a:lnTo>
                    <a:pt x="69" y="0"/>
                  </a:lnTo>
                  <a:lnTo>
                    <a:pt x="69" y="2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3136680" y="3733920"/>
              <a:ext cx="2999520" cy="24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792400" y="3646440"/>
              <a:ext cx="100800" cy="66600"/>
            </a:xfrm>
            <a:custGeom>
              <a:avLst/>
              <a:gdLst/>
              <a:ahLst/>
              <a:rect l="l" t="t" r="r" b="b"/>
              <a:pathLst>
                <a:path w="69" h="42">
                  <a:moveTo>
                    <a:pt x="0" y="14"/>
                  </a:moveTo>
                  <a:lnTo>
                    <a:pt x="14" y="0"/>
                  </a:lnTo>
                  <a:lnTo>
                    <a:pt x="69" y="28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752920" y="3449520"/>
              <a:ext cx="3039120" cy="219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92400" y="4282920"/>
              <a:ext cx="100800" cy="66960"/>
            </a:xfrm>
            <a:custGeom>
              <a:avLst/>
              <a:gdLst/>
              <a:ahLst/>
              <a:rect l="l" t="t" r="r" b="b"/>
              <a:pathLst>
                <a:path w="69" h="42">
                  <a:moveTo>
                    <a:pt x="0" y="28"/>
                  </a:moveTo>
                  <a:lnTo>
                    <a:pt x="14" y="0"/>
                  </a:lnTo>
                  <a:lnTo>
                    <a:pt x="69" y="28"/>
                  </a:lnTo>
                  <a:lnTo>
                    <a:pt x="0" y="42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752920" y="4108320"/>
              <a:ext cx="3039120" cy="219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55360" y="2668680"/>
              <a:ext cx="93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ordin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56080" y="3414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56080" y="4030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278000" y="3656160"/>
              <a:ext cx="1411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(waiting for vot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80880" y="4030560"/>
              <a:ext cx="823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commit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281240" y="457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d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279080" y="3392640"/>
              <a:ext cx="153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prepared to com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35200" y="3051000"/>
              <a:ext cx="33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st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86600" y="3273480"/>
              <a:ext cx="22078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934240" y="2505240"/>
              <a:ext cx="2208240" cy="22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934240" y="2505240"/>
              <a:ext cx="2229120" cy="2304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03000" y="2668680"/>
              <a:ext cx="844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rticip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004800" y="3678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04800" y="4314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489000" y="3963960"/>
              <a:ext cx="85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(uncertai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487560" y="3700440"/>
              <a:ext cx="153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prepared to com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89720" y="4314960"/>
              <a:ext cx="823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commit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89000" y="3051000"/>
              <a:ext cx="479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03720" y="3051000"/>
              <a:ext cx="33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st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954760" y="3295800"/>
              <a:ext cx="21834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79800" y="3051000"/>
              <a:ext cx="479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4.7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Operations in coordinator for nested transac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12640" y="2016000"/>
            <a:ext cx="792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openSubTransaction(trans) -&gt; subTr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ens a new subtransaction whose parent i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ra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returns a unique subtransaction identifi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getStatus(trans)-&gt; committed, aborted, provi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ks the coordinator to report on the status of the transactio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ra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Returns values representing one of the following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ommitt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bort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rovision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ransaction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decides whether to commi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539280" y="1631880"/>
            <a:ext cx="8245080" cy="3200400"/>
            <a:chOff x="539280" y="1631880"/>
            <a:chExt cx="8245080" cy="3200400"/>
          </a:xfrm>
        </p:grpSpPr>
        <p:sp>
          <p:nvSpPr>
            <p:cNvPr id="462" name=""/>
            <p:cNvSpPr/>
            <p:nvPr/>
          </p:nvSpPr>
          <p:spPr>
            <a:xfrm>
              <a:off x="2829600" y="22860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358360" y="43308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454000" y="163188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586120" y="18223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454000" y="295128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586120" y="3141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837000" y="2317320"/>
              <a:ext cx="1852200" cy="71748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37000" y="3178080"/>
              <a:ext cx="1349280" cy="106200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3086280" y="1773000"/>
              <a:ext cx="2275560" cy="48708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086280" y="2376360"/>
              <a:ext cx="2303280" cy="71604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454000" y="441324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586120" y="46036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454000" y="358128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586120" y="37450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2610000" y="3723840"/>
              <a:ext cx="2779560" cy="54468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610000" y="4383000"/>
              <a:ext cx="2751480" cy="20016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142680" y="1631880"/>
              <a:ext cx="1248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bort (at M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116760" y="2951280"/>
              <a:ext cx="2667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visional commit (at N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476520" y="2165400"/>
              <a:ext cx="2653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visional commit (at X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394440" y="4097160"/>
              <a:ext cx="1476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borted (at Y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064200" y="3552840"/>
              <a:ext cx="2667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visional commit (at N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037560" y="4413240"/>
              <a:ext cx="2653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visional commit (at P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711880" y="21528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21200" y="4138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39280" y="292248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Jean Dollimore</cp:lastModifiedBy>
  <cp:lastPrinted>2000-11-12T21:05:10Z</cp:lastPrinted>
  <dcterms:modified xsi:type="dcterms:W3CDTF">2005-05-21T12:50:14Z</dcterms:modified>
  <cp:revision>100</cp:revision>
  <dc:subject/>
  <dc:title>Figure 15.1 A distributed multimedia system</dc:title>
</cp:coreProperties>
</file>