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0E0-241B-498A-8AD4-B324EE5F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906-6281-444D-AA3E-573B6D1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C59-538B-4071-A2B4-D0E209ED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CFE-F598-4270-B1D6-E2029704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0533-7214-4177-B6F5-640B7CB2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1CDC-6277-4D91-9761-5BA6BC9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E5B1-B1B0-401B-9E44-17002568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668B-BFBE-4901-A697-6FD872AF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EB19-4421-45AE-B799-C1733830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A762-B283-400F-8459-B81FAAA3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0E4-E08C-4B8E-8774-C746322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00E-3A9E-4BB0-84CA-E55E8D92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BA99-5EE3-4B85-A464-C3265DC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175A-A4F7-46C8-A68B-A5C616B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F287-68E7-4FC7-B84F-7E44D523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5E8A-09C6-4DCD-894C-03F89CDD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D96B-4542-490A-B454-7CAC0034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BD8-5AC6-40BB-B103-7DE7B1B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422-6D02-4D1B-A1C8-15A0D2B2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AB7-40AE-4612-8F02-F199793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57A-AFBB-447A-8C04-29FBF49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DD7-0AE0-4B67-9C27-C9FCAE8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1E8-554A-4B24-8405-DC75FB05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A59-2B04-4BD4-8855-FA3EB666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47C-0C5F-49F4-94C9-055E814793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068A-F8CB-4B9E-BAF3-38E3DFAF04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3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ransactions and Concurrency Contro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9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conflict ru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8480" y="1949400"/>
            <a:ext cx="8879040" cy="3233880"/>
            <a:chOff x="528480" y="1949400"/>
            <a:chExt cx="8879040" cy="3233880"/>
          </a:xfrm>
        </p:grpSpPr>
        <p:sp>
          <p:nvSpPr>
            <p:cNvPr id="290" name=""/>
            <p:cNvSpPr/>
            <p:nvPr/>
          </p:nvSpPr>
          <p:spPr>
            <a:xfrm>
              <a:off x="528480" y="1969920"/>
              <a:ext cx="8785440" cy="65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3400" y="2039760"/>
              <a:ext cx="233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perations of diffe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75320" y="230832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67920" y="2039760"/>
              <a:ext cx="81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nfl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38440" y="2039760"/>
              <a:ext cx="75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64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70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80520" y="277812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23080" y="277812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166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8880" y="277812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6600" y="3119400"/>
              <a:ext cx="478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es not depend on the order in which they 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27760" y="345924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440" y="38005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8840" y="3800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80520" y="380052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25240" y="3800520"/>
              <a:ext cx="238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6200" y="38005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48080" y="3800520"/>
              <a:ext cx="67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56560" y="3800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90440" y="3800520"/>
              <a:ext cx="102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9120" y="414180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20880" y="4141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240" y="44816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44816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80520" y="4481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23080" y="448164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18440" y="44816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51960" y="448164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120" y="482292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20880" y="48229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440" y="1949400"/>
              <a:ext cx="876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2960" y="5183280"/>
              <a:ext cx="876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019240" y="2089080"/>
            <a:ext cx="5348520" cy="557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non-serially equivalent interleaving of operations of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67840" y="2201760"/>
            <a:ext cx="1514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60840" y="22017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27520" y="22017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73040" y="2201760"/>
            <a:ext cx="1514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66040" y="22017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61160" y="22017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91040" y="2789280"/>
            <a:ext cx="122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= read(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90320" y="3179880"/>
            <a:ext cx="125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rite(i, 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74120" y="3378240"/>
            <a:ext cx="122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= read(j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73400" y="3770280"/>
            <a:ext cx="125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rite(j, 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90320" y="4352760"/>
            <a:ext cx="125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rite(j, 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73760" y="4552920"/>
            <a:ext cx="1282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 = read (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98720" y="2095560"/>
            <a:ext cx="538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8720" y="5016600"/>
            <a:ext cx="538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03760" y="2112840"/>
            <a:ext cx="0" cy="290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65280" y="1743120"/>
            <a:ext cx="422892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65840" y="1743120"/>
            <a:ext cx="4279680" cy="446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6200" y="2260440"/>
            <a:ext cx="4248000" cy="67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48200" y="2243160"/>
            <a:ext cx="4299120" cy="692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rty read when transactio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bor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65400" y="29480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05920" y="2948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540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6404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55166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2680" y="18129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57200" y="1812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5880" y="18129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80400" y="18129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6800" y="2225520"/>
            <a:ext cx="150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53560" y="257328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98040" y="18129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1120" y="18129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95360" y="18129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6960" y="2225520"/>
            <a:ext cx="150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93720" y="257328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23880" y="1708200"/>
            <a:ext cx="85644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4280" y="3087720"/>
            <a:ext cx="261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alance = 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99960" y="30877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560" y="351144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99960" y="3511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94440" y="3865680"/>
            <a:ext cx="261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alance = 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40120" y="38656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93720" y="437688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4012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96960" y="4805280"/>
            <a:ext cx="197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56800" y="5229360"/>
            <a:ext cx="17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o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58800" y="5705640"/>
            <a:ext cx="85644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716040" y="2370240"/>
            <a:ext cx="422892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16600" y="2370240"/>
            <a:ext cx="4279680" cy="446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6960" y="2887560"/>
            <a:ext cx="4248000" cy="397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98960" y="2870280"/>
            <a:ext cx="4299120" cy="404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writing uncommitted valu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75440" y="24717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30200" y="247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82120" y="2471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3880" y="290520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36200" y="24717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89520" y="2471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66640" y="2471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34400" y="290520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14360" y="3397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3880" y="375444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14360" y="3754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34400" y="414036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444880" y="41403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7800" y="2384280"/>
            <a:ext cx="862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7800" y="4538520"/>
            <a:ext cx="862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96960" y="1981080"/>
            <a:ext cx="8434440" cy="3083040"/>
            <a:chOff x="696960" y="1981080"/>
            <a:chExt cx="8434440" cy="3083040"/>
          </a:xfrm>
        </p:grpSpPr>
        <p:sp>
          <p:nvSpPr>
            <p:cNvPr id="395" name=""/>
            <p:cNvSpPr/>
            <p:nvPr/>
          </p:nvSpPr>
          <p:spPr>
            <a:xfrm>
              <a:off x="4352400" y="1981080"/>
              <a:ext cx="204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  : top-level 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060720" y="2484360"/>
              <a:ext cx="1006560" cy="5382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3800" y="2508120"/>
              <a:ext cx="677880" cy="514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46280" y="2273400"/>
              <a:ext cx="6365880" cy="2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6280" y="2273400"/>
              <a:ext cx="6388200" cy="2584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93760" y="2244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11120" y="232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6720" y="224460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90720" y="2268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07000" y="235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84040" y="226836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0720" y="3046320"/>
              <a:ext cx="461016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0720" y="3046320"/>
              <a:ext cx="463392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87920" y="3046320"/>
              <a:ext cx="351144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87920" y="3046320"/>
              <a:ext cx="353376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0420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4292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96520" y="301140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6960" y="37958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696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03320" y="3795840"/>
              <a:ext cx="175428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0332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05280" y="3795840"/>
              <a:ext cx="31831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5280" y="3795840"/>
              <a:ext cx="32068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79280" y="378288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0880" y="45212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00880" y="4521240"/>
              <a:ext cx="17794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15600" y="3327480"/>
              <a:ext cx="468360" cy="468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92520" y="3303720"/>
              <a:ext cx="233280" cy="514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99040" y="3303720"/>
              <a:ext cx="351000" cy="492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6440" y="4076640"/>
              <a:ext cx="257040" cy="420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6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7920" y="283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8856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588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72960" y="2838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9860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828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600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0872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0296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2104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376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68480" y="42339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88360" y="4319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31720" y="423396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52800" y="35146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70520" y="3598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33240" y="358452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13320" y="4835520"/>
              <a:ext cx="104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6952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93280" y="3338640"/>
              <a:ext cx="43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b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7364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7016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32520" y="333864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76400" y="2612880"/>
              <a:ext cx="61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62680" y="2503440"/>
            <a:ext cx="1316160" cy="312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69840" y="2503440"/>
            <a:ext cx="2178000" cy="297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89320" y="2503440"/>
            <a:ext cx="1316160" cy="312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46600" y="2503440"/>
            <a:ext cx="2025720" cy="2952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69840" y="1317600"/>
            <a:ext cx="3703680" cy="312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13120" y="1325520"/>
            <a:ext cx="3924360" cy="303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52560" y="1646280"/>
            <a:ext cx="3705120" cy="77796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1680" y="1662120"/>
            <a:ext cx="3925800" cy="7603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th exclusiv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9408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944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9408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944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9408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7676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944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80600" y="1376280"/>
            <a:ext cx="110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71760" y="1376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87680" y="1376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44920" y="137628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13000" y="1649520"/>
            <a:ext cx="208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ance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11920" y="191772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11200" y="2168640"/>
            <a:ext cx="157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57480" y="1376280"/>
            <a:ext cx="110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9720" y="13762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83640" y="1376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40520" y="14907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57840" y="1701720"/>
            <a:ext cx="208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ance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56760" y="190512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56760" y="2173320"/>
            <a:ext cx="156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944640" y="1282680"/>
            <a:ext cx="77263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13000" y="25653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22520" y="256536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57840" y="25653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87880" y="256536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11200" y="292752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13360" y="3195720"/>
            <a:ext cx="175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2160" y="31957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24280" y="3195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11920" y="357840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56040" y="350820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11200" y="3898800"/>
            <a:ext cx="157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2160" y="389880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24280" y="384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58200" y="3833640"/>
            <a:ext cx="175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88600" y="383364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3800" y="3833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48280" y="38336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87520" y="411336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39120" y="411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11560" y="4368960"/>
            <a:ext cx="140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ose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21440" y="436896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16520" y="4368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0640" y="43689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45120" y="4368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57840" y="443880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35600" y="4438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87520" y="470700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89640" y="470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56760" y="508968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88240" y="50324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45480" y="50324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2520" y="5357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79760" y="5357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56760" y="5392800"/>
            <a:ext cx="156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7520" y="539280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88920" y="53578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56400" y="5740560"/>
            <a:ext cx="140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ose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86800" y="575928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480440" y="5759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96360" y="575928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709760" y="57592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10120" y="450360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62400" y="450360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15040" y="450360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944640" y="6141960"/>
            <a:ext cx="77263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202360" y="2801880"/>
            <a:ext cx="3720960" cy="3222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02360" y="2443320"/>
            <a:ext cx="3720960" cy="3222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87800" y="3121200"/>
            <a:ext cx="1977840" cy="1388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560" y="3103560"/>
            <a:ext cx="2316240" cy="1405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4840" y="25113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on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42360" y="2511360"/>
            <a:ext cx="155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k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33520" y="251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84280" y="251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280980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13480" y="280980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5560" y="3137040"/>
            <a:ext cx="168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k already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3218040"/>
            <a:ext cx="49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89840" y="321804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12400" y="321804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36813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89840" y="368136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12760" y="368136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54480" y="414324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290560" y="414324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412760" y="414324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6400" y="2427120"/>
            <a:ext cx="817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6400" y="4514760"/>
            <a:ext cx="817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locks in strict two-phase lock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7040" y="1725480"/>
            <a:ext cx="8653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en an operation accesses an object within a transa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is not already locked, it is lock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conflicting lock set by another transaction, the transaction must wait until it is un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non-conflicting lock set by another transaction, the lock is shar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lready been locked in the same transaction, the lock will be promoted if necessary and the operation proceeds. (Where promotion is prevented by a conflicting lock, rule (b) is use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en a transaction is committed or aborted, the server unlocks all objects it locked for the trans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7040" y="5205240"/>
            <a:ext cx="86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7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Lock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4120" y="1217520"/>
            <a:ext cx="8647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Loc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Object object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object being protected by the 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Vector holders;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TIDs of current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LockType lockType;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current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ynchronized void acquire(TransID trans,   LockType aLockType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 in conflicing mode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a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 InterruptedException e){/*...*/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(holders.isEmpty()) { // no TIDs  hold 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olders.addElement(tran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  = aLock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, share it*/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) ){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not a holder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holders.addElement(tran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is a holder but needs a more exclusive lock*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.promo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11960" y="58960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inues on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92720" y="1884240"/>
            <a:ext cx="778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ynchronized void release(TransID trans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lders.removeElement(trans);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/ remove this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set locktype to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tifyAl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of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ccoun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357200"/>
            <a:ext cx="551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eposit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posit amount in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ithdraw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draw amount from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tBalance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balance of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tBalance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the balance of the account to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0320" y="3741840"/>
            <a:ext cx="630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237200"/>
            <a:ext cx="551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reate(name) -&gt;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a new account with a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okUp(name) -&gt; accou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a reference to the account with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ranchTotal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total of all the balances at th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0320" y="3914640"/>
            <a:ext cx="55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perations of the Branch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3800" y="6062760"/>
            <a:ext cx="623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1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LockManag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24040" y="1339920"/>
            <a:ext cx="692784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LockManag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rivate Hashtable theLock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 void setLock(Object object, TransID trans,  LockType lockTyp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found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ynchronized(this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find the lock associated with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if there isn’t one, create it and add to the hash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undLock.acquire(trans, lockTyp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synchronize this one because we want to remove all ent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ynchronized void unLock(TransID tran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eration e = theLocks.element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hile(e.hasMoreElements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aLock = (Lock)(e.nextElemen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/* trans is a holder of this lock*/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) aLock.release(tran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919080" y="1644480"/>
            <a:ext cx="3959280" cy="4384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1660680"/>
            <a:ext cx="3959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7640" y="2154240"/>
            <a:ext cx="3943440" cy="488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65840" y="2154240"/>
            <a:ext cx="3943080" cy="488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adlock with writ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9240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1512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9240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1512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03680" y="1704960"/>
            <a:ext cx="1305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401640" y="171468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98120" y="1681200"/>
            <a:ext cx="1305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81960" y="1681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31720" y="2228760"/>
            <a:ext cx="122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55720" y="1649520"/>
            <a:ext cx="8043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6520" y="2251080"/>
            <a:ext cx="1151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92280" y="2251080"/>
            <a:ext cx="61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67800" y="2251080"/>
            <a:ext cx="1151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15000" y="2251080"/>
            <a:ext cx="61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152200" y="2320920"/>
            <a:ext cx="122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68800" y="2154240"/>
            <a:ext cx="428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6160" y="2854440"/>
            <a:ext cx="1480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.deposit(100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357360" y="2854440"/>
            <a:ext cx="103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39880" y="285444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78640" y="2855880"/>
            <a:ext cx="237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67440" y="3271680"/>
            <a:ext cx="139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.deposit(20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13560" y="3271680"/>
            <a:ext cx="103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80240" y="327168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78640" y="3159000"/>
            <a:ext cx="23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47600" y="3657600"/>
            <a:ext cx="1613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.withdraw(10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78640" y="3660840"/>
            <a:ext cx="237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90480" y="4024440"/>
            <a:ext cx="91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aits fo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14960" y="402444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81640" y="4024440"/>
            <a:ext cx="17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68160" y="4146480"/>
            <a:ext cx="1693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.withdraw(200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12840" y="4146480"/>
            <a:ext cx="973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aits for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508960" y="4146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50440" y="4146480"/>
            <a:ext cx="17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78640" y="4064040"/>
            <a:ext cx="237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90840" y="4305240"/>
            <a:ext cx="777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96880" y="430524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513560" y="4427640"/>
            <a:ext cx="777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18160" y="442764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478640" y="4344840"/>
            <a:ext cx="2376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78640" y="4797360"/>
            <a:ext cx="237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78640" y="5129280"/>
            <a:ext cx="2376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006560" y="4216320"/>
            <a:ext cx="382320" cy="77760"/>
            <a:chOff x="1006560" y="4216320"/>
            <a:chExt cx="382320" cy="77760"/>
          </a:xfrm>
        </p:grpSpPr>
        <p:sp>
          <p:nvSpPr>
            <p:cNvPr id="607" name=""/>
            <p:cNvSpPr/>
            <p:nvPr/>
          </p:nvSpPr>
          <p:spPr>
            <a:xfrm>
              <a:off x="1006560" y="4216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58840" y="4216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11120" y="4216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006560" y="4846680"/>
            <a:ext cx="382320" cy="77760"/>
            <a:chOff x="1006560" y="4846680"/>
            <a:chExt cx="382320" cy="77760"/>
          </a:xfrm>
        </p:grpSpPr>
        <p:sp>
          <p:nvSpPr>
            <p:cNvPr id="611" name=""/>
            <p:cNvSpPr/>
            <p:nvPr/>
          </p:nvSpPr>
          <p:spPr>
            <a:xfrm>
              <a:off x="100656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5884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1112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006560" y="5143680"/>
            <a:ext cx="382320" cy="77760"/>
            <a:chOff x="1006560" y="5143680"/>
            <a:chExt cx="382320" cy="77760"/>
          </a:xfrm>
        </p:grpSpPr>
        <p:sp>
          <p:nvSpPr>
            <p:cNvPr id="615" name=""/>
            <p:cNvSpPr/>
            <p:nvPr/>
          </p:nvSpPr>
          <p:spPr>
            <a:xfrm>
              <a:off x="100656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5884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1112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154480" y="4602240"/>
            <a:ext cx="382320" cy="77760"/>
            <a:chOff x="5154480" y="4602240"/>
            <a:chExt cx="382320" cy="77760"/>
          </a:xfrm>
        </p:grpSpPr>
        <p:sp>
          <p:nvSpPr>
            <p:cNvPr id="619" name=""/>
            <p:cNvSpPr/>
            <p:nvPr/>
          </p:nvSpPr>
          <p:spPr>
            <a:xfrm>
              <a:off x="5154480" y="4602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06760" y="4602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59040" y="4602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154480" y="4846680"/>
            <a:ext cx="382320" cy="77760"/>
            <a:chOff x="5154480" y="4846680"/>
            <a:chExt cx="382320" cy="77760"/>
          </a:xfrm>
        </p:grpSpPr>
        <p:sp>
          <p:nvSpPr>
            <p:cNvPr id="623" name=""/>
            <p:cNvSpPr/>
            <p:nvPr/>
          </p:nvSpPr>
          <p:spPr>
            <a:xfrm>
              <a:off x="515448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0676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5904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54480" y="5143680"/>
            <a:ext cx="382320" cy="77760"/>
            <a:chOff x="5154480" y="5143680"/>
            <a:chExt cx="382320" cy="77760"/>
          </a:xfrm>
        </p:grpSpPr>
        <p:sp>
          <p:nvSpPr>
            <p:cNvPr id="627" name=""/>
            <p:cNvSpPr/>
            <p:nvPr/>
          </p:nvSpPr>
          <p:spPr>
            <a:xfrm>
              <a:off x="515448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0676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5904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7180200" y="2136600"/>
            <a:ext cx="428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55800" y="5560920"/>
            <a:ext cx="8043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ait-for graph for Figure 13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069560" y="2340000"/>
            <a:ext cx="8214480" cy="2620800"/>
            <a:chOff x="1069560" y="2340000"/>
            <a:chExt cx="8214480" cy="2620800"/>
          </a:xfrm>
        </p:grpSpPr>
        <p:sp>
          <p:nvSpPr>
            <p:cNvPr id="634" name=""/>
            <p:cNvSpPr/>
            <p:nvPr/>
          </p:nvSpPr>
          <p:spPr>
            <a:xfrm>
              <a:off x="6778800" y="42433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65920" y="2903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415000" y="3467160"/>
              <a:ext cx="424800" cy="42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18" y="21390"/>
                  </a:moveTo>
                  <a:arcTo wR="10800" hR="10800" stAng="4721404" swAng="23766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18" y="21390"/>
                  </a:moveTo>
                  <a:arcTo wR="10800" hR="10800" stAng="4721404" swAng="237664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6640" y="2644560"/>
              <a:ext cx="3290400" cy="20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9" y="12475"/>
                  </a:moveTo>
                  <a:arcTo wR="10800" hR="10800" stAng="535307" swAng="4868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9" y="12475"/>
                  </a:moveTo>
                  <a:arcTo wR="10800" hR="10800" stAng="535307" swAng="4868017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21240" y="436572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73960" y="24670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39320" y="444816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9560" y="3040200"/>
              <a:ext cx="426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92" y="295"/>
                  </a:moveTo>
                  <a:arcTo wR="10800" hR="10800" stAng="-6205757" swAng="2392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8292" y="295"/>
                  </a:moveTo>
                  <a:arcTo wR="10800" hR="10800" stAng="-6205757" swAng="239244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81600" y="2430360"/>
              <a:ext cx="2132640" cy="164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7" y="8550"/>
                  </a:moveTo>
                  <a:arcTo wR="10800" hR="10800" stAng="-10078381" swAng="10071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37" y="8550"/>
                  </a:moveTo>
                  <a:arcTo wR="10800" hR="10800" stAng="-10078381" swAng="10071752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0640" y="3436560"/>
              <a:ext cx="457920" cy="42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20" y="21325"/>
                  </a:moveTo>
                  <a:arcTo wR="10800" hR="10800" stAng="4623113" swAng="23986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20" y="21325"/>
                  </a:moveTo>
                  <a:arcTo wR="10800" hR="10800" stAng="4623113" swAng="239868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11120" y="2887560"/>
              <a:ext cx="207360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28" y="13210"/>
                  </a:moveTo>
                  <a:arcTo wR="10800" hR="10800" stAng="773492" swAng="10026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28" y="13210"/>
                  </a:moveTo>
                  <a:arcTo wR="10800" hR="10800" stAng="773492" swAng="10026508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9872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98720" y="3254400"/>
              <a:ext cx="487080" cy="48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30120" y="33210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8368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83680" y="3254400"/>
              <a:ext cx="487440" cy="48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550000" y="3351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39920" y="3254400"/>
              <a:ext cx="48924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39920" y="3254400"/>
              <a:ext cx="51912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03360" y="3321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91120" y="328464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91120" y="3284640"/>
              <a:ext cx="487440" cy="48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54200" y="3381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42320" y="2460600"/>
              <a:ext cx="30456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58"/>
                  </a:moveTo>
                  <a:lnTo>
                    <a:pt x="173" y="96"/>
                  </a:lnTo>
                  <a:lnTo>
                    <a:pt x="0" y="39"/>
                  </a:lnTo>
                  <a:lnTo>
                    <a:pt x="192" y="0"/>
                  </a:lnTo>
                  <a:lnTo>
                    <a:pt x="192" y="5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46880" y="2552760"/>
              <a:ext cx="1219320" cy="731880"/>
            </a:xfrm>
            <a:custGeom>
              <a:avLst/>
              <a:gdLst/>
              <a:ahLst/>
              <a:rect l="l" t="t" r="r" b="b"/>
              <a:pathLst>
                <a:path w="768" h="461">
                  <a:moveTo>
                    <a:pt x="0" y="0"/>
                  </a:moveTo>
                  <a:lnTo>
                    <a:pt x="307" y="38"/>
                  </a:lnTo>
                  <a:lnTo>
                    <a:pt x="557" y="154"/>
                  </a:lnTo>
                  <a:lnTo>
                    <a:pt x="710" y="288"/>
                  </a:lnTo>
                  <a:lnTo>
                    <a:pt x="768" y="46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78920" y="246708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62720" y="4626000"/>
              <a:ext cx="274680" cy="182520"/>
            </a:xfrm>
            <a:custGeom>
              <a:avLst/>
              <a:gdLst/>
              <a:ahLst/>
              <a:rect l="l" t="t" r="r" b="b"/>
              <a:pathLst>
                <a:path w="173" h="115">
                  <a:moveTo>
                    <a:pt x="0" y="57"/>
                  </a:moveTo>
                  <a:lnTo>
                    <a:pt x="0" y="0"/>
                  </a:lnTo>
                  <a:lnTo>
                    <a:pt x="173" y="76"/>
                  </a:lnTo>
                  <a:lnTo>
                    <a:pt x="0" y="11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35560" y="3772080"/>
              <a:ext cx="1127160" cy="944280"/>
            </a:xfrm>
            <a:custGeom>
              <a:avLst/>
              <a:gdLst/>
              <a:ahLst/>
              <a:rect l="l" t="t" r="r" b="b"/>
              <a:pathLst>
                <a:path w="710" h="595">
                  <a:moveTo>
                    <a:pt x="710" y="595"/>
                  </a:moveTo>
                  <a:lnTo>
                    <a:pt x="422" y="518"/>
                  </a:lnTo>
                  <a:lnTo>
                    <a:pt x="192" y="384"/>
                  </a:lnTo>
                  <a:lnTo>
                    <a:pt x="38" y="211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5560" y="2949480"/>
              <a:ext cx="182520" cy="2732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57" y="19"/>
                  </a:moveTo>
                  <a:lnTo>
                    <a:pt x="115" y="38"/>
                  </a:lnTo>
                  <a:lnTo>
                    <a:pt x="0" y="172"/>
                  </a:lnTo>
                  <a:lnTo>
                    <a:pt x="19" y="0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7960" y="2552760"/>
              <a:ext cx="1309680" cy="396720"/>
            </a:xfrm>
            <a:custGeom>
              <a:avLst/>
              <a:gdLst/>
              <a:ahLst/>
              <a:rect l="l" t="t" r="r" b="b"/>
              <a:pathLst>
                <a:path w="825" h="250">
                  <a:moveTo>
                    <a:pt x="0" y="250"/>
                  </a:moveTo>
                  <a:lnTo>
                    <a:pt x="115" y="134"/>
                  </a:lnTo>
                  <a:lnTo>
                    <a:pt x="307" y="58"/>
                  </a:lnTo>
                  <a:lnTo>
                    <a:pt x="82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97520" y="4533840"/>
              <a:ext cx="244800" cy="3970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7080"/>
                <a:gd name="textAreaBottom" fmla="*/ 361440 h 397080"/>
              </a:gdLst>
              <a:ahLst/>
              <a:rect l="textAreaLeft" t="textAreaTop" r="textAreaRight" b="textAreaBottom"/>
              <a:pathLst>
                <a:path w="21600" h="35017">
                  <a:moveTo>
                    <a:pt x="10800" y="0"/>
                  </a:moveTo>
                  <a:arcTo wR="10800" hR="10800" stAng="16200000" swAng="-5400000"/>
                  <a:lnTo>
                    <a:pt x="0" y="24217"/>
                  </a:lnTo>
                  <a:arcTo wR="10800" hR="10800" stAng="10800000" swAng="-5400000"/>
                  <a:lnTo>
                    <a:pt x="10800" y="3501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97520" y="453384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97520" y="4533840"/>
              <a:ext cx="274680" cy="2444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97520" y="4746600"/>
              <a:ext cx="24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97520" y="2340000"/>
              <a:ext cx="244800" cy="3952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5280"/>
                <a:gd name="textAreaBottom" fmla="*/ 359640 h 395280"/>
              </a:gdLst>
              <a:ahLst/>
              <a:rect l="textAreaLeft" t="textAreaTop" r="textAreaRight" b="textAreaBottom"/>
              <a:pathLst>
                <a:path w="21600" h="34858">
                  <a:moveTo>
                    <a:pt x="10800" y="0"/>
                  </a:moveTo>
                  <a:arcTo wR="10800" hR="10800" stAng="16200000" swAng="-5400000"/>
                  <a:lnTo>
                    <a:pt x="0" y="24058"/>
                  </a:lnTo>
                  <a:arcTo wR="10800" hR="10800" stAng="10800000" swAng="-5400000"/>
                  <a:lnTo>
                    <a:pt x="10800" y="3485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97520" y="234000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97520" y="2340000"/>
              <a:ext cx="274680" cy="2430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97520" y="2552760"/>
              <a:ext cx="24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ycle in a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23840" y="1921320"/>
            <a:ext cx="8693280" cy="2933280"/>
            <a:chOff x="123840" y="1921320"/>
            <a:chExt cx="8693280" cy="2933280"/>
          </a:xfrm>
        </p:grpSpPr>
        <p:sp>
          <p:nvSpPr>
            <p:cNvPr id="678" name=""/>
            <p:cNvSpPr/>
            <p:nvPr/>
          </p:nvSpPr>
          <p:spPr>
            <a:xfrm>
              <a:off x="4062240" y="1957320"/>
              <a:ext cx="51912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62240" y="1957320"/>
              <a:ext cx="557280" cy="52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29280" y="20368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84400" y="4335480"/>
              <a:ext cx="4827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84400" y="4335480"/>
              <a:ext cx="520920" cy="51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51080" y="44132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87440" y="2924280"/>
              <a:ext cx="52056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87440" y="2924280"/>
              <a:ext cx="557280" cy="51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88680" y="3002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1960" y="1921320"/>
              <a:ext cx="48276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" y="14451"/>
                  </a:moveTo>
                  <a:arcTo wR="10800" hR="10800" stAng="9614639" swAng="2370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" y="14451"/>
                  </a:moveTo>
                  <a:arcTo wR="10800" hR="10800" stAng="9614639" swAng="237072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58960" y="2180880"/>
              <a:ext cx="4568760" cy="155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16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161001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25960" y="3183120"/>
              <a:ext cx="481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46" y="20452"/>
                  </a:moveTo>
                  <a:arcTo wR="10800" hR="10800" stAng="3800457" swAng="23953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46" y="20452"/>
                  </a:moveTo>
                  <a:arcTo wR="10800" hR="10800" stAng="3800457" swAng="239533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84800" y="2217960"/>
              <a:ext cx="259920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21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2193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22040" y="2813040"/>
              <a:ext cx="481680" cy="48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6" y="2863"/>
                  </a:moveTo>
                  <a:arcTo wR="10800" hR="10800" stAng="-7961804" swAng="2403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6" y="2863"/>
                  </a:moveTo>
                  <a:arcTo wR="10800" hR="10800" stAng="-7961804" swAng="240307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2560" y="2181240"/>
              <a:ext cx="7836120" cy="17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6" y="0"/>
                  </a:moveTo>
                  <a:arcTo wR="10800" hR="10800" stAng="-5401391" swAng="47356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6" y="0"/>
                  </a:moveTo>
                  <a:arcTo wR="10800" hR="10800" stAng="-5401391" swAng="473564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59880" y="403704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70800" y="2329560"/>
              <a:ext cx="2822040" cy="19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981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981057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45040" y="433548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3840" y="3593520"/>
              <a:ext cx="6797160" cy="10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6"/>
                  </a:moveTo>
                  <a:arcTo wR="10800" hR="10800" stAng="-10896" swAng="5291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6"/>
                  </a:moveTo>
                  <a:arcTo wR="10800" hR="10800" stAng="-10896" swAng="529155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99240" y="40006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99240" y="4000680"/>
              <a:ext cx="557280" cy="5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59840" y="30718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59840" y="3071880"/>
              <a:ext cx="557280" cy="520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other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439560" y="1252440"/>
            <a:ext cx="8476560" cy="4550760"/>
            <a:chOff x="439560" y="1252440"/>
            <a:chExt cx="8476560" cy="4550760"/>
          </a:xfrm>
        </p:grpSpPr>
        <p:sp>
          <p:nvSpPr>
            <p:cNvPr id="703" name=""/>
            <p:cNvSpPr/>
            <p:nvPr/>
          </p:nvSpPr>
          <p:spPr>
            <a:xfrm>
              <a:off x="3711960" y="3240000"/>
              <a:ext cx="3345840" cy="13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5" y="2"/>
                  </a:moveTo>
                  <a:arcTo wR="10800" hR="10800" stAng="-5462085" swAng="46258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5" y="2"/>
                  </a:moveTo>
                  <a:arcTo wR="10800" hR="10800" stAng="-5462085" swAng="462581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78320" y="2532960"/>
              <a:ext cx="1701720" cy="175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19" y="21435"/>
                  </a:moveTo>
                  <a:arcTo wR="10800" hR="10800" stAng="6001822" swAng="4798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19" y="21435"/>
                  </a:moveTo>
                  <a:arcTo wR="10800" hR="10800" stAng="6001822" swAng="4798178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931280" y="3174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86560" y="2193840"/>
              <a:ext cx="392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86560" y="2193840"/>
              <a:ext cx="4190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3200" y="2266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26400" y="3867120"/>
              <a:ext cx="41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6400" y="3867120"/>
              <a:ext cx="4442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6824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4196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41960" y="4129200"/>
              <a:ext cx="4190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59320" y="4176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04040" y="2169000"/>
              <a:ext cx="364320" cy="36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14468"/>
                  </a:moveTo>
                  <a:arcTo wR="10800" hR="10800" stAng="9608687" swAng="2382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14468"/>
                  </a:moveTo>
                  <a:arcTo wR="10800" hR="10800" stAng="9608687" swAng="2382627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54560" y="2351880"/>
              <a:ext cx="2692440" cy="14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270" swAng="509220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270" swAng="509220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59440" y="4103640"/>
              <a:ext cx="364320" cy="36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8" y="13054"/>
                  </a:moveTo>
                  <a:arcTo wR="10800" hR="10800" stAng="10077363" swAng="2363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8" y="13054"/>
                  </a:moveTo>
                  <a:arcTo wR="10800" hR="10800" stAng="10077363" swAng="2363947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00840" y="3686040"/>
              <a:ext cx="3650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81" y="2858"/>
                  </a:moveTo>
                  <a:arcTo wR="10800" hR="10800" stAng="-7959888" swAng="2379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81" y="2858"/>
                  </a:moveTo>
                  <a:arcTo wR="10800" hR="10800" stAng="-7959888" swAng="237991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92680" y="23893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86640" y="30081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24560" y="37497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9560" y="300528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9560" y="3005280"/>
              <a:ext cx="419400" cy="41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6560" y="3078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95600" y="3344760"/>
              <a:ext cx="419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600" y="3344760"/>
              <a:ext cx="4442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37440" y="3417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58880" y="229860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58880" y="2298600"/>
              <a:ext cx="41760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74440" y="2371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01920" y="2299680"/>
              <a:ext cx="364320" cy="3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7" y="14371"/>
                  </a:moveTo>
                  <a:arcTo wR="10800" hR="10800" stAng="9641591" swAng="2372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07" y="14371"/>
                  </a:moveTo>
                  <a:arcTo wR="10800" hR="10800" stAng="9641591" swAng="237294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2440" y="2480400"/>
              <a:ext cx="3898440" cy="1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17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17592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8124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81240" y="4129200"/>
              <a:ext cx="4190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45680" y="420228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84920" y="235116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84920" y="2351160"/>
              <a:ext cx="41940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74920" y="2451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283240" y="3672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7440" y="2324520"/>
              <a:ext cx="3934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1" y="10009"/>
                  </a:moveTo>
                  <a:arcTo wR="10800" hR="10800" stAng="-252108" swAng="2381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1" y="10009"/>
                  </a:moveTo>
                  <a:arcTo wR="10800" hR="10800" stAng="-252108" swAng="2381154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27600" y="2534760"/>
              <a:ext cx="1073160" cy="20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80" y="364"/>
                  </a:moveTo>
                  <a:arcTo wR="10800" hR="10800" stAng="-4504893" swAng="44994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80" y="364"/>
                  </a:moveTo>
                  <a:arcTo wR="10800" hR="10800" stAng="-4504893" swAng="449947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48640" y="309564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93400" y="3711600"/>
              <a:ext cx="389880" cy="3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52" y="21423"/>
                  </a:moveTo>
                  <a:arcTo wR="10800" hR="10800" stAng="6023331" swAng="2413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8852" y="21423"/>
                  </a:moveTo>
                  <a:arcTo wR="10800" hR="10800" stAng="6023331" swAng="241340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19080" y="3396960"/>
              <a:ext cx="4029840" cy="10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32" y="13594"/>
                  </a:moveTo>
                  <a:arcTo wR="10800" hR="10800" stAng="899695" swAng="4500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32" y="13594"/>
                  </a:moveTo>
                  <a:arcTo wR="10800" hR="10800" stAng="899695" swAng="450030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63640" y="43243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2440" y="3187440"/>
              <a:ext cx="36324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13" y="19771"/>
                  </a:moveTo>
                  <a:arcTo wR="10800" hR="10800" stAng="3370170" swAng="2423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13" y="19771"/>
                  </a:moveTo>
                  <a:arcTo wR="10800" hR="10800" stAng="3370170" swAng="242359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1720" y="2324160"/>
              <a:ext cx="4893480" cy="20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814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8147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2120" y="2273400"/>
              <a:ext cx="3668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77" y="14414"/>
                  </a:moveTo>
                  <a:arcTo wR="10800" hR="10800" stAng="1173119" swAng="2442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77" y="14414"/>
                  </a:moveTo>
                  <a:arcTo wR="10800" hR="10800" stAng="1173119" swAng="2442188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58880" y="2455200"/>
              <a:ext cx="758520" cy="334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57" y="568"/>
                  </a:moveTo>
                  <a:arcTo wR="10800" hR="10800" stAng="-4279814" swAng="42798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57" y="568"/>
                  </a:moveTo>
                  <a:arcTo wR="10800" hR="10800" stAng="-4279814" swAng="427981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99800" y="3947400"/>
              <a:ext cx="391320" cy="36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7132"/>
                  </a:moveTo>
                  <a:arcTo wR="10800" hR="10800" stAng="-9608851" swAng="2393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7132"/>
                  </a:moveTo>
                  <a:arcTo wR="10800" hR="10800" stAng="-9608851" swAng="239391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1760" y="1252440"/>
              <a:ext cx="707040" cy="28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4" y="20944"/>
                  </a:moveTo>
                  <a:arcTo wR="10800" hR="10800" stAng="6604235" swAng="419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4" y="20944"/>
                  </a:moveTo>
                  <a:arcTo wR="10800" hR="10800" stAng="6604235" swAng="419576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7960" y="3397320"/>
              <a:ext cx="235080" cy="129960"/>
            </a:xfrm>
            <a:custGeom>
              <a:avLst/>
              <a:gdLst/>
              <a:ahLst/>
              <a:rect l="l" t="t" r="r" b="b"/>
              <a:pathLst>
                <a:path w="148" h="82">
                  <a:moveTo>
                    <a:pt x="16" y="33"/>
                  </a:moveTo>
                  <a:lnTo>
                    <a:pt x="33" y="0"/>
                  </a:lnTo>
                  <a:lnTo>
                    <a:pt x="148" y="82"/>
                  </a:lnTo>
                  <a:lnTo>
                    <a:pt x="0" y="6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8960" y="3265560"/>
              <a:ext cx="54900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65400" y="3762360"/>
              <a:ext cx="209520" cy="157320"/>
            </a:xfrm>
            <a:custGeom>
              <a:avLst/>
              <a:gdLst/>
              <a:ahLst/>
              <a:rect l="l" t="t" r="r" b="b"/>
              <a:pathLst>
                <a:path w="132" h="99">
                  <a:moveTo>
                    <a:pt x="116" y="66"/>
                  </a:moveTo>
                  <a:lnTo>
                    <a:pt x="99" y="99"/>
                  </a:lnTo>
                  <a:lnTo>
                    <a:pt x="0" y="0"/>
                  </a:lnTo>
                  <a:lnTo>
                    <a:pt x="132" y="33"/>
                  </a:lnTo>
                  <a:lnTo>
                    <a:pt x="116" y="6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2374920" y="3867120"/>
              <a:ext cx="706320" cy="41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48360" y="3057480"/>
              <a:ext cx="234720" cy="339840"/>
            </a:xfrm>
            <a:custGeom>
              <a:avLst/>
              <a:gdLst>
                <a:gd name="textAreaLeft" fmla="*/ 32400 w 234720"/>
                <a:gd name="textAreaRight" fmla="*/ 202320 w 234720"/>
                <a:gd name="textAreaTop" fmla="*/ 32400 h 339840"/>
                <a:gd name="textAreaBottom" fmla="*/ 307440 h 339840"/>
              </a:gdLst>
              <a:ahLst/>
              <a:rect l="textAreaLeft" t="textAreaTop" r="textAreaRight" b="textAreaBottom"/>
              <a:pathLst>
                <a:path w="21600" h="31259">
                  <a:moveTo>
                    <a:pt x="10216" y="0"/>
                  </a:moveTo>
                  <a:arcTo wR="10216" hR="10216" stAng="16200000" swAng="-5400000"/>
                  <a:lnTo>
                    <a:pt x="0" y="21043"/>
                  </a:lnTo>
                  <a:arcTo wR="10216" hR="10216" stAng="10800000" swAng="-5400000"/>
                  <a:lnTo>
                    <a:pt x="11384" y="31259"/>
                  </a:lnTo>
                  <a:arcTo wR="10216" hR="10216" stAng="5400000" swAng="-5400000"/>
                  <a:lnTo>
                    <a:pt x="21600" y="10216"/>
                  </a:lnTo>
                  <a:arcTo wR="10216" hR="10216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48360" y="3057480"/>
              <a:ext cx="2347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48360" y="3057480"/>
              <a:ext cx="261720" cy="208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48360" y="3240000"/>
              <a:ext cx="234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9360" y="3554280"/>
              <a:ext cx="209520" cy="339840"/>
            </a:xfrm>
            <a:custGeom>
              <a:avLst/>
              <a:gdLst>
                <a:gd name="textAreaLeft" fmla="*/ 30600 w 209520"/>
                <a:gd name="textAreaRight" fmla="*/ 178920 w 209520"/>
                <a:gd name="textAreaTop" fmla="*/ 30600 h 339840"/>
                <a:gd name="textAreaBottom" fmla="*/ 309240 h 339840"/>
              </a:gdLst>
              <a:ahLst/>
              <a:rect l="textAreaLeft" t="textAreaTop" r="textAreaRight" b="textAreaBottom"/>
              <a:pathLst>
                <a:path w="21600" h="35012">
                  <a:moveTo>
                    <a:pt x="10800" y="0"/>
                  </a:moveTo>
                  <a:arcTo wR="10800" hR="10800" stAng="16200000" swAng="-5400000"/>
                  <a:lnTo>
                    <a:pt x="0" y="24212"/>
                  </a:lnTo>
                  <a:arcTo wR="10800" hR="10800" stAng="10800000" swAng="-5400000"/>
                  <a:lnTo>
                    <a:pt x="10800" y="3501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69360" y="3554280"/>
              <a:ext cx="2095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469360" y="3554280"/>
              <a:ext cx="236520" cy="208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69360" y="3736800"/>
              <a:ext cx="209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884160" y="1531800"/>
            <a:ext cx="3959280" cy="3366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62520" y="1547640"/>
            <a:ext cx="3959280" cy="3366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82720" y="1901880"/>
            <a:ext cx="3960720" cy="3697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63960" y="1901880"/>
            <a:ext cx="3959280" cy="3697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solution of the deadlock in Figure 15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4052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74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052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74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4052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7980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74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75760" y="1571760"/>
            <a:ext cx="13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82920" y="1571760"/>
            <a:ext cx="140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96920" y="1703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563520" y="1703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55720" y="1473120"/>
            <a:ext cx="797076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56760" y="196380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436920" y="196380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87520" y="196380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69120" y="196380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863840" y="2033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929000" y="2033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167600" y="1857240"/>
            <a:ext cx="428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56400" y="2430360"/>
            <a:ext cx="140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deposit(1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34760" y="2398680"/>
            <a:ext cx="98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427280" y="2363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37440" y="2289240"/>
            <a:ext cx="2232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86800" y="2805120"/>
            <a:ext cx="132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deposit(2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267320" y="2773440"/>
            <a:ext cx="98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59480" y="27385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56400" y="317988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withdraw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35480" y="351468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95880" y="3487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49600" y="3540240"/>
            <a:ext cx="1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87160" y="3483000"/>
            <a:ext cx="160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withdraw(2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268040" y="3510000"/>
            <a:ext cx="117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s for 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35480" y="379080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86080" y="3790800"/>
            <a:ext cx="13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67680" y="379080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18280" y="379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65600" y="4170240"/>
            <a:ext cx="354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imeout elap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77480" y="454824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27400" y="4548240"/>
            <a:ext cx="108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s lock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77600" y="45482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706120" y="4548240"/>
            <a:ext cx="19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omes vulnerab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59640" y="4856040"/>
            <a:ext cx="259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43080" y="4856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073040" y="4856040"/>
            <a:ext cx="78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bor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87160" y="5160960"/>
            <a:ext cx="160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withdraw(2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67320" y="518796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loc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348400" y="51879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268040" y="5468760"/>
            <a:ext cx="68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51320" y="5468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82360" y="546876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214840" y="5468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316160" y="3613320"/>
            <a:ext cx="382320" cy="77760"/>
            <a:chOff x="1316160" y="3613320"/>
            <a:chExt cx="382320" cy="77760"/>
          </a:xfrm>
        </p:grpSpPr>
        <p:sp>
          <p:nvSpPr>
            <p:cNvPr id="825" name=""/>
            <p:cNvSpPr/>
            <p:nvPr/>
          </p:nvSpPr>
          <p:spPr>
            <a:xfrm>
              <a:off x="1316160" y="3613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68440" y="3613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20720" y="3613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121360" y="4081320"/>
            <a:ext cx="382320" cy="77760"/>
            <a:chOff x="5121360" y="4081320"/>
            <a:chExt cx="382320" cy="77760"/>
          </a:xfrm>
        </p:grpSpPr>
        <p:sp>
          <p:nvSpPr>
            <p:cNvPr id="829" name=""/>
            <p:cNvSpPr/>
            <p:nvPr/>
          </p:nvSpPr>
          <p:spPr>
            <a:xfrm>
              <a:off x="5121360" y="4081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73640" y="4081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25920" y="4081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121360" y="4548240"/>
            <a:ext cx="382320" cy="77760"/>
            <a:chOff x="5121360" y="4548240"/>
            <a:chExt cx="382320" cy="77760"/>
          </a:xfrm>
        </p:grpSpPr>
        <p:sp>
          <p:nvSpPr>
            <p:cNvPr id="833" name=""/>
            <p:cNvSpPr/>
            <p:nvPr/>
          </p:nvSpPr>
          <p:spPr>
            <a:xfrm>
              <a:off x="5121360" y="4548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3640" y="4548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25920" y="4548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341520" y="1892160"/>
            <a:ext cx="432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88840" y="5931000"/>
            <a:ext cx="7920360" cy="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mmi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locks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71400" y="2681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0368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53040" y="268128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6620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036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164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53040" y="4417920"/>
            <a:ext cx="25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66620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1400" y="2087640"/>
            <a:ext cx="8439120" cy="2622600"/>
            <a:chOff x="671400" y="2087640"/>
            <a:chExt cx="8439120" cy="2622600"/>
          </a:xfrm>
        </p:grpSpPr>
        <p:sp>
          <p:nvSpPr>
            <p:cNvPr id="848" name=""/>
            <p:cNvSpPr/>
            <p:nvPr/>
          </p:nvSpPr>
          <p:spPr>
            <a:xfrm>
              <a:off x="2509920" y="2986200"/>
              <a:ext cx="1741320" cy="169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70320" y="252900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37200" y="208908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8400" y="3003480"/>
              <a:ext cx="1774800" cy="169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22320" y="213984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67760" y="213984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66560" y="213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671400" y="2087640"/>
              <a:ext cx="842832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51040" y="2562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89760" y="25621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1120" y="256212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46320" y="2684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5600" y="299556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36600" y="299556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5176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8832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368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113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70148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496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241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6600" y="344340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5176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8832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01840" y="34434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4788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2276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38400" y="388476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51760" y="38847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89040" y="3884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01480" y="39495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925760" y="3949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66200" y="386388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36960" y="430524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5212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8904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701480" y="43718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5760" y="43718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666200" y="428616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71400" y="4694400"/>
              <a:ext cx="842832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the banking examp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8120" y="2236680"/>
            <a:ext cx="8348400" cy="1803600"/>
            <a:chOff x="708120" y="2236680"/>
            <a:chExt cx="8348400" cy="1803600"/>
          </a:xfrm>
        </p:grpSpPr>
        <p:sp>
          <p:nvSpPr>
            <p:cNvPr id="890" name=""/>
            <p:cNvSpPr/>
            <p:nvPr/>
          </p:nvSpPr>
          <p:spPr>
            <a:xfrm>
              <a:off x="4175280" y="2236680"/>
              <a:ext cx="72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32360" y="376560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72080" y="2592360"/>
              <a:ext cx="0" cy="961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8120" y="3554280"/>
              <a:ext cx="83484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916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37304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95480" y="3736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080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4468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6760" y="3554280"/>
              <a:ext cx="180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a dia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47200" y="2687760"/>
            <a:ext cx="8733960" cy="1810440"/>
            <a:chOff x="547200" y="2687760"/>
            <a:chExt cx="8733960" cy="1810440"/>
          </a:xfrm>
        </p:grpSpPr>
        <p:sp>
          <p:nvSpPr>
            <p:cNvPr id="902" name=""/>
            <p:cNvSpPr/>
            <p:nvPr/>
          </p:nvSpPr>
          <p:spPr>
            <a:xfrm>
              <a:off x="2415600" y="268776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7240" y="3255840"/>
              <a:ext cx="5229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76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90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7200" y="3495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58880" y="34956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19440" y="3495600"/>
              <a:ext cx="107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dn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59720" y="349560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ur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48520" y="34956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27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13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14880" y="3255840"/>
              <a:ext cx="1440" cy="101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733840" y="2927520"/>
              <a:ext cx="1440" cy="328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38080" y="4089240"/>
              <a:ext cx="80359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6524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180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303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7960" y="42544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:00–10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452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96160" y="4089240"/>
              <a:ext cx="1800" cy="51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325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0680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49520" y="3849840"/>
              <a:ext cx="86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 sl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4527720" y="3735000"/>
              <a:ext cx="1440" cy="353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612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:00–11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996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:00–12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632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:00–13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268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:00–14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904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:00–15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5256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:00–16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table for hierarchic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423720" y="2017800"/>
            <a:ext cx="8585280" cy="2912760"/>
            <a:chOff x="423720" y="2017800"/>
            <a:chExt cx="8585280" cy="2912760"/>
          </a:xfrm>
        </p:grpSpPr>
        <p:sp>
          <p:nvSpPr>
            <p:cNvPr id="944" name=""/>
            <p:cNvSpPr/>
            <p:nvPr/>
          </p:nvSpPr>
          <p:spPr>
            <a:xfrm>
              <a:off x="2746440" y="2881440"/>
              <a:ext cx="1403280" cy="20304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6960" y="2863800"/>
              <a:ext cx="2249640" cy="2048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68800" y="247644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68800" y="204948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52400" y="213984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28040" y="210492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01800" y="246204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662440" y="24620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795360" y="246204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55640" y="246204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5520" y="281160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73240" y="285444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0252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6136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9644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5528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73240" y="327348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50252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6172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9644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95600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975040" y="3692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288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66172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968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9560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72880" y="411156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0252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61720" y="41418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9644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5528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73960" y="453060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0288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6172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9644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95528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423720" y="2017800"/>
              <a:ext cx="858528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423720" y="4912920"/>
              <a:ext cx="858528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lient’s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8280" y="2557440"/>
            <a:ext cx="232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actio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.withdraw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withdraw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647640" y="2082960"/>
            <a:ext cx="8734320" cy="38736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able on page 54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Serializability of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with respect to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0520" y="21160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49840" y="21160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75920" y="2116080"/>
            <a:ext cx="46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9434520" y="2103480"/>
            <a:ext cx="25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41520" y="253368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46240" y="253368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75560" y="25336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45160" y="25336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63320" y="253368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648560" y="25336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434520" y="243684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39720" y="296244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48040" y="296244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75560" y="29624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46240" y="296244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14080" y="296244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697880" y="296244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9434520" y="290988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152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04804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175560" y="34275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45160" y="342756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64040" y="3427560"/>
            <a:ext cx="34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619760" y="3427560"/>
            <a:ext cx="272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945560" y="3427560"/>
            <a:ext cx="43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063680" y="380052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337280" y="3800520"/>
            <a:ext cx="56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29120" y="3800520"/>
            <a:ext cx="286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804440" y="380052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434520" y="3382920"/>
            <a:ext cx="255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1280" y="2077920"/>
            <a:ext cx="879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11280" y="4152960"/>
            <a:ext cx="879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05880" y="1960560"/>
            <a:ext cx="8444520" cy="3304440"/>
            <a:chOff x="605880" y="1960560"/>
            <a:chExt cx="8444520" cy="3304440"/>
          </a:xfrm>
        </p:grpSpPr>
        <p:sp>
          <p:nvSpPr>
            <p:cNvPr id="1038" name=""/>
            <p:cNvSpPr/>
            <p:nvPr/>
          </p:nvSpPr>
          <p:spPr>
            <a:xfrm>
              <a:off x="8291520" y="3925800"/>
              <a:ext cx="49068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73800" y="3457440"/>
              <a:ext cx="512640" cy="155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73800" y="3457440"/>
              <a:ext cx="53496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46720" y="3457440"/>
              <a:ext cx="1049400" cy="15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4672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526000" y="2989440"/>
              <a:ext cx="51300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21240" y="2989440"/>
              <a:ext cx="100476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18080" y="2475000"/>
              <a:ext cx="357120" cy="156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18080" y="2475000"/>
              <a:ext cx="379080" cy="179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2960" y="2475000"/>
              <a:ext cx="73512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82960" y="2475000"/>
              <a:ext cx="757080" cy="1792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62880" y="2552760"/>
              <a:ext cx="138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rlier 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562880" y="275436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08840" y="196056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13040" y="196056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2440" y="196056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30240" y="2452680"/>
              <a:ext cx="205272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30240" y="2452680"/>
              <a:ext cx="207504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38480" y="2208240"/>
              <a:ext cx="144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941640" y="2208240"/>
              <a:ext cx="180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00360" y="2185920"/>
              <a:ext cx="1440" cy="289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5880" y="24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5680" y="2532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91200" y="4951440"/>
              <a:ext cx="383688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91200" y="4951440"/>
              <a:ext cx="385920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47960" y="4572000"/>
              <a:ext cx="618012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47960" y="4572000"/>
              <a:ext cx="620244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21080" y="3925800"/>
              <a:ext cx="31892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21080" y="3925800"/>
              <a:ext cx="32115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65880" y="3925800"/>
              <a:ext cx="102564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52440" y="3924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39909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50120" y="376704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49400" y="3990960"/>
              <a:ext cx="120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ng valid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78040" y="2989440"/>
              <a:ext cx="274320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78040" y="2989440"/>
              <a:ext cx="276552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31360" y="2919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41160" y="30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25640" y="3457440"/>
              <a:ext cx="252108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25640" y="3457440"/>
              <a:ext cx="254340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96120" y="345744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57000" y="3387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68240" y="347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81200" y="3992400"/>
              <a:ext cx="11368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69840" y="4829040"/>
              <a:ext cx="92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ter 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969840" y="505152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57640" y="2565360"/>
              <a:ext cx="243072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797520" y="2832120"/>
              <a:ext cx="690840" cy="179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7578720" y="2965320"/>
              <a:ext cx="266760" cy="379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1933560" y="4818240"/>
              <a:ext cx="468360" cy="1555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066760" y="5041440"/>
              <a:ext cx="2387880" cy="88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09680" y="454824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79480" y="466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30600" y="492768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000400" y="504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982960" y="2452680"/>
              <a:ext cx="757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8080" y="2452680"/>
              <a:ext cx="379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2440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47-54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48920" y="1461960"/>
            <a:ext cx="8812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art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1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inish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 conflicts for timestamp ord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0348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99404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82800" y="179856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0348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9404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82800" y="20700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443800" y="2806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96284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76360" y="2151000"/>
            <a:ext cx="8912520" cy="2630520"/>
            <a:chOff x="576360" y="2151000"/>
            <a:chExt cx="8912520" cy="2630520"/>
          </a:xfrm>
        </p:grpSpPr>
        <p:sp>
          <p:nvSpPr>
            <p:cNvPr id="1136" name=""/>
            <p:cNvSpPr/>
            <p:nvPr/>
          </p:nvSpPr>
          <p:spPr>
            <a:xfrm>
              <a:off x="595440" y="2168640"/>
              <a:ext cx="868356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3720" y="2217600"/>
              <a:ext cx="42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3428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8036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44160" y="22176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36520" y="22176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4080" y="255744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8180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87596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44280" y="25574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987280" y="25574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4272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35920" y="255744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9564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26200" y="255744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00560" y="25574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101440" y="255744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90640" y="280656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34920" y="280656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770720" y="2806560"/>
              <a:ext cx="418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≥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maximum read timestamp of the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049400" y="254808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44640" y="254808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4080" y="330192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818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8756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44280" y="33019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987280" y="33019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94272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35920" y="330192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660000" y="33019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338960" y="330192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116560" y="33019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316000" y="330192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805600" y="25621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006840" y="25621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146880" y="25621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46360" y="355140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77960" y="35514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15920" y="3551400"/>
              <a:ext cx="32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61040" y="3551400"/>
              <a:ext cx="61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049400" y="329256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44640" y="329256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706840" y="3292560"/>
              <a:ext cx="2196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04080" y="404640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8252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75600" y="404640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44280" y="40464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987280" y="404640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94308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67520" y="404640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09240" y="404640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89640" y="40464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65800" y="40464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264880" y="404640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98560" y="429588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430160" y="429588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65960" y="4295880"/>
              <a:ext cx="403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93960" y="403704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884800" y="40370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086040" y="40370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226080" y="40370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961120" y="32767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162360" y="32767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302400" y="32767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6360" y="2151000"/>
              <a:ext cx="871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480" y="4691160"/>
              <a:ext cx="872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rite operations and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796240" y="287352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758840" y="1311120"/>
            <a:ext cx="44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706920" y="1311120"/>
            <a:ext cx="1440" cy="154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383600" y="1311120"/>
            <a:ext cx="0" cy="469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5800" y="13111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32680" y="13111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579600" y="1330200"/>
            <a:ext cx="9233640" cy="4719600"/>
            <a:chOff x="579600" y="1330200"/>
            <a:chExt cx="9233640" cy="4719600"/>
          </a:xfrm>
        </p:grpSpPr>
        <p:sp>
          <p:nvSpPr>
            <p:cNvPr id="1220" name=""/>
            <p:cNvSpPr/>
            <p:nvPr/>
          </p:nvSpPr>
          <p:spPr>
            <a:xfrm>
              <a:off x="1479600" y="1425600"/>
              <a:ext cx="1260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796240" y="1425600"/>
              <a:ext cx="129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479600" y="1616040"/>
              <a:ext cx="12600" cy="12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796240" y="1616040"/>
              <a:ext cx="12960" cy="12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479600" y="2886120"/>
              <a:ext cx="12600" cy="19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796240" y="2886120"/>
              <a:ext cx="12960" cy="19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79600" y="4816440"/>
              <a:ext cx="12600" cy="8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6240" y="4816440"/>
              <a:ext cx="12960" cy="8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9600" y="13302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401480" y="13302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5520" y="395460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18944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93360" y="3954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5160" y="3833640"/>
              <a:ext cx="472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435640" y="38336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151600" y="3833640"/>
              <a:ext cx="223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05120" y="2860560"/>
              <a:ext cx="1800" cy="283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48800" y="3780000"/>
              <a:ext cx="135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produc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y transaction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769240" y="4911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795880" y="489888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00040" y="4268880"/>
              <a:ext cx="211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with write timestamp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03680" y="13302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77760" y="395460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14720" y="39546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5160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119080" y="4562640"/>
              <a:ext cx="125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442880" y="182412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68360" y="31687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2800" y="208440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4760" y="270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905200" y="3238560"/>
              <a:ext cx="137880" cy="92160"/>
            </a:xfrm>
            <a:custGeom>
              <a:avLst/>
              <a:gdLst/>
              <a:ahLst/>
              <a:rect l="l" t="t" r="r" b="b"/>
              <a:pathLst>
                <a:path w="87" h="58">
                  <a:moveTo>
                    <a:pt x="0" y="29"/>
                  </a:moveTo>
                  <a:lnTo>
                    <a:pt x="0" y="0"/>
                  </a:lnTo>
                  <a:lnTo>
                    <a:pt x="87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26920" y="3284640"/>
              <a:ext cx="2055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442880" y="253224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28680" y="2532240"/>
              <a:ext cx="411480" cy="54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90480" y="2016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03160" y="21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5700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67148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2696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3964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757920" y="31561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16880" y="209088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40280" y="271944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523200" y="3220920"/>
              <a:ext cx="139680" cy="92160"/>
            </a:xfrm>
            <a:custGeom>
              <a:avLst/>
              <a:gdLst/>
              <a:ahLst/>
              <a:rect l="l" t="t" r="r" b="b"/>
              <a:pathLst>
                <a:path w="88" h="58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05320" y="3267000"/>
              <a:ext cx="20937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07000" y="1824120"/>
              <a:ext cx="41904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07000" y="2522520"/>
              <a:ext cx="419040" cy="5587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381640" y="1824120"/>
              <a:ext cx="396720" cy="558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81640" y="2546280"/>
              <a:ext cx="396720" cy="5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33960" y="2546280"/>
              <a:ext cx="395280" cy="557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7488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9116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9072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60700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0668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2116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2724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172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0960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2588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2120" y="582120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6160" y="467532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09920" y="528336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886120" y="585792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5640" y="5904000"/>
              <a:ext cx="21304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504800" y="435924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504800" y="4359240"/>
              <a:ext cx="444600" cy="58572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504800" y="513252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136600" y="5108400"/>
              <a:ext cx="398520" cy="56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136600" y="4359240"/>
              <a:ext cx="39852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768760" y="5132520"/>
              <a:ext cx="42228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0776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72368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6254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4132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19348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30976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428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5872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87928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99556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73880" y="576252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07800" y="436896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08520" y="45910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903840" y="470232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926520" y="530388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46640" y="5850000"/>
              <a:ext cx="133560" cy="889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0" y="28"/>
                  </a:moveTo>
                  <a:lnTo>
                    <a:pt x="0" y="0"/>
                  </a:lnTo>
                  <a:lnTo>
                    <a:pt x="84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19480" y="5894280"/>
              <a:ext cx="20052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587840" y="4402080"/>
              <a:ext cx="444600" cy="57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610160" y="442440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10160" y="442440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587840" y="5159520"/>
              <a:ext cx="444600" cy="57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10160" y="518148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610160" y="518148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92240" y="4591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802040" y="46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08080" y="5348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19320" y="542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636760" y="33606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481600" y="2546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740800" y="1947960"/>
              <a:ext cx="345960" cy="488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740800" y="2782800"/>
              <a:ext cx="345960" cy="466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826480" y="2119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923680" y="21956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815320" y="29336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912520" y="3009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69240" y="20178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5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write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8680" y="2279520"/>
            <a:ext cx="89283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≥ maximum read timestamp 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write operation on tentativ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write timestamp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/* write is too l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5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read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97400" y="2193840"/>
            <a:ext cx="84664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 th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the maximum write timestamp ≤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ommit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peration on th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the transaction that mad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its or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eappl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3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ead operations and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006800" y="1189080"/>
            <a:ext cx="116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189240" y="298944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78320" y="1982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78680" y="2254320"/>
            <a:ext cx="93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6120" y="285444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895320" y="2568240"/>
            <a:ext cx="14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895320" y="2160360"/>
            <a:ext cx="14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800440" y="3086280"/>
            <a:ext cx="190440" cy="109440"/>
          </a:xfrm>
          <a:custGeom>
            <a:avLst/>
            <a:gdLst/>
            <a:ahLst/>
            <a:rect l="l" t="t" r="r" b="b"/>
            <a:pathLst>
              <a:path w="120" h="69">
                <a:moveTo>
                  <a:pt x="0" y="34"/>
                </a:moveTo>
                <a:lnTo>
                  <a:pt x="0" y="0"/>
                </a:lnTo>
                <a:lnTo>
                  <a:pt x="120" y="34"/>
                </a:lnTo>
                <a:lnTo>
                  <a:pt x="0" y="6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31880" y="313992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85880" y="1887480"/>
            <a:ext cx="463320" cy="654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20520" y="21193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51920" y="22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64400" y="3003480"/>
            <a:ext cx="149040" cy="98640"/>
          </a:xfrm>
          <a:custGeom>
            <a:avLst/>
            <a:gdLst/>
            <a:ahLst/>
            <a:rect l="l" t="t" r="r" b="b"/>
            <a:pathLst>
              <a:path w="94" h="62">
                <a:moveTo>
                  <a:pt x="0" y="31"/>
                </a:moveTo>
                <a:lnTo>
                  <a:pt x="0" y="0"/>
                </a:lnTo>
                <a:lnTo>
                  <a:pt x="94" y="31"/>
                </a:lnTo>
                <a:lnTo>
                  <a:pt x="0" y="62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230720" y="3052800"/>
            <a:ext cx="2508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111800" y="2916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821200" y="1971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821560" y="2220840"/>
            <a:ext cx="83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81120" y="279252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4454640" y="2481120"/>
            <a:ext cx="1440" cy="22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4454640" y="2282760"/>
            <a:ext cx="1440" cy="22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230720" y="1886040"/>
            <a:ext cx="447480" cy="595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51440" y="1909800"/>
            <a:ext cx="422280" cy="59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92720" y="2120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513320" y="2212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84640" y="2120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205240" y="2212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179880" y="5400720"/>
            <a:ext cx="149040" cy="74520"/>
          </a:xfrm>
          <a:custGeom>
            <a:avLst/>
            <a:gdLst/>
            <a:ahLst/>
            <a:rect l="l" t="t" r="r" b="b"/>
            <a:pathLst>
              <a:path w="94" h="47">
                <a:moveTo>
                  <a:pt x="0" y="16"/>
                </a:moveTo>
                <a:lnTo>
                  <a:pt x="0" y="0"/>
                </a:lnTo>
                <a:lnTo>
                  <a:pt x="94" y="16"/>
                </a:lnTo>
                <a:lnTo>
                  <a:pt x="0" y="47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42960" y="5425920"/>
            <a:ext cx="2511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82640" y="53132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03560" y="4343400"/>
            <a:ext cx="92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wa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82400" y="517860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1587600" y="4929120"/>
            <a:ext cx="1440" cy="22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2960" y="4282920"/>
            <a:ext cx="447480" cy="596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39920" y="4282920"/>
            <a:ext cx="447480" cy="59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6800" y="4467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87400" y="4559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458720" y="4467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79680" y="4559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13440" y="525924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313240" y="4241880"/>
            <a:ext cx="126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12520" y="4529160"/>
            <a:ext cx="671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491160" y="5367240"/>
            <a:ext cx="173160" cy="114480"/>
          </a:xfrm>
          <a:custGeom>
            <a:avLst/>
            <a:gdLst/>
            <a:ahLst/>
            <a:rect l="l" t="t" r="r" b="b"/>
            <a:pathLst>
              <a:path w="109" h="72">
                <a:moveTo>
                  <a:pt x="0" y="36"/>
                </a:moveTo>
                <a:lnTo>
                  <a:pt x="0" y="0"/>
                </a:lnTo>
                <a:lnTo>
                  <a:pt x="109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276800" y="5424480"/>
            <a:ext cx="21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248000" y="4199040"/>
            <a:ext cx="489240" cy="6904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81200" y="441468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20880" y="4519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776080" y="155592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605440" y="3967200"/>
            <a:ext cx="78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nta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501040" y="2762280"/>
            <a:ext cx="92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818560" y="2060640"/>
            <a:ext cx="404640" cy="5713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8818560" y="2043000"/>
            <a:ext cx="428760" cy="595440"/>
          </a:xfrm>
          <a:prstGeom prst="rect">
            <a:avLst/>
          </a:prstGeom>
          <a:noFill/>
          <a:ln w="255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827920" y="3289320"/>
            <a:ext cx="405000" cy="571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926200" y="2262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9044280" y="234936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927640" y="3467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047520" y="3554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14840" y="257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76000" y="4286160"/>
            <a:ext cx="20458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 produ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transaction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ith write timestamp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76000" y="13129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00120" y="367668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37120" y="3600360"/>
            <a:ext cx="116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76560" y="1189080"/>
            <a:ext cx="0" cy="447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777080" y="1227240"/>
            <a:ext cx="0" cy="447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s in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52932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1225440" y="1635120"/>
            <a:ext cx="7561440" cy="4443480"/>
            <a:chOff x="1225440" y="1635120"/>
            <a:chExt cx="7561440" cy="4443480"/>
          </a:xfrm>
        </p:grpSpPr>
        <p:sp>
          <p:nvSpPr>
            <p:cNvPr id="1428" name=""/>
            <p:cNvSpPr/>
            <p:nvPr/>
          </p:nvSpPr>
          <p:spPr>
            <a:xfrm>
              <a:off x="5367240" y="2065320"/>
              <a:ext cx="341964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84640" y="2065320"/>
              <a:ext cx="20304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35160" y="2065320"/>
              <a:ext cx="198108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335560" y="1655640"/>
              <a:ext cx="341964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07560" y="1738440"/>
              <a:ext cx="28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imestamps and versions of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46440" y="2170080"/>
              <a:ext cx="1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911400" y="217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10400" y="2170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07240" y="2170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13080" y="217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408280" y="2552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81320" y="25527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549840" y="2552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7960" y="25527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551360" y="2552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010360" y="25527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967440" y="2546280"/>
              <a:ext cx="1440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780320" y="2546280"/>
              <a:ext cx="1440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08280" y="2766960"/>
              <a:ext cx="19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81320" y="2766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49840" y="2766960"/>
              <a:ext cx="19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987960" y="2766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51360" y="2766960"/>
              <a:ext cx="19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10360" y="2766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67440" y="2760840"/>
              <a:ext cx="1440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25440" y="301140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67440" y="2975040"/>
              <a:ext cx="144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27240" y="3225960"/>
              <a:ext cx="169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532200" y="3225960"/>
              <a:ext cx="30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290760" y="349884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26160" y="370692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292560" y="3986280"/>
              <a:ext cx="169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92200" y="423072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ait for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25800" y="4543560"/>
              <a:ext cx="162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227240" y="47941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81680" y="4794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988320" y="4794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292560" y="5072040"/>
              <a:ext cx="169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291480" y="535140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291480" y="564660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011080" y="564660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3316320" y="4581360"/>
              <a:ext cx="382320" cy="77760"/>
              <a:chOff x="3316320" y="4581360"/>
              <a:chExt cx="382320" cy="77760"/>
            </a:xfrm>
          </p:grpSpPr>
          <p:sp>
            <p:nvSpPr>
              <p:cNvPr id="1470" name=""/>
              <p:cNvSpPr/>
              <p:nvPr/>
            </p:nvSpPr>
            <p:spPr>
              <a:xfrm>
                <a:off x="3316320" y="458136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68600" y="458136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620880" y="458136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3316320" y="4848120"/>
              <a:ext cx="382320" cy="77760"/>
              <a:chOff x="3316320" y="4848120"/>
              <a:chExt cx="382320" cy="77760"/>
            </a:xfrm>
          </p:grpSpPr>
          <p:sp>
            <p:nvSpPr>
              <p:cNvPr id="1474" name=""/>
              <p:cNvSpPr/>
              <p:nvPr/>
            </p:nvSpPr>
            <p:spPr>
              <a:xfrm>
                <a:off x="3316320" y="48481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468600" y="48481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620880" y="48481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1244520" y="1635120"/>
              <a:ext cx="752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44520" y="2489040"/>
              <a:ext cx="752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44520" y="6078600"/>
              <a:ext cx="752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019280" y="5330880"/>
              <a:ext cx="421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029360" y="371016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859360" y="448452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32200" y="5087880"/>
              <a:ext cx="34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would invalidate a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482840" y="1911240"/>
            <a:ext cx="7899120" cy="4175640"/>
            <a:chOff x="1482840" y="1911240"/>
            <a:chExt cx="7899120" cy="4175640"/>
          </a:xfrm>
        </p:grpSpPr>
        <p:sp>
          <p:nvSpPr>
            <p:cNvPr id="1496" name=""/>
            <p:cNvSpPr/>
            <p:nvPr/>
          </p:nvSpPr>
          <p:spPr>
            <a:xfrm>
              <a:off x="5788080" y="3854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2056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2568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235200" y="19112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rite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8720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81896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01840" y="191124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ad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37428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50604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690360" y="19112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rite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14092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268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55560" y="191124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ad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611440" y="2424240"/>
              <a:ext cx="144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3976560" y="2241360"/>
              <a:ext cx="112896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210280" y="3921120"/>
              <a:ext cx="25200" cy="2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235480" y="3868560"/>
              <a:ext cx="236520" cy="13212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0" y="50"/>
                  </a:moveTo>
                  <a:lnTo>
                    <a:pt x="0" y="0"/>
                  </a:lnTo>
                  <a:lnTo>
                    <a:pt x="149" y="50"/>
                  </a:lnTo>
                  <a:lnTo>
                    <a:pt x="0" y="8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28880" y="3948120"/>
              <a:ext cx="3281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401920" y="2924280"/>
              <a:ext cx="496800" cy="655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01920" y="2924280"/>
              <a:ext cx="498600" cy="65556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530520" y="2924280"/>
              <a:ext cx="52380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556080" y="2949480"/>
              <a:ext cx="498240" cy="630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556080" y="2949480"/>
              <a:ext cx="498240" cy="6303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82840" y="2924280"/>
              <a:ext cx="525240" cy="68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509840" y="2949480"/>
              <a:ext cx="484200" cy="641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509840" y="2949480"/>
              <a:ext cx="498240" cy="65736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517120" y="29876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45640" y="3084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517120" y="3328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6456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98280" y="3328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268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29720" y="317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58240" y="3268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98280" y="30402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826800" y="313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018520" y="41180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4740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24136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0928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70324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6972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6368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3016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62376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99204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945520" y="51483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213520" y="5767560"/>
              <a:ext cx="890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92600" y="5767560"/>
              <a:ext cx="1046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118040" y="5032440"/>
              <a:ext cx="503280" cy="6300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30640" y="5057640"/>
              <a:ext cx="490680" cy="59544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35640" y="5032440"/>
              <a:ext cx="488880" cy="646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52320" y="50720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79400" y="516564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562000" y="5122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688000" y="52243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226760" y="53560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353840" y="54579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544360" y="5405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71440" y="54831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485040" y="5162400"/>
              <a:ext cx="289692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produced by transaction T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(with write timestamp T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nd read timestamp T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i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ordinato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920" y="1606680"/>
            <a:ext cx="839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nTransaction() -&gt; tra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s a new transaction and delivers a unique TI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is identifier will be used in the other operations in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loseTransaction(trans) -&gt; (commit, abor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s a transaction: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the transaction has  committed;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it has ab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Transaction(tran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orts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1000" y="5299200"/>
            <a:ext cx="777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63400" y="1784520"/>
            <a:ext cx="22654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4320" y="1784520"/>
            <a:ext cx="214812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68800" y="1784520"/>
            <a:ext cx="4179960" cy="422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 life histor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47040" y="193032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Successf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4000" y="1930320"/>
            <a:ext cx="141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Aborted by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96200" y="1930320"/>
            <a:ext cx="147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Aborted by 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81640" y="19303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43560" y="19303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0440" y="2479680"/>
            <a:ext cx="141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pen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35160" y="2479680"/>
            <a:ext cx="141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pen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4240" y="2479680"/>
            <a:ext cx="141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pen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560" y="28144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8280" y="28144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07360" y="28144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1800" y="2814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43720" y="2814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560" y="30988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8280" y="30988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07360" y="30988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81800" y="30988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43720" y="30988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53680" y="3346560"/>
            <a:ext cx="119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New York"/>
              </a:rPr>
              <a:t>server ab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3680" y="360828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New York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560" y="39736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8280" y="39736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3880" y="4005360"/>
            <a:ext cx="143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 ERR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82240" y="4265640"/>
            <a:ext cx="145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reported to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9720" y="4497480"/>
            <a:ext cx="141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close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2640" y="4497480"/>
            <a:ext cx="14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abort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74600" y="3560760"/>
            <a:ext cx="74520" cy="239760"/>
            <a:chOff x="1074600" y="3560760"/>
            <a:chExt cx="74520" cy="239760"/>
          </a:xfrm>
        </p:grpSpPr>
        <p:sp>
          <p:nvSpPr>
            <p:cNvPr id="129" name=""/>
            <p:cNvSpPr/>
            <p:nvPr/>
          </p:nvSpPr>
          <p:spPr>
            <a:xfrm>
              <a:off x="1074600" y="35607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4600" y="3725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44840" y="3562200"/>
            <a:ext cx="74520" cy="239760"/>
            <a:chOff x="3444840" y="3562200"/>
            <a:chExt cx="74520" cy="239760"/>
          </a:xfrm>
        </p:grpSpPr>
        <p:sp>
          <p:nvSpPr>
            <p:cNvPr id="132" name=""/>
            <p:cNvSpPr/>
            <p:nvPr/>
          </p:nvSpPr>
          <p:spPr>
            <a:xfrm>
              <a:off x="3444840" y="35622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44840" y="372708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729560" y="3562200"/>
            <a:ext cx="74520" cy="239760"/>
            <a:chOff x="7729560" y="3562200"/>
            <a:chExt cx="74520" cy="239760"/>
          </a:xfrm>
        </p:grpSpPr>
        <p:sp>
          <p:nvSpPr>
            <p:cNvPr id="135" name=""/>
            <p:cNvSpPr/>
            <p:nvPr/>
          </p:nvSpPr>
          <p:spPr>
            <a:xfrm>
              <a:off x="7729560" y="35622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29560" y="372708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38960" y="3730680"/>
            <a:ext cx="59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680" y="1760400"/>
            <a:ext cx="862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800" y="4976640"/>
            <a:ext cx="862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ost update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6800" y="1854360"/>
            <a:ext cx="8273880" cy="3956040"/>
            <a:chOff x="766800" y="1854360"/>
            <a:chExt cx="8273880" cy="3956040"/>
          </a:xfrm>
        </p:grpSpPr>
        <p:sp>
          <p:nvSpPr>
            <p:cNvPr id="142" name=""/>
            <p:cNvSpPr/>
            <p:nvPr/>
          </p:nvSpPr>
          <p:spPr>
            <a:xfrm>
              <a:off x="919080" y="185436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2360" y="187020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1800" y="2328840"/>
              <a:ext cx="3976560" cy="946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32360" y="2328840"/>
              <a:ext cx="3976560" cy="946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16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8080" y="1932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6536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73840" y="19321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1800" y="23018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3240" y="263520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3960" y="296856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390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96200" y="1932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6288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38640" y="237348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39720" y="27068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40440" y="304020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1800" y="3468600"/>
              <a:ext cx="2615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4200" y="34862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38640" y="38750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40680" y="3879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39720" y="42800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40680" y="4297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3240" y="468468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94200" y="4702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93960" y="508968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93480" y="5106960"/>
              <a:ext cx="48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0440" y="549432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40680" y="55119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00" y="186048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6800" y="581040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73040" y="1785960"/>
            <a:ext cx="3959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6320" y="1801800"/>
            <a:ext cx="3959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3040" y="2260440"/>
            <a:ext cx="3959280" cy="675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3600" y="2260440"/>
            <a:ext cx="3959280" cy="675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nconsistent retrievals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87488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21040" y="18748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4560" y="1874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69440" y="1874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0560" y="2230560"/>
            <a:ext cx="170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withdraw(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0560" y="2581200"/>
            <a:ext cx="148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.deposit(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87200" y="187488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6400" y="187488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41400" y="18684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2880" y="2376360"/>
            <a:ext cx="23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Branch.branchTota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9840" y="310212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withdraw(1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58600" y="31291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5040" y="3527280"/>
            <a:ext cx="227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tal = 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45000" y="35416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960" y="3954600"/>
            <a:ext cx="291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tal = total+b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45000" y="39672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4320" y="4379760"/>
            <a:ext cx="289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tal = total+c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560" y="4805280"/>
            <a:ext cx="148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.deposit(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58600" y="48322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770360" y="4867200"/>
            <a:ext cx="74520" cy="239760"/>
            <a:chOff x="4770360" y="4867200"/>
            <a:chExt cx="74520" cy="239760"/>
          </a:xfrm>
        </p:grpSpPr>
        <p:sp>
          <p:nvSpPr>
            <p:cNvPr id="198" name=""/>
            <p:cNvSpPr/>
            <p:nvPr/>
          </p:nvSpPr>
          <p:spPr>
            <a:xfrm>
              <a:off x="4770360" y="48672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70360" y="503208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90680" y="1760400"/>
            <a:ext cx="806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040" y="5519880"/>
            <a:ext cx="806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26000" y="283212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72560" y="2832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2600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232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72560" y="5345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09560" y="1676520"/>
            <a:ext cx="8213760" cy="4093920"/>
            <a:chOff x="709560" y="1676520"/>
            <a:chExt cx="8213760" cy="4093920"/>
          </a:xfrm>
        </p:grpSpPr>
        <p:sp>
          <p:nvSpPr>
            <p:cNvPr id="209" name=""/>
            <p:cNvSpPr/>
            <p:nvPr/>
          </p:nvSpPr>
          <p:spPr>
            <a:xfrm>
              <a:off x="919080" y="170028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2360" y="171612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1800" y="2195640"/>
              <a:ext cx="397656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32360" y="2195640"/>
              <a:ext cx="397656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7840" y="17254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92120" y="1725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37560" y="17254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0640" y="1725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7984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7912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0560" y="287496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30000" y="17254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22840" y="17254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92040" y="17254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6560" y="1725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2640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2568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27480" y="287496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9480" y="3440160"/>
              <a:ext cx="268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58560" y="34401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24360" y="328140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70920" y="328140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120" y="38545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58560" y="38545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24360" y="37846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70920" y="369720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26400" y="416412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03680" y="41641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4360" y="411156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70920" y="411156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25680" y="45799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03680" y="4579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24360" y="452592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0920" y="452592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80560" y="494028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58200" y="4940280"/>
              <a:ext cx="51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0512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7820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24360" y="49402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0920" y="494028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7480" y="535464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03680" y="53546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4360" y="535464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70920" y="535464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6760" y="1676520"/>
              <a:ext cx="802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560" y="5722920"/>
              <a:ext cx="802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9000" y="282240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37520" y="282240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99000" y="537696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16280" y="53769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37520" y="5376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2200" y="1574640"/>
            <a:ext cx="8215200" cy="3810240"/>
            <a:chOff x="592200" y="1574640"/>
            <a:chExt cx="8215200" cy="3810240"/>
          </a:xfrm>
        </p:grpSpPr>
        <p:sp>
          <p:nvSpPr>
            <p:cNvPr id="262" name=""/>
            <p:cNvSpPr/>
            <p:nvPr/>
          </p:nvSpPr>
          <p:spPr>
            <a:xfrm>
              <a:off x="631800" y="157788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5080" y="1593720"/>
              <a:ext cx="414324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4520" y="2087640"/>
              <a:ext cx="3976560" cy="674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45080" y="2087640"/>
              <a:ext cx="4162320" cy="674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65800" y="16095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81320" y="1609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53400" y="16095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7920" y="1609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4680" y="20667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5400" y="241452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48840" y="16095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65440" y="160956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7200" y="16095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44880" y="226368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Branch.branchTotal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04680" y="29829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33200" y="2908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5400" y="340344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33200" y="3328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47040" y="3825720"/>
              <a:ext cx="227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71720" y="375120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45960" y="4246560"/>
              <a:ext cx="291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71720" y="41734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46320" y="4668840"/>
              <a:ext cx="28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c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0280" y="498492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8800" y="1574640"/>
              <a:ext cx="809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2200" y="538488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4:26:13Z</dcterms:modified>
  <cp:revision>132</cp:revision>
  <dc:subject/>
  <dc:title>Figure 15.1 A distributed multimedia system</dc:title>
</cp:coreProperties>
</file>