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6ECC-1877-48BB-A10A-7B231836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03D-0431-4ED8-9461-DDE01C0B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40F-621E-4B6A-9927-4AA633C9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C00-0260-4EEB-BD57-5BCAB5D4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4BA9-BBD5-4A59-B8AC-059C1967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8B13-C1FA-4007-9416-6F78202C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8017-7B21-41A9-9380-328C4500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F436-BB77-408A-A7AA-76D79000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A4B2-D512-433A-B18C-FC389A2E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EF71-BF1F-41E3-A6A7-07A4A137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8481-6868-4FFE-BFBB-86F7757A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4C5-AD37-4E38-9F4B-7EDF3539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A0E1-8EC2-4FC3-ADB2-D9F87835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A48A-4556-433E-8BA7-9738841F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92D0-7DDC-44B0-97CE-E3E4F980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73A5-DD87-4DC6-B781-F7D8E8E6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997B-EACA-41DD-A92C-E9E06712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ABE-214E-4747-AB99-FE8B6D6A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92C-BD0F-4DBF-BB6E-C683A6AF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017-6CE4-4BA4-9012-35CDD929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515-49BD-4399-B76D-1504D562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76D-EA9E-4478-BC97-2C36681E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C37-6473-41C2-BDBD-1DD727DD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ED0-B5BF-4794-BE48-0126DAB2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07F1-C99A-460C-B920-4B1AB452DF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5438-19AD-4E51-9140-9C4AF571DB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19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eb Service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5440" y="3095640"/>
            <a:ext cx="18698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9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Java implementation of the ShapeList clien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9160" y="1325520"/>
            <a:ext cx="78674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ckage staticstu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mport javax.xml.rpc.Stu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ublic class ShapeListCli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ublic static void main(String[] args) { /* pass URL of servic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ub proxy = createProx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xy._set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javax.xml.rpc.Stub.ENDPOINT_ADDRESS_PROPERTY, args[0]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hapeList aShapeList = (ShapeList)prox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raphicalObject g = aShapeList.getAllState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} catch (Exception ex) { ex.printStackTrace()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}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ivate static Stub createProxy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Stub) (new MyShapeListService_Impl().getShapeListPor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0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main elements in a WSDL description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6960" y="1550880"/>
            <a:ext cx="9151920" cy="14464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9960" y="1523880"/>
            <a:ext cx="9204480" cy="149868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7280" y="1996920"/>
            <a:ext cx="1552680" cy="605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1720" y="1971720"/>
            <a:ext cx="1603440" cy="65736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69400" y="3560760"/>
            <a:ext cx="924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abstrac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20240" y="3535200"/>
            <a:ext cx="985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concre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86040" y="3112920"/>
            <a:ext cx="485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28240" y="3112920"/>
            <a:ext cx="709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whe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000" y="1614600"/>
            <a:ext cx="1119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defini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210600" y="3627360"/>
            <a:ext cx="236520" cy="131760"/>
          </a:xfrm>
          <a:custGeom>
            <a:avLst/>
            <a:gdLst/>
            <a:ahLst/>
            <a:rect l="l" t="t" r="r" b="b"/>
            <a:pathLst>
              <a:path w="149" h="83">
                <a:moveTo>
                  <a:pt x="0" y="50"/>
                </a:moveTo>
                <a:lnTo>
                  <a:pt x="0" y="0"/>
                </a:lnTo>
                <a:lnTo>
                  <a:pt x="149" y="50"/>
                </a:lnTo>
                <a:lnTo>
                  <a:pt x="0" y="83"/>
                </a:lnTo>
                <a:lnTo>
                  <a:pt x="0" y="50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8553600" y="3706920"/>
            <a:ext cx="63000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86600" y="3627360"/>
            <a:ext cx="236520" cy="131760"/>
          </a:xfrm>
          <a:custGeom>
            <a:avLst/>
            <a:gdLst/>
            <a:ahLst/>
            <a:rect l="l" t="t" r="r" b="b"/>
            <a:pathLst>
              <a:path w="149" h="83">
                <a:moveTo>
                  <a:pt x="149" y="50"/>
                </a:moveTo>
                <a:lnTo>
                  <a:pt x="149" y="83"/>
                </a:lnTo>
                <a:lnTo>
                  <a:pt x="0" y="50"/>
                </a:lnTo>
                <a:lnTo>
                  <a:pt x="149" y="0"/>
                </a:lnTo>
                <a:lnTo>
                  <a:pt x="149" y="50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448320" y="3706920"/>
            <a:ext cx="65736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1560" y="2087640"/>
            <a:ext cx="555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typ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800" y="3112920"/>
            <a:ext cx="2052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target namespa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627360"/>
            <a:ext cx="236520" cy="131760"/>
          </a:xfrm>
          <a:custGeom>
            <a:avLst/>
            <a:gdLst/>
            <a:ahLst/>
            <a:rect l="l" t="t" r="r" b="b"/>
            <a:pathLst>
              <a:path w="149" h="83">
                <a:moveTo>
                  <a:pt x="149" y="50"/>
                </a:moveTo>
                <a:lnTo>
                  <a:pt x="149" y="83"/>
                </a:lnTo>
                <a:lnTo>
                  <a:pt x="0" y="50"/>
                </a:lnTo>
                <a:lnTo>
                  <a:pt x="149" y="0"/>
                </a:lnTo>
                <a:lnTo>
                  <a:pt x="149" y="50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72640" y="3706920"/>
            <a:ext cx="142092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02240" y="3627360"/>
            <a:ext cx="236520" cy="131760"/>
          </a:xfrm>
          <a:custGeom>
            <a:avLst/>
            <a:gdLst/>
            <a:ahLst/>
            <a:rect l="l" t="t" r="r" b="b"/>
            <a:pathLst>
              <a:path w="149" h="83">
                <a:moveTo>
                  <a:pt x="0" y="50"/>
                </a:moveTo>
                <a:lnTo>
                  <a:pt x="0" y="0"/>
                </a:lnTo>
                <a:lnTo>
                  <a:pt x="149" y="50"/>
                </a:lnTo>
                <a:lnTo>
                  <a:pt x="0" y="83"/>
                </a:lnTo>
                <a:lnTo>
                  <a:pt x="0" y="50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949200" y="3706920"/>
            <a:ext cx="15526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98680" y="1996920"/>
            <a:ext cx="1525680" cy="605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71680" y="1971720"/>
            <a:ext cx="1577880" cy="65736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13080" y="1996920"/>
            <a:ext cx="1525680" cy="605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87880" y="1971720"/>
            <a:ext cx="1577880" cy="65736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2240" y="1971720"/>
            <a:ext cx="1552680" cy="6048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16680" y="1944720"/>
            <a:ext cx="1603440" cy="65736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27840" y="1996920"/>
            <a:ext cx="1552320" cy="605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02280" y="1971720"/>
            <a:ext cx="1603440" cy="65736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00920" y="2009880"/>
            <a:ext cx="94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interfa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65720" y="2009880"/>
            <a:ext cx="922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binding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963200" y="1982880"/>
            <a:ext cx="829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77520" y="2087640"/>
            <a:ext cx="934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messag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10840" y="3112920"/>
            <a:ext cx="1744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document sty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60000" y="3112920"/>
            <a:ext cx="2103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request-reply sty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1504800" y="2602080"/>
            <a:ext cx="77760" cy="5522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3108240" y="2601720"/>
            <a:ext cx="1800" cy="5000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976640" y="2629080"/>
            <a:ext cx="130320" cy="4730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527880" y="2601720"/>
            <a:ext cx="131760" cy="5000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8421480" y="2576160"/>
            <a:ext cx="168120" cy="5446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1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SDL request and reply messages for the newShape operation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68720" y="1706400"/>
            <a:ext cx="4307040" cy="13924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4200" y="1706400"/>
            <a:ext cx="4307040" cy="1454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1880" y="1684440"/>
            <a:ext cx="4351320" cy="145728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6800" y="1779480"/>
            <a:ext cx="785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70800" y="1779480"/>
            <a:ext cx="81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ame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25000" y="180180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73520" y="1779480"/>
            <a:ext cx="199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hapeList_new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99800" y="180180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3280" y="2266920"/>
            <a:ext cx="3506760" cy="6206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0960" y="2143080"/>
            <a:ext cx="3551040" cy="76680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16360" y="252108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83920" y="2521080"/>
            <a:ext cx="22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94880" y="254304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31160" y="2521080"/>
            <a:ext cx="180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s:Graphical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06160" y="254304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84880" y="2235240"/>
            <a:ext cx="38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80440" y="2235240"/>
            <a:ext cx="59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97320" y="2235240"/>
            <a:ext cx="197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="GraphicalObject_1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96960" y="3306600"/>
            <a:ext cx="235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ns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ﾐ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arget name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73240" y="3328920"/>
            <a:ext cx="291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xsd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ﾐ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XML schema 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35480" y="2266920"/>
            <a:ext cx="3529080" cy="6206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13520" y="2124000"/>
            <a:ext cx="3573360" cy="78588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93560" y="1779480"/>
            <a:ext cx="785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77920" y="1779480"/>
            <a:ext cx="81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ame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30320" y="180180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12240" y="1779480"/>
            <a:ext cx="292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hapeList_newShape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983080" y="180180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63280" y="2235240"/>
            <a:ext cx="38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50200" y="2235240"/>
            <a:ext cx="71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ame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96760" y="225756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38880" y="2235240"/>
            <a:ext cx="54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30280" y="225756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18480" y="22352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52080" y="252108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19280" y="2521080"/>
            <a:ext cx="22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38160" y="254304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8840" y="2521080"/>
            <a:ext cx="63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xsd: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54120" y="254304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2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ssage exchange patterns for WSDL operations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70640" y="3016080"/>
            <a:ext cx="1296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53400" y="3016080"/>
            <a:ext cx="126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076360" y="3016080"/>
            <a:ext cx="126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559120" y="3016080"/>
            <a:ext cx="126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70640" y="3435480"/>
            <a:ext cx="1296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53400" y="3435480"/>
            <a:ext cx="126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076360" y="3435480"/>
            <a:ext cx="126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559120" y="3435480"/>
            <a:ext cx="126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70640" y="3854520"/>
            <a:ext cx="1296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53400" y="3854520"/>
            <a:ext cx="1260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76360" y="3854520"/>
            <a:ext cx="1260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59120" y="3854520"/>
            <a:ext cx="1260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70640" y="4413240"/>
            <a:ext cx="1296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53400" y="4413240"/>
            <a:ext cx="126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076360" y="4413240"/>
            <a:ext cx="126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559120" y="4413240"/>
            <a:ext cx="126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47680" y="5403960"/>
            <a:ext cx="12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30440" y="540396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12840" y="5403960"/>
            <a:ext cx="12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83000" y="540396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70640" y="4832280"/>
            <a:ext cx="1296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53400" y="4832280"/>
            <a:ext cx="1260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076360" y="4832280"/>
            <a:ext cx="1260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59120" y="4832280"/>
            <a:ext cx="1260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89080" y="2114640"/>
            <a:ext cx="126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23920" y="212724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89080" y="212724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23920" y="240660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89080" y="240660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23920" y="268596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89080" y="268596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23920" y="296532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89080" y="296532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23920" y="3244680"/>
            <a:ext cx="1260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89080" y="3244680"/>
            <a:ext cx="1260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23920" y="352440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89080" y="352440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23920" y="380376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89080" y="380376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23920" y="408312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92160" y="182556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91800" y="3046320"/>
            <a:ext cx="68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1080" y="3505320"/>
            <a:ext cx="81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-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89280" y="3963960"/>
            <a:ext cx="159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bust In-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1800" y="4424400"/>
            <a:ext cx="68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-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4883040"/>
            <a:ext cx="979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-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89640" y="5343480"/>
            <a:ext cx="176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bust Out-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942840" y="1793880"/>
            <a:ext cx="7602480" cy="3999960"/>
            <a:chOff x="942840" y="1793880"/>
            <a:chExt cx="7602480" cy="3999960"/>
          </a:xfrm>
        </p:grpSpPr>
        <p:sp>
          <p:nvSpPr>
            <p:cNvPr id="391" name=""/>
            <p:cNvSpPr/>
            <p:nvPr/>
          </p:nvSpPr>
          <p:spPr>
            <a:xfrm>
              <a:off x="942840" y="1793880"/>
              <a:ext cx="7602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42840" y="5790960"/>
              <a:ext cx="76024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2089080" y="408312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8520" y="236844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54320" y="236844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40120" y="236844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21280" y="2355840"/>
            <a:ext cx="1296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95680" y="236844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21280" y="236844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95680" y="2647800"/>
            <a:ext cx="1260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21280" y="2647800"/>
            <a:ext cx="129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95680" y="292752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21280" y="292752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95680" y="320688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21280" y="320688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95680" y="348624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21280" y="348624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95680" y="376560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21280" y="376560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5680" y="404496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68520" y="433692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54320" y="433692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40120" y="433692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16360" y="2389320"/>
            <a:ext cx="62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4920" y="2389320"/>
            <a:ext cx="66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21120" y="2389320"/>
            <a:ext cx="87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18800" y="2449440"/>
            <a:ext cx="1480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ault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14560" y="287640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4560" y="287640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19160" y="2936880"/>
            <a:ext cx="130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repl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633520" y="2936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14560" y="336564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318080" y="3425760"/>
            <a:ext cx="171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ault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14560" y="385272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18960" y="3852720"/>
            <a:ext cx="1119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319160" y="3913200"/>
            <a:ext cx="1218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15280" y="434196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63840" y="434196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28480" y="43419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9160" y="4362480"/>
            <a:ext cx="130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repl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650800" y="43624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3840" y="482904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8080" y="4849920"/>
            <a:ext cx="171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ault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63840" y="531828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18960" y="5318280"/>
            <a:ext cx="1119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18440" y="531828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send 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921120" y="5307120"/>
            <a:ext cx="2376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21120" y="5794200"/>
            <a:ext cx="3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70320" y="5307120"/>
            <a:ext cx="2412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70320" y="5794200"/>
            <a:ext cx="3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19880" y="5794200"/>
            <a:ext cx="3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21280" y="404496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21280" y="4324320"/>
            <a:ext cx="1270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664000" y="1825560"/>
            <a:ext cx="2682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Messages sent b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3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SDL operation newShape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00320" y="1695600"/>
            <a:ext cx="5789520" cy="18619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74760" y="1670040"/>
            <a:ext cx="5840640" cy="191304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93920" y="1733400"/>
            <a:ext cx="104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ope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70880" y="1733400"/>
            <a:ext cx="971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name =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44960" y="1758960"/>
            <a:ext cx="10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049280" y="1733400"/>
            <a:ext cx="1175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newShap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91120" y="1758960"/>
            <a:ext cx="10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81400" y="2446200"/>
            <a:ext cx="5322600" cy="362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55840" y="2419200"/>
            <a:ext cx="5375160" cy="41436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08400" y="2482920"/>
            <a:ext cx="558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inp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5640" y="2482920"/>
            <a:ext cx="127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messag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83040" y="2508120"/>
            <a:ext cx="10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86920" y="2482920"/>
            <a:ext cx="2791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tns:ShapeList_newShap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392880" y="2508120"/>
            <a:ext cx="10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381400" y="3014640"/>
            <a:ext cx="5297400" cy="3618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55840" y="2989440"/>
            <a:ext cx="5348160" cy="41256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35400" y="302580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outp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990520" y="3025800"/>
            <a:ext cx="1337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message =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75760" y="3025800"/>
            <a:ext cx="4082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"tns:ShapeList_newShapeResponse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16760" y="2043000"/>
            <a:ext cx="183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pattern = In-O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19760" y="3781440"/>
            <a:ext cx="2649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tns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–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target namespa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775760" y="3781440"/>
            <a:ext cx="3327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xsd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–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XML schema defini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58080" y="4168800"/>
            <a:ext cx="1306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The nam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47800" y="4168800"/>
            <a:ext cx="104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ope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07120" y="4168800"/>
            <a:ext cx="109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, pattern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40600" y="4168800"/>
            <a:ext cx="558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inp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04640" y="4168800"/>
            <a:ext cx="558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and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54640" y="416880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outp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68560" y="4168800"/>
            <a:ext cx="4728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are defined in the XML schema for WSD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4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AP binding and service definitions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827600" y="1222200"/>
            <a:ext cx="3625920" cy="34261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1243080"/>
            <a:ext cx="3727440" cy="50767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71520" y="2111400"/>
            <a:ext cx="2619360" cy="6858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52440" y="2092320"/>
            <a:ext cx="2659320" cy="72396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94920" y="2120760"/>
            <a:ext cx="110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 Helvetica Condensed"/>
              </a:rPr>
              <a:t>soap:bind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188080" y="2120760"/>
            <a:ext cx="147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transport = URI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41200" y="1292400"/>
            <a:ext cx="691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79600" y="2503440"/>
            <a:ext cx="57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style=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84320" y="2523960"/>
            <a:ext cx="9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63160" y="2503440"/>
            <a:ext cx="28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rp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17680" y="2523960"/>
            <a:ext cx="9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9400" y="1973160"/>
            <a:ext cx="2921040" cy="239724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58520" y="2125800"/>
            <a:ext cx="80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end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70960" y="1292400"/>
            <a:ext cx="60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2320" y="129240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43600" y="149400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ame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03600" y="2792520"/>
            <a:ext cx="100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binding =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237000" y="281304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84440" y="2792520"/>
            <a:ext cx="20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ns:ShapeList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53040" y="281304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51480" y="3516480"/>
            <a:ext cx="1954080" cy="522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32400" y="3314880"/>
            <a:ext cx="2376360" cy="74448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44360" y="3462480"/>
            <a:ext cx="119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soap: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29600" y="3746520"/>
            <a:ext cx="209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location = service U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12520" y="157464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ame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240" y="159552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14440" y="1574640"/>
            <a:ext cx="188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MyShapeList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492680" y="159552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96760" y="2470320"/>
            <a:ext cx="81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ame =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73560" y="249084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79680" y="2470320"/>
            <a:ext cx="132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hapeList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81640" y="249084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25240" y="2322360"/>
            <a:ext cx="233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for schemas for soap/htt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46000" y="5484960"/>
            <a:ext cx="210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the service URI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71520" y="2938320"/>
            <a:ext cx="2619360" cy="2961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52440" y="2917800"/>
            <a:ext cx="2659320" cy="332424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60800" y="2906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344240" y="290664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13000" y="5624640"/>
            <a:ext cx="2276280" cy="463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92120" y="5603760"/>
            <a:ext cx="2318040" cy="50328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54040" y="561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417680" y="5613480"/>
            <a:ext cx="12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 Helvetica Condensed"/>
              </a:rPr>
              <a:t>soap: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38320" y="5815080"/>
            <a:ext cx="995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soap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07800" y="151452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81160" y="149400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hapeList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455640" y="151452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90880" y="1735200"/>
            <a:ext cx="9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98800" y="1714680"/>
            <a:ext cx="1270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ns:Shap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60800" y="1735200"/>
            <a:ext cx="9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57640" y="1714680"/>
            <a:ext cx="639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ype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71560" y="3170160"/>
            <a:ext cx="65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ame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14440" y="319104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30280" y="317016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ew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47840" y="319104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13000" y="3546360"/>
            <a:ext cx="2276280" cy="8463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92120" y="3525840"/>
            <a:ext cx="2318040" cy="88740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62240" y="3556080"/>
            <a:ext cx="59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 Helvetica Condensed"/>
              </a:rPr>
              <a:t>   </a:t>
            </a:r>
            <a:r>
              <a:rPr b="0" i="1" lang="en-US" sz="1500" spc="-1" strike="noStrike">
                <a:solidFill>
                  <a:srgbClr val="000000"/>
                </a:solidFill>
                <a:latin typeface="C Helvetica Condensed"/>
              </a:rPr>
              <a:t>inp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74640" y="3808440"/>
            <a:ext cx="1833840" cy="4636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54120" y="3787920"/>
            <a:ext cx="1873440" cy="50472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09200" y="3817800"/>
            <a:ext cx="87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 Helvetica Condensed"/>
              </a:rPr>
              <a:t>soap:bod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06600" y="381780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483560" y="4019400"/>
            <a:ext cx="2112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encoding, namesp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13000" y="4657680"/>
            <a:ext cx="2276280" cy="8254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92120" y="4637160"/>
            <a:ext cx="2318040" cy="86688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33600" y="4919760"/>
            <a:ext cx="1833480" cy="4428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14520" y="4898880"/>
            <a:ext cx="1873080" cy="48276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609200" y="4927680"/>
            <a:ext cx="87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 Helvetica Condensed"/>
              </a:rPr>
              <a:t>soap:bod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06600" y="49276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442520" y="5108400"/>
            <a:ext cx="2112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encoding, namesp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54680" y="4626000"/>
            <a:ext cx="71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 Helvetica Condensed"/>
              </a:rPr>
              <a:t>   </a:t>
            </a:r>
            <a:r>
              <a:rPr b="0" i="1" lang="en-US" sz="1500" spc="-1" strike="noStrike">
                <a:solidFill>
                  <a:srgbClr val="000000"/>
                </a:solidFill>
                <a:latin typeface="C Helvetica Condensed"/>
              </a:rPr>
              <a:t>outp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5765760"/>
            <a:ext cx="3963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http://localhost:8080/ShapeList-jaxrpc/ShapeList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5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main UDDI data structures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96120" y="3186000"/>
            <a:ext cx="1795320" cy="885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73800" y="3164040"/>
            <a:ext cx="1862280" cy="952200"/>
          </a:xfrm>
          <a:prstGeom prst="rect">
            <a:avLst/>
          </a:pr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84360" y="32623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t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7640" y="1523880"/>
            <a:ext cx="2747880" cy="33465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47640" y="1523880"/>
            <a:ext cx="2770200" cy="336888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74880" y="1657440"/>
            <a:ext cx="2017800" cy="1130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52560" y="1635120"/>
            <a:ext cx="2084400" cy="1197000"/>
          </a:xfrm>
          <a:prstGeom prst="rect">
            <a:avLst/>
          </a:pr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78920" y="1711440"/>
            <a:ext cx="147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business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598840" y="2011320"/>
            <a:ext cx="2016000" cy="1130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76520" y="1989000"/>
            <a:ext cx="2082960" cy="1197000"/>
          </a:xfrm>
          <a:prstGeom prst="rect">
            <a:avLst/>
          </a:pr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2080" y="2344680"/>
            <a:ext cx="2770200" cy="24145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09760" y="2322360"/>
            <a:ext cx="2836800" cy="2481480"/>
          </a:xfrm>
          <a:prstGeom prst="rect">
            <a:avLst/>
          </a:pr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184880" y="3540240"/>
            <a:ext cx="1751040" cy="887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62920" y="3517920"/>
            <a:ext cx="1817640" cy="954000"/>
          </a:xfrm>
          <a:prstGeom prst="rect">
            <a:avLst/>
          </a:pr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760520" y="361620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t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3080" y="1689120"/>
            <a:ext cx="1267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business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53040" y="2309760"/>
            <a:ext cx="118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9680" y="2619360"/>
            <a:ext cx="187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about the publis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75440" y="4006800"/>
            <a:ext cx="1751040" cy="752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053120" y="3984480"/>
            <a:ext cx="1816200" cy="819360"/>
          </a:xfrm>
          <a:prstGeom prst="rect">
            <a:avLst/>
          </a:pr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50720" y="406080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t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12040" y="421488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01440" y="2043000"/>
            <a:ext cx="147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business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7680" y="1998720"/>
            <a:ext cx="162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human read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56000" y="4370400"/>
            <a:ext cx="193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 descrip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6800" y="4548240"/>
            <a:ext cx="36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 Helvetica Condensed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86120" y="45482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51240" y="4437000"/>
            <a:ext cx="36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 Helvetica Condensed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770200" y="443700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42240" y="4281480"/>
            <a:ext cx="40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 Helvetica Condensed"/>
              </a:rPr>
              <a:t>U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17000" y="428148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08720" y="3794040"/>
            <a:ext cx="40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 Helvetica Condensed"/>
              </a:rPr>
              <a:t>U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83480" y="37940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43640" y="3129120"/>
            <a:ext cx="40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 Helvetica Condensed"/>
              </a:rPr>
              <a:t>U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18400" y="312912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8680" y="2508120"/>
            <a:ext cx="147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business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29280" y="3040200"/>
            <a:ext cx="118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63120" y="3306600"/>
            <a:ext cx="78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about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11280" y="3551400"/>
            <a:ext cx="164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family of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83920" y="2774880"/>
            <a:ext cx="162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human read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7640" y="3949560"/>
            <a:ext cx="165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481640" y="2454120"/>
            <a:ext cx="1728720" cy="11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81640" y="2454120"/>
            <a:ext cx="1751040" cy="113040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525920" y="2521080"/>
            <a:ext cx="1617840" cy="996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25920" y="2521080"/>
            <a:ext cx="1639800" cy="101916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98640" y="2552760"/>
            <a:ext cx="152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bindingTem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260960" y="2787480"/>
            <a:ext cx="1728720" cy="11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60960" y="2787480"/>
            <a:ext cx="1751040" cy="113040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305240" y="2854440"/>
            <a:ext cx="1617840" cy="9745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05240" y="2854440"/>
            <a:ext cx="1639800" cy="99684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390920" y="2886120"/>
            <a:ext cx="152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bindingTem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060800" y="3208320"/>
            <a:ext cx="1728720" cy="13302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38480" y="3186000"/>
            <a:ext cx="1795680" cy="1397160"/>
          </a:xfrm>
          <a:prstGeom prst="rect">
            <a:avLst/>
          </a:pr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03280" y="3240000"/>
            <a:ext cx="152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bindingTem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96440" y="3462480"/>
            <a:ext cx="118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110480" y="3672000"/>
            <a:ext cx="97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about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68800" y="4214880"/>
            <a:ext cx="36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 Helvetica Condensed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489560" y="421488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184880" y="3297240"/>
            <a:ext cx="88920" cy="111240"/>
          </a:xfrm>
          <a:custGeom>
            <a:avLst/>
            <a:gdLst/>
            <a:ahLst/>
            <a:rect l="l" t="t" r="r" b="b"/>
            <a:pathLst>
              <a:path w="56" h="70">
                <a:moveTo>
                  <a:pt x="0" y="28"/>
                </a:moveTo>
                <a:lnTo>
                  <a:pt x="0" y="0"/>
                </a:lnTo>
                <a:lnTo>
                  <a:pt x="56" y="28"/>
                </a:lnTo>
                <a:lnTo>
                  <a:pt x="14" y="7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5346720" y="3363480"/>
            <a:ext cx="1838160" cy="265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097760" y="3740040"/>
            <a:ext cx="87120" cy="111240"/>
          </a:xfrm>
          <a:custGeom>
            <a:avLst/>
            <a:gdLst/>
            <a:ahLst/>
            <a:rect l="l" t="t" r="r" b="b"/>
            <a:pathLst>
              <a:path w="55" h="70">
                <a:moveTo>
                  <a:pt x="0" y="28"/>
                </a:moveTo>
                <a:lnTo>
                  <a:pt x="0" y="0"/>
                </a:lnTo>
                <a:lnTo>
                  <a:pt x="55" y="28"/>
                </a:lnTo>
                <a:lnTo>
                  <a:pt x="0" y="7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46720" y="3784680"/>
            <a:ext cx="17287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64200" y="440532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14" y="28"/>
                </a:moveTo>
                <a:lnTo>
                  <a:pt x="14" y="0"/>
                </a:lnTo>
                <a:lnTo>
                  <a:pt x="56" y="42"/>
                </a:lnTo>
                <a:lnTo>
                  <a:pt x="0" y="56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346720" y="3873600"/>
            <a:ext cx="1617480" cy="554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66560" y="3916440"/>
            <a:ext cx="165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6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gorithms required for XML signature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14480" y="125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324160" y="152388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56120" y="152388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408640" y="152388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324160" y="482616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056120" y="482616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408640" y="482616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622440" y="1503360"/>
            <a:ext cx="8128080" cy="3639600"/>
            <a:chOff x="622440" y="1503360"/>
            <a:chExt cx="8128080" cy="3639600"/>
          </a:xfrm>
        </p:grpSpPr>
        <p:sp>
          <p:nvSpPr>
            <p:cNvPr id="625" name=""/>
            <p:cNvSpPr/>
            <p:nvPr/>
          </p:nvSpPr>
          <p:spPr>
            <a:xfrm>
              <a:off x="709920" y="1534680"/>
              <a:ext cx="145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ype of algorith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573280" y="1534680"/>
              <a:ext cx="1536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ame of algorith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23400" y="153468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equi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49800" y="153468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11360" y="2017440"/>
              <a:ext cx="124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ssage dig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75440" y="20174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A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523400" y="201744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qui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49800" y="2017440"/>
              <a:ext cx="106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ction 7.4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09920" y="2500560"/>
              <a:ext cx="780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co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72920" y="250056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23400" y="250056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qui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49800" y="2500560"/>
              <a:ext cx="233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[Freed and Borenstein 199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0640" y="298116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gn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575800" y="2981160"/>
              <a:ext cx="144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SA with SHA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23400" y="298116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qui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51240" y="2981160"/>
              <a:ext cx="104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[NIST 199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2440" y="3463920"/>
              <a:ext cx="1079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asymmetri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75800" y="3463920"/>
              <a:ext cx="143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SA with SHA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525200" y="3463920"/>
              <a:ext cx="121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ommend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9800" y="3463920"/>
              <a:ext cx="106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ction 7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1000" y="3946680"/>
              <a:ext cx="125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C sign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2800" y="4188240"/>
              <a:ext cx="989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symmetri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878480" y="418824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76160" y="3946680"/>
              <a:ext cx="125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MAC-SHA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523400" y="394668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qui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51240" y="3946680"/>
              <a:ext cx="229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ction 7.4.2 and Krawczy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50520" y="41882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t a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496920" y="4188240"/>
              <a:ext cx="59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[199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9920" y="4669560"/>
              <a:ext cx="1378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onica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74360" y="4669560"/>
              <a:ext cx="1325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onical 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98600" y="466956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23400" y="466956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qui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49800" y="4669560"/>
              <a:ext cx="852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ge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ヒラギノ角ゴ Pro W3"/>
                </a:rPr>
                <a:t>81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932600" y="466956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622440" y="1503360"/>
              <a:ext cx="8128080" cy="3639600"/>
              <a:chOff x="622440" y="1503360"/>
              <a:chExt cx="8128080" cy="3639600"/>
            </a:xfrm>
          </p:grpSpPr>
          <p:sp>
            <p:nvSpPr>
              <p:cNvPr id="660" name=""/>
              <p:cNvSpPr/>
              <p:nvPr/>
            </p:nvSpPr>
            <p:spPr>
              <a:xfrm>
                <a:off x="622440" y="1503360"/>
                <a:ext cx="8128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22440" y="5141160"/>
                <a:ext cx="8128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7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gorithms required for encryption(the algorithms in Figure 19.16 are also required)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89440" y="1322280"/>
            <a:ext cx="1550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Type of algorith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57400" y="1322280"/>
            <a:ext cx="1635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Name of algorith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003280" y="1322280"/>
            <a:ext cx="793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260400" y="1322280"/>
            <a:ext cx="816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27520" y="1312920"/>
            <a:ext cx="21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73760" y="131292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973760" y="1292400"/>
            <a:ext cx="1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30880" y="131292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973760" y="1312920"/>
            <a:ext cx="2052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189800" y="1792440"/>
            <a:ext cx="1111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lock ciph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846520" y="1792440"/>
            <a:ext cx="1247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IPLEDES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ES 12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03280" y="1792440"/>
            <a:ext cx="720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258960" y="1792440"/>
            <a:ext cx="1137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tion 7.3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73760" y="1782720"/>
            <a:ext cx="205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44720" y="2495520"/>
            <a:ext cx="80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ES-19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03640" y="2495520"/>
            <a:ext cx="707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3760" y="2486160"/>
            <a:ext cx="20520" cy="46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89440" y="2963880"/>
            <a:ext cx="829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46160" y="2963880"/>
            <a:ext cx="60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ase6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03280" y="2963880"/>
            <a:ext cx="720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58600" y="2963880"/>
            <a:ext cx="248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[Freed and Borenstein 1996]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73760" y="2954160"/>
            <a:ext cx="205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89440" y="3433680"/>
            <a:ext cx="1183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Key trans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43640" y="3433680"/>
            <a:ext cx="1061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SA-v1.5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SA-OAE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03280" y="3433680"/>
            <a:ext cx="720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258960" y="3433680"/>
            <a:ext cx="1137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tion 7.3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58960" y="3666960"/>
            <a:ext cx="2385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[Kaliski and Staddon 1998]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73760" y="3422520"/>
            <a:ext cx="2052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16880" y="4137120"/>
            <a:ext cx="1314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ymmetric ke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16880" y="4370400"/>
            <a:ext cx="1351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wrap (signa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15080" y="4605480"/>
            <a:ext cx="1384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y   shared key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44000" y="4137120"/>
            <a:ext cx="1145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IPLED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44360" y="437040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KeyWrap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857680" y="4665600"/>
            <a:ext cx="1981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ES-128 KeyWrap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43640" y="5002200"/>
            <a:ext cx="1631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ES 256KeyWra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003280" y="4137120"/>
            <a:ext cx="720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59680" y="4137120"/>
            <a:ext cx="1352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[Housley 2002]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973760" y="4127400"/>
            <a:ext cx="20520" cy="11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43640" y="5308560"/>
            <a:ext cx="1703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ES-192 KeyWra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003640" y="5308560"/>
            <a:ext cx="707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73760" y="5299200"/>
            <a:ext cx="205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189080" y="5776920"/>
            <a:ext cx="1315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Key agree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840400" y="5776920"/>
            <a:ext cx="1331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iffie-Hellm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003640" y="5776920"/>
            <a:ext cx="707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258960" y="5776920"/>
            <a:ext cx="1442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[Rescorla, 1999]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973760" y="5767560"/>
            <a:ext cx="2052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973760" y="625788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973760" y="6237360"/>
            <a:ext cx="1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949320" y="1292400"/>
            <a:ext cx="7879320" cy="4946400"/>
            <a:chOff x="949320" y="1292400"/>
            <a:chExt cx="7879320" cy="4946400"/>
          </a:xfrm>
        </p:grpSpPr>
        <p:sp>
          <p:nvSpPr>
            <p:cNvPr id="713" name=""/>
            <p:cNvSpPr/>
            <p:nvPr/>
          </p:nvSpPr>
          <p:spPr>
            <a:xfrm>
              <a:off x="949320" y="1292400"/>
              <a:ext cx="7879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949320" y="6237360"/>
              <a:ext cx="7879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743560" y="2197080"/>
            <a:ext cx="986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ES-25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8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vel agent scenario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66560" y="1359000"/>
            <a:ext cx="87109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The client asks the travel agent service for information about a set of services; for example, flights, car hire and hotel bookin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The travel agent service collects prices and availability information and sends it to the client, which chooses one of the following on behalf of the us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>
              <a:lnSpc>
                <a:spcPct val="100000"/>
              </a:lnSpc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refine the query, possibly involving more providers to get more information, then repeat step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>
              <a:lnSpc>
                <a:spcPct val="100000"/>
              </a:lnSpc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) make reservation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>
              <a:lnSpc>
                <a:spcPct val="100000"/>
              </a:lnSpc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) q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The client requests a reservation and the travel agent service checks availabil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Either all are availab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 for services that are not availab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>
              <a:lnSpc>
                <a:spcPct val="100000"/>
              </a:lnSpc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ther alternatives are offered to the client who goes back to step 3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>
              <a:lnSpc>
                <a:spcPct val="100000"/>
              </a:lnSpc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 the client goes back to step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Take depos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 Give the client a reservation number as a confirm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 During the period until the final payment, the client may modify or cancel re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services infrastructure and components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0600" y="1476360"/>
            <a:ext cx="8859600" cy="1397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1800" y="1447920"/>
            <a:ext cx="8915400" cy="145404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4680" y="2174760"/>
            <a:ext cx="4835520" cy="6987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86240" y="2146320"/>
            <a:ext cx="4890960" cy="75564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0600" y="3627360"/>
            <a:ext cx="8859600" cy="7002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1800" y="3600360"/>
            <a:ext cx="8915400" cy="75420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0600" y="2901960"/>
            <a:ext cx="8859600" cy="698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1800" y="2873520"/>
            <a:ext cx="8915400" cy="75384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30680" y="2382840"/>
            <a:ext cx="95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6480" y="3083040"/>
            <a:ext cx="357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rvice descriptions (in WSD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0600" y="4327560"/>
            <a:ext cx="8859600" cy="698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1800" y="4299120"/>
            <a:ext cx="8915400" cy="75384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48560" y="1879560"/>
            <a:ext cx="146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05320" y="2382840"/>
            <a:ext cx="19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Director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3054240"/>
            <a:ext cx="1573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31720" y="4479840"/>
            <a:ext cx="51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7120" y="2382840"/>
            <a:ext cx="172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Chore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32400" y="3781440"/>
            <a:ext cx="65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O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14680" y="4479840"/>
            <a:ext cx="242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URIs (URLs or UR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4240" y="4479840"/>
            <a:ext cx="365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HTTP, SMTP or other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9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n grid services architecture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222960" y="1603440"/>
            <a:ext cx="331920" cy="89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222960" y="3368520"/>
            <a:ext cx="331920" cy="5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44680" y="4059360"/>
            <a:ext cx="5883120" cy="5112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9120" y="4033800"/>
            <a:ext cx="5934240" cy="5619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4680" y="1552680"/>
            <a:ext cx="5883120" cy="24811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19120" y="1527120"/>
            <a:ext cx="5934240" cy="25322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44680" y="2549520"/>
            <a:ext cx="5883120" cy="7412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19120" y="2523960"/>
            <a:ext cx="5934240" cy="7938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99360" y="1692360"/>
            <a:ext cx="3594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Application specfic gri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779920" y="4148280"/>
            <a:ext cx="1437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web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832080" y="1820880"/>
            <a:ext cx="2154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application specif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312920" y="3354480"/>
            <a:ext cx="59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 Helvetica Condensed"/>
              </a:rPr>
              <a:t>OGS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476000" y="3354480"/>
            <a:ext cx="4801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services: naming, service data (metadata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44600" y="2766960"/>
            <a:ext cx="665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 Helvetica Condensed"/>
              </a:rPr>
              <a:t>OGS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566000" y="2766960"/>
            <a:ext cx="4777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services: directory, management, secur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14720" y="3635280"/>
            <a:ext cx="6470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service creation and deletion, fault model, service grou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427520" y="3610080"/>
            <a:ext cx="120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GridServ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542440" y="3610080"/>
            <a:ext cx="63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529320" y="3521160"/>
            <a:ext cx="281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529320" y="3751200"/>
            <a:ext cx="306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19640" y="361008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e.g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269480" y="2050920"/>
            <a:ext cx="1244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interfa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529320" y="1706400"/>
            <a:ext cx="281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29320" y="1936800"/>
            <a:ext cx="281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529320" y="2166840"/>
            <a:ext cx="306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29320" y="2397240"/>
            <a:ext cx="306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02240" y="2101680"/>
            <a:ext cx="6875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e.g. astronomy, biomedical informatics, high-energy physic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520040" y="3892680"/>
            <a:ext cx="785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Facto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237520" y="3892680"/>
            <a:ext cx="63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47560" y="3278160"/>
            <a:ext cx="2487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grid service interfa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428960" y="3048120"/>
            <a:ext cx="1018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standar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0" y="409680"/>
            <a:ext cx="96314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20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selection of the grid projects presented in Foster &amp; Kesselman[2004]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85680" y="1320840"/>
            <a:ext cx="209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cription of th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09680" y="1341360"/>
            <a:ext cx="82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311800" y="1292400"/>
            <a:ext cx="144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57360" y="1633680"/>
            <a:ext cx="45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. Aircraft engine maintenance using fault histori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96400" y="1792440"/>
            <a:ext cx="274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nsors for predictive diagno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444080" y="1674720"/>
            <a:ext cx="201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d4"/>
                </a:solidFill>
                <a:latin typeface="Times New Roman"/>
              </a:rPr>
              <a:t>www.cs.york.ac.uk/d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59520" y="2209680"/>
            <a:ext cx="352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. Telepresence for predicting the effect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95320" y="2368440"/>
            <a:ext cx="469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arthquakes on buildings, using simulations and test 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443000" y="2251080"/>
            <a:ext cx="149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d4"/>
                </a:solidFill>
                <a:latin typeface="Times New Roman"/>
              </a:rPr>
              <a:t>www.neesgrid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11800" y="2119320"/>
            <a:ext cx="144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58080" y="2765520"/>
            <a:ext cx="3720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. Bio-medical informatics network prov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98560" y="2924280"/>
            <a:ext cx="6105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searchers with access to experiments and visualizations of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443000" y="2806560"/>
            <a:ext cx="111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d4"/>
                </a:solidFill>
                <a:latin typeface="Times New Roman"/>
              </a:rPr>
              <a:t>nbcr.sdsc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06520" y="2743200"/>
            <a:ext cx="381780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58080" y="3417840"/>
            <a:ext cx="44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. Analysis of data from the CMS high energy parti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98560" y="3578400"/>
            <a:ext cx="466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tector at CERN by physicists world-wide over 15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43360" y="3459240"/>
            <a:ext cx="128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d4"/>
                </a:solidFill>
                <a:latin typeface="Times New Roman"/>
              </a:rPr>
              <a:t>www.uscms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06520" y="3395520"/>
            <a:ext cx="381780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9320" y="3932280"/>
            <a:ext cx="431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5. Testing the effects of candidate drug molecule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918720" y="4152960"/>
            <a:ext cx="502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ir effect on the activity of a protein, by performing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81800" y="4313160"/>
            <a:ext cx="351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ations using idle desktop compu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463880" y="3973680"/>
            <a:ext cx="166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[Taufer et al. 2003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460280" y="421488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[Chien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6520" y="3889440"/>
            <a:ext cx="381780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8440" y="4605480"/>
            <a:ext cx="391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6. Use of the Sun Grid Engine to enhance a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95680" y="478620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hotographs by using spare capacity on a cluster of web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443360" y="4646520"/>
            <a:ext cx="189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d4"/>
                </a:solidFill>
                <a:latin typeface="Times New Roman"/>
              </a:rPr>
              <a:t>www.globexplorer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06520" y="4605480"/>
            <a:ext cx="3817800" cy="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52320" y="5181480"/>
            <a:ext cx="428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. The butterfly Grid supports multiplayer game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98200" y="5362560"/>
            <a:ext cx="559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ery large numbers of players on the internet over the Globus toolk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437960" y="5222880"/>
            <a:ext cx="144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d4"/>
                </a:solidFill>
                <a:latin typeface="Times New Roman"/>
              </a:rPr>
              <a:t>www.butterfly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94000" y="4892760"/>
            <a:ext cx="3817800" cy="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58800" y="5815080"/>
            <a:ext cx="434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8. The Access Grid supports the needs of small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95680" y="5994360"/>
            <a:ext cx="48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llaboration, for example by providing shared worksp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442280" y="5856120"/>
            <a:ext cx="16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d4"/>
                </a:solidFill>
                <a:latin typeface="Times New Roman"/>
              </a:rPr>
              <a:t>www.accessgrid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06520" y="5813280"/>
            <a:ext cx="381780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666720" y="1224000"/>
            <a:ext cx="7372080" cy="5084280"/>
            <a:chOff x="666720" y="1224000"/>
            <a:chExt cx="7372080" cy="5084280"/>
          </a:xfrm>
        </p:grpSpPr>
        <p:sp>
          <p:nvSpPr>
            <p:cNvPr id="790" name=""/>
            <p:cNvSpPr/>
            <p:nvPr/>
          </p:nvSpPr>
          <p:spPr>
            <a:xfrm>
              <a:off x="666720" y="1224000"/>
              <a:ext cx="7372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6720" y="6306840"/>
              <a:ext cx="7372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5311800" y="6053040"/>
            <a:ext cx="144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2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‘travel agent service’ combines other web services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54640" y="3720960"/>
            <a:ext cx="1704960" cy="7336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54640" y="3720960"/>
            <a:ext cx="1727280" cy="75564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42120" y="3828960"/>
            <a:ext cx="1509480" cy="4968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25680" y="3656160"/>
            <a:ext cx="1704960" cy="7347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25680" y="3656160"/>
            <a:ext cx="1727280" cy="75564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3160" y="3786120"/>
            <a:ext cx="1509840" cy="4968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16440" y="1628640"/>
            <a:ext cx="1703520" cy="7336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16440" y="1628640"/>
            <a:ext cx="1725480" cy="75420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02120" y="1736640"/>
            <a:ext cx="1511280" cy="495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05560" y="1822320"/>
            <a:ext cx="1704960" cy="7336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05560" y="1822320"/>
            <a:ext cx="1725840" cy="75564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34440" y="1930320"/>
            <a:ext cx="1511280" cy="4968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83600" y="3462480"/>
            <a:ext cx="1684080" cy="733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83600" y="3462480"/>
            <a:ext cx="1704960" cy="75564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36280" y="3903840"/>
            <a:ext cx="131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hotel bo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44440" y="3962520"/>
            <a:ext cx="9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 Helvetica Condensed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61120" y="2643120"/>
            <a:ext cx="1704960" cy="733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61120" y="2643120"/>
            <a:ext cx="1727280" cy="75420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69120" y="2749680"/>
            <a:ext cx="1511280" cy="5191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6680" y="1930320"/>
            <a:ext cx="1920960" cy="1617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06680" y="1930320"/>
            <a:ext cx="1941480" cy="163980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08360" y="2254320"/>
            <a:ext cx="1315800" cy="9716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76760" y="2457360"/>
            <a:ext cx="120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rave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11640" y="1820880"/>
            <a:ext cx="1281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flight bo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95240" y="1905120"/>
            <a:ext cx="9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 Helvetica Condensed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52200" y="2846520"/>
            <a:ext cx="155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hire car bo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3480" y="2927520"/>
            <a:ext cx="9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 Helvetica Condensed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12560" y="276084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8040" y="2103480"/>
            <a:ext cx="1228680" cy="1251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8040" y="2103480"/>
            <a:ext cx="1251000" cy="127296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9400" y="2297160"/>
            <a:ext cx="863640" cy="8636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4440" y="2610000"/>
            <a:ext cx="54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14680" y="2685960"/>
            <a:ext cx="193680" cy="108000"/>
          </a:xfrm>
          <a:custGeom>
            <a:avLst/>
            <a:gdLst/>
            <a:ahLst/>
            <a:rect l="l" t="t" r="r" b="b"/>
            <a:pathLst>
              <a:path w="122" h="68">
                <a:moveTo>
                  <a:pt x="0" y="27"/>
                </a:moveTo>
                <a:lnTo>
                  <a:pt x="0" y="0"/>
                </a:lnTo>
                <a:lnTo>
                  <a:pt x="122" y="27"/>
                </a:lnTo>
                <a:lnTo>
                  <a:pt x="0" y="68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92200" y="2728800"/>
            <a:ext cx="11001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51280" y="2081160"/>
            <a:ext cx="216000" cy="108000"/>
          </a:xfrm>
          <a:custGeom>
            <a:avLst/>
            <a:gdLst/>
            <a:ahLst/>
            <a:rect l="l" t="t" r="r" b="b"/>
            <a:pathLst>
              <a:path w="136" h="68">
                <a:moveTo>
                  <a:pt x="13" y="41"/>
                </a:moveTo>
                <a:lnTo>
                  <a:pt x="0" y="0"/>
                </a:lnTo>
                <a:lnTo>
                  <a:pt x="136" y="0"/>
                </a:lnTo>
                <a:lnTo>
                  <a:pt x="27" y="68"/>
                </a:lnTo>
                <a:lnTo>
                  <a:pt x="13" y="41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784680" y="2145960"/>
            <a:ext cx="987480" cy="244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32600" y="2901960"/>
            <a:ext cx="193680" cy="128520"/>
          </a:xfrm>
          <a:custGeom>
            <a:avLst/>
            <a:gdLst/>
            <a:ahLst/>
            <a:rect l="l" t="t" r="r" b="b"/>
            <a:pathLst>
              <a:path w="122" h="81">
                <a:moveTo>
                  <a:pt x="0" y="40"/>
                </a:moveTo>
                <a:lnTo>
                  <a:pt x="0" y="0"/>
                </a:lnTo>
                <a:lnTo>
                  <a:pt x="122" y="54"/>
                </a:lnTo>
                <a:lnTo>
                  <a:pt x="0" y="81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3680" y="2814480"/>
            <a:ext cx="2136600" cy="150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00680" y="2014560"/>
            <a:ext cx="132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flight bo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818920" y="207648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 Helvetica Condensed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62720" y="2254320"/>
            <a:ext cx="193680" cy="128520"/>
          </a:xfrm>
          <a:custGeom>
            <a:avLst/>
            <a:gdLst/>
            <a:ahLst/>
            <a:rect l="l" t="t" r="r" b="b"/>
            <a:pathLst>
              <a:path w="122" h="81">
                <a:moveTo>
                  <a:pt x="0" y="41"/>
                </a:moveTo>
                <a:lnTo>
                  <a:pt x="0" y="0"/>
                </a:lnTo>
                <a:lnTo>
                  <a:pt x="122" y="27"/>
                </a:lnTo>
                <a:lnTo>
                  <a:pt x="0" y="81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973680" y="2319480"/>
            <a:ext cx="3389040" cy="387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39680" y="3925800"/>
            <a:ext cx="131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hotel bo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48560" y="398448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 Helvetica Condensed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6800" y="3570120"/>
            <a:ext cx="108000" cy="216000"/>
          </a:xfrm>
          <a:custGeom>
            <a:avLst/>
            <a:gdLst/>
            <a:ahLst/>
            <a:rect l="l" t="t" r="r" b="b"/>
            <a:pathLst>
              <a:path w="68" h="136">
                <a:moveTo>
                  <a:pt x="41" y="14"/>
                </a:moveTo>
                <a:lnTo>
                  <a:pt x="68" y="0"/>
                </a:lnTo>
                <a:lnTo>
                  <a:pt x="68" y="136"/>
                </a:lnTo>
                <a:lnTo>
                  <a:pt x="0" y="14"/>
                </a:lnTo>
                <a:lnTo>
                  <a:pt x="41" y="14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72000" y="3117960"/>
            <a:ext cx="129960" cy="452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54720" y="3656160"/>
            <a:ext cx="216000" cy="107640"/>
          </a:xfrm>
          <a:custGeom>
            <a:avLst/>
            <a:gdLst/>
            <a:ahLst/>
            <a:rect l="l" t="t" r="r" b="b"/>
            <a:pathLst>
              <a:path w="136" h="68">
                <a:moveTo>
                  <a:pt x="13" y="41"/>
                </a:moveTo>
                <a:lnTo>
                  <a:pt x="27" y="0"/>
                </a:lnTo>
                <a:lnTo>
                  <a:pt x="136" y="68"/>
                </a:lnTo>
                <a:lnTo>
                  <a:pt x="0" y="68"/>
                </a:lnTo>
                <a:lnTo>
                  <a:pt x="13" y="41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30480" y="2922480"/>
            <a:ext cx="3324240" cy="7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27800" y="3743280"/>
            <a:ext cx="193680" cy="128520"/>
          </a:xfrm>
          <a:custGeom>
            <a:avLst/>
            <a:gdLst/>
            <a:ahLst/>
            <a:rect l="l" t="t" r="r" b="b"/>
            <a:pathLst>
              <a:path w="122" h="81">
                <a:moveTo>
                  <a:pt x="14" y="41"/>
                </a:moveTo>
                <a:lnTo>
                  <a:pt x="27" y="0"/>
                </a:lnTo>
                <a:lnTo>
                  <a:pt x="122" y="81"/>
                </a:lnTo>
                <a:lnTo>
                  <a:pt x="0" y="68"/>
                </a:lnTo>
                <a:lnTo>
                  <a:pt x="14" y="41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1960" y="3009960"/>
            <a:ext cx="1725840" cy="776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70720" y="3570120"/>
            <a:ext cx="1590840" cy="5176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44440" y="3666960"/>
            <a:ext cx="155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hire car bo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866440" y="374652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 Helvetica Condensed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3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AP message in an envelope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1320" y="1389240"/>
            <a:ext cx="8267760" cy="4539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2880" y="1360440"/>
            <a:ext cx="8323200" cy="459576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12720" y="1976400"/>
            <a:ext cx="6978960" cy="15987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86080" y="1949400"/>
            <a:ext cx="7034040" cy="165276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12760" y="1484280"/>
            <a:ext cx="1050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 Helvetica Condensed"/>
              </a:rPr>
              <a:t>envelo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1400" y="2046240"/>
            <a:ext cx="831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 Helvetica Condensed"/>
              </a:rPr>
              <a:t>head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48120" y="2565360"/>
            <a:ext cx="2102040" cy="588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21120" y="2536920"/>
            <a:ext cx="2157480" cy="64584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2720" y="3967200"/>
            <a:ext cx="6978960" cy="1625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86080" y="3938760"/>
            <a:ext cx="7034040" cy="168084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94080" y="2565360"/>
            <a:ext cx="2074680" cy="588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67080" y="2536920"/>
            <a:ext cx="2128680" cy="64584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94080" y="4414680"/>
            <a:ext cx="2074680" cy="588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67080" y="4387680"/>
            <a:ext cx="2128680" cy="64476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48120" y="4414680"/>
            <a:ext cx="2102040" cy="588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21120" y="4387680"/>
            <a:ext cx="2157480" cy="64476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4840" y="3979800"/>
            <a:ext cx="584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 Helvetica Condensed"/>
              </a:rPr>
              <a:t>bod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09640" y="2633760"/>
            <a:ext cx="189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header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48520" y="4511520"/>
            <a:ext cx="164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bod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560" y="2633760"/>
            <a:ext cx="189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header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34520" y="4511520"/>
            <a:ext cx="164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bod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4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xample of a simple request without headers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360" y="1460520"/>
            <a:ext cx="8493120" cy="3159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9800" y="1434960"/>
            <a:ext cx="8545680" cy="321156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17440" y="1979640"/>
            <a:ext cx="7224840" cy="2408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90440" y="1952640"/>
            <a:ext cx="7277400" cy="24606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12880" y="2470320"/>
            <a:ext cx="6059520" cy="16318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87680" y="2444760"/>
            <a:ext cx="6110280" cy="168264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94240" y="2509920"/>
            <a:ext cx="1291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m:exchang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7240" y="1550880"/>
            <a:ext cx="1383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env:envelop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70320" y="1550880"/>
            <a:ext cx="5467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xmlns:env =namespace URI for SOAP envelop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2760" y="3273480"/>
            <a:ext cx="1941480" cy="6220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55760" y="3247920"/>
            <a:ext cx="1994040" cy="6732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93280" y="3286080"/>
            <a:ext cx="77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m:arg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39480" y="2017800"/>
            <a:ext cx="959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env:bod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35680" y="2819520"/>
            <a:ext cx="5906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xmlns:m = namespace URI of the service descrip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31400" y="3544920"/>
            <a:ext cx="58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ell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0000" y="3273480"/>
            <a:ext cx="1941480" cy="6220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24440" y="3247920"/>
            <a:ext cx="1992240" cy="6732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77440" y="3286080"/>
            <a:ext cx="77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m:arg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05760" y="3544920"/>
            <a:ext cx="68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Worl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55800" y="5027760"/>
            <a:ext cx="837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figure and the next, each XML element is represented by a shaded box with its name in italic followed by any attributes and its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5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xample of a reply corresponding to the request in Figure 19.4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2120" y="1484280"/>
            <a:ext cx="8566200" cy="3245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5120" y="1457280"/>
            <a:ext cx="8620200" cy="3299040"/>
          </a:xfrm>
          <a:prstGeom prst="rect">
            <a:avLst/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30400" y="1936800"/>
            <a:ext cx="7477200" cy="2448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03400" y="1909800"/>
            <a:ext cx="7529400" cy="2500200"/>
          </a:xfrm>
          <a:prstGeom prst="rect">
            <a:avLst/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41320" y="2441520"/>
            <a:ext cx="6201000" cy="16225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16120" y="2414520"/>
            <a:ext cx="6251400" cy="1676520"/>
          </a:xfrm>
          <a:prstGeom prst="rect">
            <a:avLst/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89640" y="3186000"/>
            <a:ext cx="1968480" cy="6397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62640" y="3160800"/>
            <a:ext cx="2022480" cy="690480"/>
          </a:xfrm>
          <a:prstGeom prst="rect">
            <a:avLst/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9320" y="1549440"/>
            <a:ext cx="1386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 Helvetica Condensed"/>
              </a:rPr>
              <a:t>env:enve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73000" y="1549440"/>
            <a:ext cx="5414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xmlns:env = namespace URI for SOAP envelop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27400" y="3186000"/>
            <a:ext cx="1968480" cy="6127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00400" y="3160800"/>
            <a:ext cx="2022480" cy="664920"/>
          </a:xfrm>
          <a:prstGeom prst="rect">
            <a:avLst/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52680" y="319896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 Helvetica Condensed"/>
              </a:rPr>
              <a:t>m:re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78360" y="1974960"/>
            <a:ext cx="101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 Helvetica Condensed"/>
              </a:rPr>
              <a:t>env: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10920" y="2746440"/>
            <a:ext cx="6005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xmlns:m = namespace URI for the service descrip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55960" y="319896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 Helvetica Condensed"/>
              </a:rPr>
              <a:t>m:re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91440" y="3463920"/>
            <a:ext cx="68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Worl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63360" y="2454120"/>
            <a:ext cx="242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 Helvetica Condensed"/>
              </a:rPr>
              <a:t>m:exchange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91760" y="3490920"/>
            <a:ext cx="58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ell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6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se of HTTP POST Request in SOAP client-server communic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7520" y="1574640"/>
            <a:ext cx="8081640" cy="28465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5200" y="1552680"/>
            <a:ext cx="8105760" cy="300996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26520" y="1741320"/>
            <a:ext cx="209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endpoint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58000" y="2386080"/>
            <a:ext cx="733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8680" y="1741320"/>
            <a:ext cx="256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T /examples/st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9400" y="1963800"/>
            <a:ext cx="205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ost: www.cdk4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5800" y="2185920"/>
            <a:ext cx="379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tent-Type: application/soap+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4720" y="2408400"/>
            <a:ext cx="585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tion: http://www.cdk4.net/examples/stringer#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0680" y="3119400"/>
            <a:ext cx="2850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env:envelope xmlns:env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9440" y="3119400"/>
            <a:ext cx="368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URI for SOAP enve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62000" y="3119400"/>
            <a:ext cx="172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9960" y="3363840"/>
            <a:ext cx="311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env:header&gt; &lt;/env:head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9960" y="3608280"/>
            <a:ext cx="2695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env:body&gt; &lt;/env: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560" y="3852720"/>
            <a:ext cx="180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/env:Envelo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59240" y="1819440"/>
            <a:ext cx="199800" cy="133200"/>
          </a:xfrm>
          <a:custGeom>
            <a:avLst/>
            <a:gdLst/>
            <a:ahLst/>
            <a:rect l="l" t="t" r="r" b="b"/>
            <a:pathLst>
              <a:path w="126" h="84">
                <a:moveTo>
                  <a:pt x="126" y="42"/>
                </a:moveTo>
                <a:lnTo>
                  <a:pt x="126" y="84"/>
                </a:lnTo>
                <a:lnTo>
                  <a:pt x="0" y="42"/>
                </a:lnTo>
                <a:lnTo>
                  <a:pt x="126" y="0"/>
                </a:lnTo>
                <a:lnTo>
                  <a:pt x="126" y="42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658680" y="1886040"/>
            <a:ext cx="1202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37480" y="2486160"/>
            <a:ext cx="199800" cy="133200"/>
          </a:xfrm>
          <a:custGeom>
            <a:avLst/>
            <a:gdLst/>
            <a:ahLst/>
            <a:rect l="l" t="t" r="r" b="b"/>
            <a:pathLst>
              <a:path w="126" h="84">
                <a:moveTo>
                  <a:pt x="126" y="42"/>
                </a:moveTo>
                <a:lnTo>
                  <a:pt x="126" y="84"/>
                </a:lnTo>
                <a:lnTo>
                  <a:pt x="0" y="42"/>
                </a:lnTo>
                <a:lnTo>
                  <a:pt x="126" y="0"/>
                </a:lnTo>
                <a:lnTo>
                  <a:pt x="126" y="42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875280" y="2530440"/>
            <a:ext cx="7333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17400">
            <a:off x="8422560" y="3464280"/>
            <a:ext cx="127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8482320" y="1807560"/>
            <a:ext cx="108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7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Java web service interface ShapeList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9440" y="1596960"/>
            <a:ext cx="89280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blic interface ShapeList extends Remot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 newShape(GraphicalObject g) throws RemoteException;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 numberOfShapes()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 getVersion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 getGOVersion(int i)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Object getAllState(int i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8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Java implementation of the ShapeList server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72720" y="1128600"/>
            <a:ext cx="7957800" cy="5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class ShapeListImpl implements ShapeLis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ivate Vector theList = new Vecto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ivate int version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ivate Vector theVersions = new Vecto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int newShape(GraphicalObject g) throws Remote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ersion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List.addElement(g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Versions.addElement(new Integer(version));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 theList.siz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int numberOfShapes(){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int getVersion() {}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int getGOVersion(int i){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GraphicalObject getAllState(int i) {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5-05-07T14:30:47Z</dcterms:modified>
  <cp:revision>59</cp:revision>
  <dc:subject/>
  <dc:title>Figure 15.1 A distributed multimedia system</dc:title>
</cp:coreProperties>
</file>