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9.png" ContentType="image/png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FC1-FAE8-45EE-BD77-2CB61708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576-D9D3-46C8-9332-6F0118FE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53B-D901-4760-A936-0D3F3FE8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721-46BF-4404-A7F6-DE1AEDCE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DBB0-7B97-4C8D-B22B-CCCA32CB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E63A-A64F-4570-87D2-6B8E90BC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546B-B49E-4974-B5D9-7E1EE6CD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FD05-F9FB-4875-8807-F0A0802C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6BC2-D393-42B4-959A-842017F3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40A9-7E56-4AAF-A043-A84CA7BF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B408-5247-4CA2-9419-AA5FC4F5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4B7-D56C-4A07-91B9-C2B7BAA2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4F0B-578E-402C-A481-32CCCDDA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EAE5-0662-4366-A324-D28B5C0B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A9A8-0FAE-4C92-8708-651D3089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09A5-DB4A-4785-9411-7F894D6E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55DB-A374-4076-AADF-B26F31FA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AAB-D29C-4797-BCCD-852FA05B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AA9-5221-4A58-B6A9-60789B94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989-B0A0-4F7B-94A1-AA502D08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849-866D-428C-917A-E806228D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8C7-5742-45BB-926E-18876613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9CB-C648-471B-B21E-B105A8EA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23C7-2797-49B1-AB5E-85138FC5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B536-574E-495B-AC03-D7CE966454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727D-CEDC-4787-BA00-B1EC65BF0A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1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ime and Global State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3070080"/>
            <a:ext cx="18939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u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73120" y="1890720"/>
            <a:ext cx="8025840" cy="3146400"/>
            <a:chOff x="573120" y="1890720"/>
            <a:chExt cx="8025840" cy="3146400"/>
          </a:xfrm>
        </p:grpSpPr>
        <p:sp>
          <p:nvSpPr>
            <p:cNvPr id="183" name=""/>
            <p:cNvSpPr/>
            <p:nvPr/>
          </p:nvSpPr>
          <p:spPr>
            <a:xfrm>
              <a:off x="7435800" y="2355840"/>
              <a:ext cx="112680" cy="6192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19"/>
                  </a:moveTo>
                  <a:lnTo>
                    <a:pt x="0" y="0"/>
                  </a:lnTo>
                  <a:lnTo>
                    <a:pt x="71" y="19"/>
                  </a:lnTo>
                  <a:lnTo>
                    <a:pt x="0" y="3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00000" y="2386080"/>
              <a:ext cx="653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35800" y="3581280"/>
              <a:ext cx="112680" cy="32040"/>
            </a:xfrm>
            <a:custGeom>
              <a:avLst/>
              <a:gdLst/>
              <a:ahLst/>
              <a:rect l="l" t="t" r="r" b="b"/>
              <a:pathLst>
                <a:path w="71" h="20">
                  <a:moveTo>
                    <a:pt x="0" y="20"/>
                  </a:moveTo>
                  <a:lnTo>
                    <a:pt x="0" y="0"/>
                  </a:lnTo>
                  <a:lnTo>
                    <a:pt x="71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0000" y="3613320"/>
              <a:ext cx="653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000" y="2233440"/>
              <a:ext cx="1800" cy="156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73320" y="2325600"/>
              <a:ext cx="112680" cy="1224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9560" y="2325600"/>
              <a:ext cx="114480" cy="1224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30520" y="3398760"/>
              <a:ext cx="141480" cy="122400"/>
            </a:xfrm>
            <a:custGeom>
              <a:avLst/>
              <a:gdLst/>
              <a:ahLst/>
              <a:rect l="l" t="t" r="r" b="b"/>
              <a:pathLst>
                <a:path w="89" h="77">
                  <a:moveTo>
                    <a:pt x="18" y="19"/>
                  </a:moveTo>
                  <a:lnTo>
                    <a:pt x="18" y="0"/>
                  </a:lnTo>
                  <a:lnTo>
                    <a:pt x="89" y="77"/>
                  </a:lnTo>
                  <a:lnTo>
                    <a:pt x="0" y="57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73320" y="2325600"/>
              <a:ext cx="1357200" cy="110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21360" y="2478240"/>
              <a:ext cx="84240" cy="153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18" y="77"/>
                  </a:moveTo>
                  <a:lnTo>
                    <a:pt x="0" y="58"/>
                  </a:lnTo>
                  <a:lnTo>
                    <a:pt x="53" y="0"/>
                  </a:lnTo>
                  <a:lnTo>
                    <a:pt x="35" y="97"/>
                  </a:lnTo>
                  <a:lnTo>
                    <a:pt x="18" y="7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568840" y="2600280"/>
              <a:ext cx="480960" cy="101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55560" y="286056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42760" y="2973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9560" y="2922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8200" y="30351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3120" y="2370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9840" y="2482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3120" y="3505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9840" y="3616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85280" y="3382920"/>
              <a:ext cx="91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15320" y="365760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05600" y="2325600"/>
              <a:ext cx="112680" cy="1224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52520" y="2325600"/>
              <a:ext cx="112680" cy="1224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09680" y="1971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57280" y="210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55840" y="189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10520" y="476244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istent c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1920" y="4486320"/>
              <a:ext cx="158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onsistent c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72000" y="3521160"/>
              <a:ext cx="11412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79760" y="3521160"/>
              <a:ext cx="11304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11960" y="352116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44880" y="1971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01840" y="210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01840" y="189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4360" y="1971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1320" y="210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4560" y="189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08840" y="1971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65800" y="210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69040" y="189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83160" y="384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40120" y="3944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4336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97400" y="384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54360" y="3944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5760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29240" y="384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86560" y="3944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8944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82640" y="1957320"/>
              <a:ext cx="2470320" cy="2405160"/>
            </a:xfrm>
            <a:custGeom>
              <a:avLst/>
              <a:gdLst/>
              <a:ahLst/>
              <a:rect l="l" t="t" r="r" b="b"/>
              <a:pathLst>
                <a:path w="1556" h="1515">
                  <a:moveTo>
                    <a:pt x="39" y="0"/>
                  </a:moveTo>
                  <a:cubicBezTo>
                    <a:pt x="68" y="63"/>
                    <a:pt x="0" y="249"/>
                    <a:pt x="211" y="376"/>
                  </a:cubicBezTo>
                  <a:cubicBezTo>
                    <a:pt x="422" y="503"/>
                    <a:pt x="1081" y="572"/>
                    <a:pt x="1305" y="762"/>
                  </a:cubicBezTo>
                  <a:cubicBezTo>
                    <a:pt x="1529" y="952"/>
                    <a:pt x="1518" y="1391"/>
                    <a:pt x="1556" y="1515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48040" y="1982880"/>
              <a:ext cx="1347840" cy="2404800"/>
            </a:xfrm>
            <a:custGeom>
              <a:avLst/>
              <a:gdLst/>
              <a:ahLst/>
              <a:rect l="l" t="t" r="r" b="b"/>
              <a:pathLst>
                <a:path w="1556" h="1515">
                  <a:moveTo>
                    <a:pt x="39" y="0"/>
                  </a:moveTo>
                  <a:cubicBezTo>
                    <a:pt x="68" y="63"/>
                    <a:pt x="0" y="249"/>
                    <a:pt x="211" y="376"/>
                  </a:cubicBezTo>
                  <a:cubicBezTo>
                    <a:pt x="422" y="503"/>
                    <a:pt x="1081" y="572"/>
                    <a:pt x="1305" y="762"/>
                  </a:cubicBezTo>
                  <a:cubicBezTo>
                    <a:pt x="1529" y="952"/>
                    <a:pt x="1518" y="1391"/>
                    <a:pt x="1556" y="1515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1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handy and Lamport’s ‘snapshot’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7320" y="1550880"/>
            <a:ext cx="8146440" cy="46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r receiving rule for process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receipt of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ssage over chann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 yet recorded its state)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s its process state n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s the stat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the empty se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ns on recording of messages arriving over other incoming channel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cords the stat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the set of messages it has received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it saved its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r sending rule for process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recorded its state, for each outgoing chann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nds one marker message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efore it sends any other message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processes and their initial stat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01560" y="2195640"/>
            <a:ext cx="807588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execution of the processes in Figure 11.1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2880" y="1539720"/>
            <a:ext cx="803124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1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Reachability between states in the snapshot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57360" y="1984320"/>
            <a:ext cx="7781760" cy="2778120"/>
            <a:chOff x="657360" y="1984320"/>
            <a:chExt cx="7781760" cy="2778120"/>
          </a:xfrm>
        </p:grpSpPr>
        <p:sp>
          <p:nvSpPr>
            <p:cNvPr id="242" name=""/>
            <p:cNvSpPr/>
            <p:nvPr/>
          </p:nvSpPr>
          <p:spPr>
            <a:xfrm>
              <a:off x="1684440" y="2666880"/>
              <a:ext cx="1025280" cy="1111320"/>
            </a:xfrm>
            <a:custGeom>
              <a:avLst/>
              <a:gdLst/>
              <a:ahLst/>
              <a:rect l="l" t="t" r="r" b="b"/>
              <a:pathLst>
                <a:path w="646" h="700">
                  <a:moveTo>
                    <a:pt x="0" y="360"/>
                  </a:moveTo>
                  <a:lnTo>
                    <a:pt x="332" y="0"/>
                  </a:lnTo>
                  <a:lnTo>
                    <a:pt x="646" y="360"/>
                  </a:lnTo>
                  <a:lnTo>
                    <a:pt x="332" y="70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ffdc99"/>
            </a:solidFill>
            <a:ln w="2844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31040" y="2666880"/>
              <a:ext cx="1027080" cy="1079640"/>
            </a:xfrm>
            <a:custGeom>
              <a:avLst/>
              <a:gdLst/>
              <a:ahLst/>
              <a:rect l="l" t="t" r="r" b="b"/>
              <a:pathLst>
                <a:path w="647" h="680">
                  <a:moveTo>
                    <a:pt x="0" y="340"/>
                  </a:moveTo>
                  <a:lnTo>
                    <a:pt x="333" y="0"/>
                  </a:lnTo>
                  <a:lnTo>
                    <a:pt x="647" y="340"/>
                  </a:lnTo>
                  <a:lnTo>
                    <a:pt x="333" y="680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ffdc99"/>
            </a:solidFill>
            <a:ln w="2844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45040" y="3651120"/>
              <a:ext cx="996840" cy="1111320"/>
            </a:xfrm>
            <a:custGeom>
              <a:avLst/>
              <a:gdLst/>
              <a:ahLst/>
              <a:rect l="l" t="t" r="r" b="b"/>
              <a:pathLst>
                <a:path w="628" h="700">
                  <a:moveTo>
                    <a:pt x="0" y="360"/>
                  </a:moveTo>
                  <a:lnTo>
                    <a:pt x="314" y="0"/>
                  </a:lnTo>
                  <a:lnTo>
                    <a:pt x="628" y="360"/>
                  </a:lnTo>
                  <a:lnTo>
                    <a:pt x="314" y="70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ffdc99"/>
            </a:solidFill>
            <a:ln w="2844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6040" y="30956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30480" y="321156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94200" y="30956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0080" y="3211560"/>
              <a:ext cx="35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66720" y="3143160"/>
              <a:ext cx="117720" cy="12708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0" y="40"/>
                  </a:moveTo>
                  <a:lnTo>
                    <a:pt x="0" y="0"/>
                  </a:lnTo>
                  <a:lnTo>
                    <a:pt x="74" y="40"/>
                  </a:lnTo>
                  <a:lnTo>
                    <a:pt x="0" y="8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7360" y="3206880"/>
              <a:ext cx="909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52000" y="3143160"/>
              <a:ext cx="87120" cy="127080"/>
            </a:xfrm>
            <a:custGeom>
              <a:avLst/>
              <a:gdLst/>
              <a:ahLst/>
              <a:rect l="l" t="t" r="r" b="b"/>
              <a:pathLst>
                <a:path w="55" h="80">
                  <a:moveTo>
                    <a:pt x="0" y="40"/>
                  </a:moveTo>
                  <a:lnTo>
                    <a:pt x="0" y="0"/>
                  </a:lnTo>
                  <a:lnTo>
                    <a:pt x="55" y="40"/>
                  </a:lnTo>
                  <a:lnTo>
                    <a:pt x="0" y="8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58120" y="3206880"/>
              <a:ext cx="877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07080" y="2698920"/>
              <a:ext cx="117720" cy="12672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37" y="20"/>
                  </a:moveTo>
                  <a:lnTo>
                    <a:pt x="74" y="0"/>
                  </a:lnTo>
                  <a:lnTo>
                    <a:pt x="74" y="80"/>
                  </a:lnTo>
                  <a:lnTo>
                    <a:pt x="0" y="40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7480" y="2349360"/>
              <a:ext cx="2168280" cy="349560"/>
            </a:xfrm>
            <a:custGeom>
              <a:avLst/>
              <a:gdLst/>
              <a:ahLst/>
              <a:rect l="l" t="t" r="r" b="b"/>
              <a:pathLst>
                <a:path w="1366" h="220">
                  <a:moveTo>
                    <a:pt x="0" y="0"/>
                  </a:moveTo>
                  <a:lnTo>
                    <a:pt x="886" y="40"/>
                  </a:lnTo>
                  <a:lnTo>
                    <a:pt x="1200" y="120"/>
                  </a:lnTo>
                  <a:lnTo>
                    <a:pt x="1366" y="22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57280" y="2349360"/>
              <a:ext cx="448596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5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567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13280" y="4127400"/>
              <a:ext cx="88920" cy="127080"/>
            </a:xfrm>
            <a:custGeom>
              <a:avLst/>
              <a:gdLst/>
              <a:ahLst/>
              <a:rect l="l" t="t" r="r" b="b"/>
              <a:pathLst>
                <a:path w="56" h="80">
                  <a:moveTo>
                    <a:pt x="0" y="40"/>
                  </a:moveTo>
                  <a:lnTo>
                    <a:pt x="0" y="0"/>
                  </a:lnTo>
                  <a:lnTo>
                    <a:pt x="56" y="40"/>
                  </a:lnTo>
                  <a:lnTo>
                    <a:pt x="0" y="8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8600" y="3697200"/>
              <a:ext cx="1700280" cy="493920"/>
            </a:xfrm>
            <a:custGeom>
              <a:avLst/>
              <a:gdLst/>
              <a:ahLst/>
              <a:rect l="l" t="t" r="r" b="b"/>
              <a:pathLst>
                <a:path w="1071" h="340">
                  <a:moveTo>
                    <a:pt x="1071" y="340"/>
                  </a:moveTo>
                  <a:lnTo>
                    <a:pt x="646" y="300"/>
                  </a:lnTo>
                  <a:lnTo>
                    <a:pt x="314" y="240"/>
                  </a:lnTo>
                  <a:lnTo>
                    <a:pt x="93" y="120"/>
                  </a:lnTo>
                  <a:lnTo>
                    <a:pt x="37" y="6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24800" y="3714840"/>
              <a:ext cx="117360" cy="12708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37" y="60"/>
                  </a:moveTo>
                  <a:lnTo>
                    <a:pt x="0" y="40"/>
                  </a:lnTo>
                  <a:lnTo>
                    <a:pt x="74" y="0"/>
                  </a:lnTo>
                  <a:lnTo>
                    <a:pt x="74" y="80"/>
                  </a:lnTo>
                  <a:lnTo>
                    <a:pt x="37" y="6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95720" y="3809880"/>
              <a:ext cx="1787760" cy="381240"/>
            </a:xfrm>
            <a:custGeom>
              <a:avLst/>
              <a:gdLst/>
              <a:ahLst/>
              <a:rect l="l" t="t" r="r" b="b"/>
              <a:pathLst>
                <a:path w="1126" h="240">
                  <a:moveTo>
                    <a:pt x="1126" y="0"/>
                  </a:moveTo>
                  <a:lnTo>
                    <a:pt x="994" y="122"/>
                  </a:lnTo>
                  <a:lnTo>
                    <a:pt x="738" y="200"/>
                  </a:lnTo>
                  <a:lnTo>
                    <a:pt x="0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79760" y="40798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33480" y="4195800"/>
              <a:ext cx="41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na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03920" y="1984320"/>
              <a:ext cx="1944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ctual execution 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9360" y="2100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54480" y="198432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49600" y="2100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54360" y="198432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..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93960" y="3000240"/>
              <a:ext cx="1073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cording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02160" y="3095640"/>
              <a:ext cx="1073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cording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93960" y="328608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egin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02160" y="338148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nd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80800" y="4334040"/>
              <a:ext cx="1221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e-snap: 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68080" y="4270320"/>
              <a:ext cx="6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30000" y="4449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35120" y="433404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30240" y="4270320"/>
              <a:ext cx="6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92160" y="4449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96560" y="4334040"/>
              <a:ext cx="40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...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87160" y="4270320"/>
              <a:ext cx="6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0160" y="4449600"/>
              <a:ext cx="30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-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31320" y="4334040"/>
              <a:ext cx="1328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ost-snap: 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21200" y="4270320"/>
              <a:ext cx="6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4920" y="44496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19920" y="433404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14680" y="4270320"/>
              <a:ext cx="6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78040" y="4449600"/>
              <a:ext cx="355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+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27600" y="433404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..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ector timestamps and variable values for the execution of Figure 11.9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33240" y="1906560"/>
            <a:ext cx="7965720" cy="3289320"/>
            <a:chOff x="633240" y="1906560"/>
            <a:chExt cx="7965720" cy="3289320"/>
          </a:xfrm>
        </p:grpSpPr>
        <p:sp>
          <p:nvSpPr>
            <p:cNvPr id="289" name=""/>
            <p:cNvSpPr/>
            <p:nvPr/>
          </p:nvSpPr>
          <p:spPr>
            <a:xfrm>
              <a:off x="7440480" y="2620800"/>
              <a:ext cx="112680" cy="6192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20"/>
                  </a:moveTo>
                  <a:lnTo>
                    <a:pt x="0" y="0"/>
                  </a:lnTo>
                  <a:lnTo>
                    <a:pt x="71" y="20"/>
                  </a:lnTo>
                  <a:lnTo>
                    <a:pt x="0" y="3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57240" y="2652840"/>
              <a:ext cx="6483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40480" y="3807000"/>
              <a:ext cx="112680" cy="6156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19"/>
                  </a:moveTo>
                  <a:lnTo>
                    <a:pt x="0" y="0"/>
                  </a:lnTo>
                  <a:lnTo>
                    <a:pt x="71" y="19"/>
                  </a:lnTo>
                  <a:lnTo>
                    <a:pt x="0" y="3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57240" y="3836880"/>
              <a:ext cx="6483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57240" y="2470320"/>
              <a:ext cx="1440" cy="157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20840" y="2590920"/>
              <a:ext cx="11124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90960" y="259092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7240" y="3654360"/>
              <a:ext cx="141120" cy="122400"/>
            </a:xfrm>
            <a:custGeom>
              <a:avLst/>
              <a:gdLst/>
              <a:ahLst/>
              <a:rect l="l" t="t" r="r" b="b"/>
              <a:pathLst>
                <a:path w="89" h="77">
                  <a:moveTo>
                    <a:pt x="18" y="39"/>
                  </a:moveTo>
                  <a:lnTo>
                    <a:pt x="18" y="0"/>
                  </a:lnTo>
                  <a:lnTo>
                    <a:pt x="89" y="77"/>
                  </a:lnTo>
                  <a:lnTo>
                    <a:pt x="0" y="58"/>
                  </a:lnTo>
                  <a:lnTo>
                    <a:pt x="18" y="39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47840" y="2652840"/>
              <a:ext cx="1319400" cy="10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37200" y="2743200"/>
              <a:ext cx="84240" cy="152280"/>
            </a:xfrm>
            <a:custGeom>
              <a:avLst/>
              <a:gdLst/>
              <a:ahLst/>
              <a:rect l="l" t="t" r="r" b="b"/>
              <a:pathLst>
                <a:path w="53" h="96">
                  <a:moveTo>
                    <a:pt x="18" y="77"/>
                  </a:moveTo>
                  <a:lnTo>
                    <a:pt x="0" y="57"/>
                  </a:lnTo>
                  <a:lnTo>
                    <a:pt x="53" y="0"/>
                  </a:lnTo>
                  <a:lnTo>
                    <a:pt x="35" y="96"/>
                  </a:lnTo>
                  <a:lnTo>
                    <a:pt x="18" y="7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587920" y="2865600"/>
              <a:ext cx="478080" cy="100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99840" y="31226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87400" y="32338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36840" y="315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24400" y="32637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3240" y="2635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8520" y="27478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3240" y="3760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8520" y="3871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85280" y="3638520"/>
              <a:ext cx="91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21800" y="391320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21440" y="259092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06520" y="259092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46680" y="4854600"/>
              <a:ext cx="58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t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19080" y="4967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5400" y="190656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65320" y="190656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08760" y="190656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4,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7080" y="43988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09920" y="43988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05400" y="43988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21040" y="190656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80800" y="2241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93480" y="235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93200" y="2241720"/>
              <a:ext cx="32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4760" y="2241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15640" y="235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116080" y="2241720"/>
              <a:ext cx="57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03320" y="2241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14200" y="235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14640" y="2241720"/>
              <a:ext cx="57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50800" y="4065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63480" y="4176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63920" y="4065480"/>
              <a:ext cx="57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82560" y="4065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95600" y="4176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95320" y="4065480"/>
              <a:ext cx="4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9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36920" y="4065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49600" y="4176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49680" y="4065480"/>
              <a:ext cx="4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03640" y="2241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6320" y="235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16400" y="2241720"/>
              <a:ext cx="4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08360" y="3776760"/>
              <a:ext cx="11124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7000" y="377676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32480" y="377676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81760" y="4700520"/>
              <a:ext cx="58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t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78440" y="4632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54280" y="2228760"/>
              <a:ext cx="2469960" cy="2524320"/>
            </a:xfrm>
            <a:custGeom>
              <a:avLst/>
              <a:gdLst/>
              <a:ahLst/>
              <a:rect l="l" t="t" r="r" b="b"/>
              <a:pathLst>
                <a:path w="1556" h="1515">
                  <a:moveTo>
                    <a:pt x="39" y="0"/>
                  </a:moveTo>
                  <a:cubicBezTo>
                    <a:pt x="68" y="63"/>
                    <a:pt x="0" y="249"/>
                    <a:pt x="211" y="376"/>
                  </a:cubicBezTo>
                  <a:cubicBezTo>
                    <a:pt x="422" y="503"/>
                    <a:pt x="1081" y="572"/>
                    <a:pt x="1305" y="762"/>
                  </a:cubicBezTo>
                  <a:cubicBezTo>
                    <a:pt x="1529" y="952"/>
                    <a:pt x="1518" y="1391"/>
                    <a:pt x="1556" y="1515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48040" y="2254320"/>
              <a:ext cx="1347840" cy="2405160"/>
            </a:xfrm>
            <a:custGeom>
              <a:avLst/>
              <a:gdLst/>
              <a:ahLst/>
              <a:rect l="l" t="t" r="r" b="b"/>
              <a:pathLst>
                <a:path w="1556" h="1515">
                  <a:moveTo>
                    <a:pt x="39" y="0"/>
                  </a:moveTo>
                  <a:cubicBezTo>
                    <a:pt x="68" y="63"/>
                    <a:pt x="0" y="249"/>
                    <a:pt x="211" y="376"/>
                  </a:cubicBezTo>
                  <a:cubicBezTo>
                    <a:pt x="422" y="503"/>
                    <a:pt x="1081" y="572"/>
                    <a:pt x="1305" y="762"/>
                  </a:cubicBezTo>
                  <a:cubicBezTo>
                    <a:pt x="1529" y="952"/>
                    <a:pt x="1518" y="1391"/>
                    <a:pt x="1556" y="1515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lattice of global states for the execution of Figure 11.14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42160" y="1679400"/>
            <a:ext cx="8159040" cy="3978360"/>
            <a:chOff x="542160" y="1679400"/>
            <a:chExt cx="8159040" cy="3978360"/>
          </a:xfrm>
        </p:grpSpPr>
        <p:sp>
          <p:nvSpPr>
            <p:cNvPr id="351" name=""/>
            <p:cNvSpPr/>
            <p:nvPr/>
          </p:nvSpPr>
          <p:spPr>
            <a:xfrm>
              <a:off x="2289240" y="2886840"/>
              <a:ext cx="955440" cy="1038600"/>
            </a:xfrm>
            <a:custGeom>
              <a:avLst/>
              <a:gdLst/>
              <a:ahLst/>
              <a:rect l="l" t="t" r="r" b="b"/>
              <a:pathLst>
                <a:path w="602" h="671">
                  <a:moveTo>
                    <a:pt x="0" y="344"/>
                  </a:moveTo>
                  <a:lnTo>
                    <a:pt x="301" y="0"/>
                  </a:lnTo>
                  <a:lnTo>
                    <a:pt x="602" y="344"/>
                  </a:lnTo>
                  <a:lnTo>
                    <a:pt x="301" y="671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75240" y="2871360"/>
              <a:ext cx="412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Sij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= global state after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events at process 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77760" y="3123720"/>
              <a:ext cx="2818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events at process 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66960" y="1876320"/>
              <a:ext cx="982800" cy="1010520"/>
            </a:xfrm>
            <a:custGeom>
              <a:avLst/>
              <a:gdLst/>
              <a:ahLst/>
              <a:rect l="l" t="t" r="r" b="b"/>
              <a:pathLst>
                <a:path w="619" h="653">
                  <a:moveTo>
                    <a:pt x="0" y="653"/>
                  </a:moveTo>
                  <a:lnTo>
                    <a:pt x="318" y="326"/>
                  </a:lnTo>
                  <a:lnTo>
                    <a:pt x="619" y="0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66960" y="3419280"/>
              <a:ext cx="957240" cy="1010880"/>
            </a:xfrm>
            <a:custGeom>
              <a:avLst/>
              <a:gdLst/>
              <a:ahLst/>
              <a:rect l="l" t="t" r="r" b="b"/>
              <a:pathLst>
                <a:path w="603" h="653">
                  <a:moveTo>
                    <a:pt x="0" y="327"/>
                  </a:moveTo>
                  <a:lnTo>
                    <a:pt x="301" y="0"/>
                  </a:lnTo>
                  <a:lnTo>
                    <a:pt x="603" y="327"/>
                  </a:lnTo>
                  <a:lnTo>
                    <a:pt x="301" y="653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ffffff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4680" y="3925440"/>
              <a:ext cx="984600" cy="1010880"/>
            </a:xfrm>
            <a:custGeom>
              <a:avLst/>
              <a:gdLst/>
              <a:ahLst/>
              <a:rect l="l" t="t" r="r" b="b"/>
              <a:pathLst>
                <a:path w="620" h="653">
                  <a:moveTo>
                    <a:pt x="0" y="326"/>
                  </a:moveTo>
                  <a:lnTo>
                    <a:pt x="302" y="0"/>
                  </a:lnTo>
                  <a:lnTo>
                    <a:pt x="620" y="326"/>
                  </a:lnTo>
                  <a:lnTo>
                    <a:pt x="302" y="653"/>
                  </a:lnTo>
                  <a:lnTo>
                    <a:pt x="0" y="326"/>
                  </a:lnTo>
                  <a:close/>
                </a:path>
              </a:pathLst>
            </a:custGeom>
            <a:solidFill>
              <a:srgbClr val="ffffff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244680" y="4936680"/>
              <a:ext cx="479520" cy="532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91000" y="1679400"/>
              <a:ext cx="3445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15840" y="17215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57680" y="1823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12920" y="2213640"/>
              <a:ext cx="34452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30200" y="22536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73480" y="23572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81200" y="2746080"/>
              <a:ext cx="3445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06400" y="27878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47880" y="2890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12920" y="3252240"/>
              <a:ext cx="31752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17600" y="32922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59080" y="339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28680" y="3252240"/>
              <a:ext cx="31932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1560" y="32922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73400" y="339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06760" y="3756600"/>
              <a:ext cx="318960" cy="30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15760" y="37983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57600" y="3900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86280" y="4261320"/>
              <a:ext cx="318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96720" y="4330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40000" y="4433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37000" y="3784680"/>
              <a:ext cx="345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58960" y="38264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01880" y="3928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68720" y="4289040"/>
              <a:ext cx="318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80960" y="4330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22800" y="4433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4000" y="4795560"/>
              <a:ext cx="345960" cy="30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8840" y="48373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0680" y="4939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86280" y="5300280"/>
              <a:ext cx="3441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07880" y="53420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49720" y="54442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2160" y="1721520"/>
              <a:ext cx="698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evel 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22480" y="22536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22480" y="2759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22480" y="3292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22480" y="37983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22480" y="43308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22480" y="4837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22480" y="5369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gorithms to evaluat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ossibly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efinitely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811080" y="1386000"/>
            <a:ext cx="720432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valuating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efinitely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541440" y="1841400"/>
            <a:ext cx="80391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kew between computer clocks in a distributed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09680" y="2685960"/>
            <a:ext cx="8215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lock synchronization using a time serv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42960" y="2373480"/>
            <a:ext cx="7642080" cy="1956240"/>
            <a:chOff x="642960" y="2373480"/>
            <a:chExt cx="7642080" cy="1956240"/>
          </a:xfrm>
        </p:grpSpPr>
        <p:sp>
          <p:nvSpPr>
            <p:cNvPr id="91" name=""/>
            <p:cNvSpPr/>
            <p:nvPr/>
          </p:nvSpPr>
          <p:spPr>
            <a:xfrm>
              <a:off x="642960" y="2387520"/>
              <a:ext cx="1897200" cy="1446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88200" y="2387520"/>
              <a:ext cx="1896840" cy="1446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3920" y="2622600"/>
              <a:ext cx="934920" cy="974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89840" y="2739960"/>
              <a:ext cx="226800" cy="20628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58"/>
                  </a:moveTo>
                  <a:lnTo>
                    <a:pt x="0" y="13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55" y="5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89840" y="2739960"/>
              <a:ext cx="226800" cy="20628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58"/>
                  </a:moveTo>
                  <a:lnTo>
                    <a:pt x="0" y="13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55" y="58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73160" y="2828880"/>
              <a:ext cx="4216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01960" y="3301920"/>
              <a:ext cx="226800" cy="2365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0" y="77"/>
                  </a:moveTo>
                  <a:lnTo>
                    <a:pt x="155" y="0"/>
                  </a:lnTo>
                  <a:lnTo>
                    <a:pt x="155" y="77"/>
                  </a:lnTo>
                  <a:lnTo>
                    <a:pt x="155" y="155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01960" y="3301920"/>
              <a:ext cx="226800" cy="2365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0" y="77"/>
                  </a:moveTo>
                  <a:lnTo>
                    <a:pt x="155" y="0"/>
                  </a:lnTo>
                  <a:lnTo>
                    <a:pt x="155" y="77"/>
                  </a:lnTo>
                  <a:lnTo>
                    <a:pt x="155" y="155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228400" y="3419640"/>
              <a:ext cx="4838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2320" y="2771640"/>
              <a:ext cx="11268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02320" y="2771640"/>
              <a:ext cx="141480" cy="206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27680" y="2771640"/>
              <a:ext cx="11268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27680" y="2771640"/>
              <a:ext cx="142920" cy="206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51320" y="2771640"/>
              <a:ext cx="5724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51320" y="3332160"/>
              <a:ext cx="5724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70600" y="2622600"/>
              <a:ext cx="905040" cy="974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8320" y="237348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15040" y="2481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37920" y="36417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70480" y="37497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8720" y="3965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01680" y="4024440"/>
              <a:ext cx="15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 server,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1320" y="2743200"/>
              <a:ext cx="84240" cy="206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51320" y="3332160"/>
              <a:ext cx="84240" cy="235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An example synchronization subnet in an NTP implement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15840" y="1550880"/>
            <a:ext cx="7454880" cy="4391280"/>
            <a:chOff x="915840" y="1550880"/>
            <a:chExt cx="7454880" cy="4391280"/>
          </a:xfrm>
        </p:grpSpPr>
        <p:sp>
          <p:nvSpPr>
            <p:cNvPr id="117" name=""/>
            <p:cNvSpPr/>
            <p:nvPr/>
          </p:nvSpPr>
          <p:spPr>
            <a:xfrm>
              <a:off x="2058480" y="4024800"/>
              <a:ext cx="115920" cy="9396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63" y="16"/>
                  </a:moveTo>
                  <a:lnTo>
                    <a:pt x="79" y="32"/>
                  </a:lnTo>
                  <a:lnTo>
                    <a:pt x="0" y="63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150640" y="3505680"/>
              <a:ext cx="530280" cy="542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36160" y="4048560"/>
              <a:ext cx="92160" cy="939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16" y="16"/>
                  </a:moveTo>
                  <a:lnTo>
                    <a:pt x="31" y="0"/>
                  </a:lnTo>
                  <a:lnTo>
                    <a:pt x="63" y="63"/>
                  </a:lnTo>
                  <a:lnTo>
                    <a:pt x="0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1240" y="3529440"/>
              <a:ext cx="484560" cy="518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98040" y="2751840"/>
              <a:ext cx="114120" cy="939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63" y="16"/>
                  </a:moveTo>
                  <a:lnTo>
                    <a:pt x="78" y="32"/>
                  </a:lnTo>
                  <a:lnTo>
                    <a:pt x="0" y="63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490200" y="2304720"/>
              <a:ext cx="575640" cy="4708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82720" y="2729160"/>
              <a:ext cx="91800" cy="939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15"/>
                  </a:moveTo>
                  <a:lnTo>
                    <a:pt x="16" y="0"/>
                  </a:lnTo>
                  <a:lnTo>
                    <a:pt x="63" y="63"/>
                  </a:lnTo>
                  <a:lnTo>
                    <a:pt x="0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51720" y="2304720"/>
              <a:ext cx="530640" cy="424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98520" y="4000680"/>
              <a:ext cx="115560" cy="1180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6" y="16"/>
                  </a:moveTo>
                  <a:lnTo>
                    <a:pt x="31" y="0"/>
                  </a:lnTo>
                  <a:lnTo>
                    <a:pt x="79" y="79"/>
                  </a:lnTo>
                  <a:lnTo>
                    <a:pt x="0" y="32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89840" y="3505680"/>
              <a:ext cx="531720" cy="518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74040" y="1550880"/>
              <a:ext cx="96984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3760" y="2705400"/>
              <a:ext cx="94680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58960" y="2705400"/>
              <a:ext cx="96984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74760" y="4048560"/>
              <a:ext cx="94500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13120" y="4048560"/>
              <a:ext cx="92304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29400" y="4048560"/>
              <a:ext cx="94536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00280" y="19857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69640" y="314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99200" y="4483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84840" y="314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39000" y="4483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54200" y="4483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15840" y="5331960"/>
              <a:ext cx="74548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ote: Arrows denote synchronization control, numbers denote stra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ssages exchanged between a pair of NTP pe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47800" y="2278080"/>
            <a:ext cx="7720200" cy="2684520"/>
            <a:chOff x="847800" y="2278080"/>
            <a:chExt cx="7720200" cy="2684520"/>
          </a:xfrm>
        </p:grpSpPr>
        <p:sp>
          <p:nvSpPr>
            <p:cNvPr id="142" name=""/>
            <p:cNvSpPr/>
            <p:nvPr/>
          </p:nvSpPr>
          <p:spPr>
            <a:xfrm>
              <a:off x="7251480" y="2919240"/>
              <a:ext cx="82080" cy="14796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18" y="93"/>
                  </a:moveTo>
                  <a:lnTo>
                    <a:pt x="0" y="75"/>
                  </a:lnTo>
                  <a:lnTo>
                    <a:pt x="56" y="0"/>
                  </a:lnTo>
                  <a:lnTo>
                    <a:pt x="37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11920" y="3066840"/>
              <a:ext cx="465840" cy="13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77600" y="4165560"/>
              <a:ext cx="82080" cy="14940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19" y="0"/>
                  </a:moveTo>
                  <a:lnTo>
                    <a:pt x="37" y="0"/>
                  </a:lnTo>
                  <a:lnTo>
                    <a:pt x="56" y="94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65760" y="2859120"/>
              <a:ext cx="439560" cy="13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23320" y="2919240"/>
              <a:ext cx="82080" cy="14796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18" y="93"/>
                  </a:moveTo>
                  <a:lnTo>
                    <a:pt x="0" y="75"/>
                  </a:lnTo>
                  <a:lnTo>
                    <a:pt x="56" y="0"/>
                  </a:lnTo>
                  <a:lnTo>
                    <a:pt x="37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083760" y="3066840"/>
              <a:ext cx="466200" cy="13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41680" y="4165560"/>
              <a:ext cx="82080" cy="14940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37" y="0"/>
                  </a:moveTo>
                  <a:lnTo>
                    <a:pt x="56" y="0"/>
                  </a:lnTo>
                  <a:lnTo>
                    <a:pt x="56" y="94"/>
                  </a:lnTo>
                  <a:lnTo>
                    <a:pt x="0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94000" y="2859120"/>
              <a:ext cx="301680" cy="13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47800" y="4373640"/>
              <a:ext cx="6797880" cy="565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4000" y="2278080"/>
              <a:ext cx="6797520" cy="5634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43600" y="2830680"/>
              <a:ext cx="137880" cy="8856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0" y="18"/>
                  </a:moveTo>
                  <a:lnTo>
                    <a:pt x="0" y="0"/>
                  </a:lnTo>
                  <a:lnTo>
                    <a:pt x="94" y="18"/>
                  </a:lnTo>
                  <a:lnTo>
                    <a:pt x="0" y="5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64000" y="2859120"/>
              <a:ext cx="68796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43600" y="4314960"/>
              <a:ext cx="137880" cy="8892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0" y="37"/>
                  </a:moveTo>
                  <a:lnTo>
                    <a:pt x="0" y="0"/>
                  </a:lnTo>
                  <a:lnTo>
                    <a:pt x="94" y="37"/>
                  </a:lnTo>
                  <a:lnTo>
                    <a:pt x="0" y="56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864000" y="4357800"/>
              <a:ext cx="6897240" cy="15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16840" y="46260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50400" y="473400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42280" y="251784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4760" y="2625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-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26480" y="251784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60400" y="262584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13680" y="26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6560" y="46260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1920" y="473400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73760" y="47340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87520" y="4734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50560" y="251784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rver 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50560" y="462600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rver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30880" y="275436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18720" y="34671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72640" y="3467160"/>
              <a:ext cx="24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'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30880" y="429912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vents occurring at three process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58720" y="2028960"/>
            <a:ext cx="800280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Lamport timestamps for the events shown in Figure 11.5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92200" y="1843200"/>
            <a:ext cx="803412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ector timestamps for the events shown in Figure 11.5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68440" y="1789200"/>
            <a:ext cx="798516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tecting global propert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98480" y="1482840"/>
            <a:ext cx="725328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1T09:15:47Z</dcterms:modified>
  <cp:revision>51</cp:revision>
  <dc:subject/>
  <dc:title>Figure 15.1 A distributed multimedia system</dc:title>
</cp:coreProperties>
</file>