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A01-6EBA-4AE0-B5E3-7C5698AC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123-2839-4736-B331-15B79CC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3C1-49F9-4F82-81C9-7F70B6C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781-7E73-4B1A-B5D1-DB92A2FE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A1FD-1E2E-4CC3-987F-F27D3A7D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159C-7AE8-4905-9248-C76DDB99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ABAD-60D0-4CEE-978B-F532668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03FB-7ABF-4ED9-B9D4-59C719E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A27E-4147-486D-AE61-C397FAB6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FD33-0373-43E4-93CA-E47EC7BB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5A5C-9085-4917-BAA7-500FB2A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97E-3D2D-4345-A348-91D0B3E3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26A9-F2CC-41C6-AA5F-3D40460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18C2-DC82-416D-913D-32E4F93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1B63-A799-4084-BC0A-3B1E1B3C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FD79-0861-4BF3-A974-37CCB2E4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6020-31C3-4A81-855A-608B6EA5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8C9-DD9A-4A2C-8379-6EA0E56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827-0C3F-435F-A19C-497976F5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634-635B-405A-A413-43044C8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7C9-1FE7-4730-8B6C-2D1FA68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F63-8D77-4992-95F4-048512E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FFB-FEB3-4219-95CD-644E3E31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4F9-7374-4BAF-A2CE-21B5617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95C6-622D-411C-BB03-674D8D3A4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DD97-5355-4B5A-B21E-11434F4C50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8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istributed Shared Memor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8200" y="3070080"/>
            <a:ext cx="2052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 transitions under write-invalid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22440" y="2077920"/>
            <a:ext cx="8677080" cy="3373560"/>
            <a:chOff x="622440" y="2077920"/>
            <a:chExt cx="8677080" cy="3373560"/>
          </a:xfrm>
        </p:grpSpPr>
        <p:sp>
          <p:nvSpPr>
            <p:cNvPr id="166" name=""/>
            <p:cNvSpPr/>
            <p:nvPr/>
          </p:nvSpPr>
          <p:spPr>
            <a:xfrm>
              <a:off x="622440" y="3033720"/>
              <a:ext cx="1449360" cy="12571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0400" y="2406600"/>
              <a:ext cx="2754360" cy="118260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72480" y="3033720"/>
              <a:ext cx="1427040" cy="12571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2406600"/>
              <a:ext cx="2755800" cy="118260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1040" y="2647800"/>
              <a:ext cx="265320" cy="144720"/>
            </a:xfrm>
            <a:custGeom>
              <a:avLst/>
              <a:gdLst/>
              <a:ahLst/>
              <a:rect l="l" t="t" r="r" b="b"/>
              <a:pathLst>
                <a:path w="167" h="91">
                  <a:moveTo>
                    <a:pt x="167" y="45"/>
                  </a:moveTo>
                  <a:lnTo>
                    <a:pt x="0" y="9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67" y="4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16280" y="2719440"/>
              <a:ext cx="21988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6960" y="3227400"/>
              <a:ext cx="266760" cy="120600"/>
            </a:xfrm>
            <a:custGeom>
              <a:avLst/>
              <a:gdLst/>
              <a:ahLst/>
              <a:rect l="l" t="t" r="r" b="b"/>
              <a:pathLst>
                <a:path w="168" h="76">
                  <a:moveTo>
                    <a:pt x="0" y="31"/>
                  </a:moveTo>
                  <a:lnTo>
                    <a:pt x="168" y="0"/>
                  </a:lnTo>
                  <a:lnTo>
                    <a:pt x="168" y="31"/>
                  </a:lnTo>
                  <a:lnTo>
                    <a:pt x="168" y="7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09960" y="3300480"/>
              <a:ext cx="2271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7400" y="3033720"/>
              <a:ext cx="266760" cy="146160"/>
            </a:xfrm>
            <a:custGeom>
              <a:avLst/>
              <a:gdLst/>
              <a:ahLst/>
              <a:rect l="l" t="t" r="r" b="b"/>
              <a:pathLst>
                <a:path w="168" h="92">
                  <a:moveTo>
                    <a:pt x="168" y="0"/>
                  </a:moveTo>
                  <a:lnTo>
                    <a:pt x="16" y="92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41400" y="2077920"/>
              <a:ext cx="111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ngle wr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8320" y="2077920"/>
              <a:ext cx="134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 r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17800" y="34797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3720960"/>
              <a:ext cx="11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nvalid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1560" y="2513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3760" y="2779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8840" y="2868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4640" y="2779560"/>
              <a:ext cx="64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ite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15560" y="306864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e 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85680" y="2803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31120" y="28926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7680" y="280368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4200" y="28926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560" y="280368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..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53440" y="28926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50000" y="2803680"/>
              <a:ext cx="51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11240" y="309240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00840" y="3494160"/>
              <a:ext cx="120960" cy="264960"/>
            </a:xfrm>
            <a:custGeom>
              <a:avLst/>
              <a:gdLst/>
              <a:ahLst/>
              <a:rect l="l" t="t" r="r" b="b"/>
              <a:pathLst>
                <a:path w="76" h="167">
                  <a:moveTo>
                    <a:pt x="45" y="0"/>
                  </a:moveTo>
                  <a:lnTo>
                    <a:pt x="76" y="167"/>
                  </a:lnTo>
                  <a:lnTo>
                    <a:pt x="45" y="167"/>
                  </a:lnTo>
                  <a:lnTo>
                    <a:pt x="0" y="1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1160" y="442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38040" y="44226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0560" y="4664160"/>
              <a:ext cx="11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nvalid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3640" y="5160960"/>
              <a:ext cx="841068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0480" y="5137200"/>
              <a:ext cx="5453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Note: R </a:t>
              </a: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= read fault occurs;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= write fault occurs.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entral manager and associated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800" y="1420920"/>
            <a:ext cx="8418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Updating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probOwn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pointers – slide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46240" y="2089080"/>
            <a:ext cx="8029440" cy="288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24600" y="5380200"/>
            <a:ext cx="89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bOw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inters just before proces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akes a page fault for a page owned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Updating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probOwn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pointers – slide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1000" y="5380200"/>
            <a:ext cx="72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Write faul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bOw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inters afte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 write request is forw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440" y="2082960"/>
            <a:ext cx="89805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Updating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probOwn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pointers – slide 3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3160" y="5380200"/>
            <a:ext cx="72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) Read faul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bOw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inters afte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 read request is forw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73160" y="2070000"/>
            <a:ext cx="8101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line for performing a DSM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3440" y="2840040"/>
            <a:ext cx="8595360" cy="1293840"/>
            <a:chOff x="703440" y="2840040"/>
            <a:chExt cx="8595360" cy="1293840"/>
          </a:xfrm>
        </p:grpSpPr>
        <p:sp>
          <p:nvSpPr>
            <p:cNvPr id="211" name=""/>
            <p:cNvSpPr/>
            <p:nvPr/>
          </p:nvSpPr>
          <p:spPr>
            <a:xfrm>
              <a:off x="7996320" y="335124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52"/>
                  </a:moveTo>
                  <a:lnTo>
                    <a:pt x="0" y="0"/>
                  </a:lnTo>
                  <a:lnTo>
                    <a:pt x="87" y="52"/>
                  </a:lnTo>
                  <a:lnTo>
                    <a:pt x="0" y="8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12960" y="3433680"/>
              <a:ext cx="705636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3640" y="3433680"/>
              <a:ext cx="1440" cy="276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65920" y="3444840"/>
              <a:ext cx="1440" cy="2761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33920" y="3130560"/>
              <a:ext cx="1440" cy="2761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3440" y="380520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sue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5240" y="2840040"/>
              <a:ext cx="391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erformed with respect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t tim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3080" y="3859200"/>
              <a:ext cx="237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erformed (comple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080" y="3363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l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executing on a release-consistent D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2280" y="1442880"/>
            <a:ext cx="663192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quir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enter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:= a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:= b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leas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leave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quir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enter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nt ("The values of a and b are: "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leas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leave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distributed shared memory abstr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6800" y="1606680"/>
            <a:ext cx="847728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ether system program - slide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080" y="1486080"/>
            <a:ext cx="85489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#include "world.h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red { int a,b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ri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shared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ethersetup()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Initialize the Mether run-tim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 = (struct shared *)METHERBASE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overlay structure on METHER segmen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-&gt;a = p-&gt;b = 0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initialize fields to zero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(TRUE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continuously update structure field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 –&gt;a = p –&gt;a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 –&gt;b = p –&gt;b -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7680" y="5873760"/>
            <a:ext cx="3584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 on next sli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ether system program - slide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960" y="1440000"/>
            <a:ext cx="8679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uct shared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ethersetu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 = (struct shared *)METHER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* read the fields once every secon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ntf("a = %d, b = %d\n", p –&gt;a, p –&gt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cesses accessing shared variab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71560" y="1716120"/>
            <a:ext cx="8610480" cy="4152960"/>
            <a:chOff x="871560" y="1716120"/>
            <a:chExt cx="8610480" cy="4152960"/>
          </a:xfrm>
        </p:grpSpPr>
        <p:sp>
          <p:nvSpPr>
            <p:cNvPr id="96" name=""/>
            <p:cNvSpPr/>
            <p:nvPr/>
          </p:nvSpPr>
          <p:spPr>
            <a:xfrm>
              <a:off x="6308640" y="3548160"/>
              <a:ext cx="1536840" cy="1049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2400" y="3548160"/>
              <a:ext cx="1544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2400" y="4103640"/>
              <a:ext cx="3149640" cy="10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7"/>
                  </a:moveTo>
                  <a:arcTo wR="10800" hR="10800" stAng="-10789598" swAng="538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7"/>
                  </a:moveTo>
                  <a:arcTo wR="10800" hR="10800" stAng="-10789598" swAng="5389598"/>
                </a:path>
              </a:pathLst>
            </a:custGeom>
            <a:solidFill>
              <a:srgbClr val="ffffff"/>
            </a:solidFill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81880" y="3030480"/>
              <a:ext cx="2530080" cy="10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7"/>
                  </a:moveTo>
                  <a:arcTo wR="10800" hR="10800" stAng="-10421" swAng="541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7"/>
                  </a:moveTo>
                  <a:arcTo wR="10800" hR="10800" stAng="-10421" swAng="5414750"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32400" y="2103480"/>
              <a:ext cx="2779920" cy="1512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2400" y="2103480"/>
              <a:ext cx="2810160" cy="154296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88080" y="2457360"/>
              <a:ext cx="114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8080" y="2797200"/>
              <a:ext cx="114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 := b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6760" y="2103480"/>
              <a:ext cx="2748240" cy="2222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760" y="2103480"/>
              <a:ext cx="2778480" cy="225252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82320" y="2457360"/>
              <a:ext cx="79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r := b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82320" y="279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04720" y="2797200"/>
              <a:ext cx="65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 := 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0520" y="3105000"/>
              <a:ext cx="159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f(ar ≥ br) t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83400" y="3444840"/>
              <a:ext cx="184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t ("OK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9960" y="1716120"/>
              <a:ext cx="113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5600" y="1716120"/>
              <a:ext cx="113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1560" y="4264200"/>
              <a:ext cx="1512720" cy="1049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96760" y="4264200"/>
              <a:ext cx="15433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8560" y="4821120"/>
              <a:ext cx="3085560" cy="104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7"/>
                  </a:moveTo>
                  <a:arcTo wR="10800" hR="10800" stAng="-10789603" swAng="53860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7"/>
                  </a:moveTo>
                  <a:arcTo wR="10800" hR="10800" stAng="-10789603" swAng="538607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560" y="3771720"/>
              <a:ext cx="2530080" cy="10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7"/>
                  </a:moveTo>
                  <a:arcTo wR="10800" hR="10800" stAng="-10421" swAng="541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7"/>
                  </a:moveTo>
                  <a:arcTo wR="10800" hR="10800" stAng="-10421" swAng="5414750"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leaving under sequential consistenc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929280" y="3679920"/>
            <a:ext cx="2712600" cy="1344600"/>
            <a:chOff x="6929280" y="3679920"/>
            <a:chExt cx="2712600" cy="1344600"/>
          </a:xfrm>
        </p:grpSpPr>
        <p:sp>
          <p:nvSpPr>
            <p:cNvPr id="119" name=""/>
            <p:cNvSpPr/>
            <p:nvPr/>
          </p:nvSpPr>
          <p:spPr>
            <a:xfrm>
              <a:off x="6929280" y="3679920"/>
              <a:ext cx="1328040" cy="887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29280" y="3679920"/>
              <a:ext cx="1355760" cy="914400"/>
            </a:xfrm>
            <a:prstGeom prst="rect">
              <a:avLst/>
            </a:pr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0720" y="4138560"/>
              <a:ext cx="2711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1"/>
                  </a:moveTo>
                  <a:arcTo wR="10800" hR="10800" stAng="-10787707" swAng="538357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1"/>
                  </a:moveTo>
                  <a:arcTo wR="10800" hR="10800" stAng="-10787707" swAng="5383575"/>
                </a:path>
              </a:pathLst>
            </a:custGeom>
            <a:solidFill>
              <a:srgbClr val="ffffff"/>
            </a:solidFill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152480" y="3232080"/>
            <a:ext cx="2202120" cy="88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27" swAng="5417428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27" swAng="5417428"/>
              </a:path>
            </a:pathLst>
          </a:custGeom>
          <a:solidFill>
            <a:srgbClr val="ffdc99"/>
          </a:solidFill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73920" y="2397240"/>
            <a:ext cx="2367000" cy="1276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61320" y="2397240"/>
            <a:ext cx="2393640" cy="1290600"/>
          </a:xfrm>
          <a:prstGeom prst="rect">
            <a:avLst/>
          </a:prstGeom>
          <a:noFill/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4118040"/>
            <a:ext cx="1303560" cy="914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360" y="4118040"/>
            <a:ext cx="1355760" cy="94140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960" y="4595760"/>
            <a:ext cx="2606040" cy="9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12" swAng="5384235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12" swAng="5384235"/>
              </a:path>
            </a:pathLst>
          </a:custGeom>
          <a:solidFill>
            <a:srgbClr val="ffffff"/>
          </a:solidFill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8000" y="3635280"/>
            <a:ext cx="2253960" cy="93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4"/>
                </a:moveTo>
                <a:arcTo wR="10800" hR="10800" stAng="-11594" swAng="5411594"/>
                <a:lnTo>
                  <a:pt x="10800" y="10800"/>
                </a:lnTo>
                <a:close/>
              </a:path>
              <a:path fill="none" w="21600" h="21600">
                <a:moveTo>
                  <a:pt x="21600" y="10764"/>
                </a:moveTo>
                <a:arcTo wR="10800" hR="10800" stAng="-11594" swAng="5411594"/>
              </a:path>
            </a:pathLst>
          </a:custGeom>
          <a:solidFill>
            <a:srgbClr val="ffdc99"/>
          </a:solidFill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2181240"/>
            <a:ext cx="2367000" cy="1949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520" y="2181240"/>
            <a:ext cx="2393640" cy="1963800"/>
          </a:xfrm>
          <a:prstGeom prst="rect">
            <a:avLst/>
          </a:prstGeom>
          <a:noFill/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2489040"/>
            <a:ext cx="67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r := b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5320" y="2784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1320" y="2784600"/>
            <a:ext cx="485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= 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3054240"/>
            <a:ext cx="135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f(ar ≥ br) 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5320" y="3328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4320" y="3349800"/>
            <a:ext cx="114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nt ("OK"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3400" y="205884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400" y="184320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27200" y="205884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70920" y="265104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:= a + 1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70920" y="294624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:= b + 1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88680" y="23274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29840" y="337644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56320" y="4226040"/>
            <a:ext cx="161640" cy="135000"/>
          </a:xfrm>
          <a:custGeom>
            <a:avLst/>
            <a:gdLst/>
            <a:ahLst/>
            <a:rect l="l" t="t" r="r" b="b"/>
            <a:pathLst>
              <a:path w="102" h="85">
                <a:moveTo>
                  <a:pt x="51" y="0"/>
                </a:moveTo>
                <a:lnTo>
                  <a:pt x="102" y="0"/>
                </a:lnTo>
                <a:lnTo>
                  <a:pt x="51" y="85"/>
                </a:lnTo>
                <a:lnTo>
                  <a:pt x="0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6960" y="2370240"/>
            <a:ext cx="1800" cy="18288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63560" y="253044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50" y="34"/>
                </a:moveTo>
                <a:lnTo>
                  <a:pt x="50" y="68"/>
                </a:lnTo>
                <a:lnTo>
                  <a:pt x="0" y="34"/>
                </a:lnTo>
                <a:lnTo>
                  <a:pt x="50" y="0"/>
                </a:lnTo>
                <a:lnTo>
                  <a:pt x="50" y="34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42760" y="2584440"/>
            <a:ext cx="3066840" cy="144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63560" y="2854440"/>
            <a:ext cx="79560" cy="81000"/>
          </a:xfrm>
          <a:custGeom>
            <a:avLst/>
            <a:gdLst/>
            <a:ahLst/>
            <a:rect l="l" t="t" r="r" b="b"/>
            <a:pathLst>
              <a:path w="50" h="51">
                <a:moveTo>
                  <a:pt x="50" y="17"/>
                </a:moveTo>
                <a:lnTo>
                  <a:pt x="34" y="51"/>
                </a:lnTo>
                <a:lnTo>
                  <a:pt x="0" y="17"/>
                </a:lnTo>
                <a:lnTo>
                  <a:pt x="50" y="0"/>
                </a:lnTo>
                <a:lnTo>
                  <a:pt x="50" y="17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742760" y="2881440"/>
            <a:ext cx="3066840" cy="40320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5960" y="2638440"/>
            <a:ext cx="81000" cy="81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0" y="34"/>
                </a:moveTo>
                <a:lnTo>
                  <a:pt x="0" y="0"/>
                </a:lnTo>
                <a:lnTo>
                  <a:pt x="51" y="34"/>
                </a:lnTo>
                <a:lnTo>
                  <a:pt x="0" y="51"/>
                </a:lnTo>
                <a:lnTo>
                  <a:pt x="0" y="34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3960" y="2692440"/>
            <a:ext cx="2232000" cy="144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3960" y="282744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51" y="34"/>
                </a:moveTo>
                <a:lnTo>
                  <a:pt x="51" y="68"/>
                </a:lnTo>
                <a:lnTo>
                  <a:pt x="0" y="34"/>
                </a:lnTo>
                <a:lnTo>
                  <a:pt x="51" y="0"/>
                </a:lnTo>
                <a:lnTo>
                  <a:pt x="51" y="34"/>
                </a:lnTo>
                <a:close/>
              </a:path>
            </a:pathLst>
          </a:custGeom>
          <a:solidFill>
            <a:srgbClr val="cf924c"/>
          </a:solidFill>
          <a:ln w="3960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971600" y="2800440"/>
            <a:ext cx="2205000" cy="81000"/>
          </a:xfrm>
          <a:prstGeom prst="line">
            <a:avLst/>
          </a:prstGeom>
          <a:ln w="396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95960" y="2935440"/>
            <a:ext cx="81000" cy="106200"/>
          </a:xfrm>
          <a:custGeom>
            <a:avLst/>
            <a:gdLst/>
            <a:ahLst/>
            <a:rect l="l" t="t" r="r" b="b"/>
            <a:pathLst>
              <a:path w="51" h="67">
                <a:moveTo>
                  <a:pt x="0" y="33"/>
                </a:moveTo>
                <a:lnTo>
                  <a:pt x="0" y="0"/>
                </a:lnTo>
                <a:lnTo>
                  <a:pt x="51" y="33"/>
                </a:lnTo>
                <a:lnTo>
                  <a:pt x="0" y="67"/>
                </a:lnTo>
                <a:lnTo>
                  <a:pt x="0" y="33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63960" y="2987640"/>
            <a:ext cx="2232000" cy="10800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63960" y="3419640"/>
            <a:ext cx="81000" cy="79200"/>
          </a:xfrm>
          <a:custGeom>
            <a:avLst/>
            <a:gdLst/>
            <a:ahLst/>
            <a:rect l="l" t="t" r="r" b="b"/>
            <a:pathLst>
              <a:path w="51" h="50">
                <a:moveTo>
                  <a:pt x="51" y="16"/>
                </a:moveTo>
                <a:lnTo>
                  <a:pt x="51" y="50"/>
                </a:lnTo>
                <a:lnTo>
                  <a:pt x="0" y="33"/>
                </a:lnTo>
                <a:lnTo>
                  <a:pt x="34" y="0"/>
                </a:lnTo>
                <a:lnTo>
                  <a:pt x="51" y="16"/>
                </a:lnTo>
                <a:close/>
              </a:path>
            </a:pathLst>
          </a:custGeom>
          <a:solidFill>
            <a:srgbClr val="cf924c"/>
          </a:solidFill>
          <a:ln w="3960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44960" y="3095640"/>
            <a:ext cx="2232000" cy="349200"/>
          </a:xfrm>
          <a:prstGeom prst="line">
            <a:avLst/>
          </a:prstGeom>
          <a:ln w="396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SM using write-upda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5160" y="1359000"/>
            <a:ext cx="8490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ata items laid out over p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9200" y="2838600"/>
            <a:ext cx="8712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model for page-based D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2560" y="1911240"/>
            <a:ext cx="86598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6-04T17:13:48Z</dcterms:modified>
  <cp:revision>40</cp:revision>
  <dc:subject/>
  <dc:title>Figure 15.1 A distributed multimedia system</dc:title>
</cp:coreProperties>
</file>