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10.png" ContentType="image/png"/>
  <Override PartName="/ppt/media/image3.pct" ContentType="image/x-pict"/>
  <Override PartName="/ppt/media/image11.png" ContentType="image/png"/>
  <Override PartName="/ppt/media/image4.pct" ContentType="image/x-pict"/>
  <Override PartName="/ppt/media/image7.png" ContentType="image/png"/>
  <Override PartName="/ppt/media/image5.pct" ContentType="image/x-pict"/>
  <Override PartName="/ppt/media/image13.png" ContentType="image/png"/>
  <Override PartName="/ppt/media/image6.pct" ContentType="image/x-pict"/>
  <Override PartName="/ppt/media/image8.pct" ContentType="image/x-pict"/>
  <Override PartName="/ppt/media/image9.pct" ContentType="image/x-pict"/>
  <Override PartName="/ppt/media/image1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6F67-8593-4241-AB59-E7271238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96AD-48D3-48A6-90CB-8CA0A717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F071-8B06-4903-AA2A-09F5F81D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E3D0-2227-49FD-8D5C-5A3BE896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C934-B553-47DF-84E3-E8B1684B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F7CB-D544-44AB-8829-7892341B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651E-1415-44E7-ADC0-C326533D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E1FA-28EF-4668-876C-B1F87C6A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DBC3-DE42-4377-BAB0-0B5FE7FF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9291-C61F-4113-BCF1-AC72DF78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8D16-9B5C-4244-AA93-CB5786B3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5CCF-E80E-4D1E-A855-8AC0906A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2DF3-E24D-45D9-8500-0E3E9130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F482-4118-4043-A39D-993AC6EF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4FE1-4B35-43DE-9840-40DC94FD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3C49-1D62-4590-AD33-DEAB2C99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BFA6-EC85-4F3A-8E29-2BF2705D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970A-77B1-4D70-8D95-758A2F54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4BA8-5115-48CE-B284-DE9F3E9F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0743-3DFC-4866-8E95-FBD2CED5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D7C5-1B74-4E77-89F4-8DA7F3B2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E54C-F9CD-4A08-885B-78E1BE0A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CD1A-EC35-4348-ACBE-86D63D18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5039-1084-4DD7-94E9-6ED04A1F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280" y="6400800"/>
            <a:ext cx="14734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1080" y="6400800"/>
            <a:ext cx="5562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Pearson Education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6400800"/>
            <a:ext cx="1015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930C-8843-4060-94A6-6EA41CC011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14300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19F0-BE52-43E3-9883-8CB36ED090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9092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lides for Chapter 12: 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Coordination and Agreement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438280" y="28954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18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18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0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dition 4, © Pearson Education 2005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6800" y="3070080"/>
            <a:ext cx="189396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pen and closed group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14240" y="1938240"/>
            <a:ext cx="794412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liable multicast algorith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34920" y="1533600"/>
            <a:ext cx="7318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hold-back queue for arriving multicast messag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141560" y="1509840"/>
            <a:ext cx="62118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otal, FIFO and causal ordering of multicast messag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516480" y="1347840"/>
            <a:ext cx="5162400" cy="5013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60440" y="1515960"/>
            <a:ext cx="2746440" cy="26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ce the consistent ordering of totally ordered messag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FIFO-related messag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the causally related messag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and the otherwise arbitrary delivery ordering of messa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79600" y="2316240"/>
            <a:ext cx="6468840" cy="745920"/>
          </a:xfrm>
          <a:prstGeom prst="rect">
            <a:avLst/>
          </a:prstGeom>
          <a:solidFill>
            <a:srgbClr val="ffd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splay from bulletin board progra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32080" y="3135240"/>
            <a:ext cx="172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83080" y="3135240"/>
            <a:ext cx="190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93720" y="5425920"/>
            <a:ext cx="190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32080" y="5425920"/>
            <a:ext cx="172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83080" y="5425920"/>
            <a:ext cx="190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01120" y="5425920"/>
            <a:ext cx="187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12160" y="2408400"/>
            <a:ext cx="122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lletin boar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16800" y="2387520"/>
            <a:ext cx="119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New York"/>
              </a:rPr>
              <a:t> </a:t>
            </a:r>
            <a:r>
              <a:rPr b="0" i="1" lang="en-GB" sz="1500" spc="-1" strike="noStrike">
                <a:solidFill>
                  <a:srgbClr val="000000"/>
                </a:solidFill>
                <a:latin typeface="New York"/>
              </a:rPr>
              <a:t>os.interest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79600" y="2298600"/>
            <a:ext cx="6458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23160" y="2754360"/>
            <a:ext cx="37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05080" y="2744640"/>
            <a:ext cx="43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93960" y="2744640"/>
            <a:ext cx="61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1720" y="3303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71240" y="3303720"/>
            <a:ext cx="79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.Han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60480" y="3303720"/>
            <a:ext cx="46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91040" y="33037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49720" y="33037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1720" y="3681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71240" y="3681360"/>
            <a:ext cx="75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.Jose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60840" y="3681360"/>
            <a:ext cx="108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icrokern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1720" y="4060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71240" y="4060800"/>
            <a:ext cx="79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.Han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61200" y="4060800"/>
            <a:ext cx="1415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: Microkern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1720" y="4438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72680" y="4438800"/>
            <a:ext cx="106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.L’Heur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62280" y="4438800"/>
            <a:ext cx="1459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1720" y="4818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71600" y="4818240"/>
            <a:ext cx="82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.Wal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60840" y="4818240"/>
            <a:ext cx="794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: M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88600" y="5170320"/>
            <a:ext cx="29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67000" y="5499000"/>
            <a:ext cx="6457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otal ordering using a sequencer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733400" y="1359000"/>
            <a:ext cx="57819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ISIS algorithm for total ordering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26920" y="630360"/>
            <a:ext cx="6804720" cy="6665400"/>
            <a:chOff x="826920" y="630360"/>
            <a:chExt cx="6804720" cy="6665400"/>
          </a:xfrm>
        </p:grpSpPr>
        <p:sp>
          <p:nvSpPr>
            <p:cNvPr id="229" name=""/>
            <p:cNvSpPr/>
            <p:nvPr/>
          </p:nvSpPr>
          <p:spPr>
            <a:xfrm>
              <a:off x="4094280" y="3197160"/>
              <a:ext cx="603000" cy="647640"/>
            </a:xfrm>
            <a:prstGeom prst="ellipse">
              <a:avLst/>
            </a:prstGeom>
            <a:solidFill>
              <a:srgbClr val="ffdc99"/>
            </a:solidFill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00720" y="2166120"/>
              <a:ext cx="627840" cy="61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" y="11628"/>
                  </a:moveTo>
                  <a:arcTo wR="10800" hR="10800" stAng="10536107" swAng="237166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" y="11628"/>
                  </a:moveTo>
                  <a:arcTo wR="10800" hR="10800" stAng="10536107" swAng="2371669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81560" y="2341440"/>
              <a:ext cx="312264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6"/>
                  </a:moveTo>
                  <a:arcTo wR="10800" hR="10800" stAng="-10795487" swAng="634868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6"/>
                  </a:moveTo>
                  <a:arcTo wR="10800" hR="10800" stAng="-10795487" swAng="6348687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78320" y="3137760"/>
              <a:ext cx="603000" cy="61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74" y="3859"/>
                  </a:moveTo>
                  <a:arcTo wR="10800" hR="10800" stAng="-2399649" swAng="23996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74" y="3859"/>
                  </a:moveTo>
                  <a:arcTo wR="10800" hR="10800" stAng="-2399649" swAng="2399649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29680" y="2724480"/>
              <a:ext cx="599400" cy="65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24133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2413352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81440" y="2576880"/>
              <a:ext cx="3006000" cy="115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78" y="14116"/>
                  </a:moveTo>
                  <a:arcTo wR="10800" hR="10800" stAng="1072705" swAng="655571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78" y="14116"/>
                  </a:moveTo>
                  <a:arcTo wR="10800" hR="10800" stAng="1072705" swAng="6555716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31840" y="1486080"/>
              <a:ext cx="601920" cy="649080"/>
            </a:xfrm>
            <a:prstGeom prst="ellipse">
              <a:avLst/>
            </a:prstGeom>
            <a:solidFill>
              <a:srgbClr val="ffdc99"/>
            </a:solidFill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316600" y="1487160"/>
              <a:ext cx="605520" cy="65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24" y="7976"/>
                  </a:moveTo>
                  <a:arcTo wR="10800" hR="10800" stAng="-909614" swAng="24040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24" y="7976"/>
                  </a:moveTo>
                  <a:arcTo wR="10800" hR="10800" stAng="-909614" swAng="2404048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6920" y="1809360"/>
              <a:ext cx="3584520" cy="345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290" y="103"/>
                  </a:moveTo>
                  <a:arcTo wR="10800" hR="10800" stAng="-4924215" swAng="49242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290" y="103"/>
                  </a:moveTo>
                  <a:arcTo wR="10800" hR="10800" stAng="-4924215" swAng="4924215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32920" y="1781280"/>
              <a:ext cx="601920" cy="61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200" y="20153"/>
                  </a:moveTo>
                  <a:arcTo wR="10800" hR="10800" stAng="3599920" swAng="23852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200" y="20153"/>
                  </a:moveTo>
                  <a:arcTo wR="10800" hR="10800" stAng="3599920" swAng="2385224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48280" y="630360"/>
              <a:ext cx="4123080" cy="292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2" y="21600"/>
                  </a:moveTo>
                  <a:arcTo wR="10800" hR="10800" stAng="5402570" swAng="47964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2" y="21600"/>
                  </a:moveTo>
                  <a:arcTo wR="10800" hR="10800" stAng="5402570" swAng="4796452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08440" y="2932200"/>
              <a:ext cx="628560" cy="64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00" y="7249"/>
                  </a:moveTo>
                  <a:arcTo wR="10800" hR="10800" stAng="-9648403" swAng="2386863"/>
                  <a:lnTo>
                    <a:pt x="10800" y="10800"/>
                  </a:lnTo>
                  <a:close/>
                </a:path>
                <a:path fill="none" w="21600" h="21600">
                  <a:moveTo>
                    <a:pt x="600" y="7249"/>
                  </a:moveTo>
                  <a:arcTo wR="10800" hR="10800" stAng="-9648403" swAng="2386863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347920" y="1809720"/>
              <a:ext cx="1517760" cy="12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60440" y="1722600"/>
              <a:ext cx="144720" cy="147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62040" y="5349960"/>
              <a:ext cx="630360" cy="649080"/>
            </a:xfrm>
            <a:prstGeom prst="ellipse">
              <a:avLst/>
            </a:prstGeom>
            <a:solidFill>
              <a:srgbClr val="ffdc99"/>
            </a:solidFill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67480" y="3522960"/>
              <a:ext cx="596160" cy="64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52" y="21068"/>
                  </a:moveTo>
                  <a:arcTo wR="10800" hR="10800" stAng="6483440" swAng="2412701"/>
                  <a:lnTo>
                    <a:pt x="10800" y="10800"/>
                  </a:lnTo>
                  <a:close/>
                </a:path>
                <a:path fill="none" w="21600" h="21600">
                  <a:moveTo>
                    <a:pt x="7452" y="21068"/>
                  </a:moveTo>
                  <a:arcTo wR="10800" hR="10800" stAng="6483440" swAng="2412701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48240" y="5379840"/>
              <a:ext cx="631080" cy="64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148" y="5392"/>
                  </a:moveTo>
                  <a:arcTo wR="10800" hR="10800" stAng="-1803110" swAng="24030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148" y="5392"/>
                  </a:moveTo>
                  <a:arcTo wR="10800" hR="10800" stAng="-1803110" swAng="2403054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89120" y="1337760"/>
              <a:ext cx="2749320" cy="436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48063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4806389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03720" y="5084640"/>
              <a:ext cx="633240" cy="65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007" y="367"/>
                  </a:moveTo>
                  <a:arcTo wR="10800" hR="10800" stAng="-6299126" swAng="2379738"/>
                  <a:lnTo>
                    <a:pt x="10800" y="10800"/>
                  </a:lnTo>
                  <a:close/>
                </a:path>
                <a:path fill="none" w="21600" h="21600">
                  <a:moveTo>
                    <a:pt x="8007" y="367"/>
                  </a:moveTo>
                  <a:arcTo wR="10800" hR="10800" stAng="-6299126" swAng="2379738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21600" y="3521160"/>
              <a:ext cx="3319560" cy="377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1" y="9482"/>
                  </a:moveTo>
                  <a:arcTo wR="10800" hR="10800" stAng="-10379538" swAng="4976345"/>
                  <a:lnTo>
                    <a:pt x="10800" y="10800"/>
                  </a:lnTo>
                  <a:close/>
                </a:path>
                <a:path fill="none" w="21600" h="21600">
                  <a:moveTo>
                    <a:pt x="81" y="9482"/>
                  </a:moveTo>
                  <a:arcTo wR="10800" hR="10800" stAng="-10379538" swAng="4976345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22880" y="3462480"/>
              <a:ext cx="144360" cy="147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06800" y="26179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67240" y="3668760"/>
              <a:ext cx="630360" cy="79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17680" y="5673600"/>
              <a:ext cx="344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92400" y="2576520"/>
              <a:ext cx="142920" cy="26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92400" y="2576520"/>
              <a:ext cx="171360" cy="2952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17920" y="3003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74960" y="40370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76560" y="25909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49800" y="44496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93960" y="2282760"/>
              <a:ext cx="842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93960" y="2282760"/>
              <a:ext cx="114480" cy="1764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6560" y="2035080"/>
              <a:ext cx="1180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 Messag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20470800">
              <a:off x="4883400" y="2725200"/>
              <a:ext cx="1635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 Proposed S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40160" y="3344760"/>
              <a:ext cx="343080" cy="29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40160" y="3344760"/>
              <a:ext cx="371520" cy="3240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72840" y="1735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6920" y="18446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73160" y="56008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26880" y="5708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68520" y="450864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19360" y="46162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72080" y="25909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524360" y="2698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40160" y="3579840"/>
              <a:ext cx="22860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40160" y="3579840"/>
              <a:ext cx="258840" cy="1191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58120" y="2370240"/>
              <a:ext cx="599760" cy="649080"/>
            </a:xfrm>
            <a:prstGeom prst="ellipse">
              <a:avLst/>
            </a:prstGeom>
            <a:solidFill>
              <a:srgbClr val="ffdc99"/>
            </a:solidFill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805120" y="4052520"/>
              <a:ext cx="1174680" cy="159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92440" y="5586480"/>
              <a:ext cx="169920" cy="176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4924080" y="2693880"/>
              <a:ext cx="1862280" cy="64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786720" y="2606760"/>
              <a:ext cx="142560" cy="177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16760" y="2665440"/>
              <a:ext cx="31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65000" y="3772080"/>
              <a:ext cx="1474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3 Agreed Seq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68560" y="48625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83080" y="22669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27360" y="1836720"/>
              <a:ext cx="34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ausal ordering using vector timestamp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28640" y="1476360"/>
            <a:ext cx="748512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sensus for three process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982880" y="1492200"/>
            <a:ext cx="524664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sensus in a synchronous syste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39640" y="1641600"/>
            <a:ext cx="796284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network parti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84360" y="1517760"/>
            <a:ext cx="57974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2.19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hree byzantine genera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94800" y="2205000"/>
            <a:ext cx="7904880" cy="2555280"/>
            <a:chOff x="694800" y="2205000"/>
            <a:chExt cx="7904880" cy="2555280"/>
          </a:xfrm>
        </p:grpSpPr>
        <p:sp>
          <p:nvSpPr>
            <p:cNvPr id="293" name=""/>
            <p:cNvSpPr/>
            <p:nvPr/>
          </p:nvSpPr>
          <p:spPr>
            <a:xfrm>
              <a:off x="694800" y="2205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1080" y="234000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35280" y="2252520"/>
              <a:ext cx="125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Command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1880" y="3625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38160" y="3760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87160" y="3625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02000" y="3760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27320" y="2265480"/>
              <a:ext cx="782640" cy="8175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66760" y="3348000"/>
              <a:ext cx="782640" cy="8193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62320" y="3348000"/>
              <a:ext cx="782640" cy="81936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835280" y="3373560"/>
              <a:ext cx="90360" cy="9684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47" y="31"/>
                  </a:moveTo>
                  <a:lnTo>
                    <a:pt x="62" y="47"/>
                  </a:lnTo>
                  <a:lnTo>
                    <a:pt x="0" y="63"/>
                  </a:lnTo>
                  <a:lnTo>
                    <a:pt x="15" y="0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1905120" y="2940120"/>
              <a:ext cx="436320" cy="457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84640" y="3373560"/>
              <a:ext cx="91800" cy="9684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16" y="31"/>
                  </a:moveTo>
                  <a:lnTo>
                    <a:pt x="47" y="0"/>
                  </a:lnTo>
                  <a:lnTo>
                    <a:pt x="63" y="63"/>
                  </a:lnTo>
                  <a:lnTo>
                    <a:pt x="0" y="47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71720" y="2940120"/>
              <a:ext cx="436680" cy="457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46400" y="3589200"/>
              <a:ext cx="92160" cy="9684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32"/>
                  </a:moveTo>
                  <a:lnTo>
                    <a:pt x="0" y="0"/>
                  </a:lnTo>
                  <a:lnTo>
                    <a:pt x="63" y="32"/>
                  </a:lnTo>
                  <a:lnTo>
                    <a:pt x="0" y="6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49400" y="3638520"/>
              <a:ext cx="11970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73160" y="3879720"/>
              <a:ext cx="92160" cy="9684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1"/>
                  </a:moveTo>
                  <a:lnTo>
                    <a:pt x="63" y="63"/>
                  </a:lnTo>
                  <a:lnTo>
                    <a:pt x="0" y="31"/>
                  </a:lnTo>
                  <a:lnTo>
                    <a:pt x="63" y="0"/>
                  </a:lnTo>
                  <a:lnTo>
                    <a:pt x="63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064960" y="3927600"/>
              <a:ext cx="11970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114360" y="298944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49240" y="300348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32160" y="340848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: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19560" y="39862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:1: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882680" y="2205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997520" y="234000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123160" y="2252520"/>
              <a:ext cx="125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Command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27040" y="3625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41880" y="3760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392680" y="3625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507520" y="3760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16640" y="2265480"/>
              <a:ext cx="782640" cy="81756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0200" y="3348000"/>
              <a:ext cx="782640" cy="8193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73960" y="3348000"/>
              <a:ext cx="784080" cy="8193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46920" y="3373560"/>
              <a:ext cx="91800" cy="9684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48" y="31"/>
                  </a:moveTo>
                  <a:lnTo>
                    <a:pt x="63" y="47"/>
                  </a:lnTo>
                  <a:lnTo>
                    <a:pt x="0" y="63"/>
                  </a:lnTo>
                  <a:lnTo>
                    <a:pt x="16" y="0"/>
                  </a:lnTo>
                  <a:lnTo>
                    <a:pt x="48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6116760" y="2940120"/>
              <a:ext cx="436320" cy="457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73960" y="3373560"/>
              <a:ext cx="115920" cy="96840"/>
            </a:xfrm>
            <a:custGeom>
              <a:avLst/>
              <a:gdLst/>
              <a:ahLst/>
              <a:rect l="l" t="t" r="r" b="b"/>
              <a:pathLst>
                <a:path w="79" h="63">
                  <a:moveTo>
                    <a:pt x="32" y="31"/>
                  </a:moveTo>
                  <a:lnTo>
                    <a:pt x="48" y="0"/>
                  </a:lnTo>
                  <a:lnTo>
                    <a:pt x="79" y="63"/>
                  </a:lnTo>
                  <a:lnTo>
                    <a:pt x="0" y="47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83360" y="2940120"/>
              <a:ext cx="438120" cy="457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59480" y="3589200"/>
              <a:ext cx="92160" cy="9684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32"/>
                  </a:moveTo>
                  <a:lnTo>
                    <a:pt x="0" y="0"/>
                  </a:lnTo>
                  <a:lnTo>
                    <a:pt x="63" y="32"/>
                  </a:lnTo>
                  <a:lnTo>
                    <a:pt x="0" y="6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62840" y="3638520"/>
              <a:ext cx="117288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86600" y="3879720"/>
              <a:ext cx="91800" cy="9684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1"/>
                  </a:moveTo>
                  <a:lnTo>
                    <a:pt x="63" y="63"/>
                  </a:lnTo>
                  <a:lnTo>
                    <a:pt x="0" y="31"/>
                  </a:lnTo>
                  <a:lnTo>
                    <a:pt x="63" y="0"/>
                  </a:lnTo>
                  <a:lnTo>
                    <a:pt x="63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6278040" y="3927600"/>
              <a:ext cx="11955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319520" y="298944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: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54760" y="300348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: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635880" y="3408480"/>
              <a:ext cx="48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:1: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26160" y="398628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:1: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10320" y="4516560"/>
              <a:ext cx="336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ulty processes are shown colou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2.20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our byzantine genera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17040" y="1785960"/>
            <a:ext cx="8031600" cy="3831480"/>
            <a:chOff x="617040" y="1785960"/>
            <a:chExt cx="8031600" cy="3831480"/>
          </a:xfrm>
        </p:grpSpPr>
        <p:sp>
          <p:nvSpPr>
            <p:cNvPr id="340" name=""/>
            <p:cNvSpPr/>
            <p:nvPr/>
          </p:nvSpPr>
          <p:spPr>
            <a:xfrm>
              <a:off x="617040" y="1846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5120" y="198612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62200" y="1895400"/>
              <a:ext cx="125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Command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7880" y="3193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85960" y="33336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87160" y="3193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03800" y="33336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119240" y="2913120"/>
              <a:ext cx="793800" cy="833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47920" y="2913120"/>
              <a:ext cx="795600" cy="83340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97120" y="2936880"/>
              <a:ext cx="9360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47" y="16"/>
                  </a:moveTo>
                  <a:lnTo>
                    <a:pt x="62" y="47"/>
                  </a:lnTo>
                  <a:lnTo>
                    <a:pt x="0" y="62"/>
                  </a:lnTo>
                  <a:lnTo>
                    <a:pt x="16" y="0"/>
                  </a:lnTo>
                  <a:lnTo>
                    <a:pt x="47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1868040" y="2496960"/>
              <a:ext cx="444600" cy="4654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70240" y="2936880"/>
              <a:ext cx="9360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16" y="16"/>
                  </a:moveTo>
                  <a:lnTo>
                    <a:pt x="47" y="0"/>
                  </a:lnTo>
                  <a:lnTo>
                    <a:pt x="62" y="62"/>
                  </a:lnTo>
                  <a:lnTo>
                    <a:pt x="0" y="47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1200" y="2496960"/>
              <a:ext cx="442800" cy="4654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30560" y="3157560"/>
              <a:ext cx="9216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0" y="31"/>
                  </a:moveTo>
                  <a:lnTo>
                    <a:pt x="0" y="0"/>
                  </a:lnTo>
                  <a:lnTo>
                    <a:pt x="61" y="31"/>
                  </a:lnTo>
                  <a:lnTo>
                    <a:pt x="0" y="6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13040" y="3206880"/>
              <a:ext cx="12175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38240" y="3451320"/>
              <a:ext cx="9360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1"/>
                  </a:moveTo>
                  <a:lnTo>
                    <a:pt x="62" y="62"/>
                  </a:lnTo>
                  <a:lnTo>
                    <a:pt x="0" y="31"/>
                  </a:lnTo>
                  <a:lnTo>
                    <a:pt x="62" y="0"/>
                  </a:lnTo>
                  <a:lnTo>
                    <a:pt x="62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031840" y="3500280"/>
              <a:ext cx="12160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096720" y="25812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82360" y="25812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66760" y="297180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: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59320" y="32655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:1: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58200" y="5373720"/>
              <a:ext cx="336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ulty processes are shown colou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195640" y="4064040"/>
              <a:ext cx="793800" cy="833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90120" y="5005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08200" y="51451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46280" y="3965400"/>
              <a:ext cx="93600" cy="74880"/>
            </a:xfrm>
            <a:custGeom>
              <a:avLst/>
              <a:gdLst/>
              <a:ahLst/>
              <a:rect l="l" t="t" r="r" b="b"/>
              <a:pathLst>
                <a:path w="62" h="47">
                  <a:moveTo>
                    <a:pt x="31" y="0"/>
                  </a:moveTo>
                  <a:lnTo>
                    <a:pt x="62" y="0"/>
                  </a:lnTo>
                  <a:lnTo>
                    <a:pt x="31" y="47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92360" y="2546280"/>
              <a:ext cx="1440" cy="13953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625480" y="27781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50920" y="370836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: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514520" y="405144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: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284640" y="4051440"/>
              <a:ext cx="48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:1: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70240" y="3648240"/>
              <a:ext cx="9360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46"/>
                  </a:moveTo>
                  <a:lnTo>
                    <a:pt x="0" y="15"/>
                  </a:lnTo>
                  <a:lnTo>
                    <a:pt x="62" y="0"/>
                  </a:lnTo>
                  <a:lnTo>
                    <a:pt x="47" y="62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2851200" y="3720960"/>
              <a:ext cx="442800" cy="4651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943360" y="4235400"/>
              <a:ext cx="9360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16"/>
                  </a:moveTo>
                  <a:lnTo>
                    <a:pt x="62" y="46"/>
                  </a:lnTo>
                  <a:lnTo>
                    <a:pt x="0" y="62"/>
                  </a:lnTo>
                  <a:lnTo>
                    <a:pt x="16" y="0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989440" y="3697200"/>
              <a:ext cx="537840" cy="5637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705040" y="370836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: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97120" y="3648240"/>
              <a:ext cx="115920" cy="98280"/>
            </a:xfrm>
            <a:custGeom>
              <a:avLst/>
              <a:gdLst/>
              <a:ahLst/>
              <a:rect l="l" t="t" r="r" b="b"/>
              <a:pathLst>
                <a:path w="77" h="62">
                  <a:moveTo>
                    <a:pt x="47" y="31"/>
                  </a:moveTo>
                  <a:lnTo>
                    <a:pt x="31" y="62"/>
                  </a:lnTo>
                  <a:lnTo>
                    <a:pt x="0" y="0"/>
                  </a:lnTo>
                  <a:lnTo>
                    <a:pt x="77" y="15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1868040" y="3720960"/>
              <a:ext cx="466920" cy="4651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47760" y="4235400"/>
              <a:ext cx="93960" cy="986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31" y="16"/>
                  </a:moveTo>
                  <a:lnTo>
                    <a:pt x="46" y="0"/>
                  </a:lnTo>
                  <a:lnTo>
                    <a:pt x="61" y="62"/>
                  </a:lnTo>
                  <a:lnTo>
                    <a:pt x="0" y="46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657440" y="3697200"/>
              <a:ext cx="538200" cy="5637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8280" y="1846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986360" y="198612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112000" y="1895400"/>
              <a:ext cx="125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Command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019120" y="3193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37200" y="33336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436960" y="3193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556480" y="33336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375160" y="2913120"/>
              <a:ext cx="797040" cy="833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504200" y="2913120"/>
              <a:ext cx="795240" cy="833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54840" y="2936880"/>
              <a:ext cx="9180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46" y="16"/>
                  </a:moveTo>
                  <a:lnTo>
                    <a:pt x="61" y="47"/>
                  </a:lnTo>
                  <a:lnTo>
                    <a:pt x="0" y="62"/>
                  </a:lnTo>
                  <a:lnTo>
                    <a:pt x="15" y="0"/>
                  </a:lnTo>
                  <a:lnTo>
                    <a:pt x="46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6124680" y="2496960"/>
              <a:ext cx="444240" cy="4654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27960" y="2936880"/>
              <a:ext cx="9360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15" y="16"/>
                  </a:moveTo>
                  <a:lnTo>
                    <a:pt x="46" y="0"/>
                  </a:lnTo>
                  <a:lnTo>
                    <a:pt x="61" y="62"/>
                  </a:lnTo>
                  <a:lnTo>
                    <a:pt x="0" y="47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07120" y="2496960"/>
              <a:ext cx="444600" cy="4654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388280" y="3157560"/>
              <a:ext cx="9360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31"/>
                  </a:moveTo>
                  <a:lnTo>
                    <a:pt x="0" y="0"/>
                  </a:lnTo>
                  <a:lnTo>
                    <a:pt x="62" y="31"/>
                  </a:lnTo>
                  <a:lnTo>
                    <a:pt x="0" y="6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172200" y="3206880"/>
              <a:ext cx="121608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194520" y="3451320"/>
              <a:ext cx="9360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1"/>
                  </a:moveTo>
                  <a:lnTo>
                    <a:pt x="62" y="62"/>
                  </a:lnTo>
                  <a:lnTo>
                    <a:pt x="0" y="31"/>
                  </a:lnTo>
                  <a:lnTo>
                    <a:pt x="62" y="0"/>
                  </a:lnTo>
                  <a:lnTo>
                    <a:pt x="62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288120" y="3500280"/>
              <a:ext cx="12160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51560" y="258120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: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37200" y="25812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: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16920" y="2971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:1: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910560" y="3265560"/>
              <a:ext cx="48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:1: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27800" y="4089240"/>
              <a:ext cx="795240" cy="83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41720" y="5005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858000" y="51451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780240" y="3965400"/>
              <a:ext cx="115920" cy="98640"/>
            </a:xfrm>
            <a:custGeom>
              <a:avLst/>
              <a:gdLst/>
              <a:ahLst/>
              <a:rect l="l" t="t" r="r" b="b"/>
              <a:pathLst>
                <a:path w="77" h="62">
                  <a:moveTo>
                    <a:pt x="31" y="0"/>
                  </a:moveTo>
                  <a:lnTo>
                    <a:pt x="77" y="0"/>
                  </a:lnTo>
                  <a:lnTo>
                    <a:pt x="31" y="62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26320" y="2546280"/>
              <a:ext cx="1440" cy="13953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48280" y="27781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303960" y="370836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: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66120" y="40514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:1: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33000" y="4051440"/>
              <a:ext cx="48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:1: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27960" y="3648240"/>
              <a:ext cx="9360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15" y="46"/>
                  </a:moveTo>
                  <a:lnTo>
                    <a:pt x="0" y="15"/>
                  </a:lnTo>
                  <a:lnTo>
                    <a:pt x="61" y="0"/>
                  </a:lnTo>
                  <a:lnTo>
                    <a:pt x="46" y="62"/>
                  </a:lnTo>
                  <a:lnTo>
                    <a:pt x="15" y="4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083360" y="3720960"/>
              <a:ext cx="468360" cy="4651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76960" y="4235400"/>
              <a:ext cx="9396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46" y="16"/>
                  </a:moveTo>
                  <a:lnTo>
                    <a:pt x="62" y="46"/>
                  </a:lnTo>
                  <a:lnTo>
                    <a:pt x="0" y="62"/>
                  </a:lnTo>
                  <a:lnTo>
                    <a:pt x="16" y="0"/>
                  </a:lnTo>
                  <a:lnTo>
                    <a:pt x="46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7246440" y="3697200"/>
              <a:ext cx="514440" cy="5637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54840" y="370836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: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54840" y="3648240"/>
              <a:ext cx="9180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46" y="31"/>
                  </a:moveTo>
                  <a:lnTo>
                    <a:pt x="15" y="62"/>
                  </a:lnTo>
                  <a:lnTo>
                    <a:pt x="0" y="0"/>
                  </a:lnTo>
                  <a:lnTo>
                    <a:pt x="61" y="15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124680" y="3720960"/>
              <a:ext cx="466560" cy="4651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91440" y="4206960"/>
              <a:ext cx="9360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16"/>
                  </a:moveTo>
                  <a:lnTo>
                    <a:pt x="46" y="0"/>
                  </a:lnTo>
                  <a:lnTo>
                    <a:pt x="62" y="62"/>
                  </a:lnTo>
                  <a:lnTo>
                    <a:pt x="0" y="46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13360" y="3697200"/>
              <a:ext cx="514440" cy="5349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95640" y="1785960"/>
              <a:ext cx="793800" cy="833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427800" y="1785960"/>
              <a:ext cx="795240" cy="83340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rver managing a mutual exclusion token for a set of process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6600" y="1477800"/>
            <a:ext cx="6462720" cy="4415040"/>
            <a:chOff x="1236600" y="1477800"/>
            <a:chExt cx="6462720" cy="4415040"/>
          </a:xfrm>
        </p:grpSpPr>
        <p:sp>
          <p:nvSpPr>
            <p:cNvPr id="91" name=""/>
            <p:cNvSpPr/>
            <p:nvPr/>
          </p:nvSpPr>
          <p:spPr>
            <a:xfrm>
              <a:off x="3882960" y="1779480"/>
              <a:ext cx="1616040" cy="1629000"/>
            </a:xfrm>
            <a:prstGeom prst="ellipse">
              <a:avLst/>
            </a:prstGeom>
            <a:solidFill>
              <a:srgbClr val="ffdc99"/>
            </a:solidFill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06920" y="2322360"/>
              <a:ext cx="2173320" cy="162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56000" y="2093760"/>
              <a:ext cx="30636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356000" y="2093760"/>
              <a:ext cx="33516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35680" y="3921120"/>
              <a:ext cx="863640" cy="857160"/>
            </a:xfrm>
            <a:prstGeom prst="ellipse">
              <a:avLst/>
            </a:prstGeom>
            <a:solidFill>
              <a:srgbClr val="ffdc99"/>
            </a:solidFill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92640" y="4950000"/>
              <a:ext cx="835200" cy="828360"/>
            </a:xfrm>
            <a:prstGeom prst="ellipse">
              <a:avLst/>
            </a:prstGeom>
            <a:solidFill>
              <a:srgbClr val="ffdc99"/>
            </a:solidFill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75120" y="5006880"/>
              <a:ext cx="892080" cy="885960"/>
            </a:xfrm>
            <a:prstGeom prst="ellipse">
              <a:avLst/>
            </a:prstGeom>
            <a:solidFill>
              <a:srgbClr val="ffdc99"/>
            </a:solidFill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36600" y="4092480"/>
              <a:ext cx="808200" cy="857520"/>
            </a:xfrm>
            <a:prstGeom prst="ellipse">
              <a:avLst/>
            </a:prstGeom>
            <a:solidFill>
              <a:srgbClr val="ffdc99"/>
            </a:solidFill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97400" y="1477800"/>
              <a:ext cx="67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29000" y="3122640"/>
              <a:ext cx="82800" cy="142920"/>
            </a:xfrm>
            <a:custGeom>
              <a:avLst/>
              <a:gdLst/>
              <a:ahLst/>
              <a:rect l="l" t="t" r="r" b="b"/>
              <a:pathLst>
                <a:path w="52" h="90">
                  <a:moveTo>
                    <a:pt x="17" y="90"/>
                  </a:moveTo>
                  <a:lnTo>
                    <a:pt x="0" y="72"/>
                  </a:lnTo>
                  <a:lnTo>
                    <a:pt x="52" y="0"/>
                  </a:lnTo>
                  <a:lnTo>
                    <a:pt x="35" y="90"/>
                  </a:lnTo>
                  <a:lnTo>
                    <a:pt x="17" y="9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521160" y="3265200"/>
              <a:ext cx="834840" cy="177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38960" y="3763800"/>
              <a:ext cx="110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 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11640" y="4021200"/>
              <a:ext cx="55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14680" y="1677960"/>
              <a:ext cx="93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ue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15040" y="1935000"/>
              <a:ext cx="87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48160" y="2008080"/>
              <a:ext cx="78084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80240" y="3921120"/>
              <a:ext cx="139680" cy="114480"/>
            </a:xfrm>
            <a:custGeom>
              <a:avLst/>
              <a:gdLst/>
              <a:ahLst/>
              <a:rect l="l" t="t" r="r" b="b"/>
              <a:pathLst>
                <a:path w="88" h="72">
                  <a:moveTo>
                    <a:pt x="17" y="18"/>
                  </a:moveTo>
                  <a:lnTo>
                    <a:pt x="17" y="0"/>
                  </a:lnTo>
                  <a:lnTo>
                    <a:pt x="88" y="72"/>
                  </a:lnTo>
                  <a:lnTo>
                    <a:pt x="0" y="36"/>
                  </a:lnTo>
                  <a:lnTo>
                    <a:pt x="17" y="18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68720" y="3208320"/>
              <a:ext cx="55800" cy="142920"/>
            </a:xfrm>
            <a:custGeom>
              <a:avLst/>
              <a:gdLst/>
              <a:ahLst/>
              <a:rect l="l" t="t" r="r" b="b"/>
              <a:pathLst>
                <a:path w="35" h="90">
                  <a:moveTo>
                    <a:pt x="18" y="90"/>
                  </a:moveTo>
                  <a:lnTo>
                    <a:pt x="0" y="90"/>
                  </a:lnTo>
                  <a:lnTo>
                    <a:pt x="0" y="0"/>
                  </a:lnTo>
                  <a:lnTo>
                    <a:pt x="35" y="72"/>
                  </a:lnTo>
                  <a:lnTo>
                    <a:pt x="18" y="9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4997160" y="3351240"/>
              <a:ext cx="501480" cy="162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01440" y="4135320"/>
              <a:ext cx="1090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 Rele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18320" y="4392720"/>
              <a:ext cx="55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7640" y="2963880"/>
              <a:ext cx="826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. Gr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53120" y="3220920"/>
              <a:ext cx="55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81640" y="2220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84800" y="2637000"/>
              <a:ext cx="27756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84800" y="2637000"/>
              <a:ext cx="3063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81640" y="2763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54280" y="4221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22400" y="4411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11240" y="5221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50920" y="5440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93360" y="53355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61840" y="5526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28200" y="4363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67880" y="4583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ring of processes transferring a mutual exclusion toke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79640" y="1473120"/>
            <a:ext cx="56610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2.4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Ricart and Agrawala’s algorith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29720" y="1379520"/>
            <a:ext cx="7724520" cy="4914720"/>
            <a:chOff x="729720" y="1379520"/>
            <a:chExt cx="7724520" cy="4914720"/>
          </a:xfrm>
        </p:grpSpPr>
        <p:sp>
          <p:nvSpPr>
            <p:cNvPr id="130" name=""/>
            <p:cNvSpPr/>
            <p:nvPr/>
          </p:nvSpPr>
          <p:spPr>
            <a:xfrm>
              <a:off x="729720" y="1379520"/>
              <a:ext cx="7724520" cy="49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On initial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:= RELEASED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o enter the s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:= WANTED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Multicast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to all processes;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request processing deferred 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:= request’s timest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Wait until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(number of replies received = (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– 1)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:= HELD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On receipt of a request &lt;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, p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&gt; at p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 (i ≠ j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 (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= HELD or (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= WANTED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) &lt; (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)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queu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from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without replying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else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ply immediately to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nd i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o exit the critical s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:= RELEASED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ply to any queued requests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34080" y="2136600"/>
              <a:ext cx="69840" cy="716040"/>
            </a:xfrm>
            <a:custGeom>
              <a:avLst/>
              <a:gdLst>
                <a:gd name="textAreaLeft" fmla="*/ 0 w 69840"/>
                <a:gd name="textAreaRight" fmla="*/ 25200 w 69840"/>
                <a:gd name="textAreaTop" fmla="*/ 18360 h 716040"/>
                <a:gd name="textAreaBottom" fmla="*/ 697680 h 71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2.5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ulticast synchroniz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35160" y="1438200"/>
            <a:ext cx="6801840" cy="4764240"/>
            <a:chOff x="1235160" y="1438200"/>
            <a:chExt cx="6801840" cy="4764240"/>
          </a:xfrm>
        </p:grpSpPr>
        <p:sp>
          <p:nvSpPr>
            <p:cNvPr id="134" name=""/>
            <p:cNvSpPr/>
            <p:nvPr/>
          </p:nvSpPr>
          <p:spPr>
            <a:xfrm flipH="1" flipV="1">
              <a:off x="2967120" y="3722400"/>
              <a:ext cx="1196640" cy="104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19760" y="4764240"/>
              <a:ext cx="944640" cy="10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35160" y="2109960"/>
              <a:ext cx="1636920" cy="1712880"/>
            </a:xfrm>
            <a:prstGeom prst="ellipse">
              <a:avLst/>
            </a:prstGeom>
            <a:solidFill>
              <a:srgbClr val="ffdc99"/>
            </a:solidFill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68120" y="4489560"/>
              <a:ext cx="1636920" cy="1712880"/>
            </a:xfrm>
            <a:prstGeom prst="ellipse">
              <a:avLst/>
            </a:prstGeom>
            <a:solidFill>
              <a:srgbClr val="ffdc99"/>
            </a:solidFill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80160" y="1808280"/>
              <a:ext cx="944640" cy="1041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67680" y="1438200"/>
              <a:ext cx="1669320" cy="1779840"/>
            </a:xfrm>
            <a:prstGeom prst="ellipse">
              <a:avLst/>
            </a:prstGeom>
            <a:solidFill>
              <a:srgbClr val="ffdc99"/>
            </a:solidFill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16040" y="2043000"/>
              <a:ext cx="251640" cy="133560"/>
            </a:xfrm>
            <a:custGeom>
              <a:avLst/>
              <a:gdLst/>
              <a:ahLst/>
              <a:rect l="l" t="t" r="r" b="b"/>
              <a:pathLst>
                <a:path w="169" h="84">
                  <a:moveTo>
                    <a:pt x="0" y="42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21" y="8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809440" y="2109600"/>
              <a:ext cx="330624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34480" y="4830840"/>
              <a:ext cx="219960" cy="201600"/>
            </a:xfrm>
            <a:custGeom>
              <a:avLst/>
              <a:gdLst/>
              <a:ahLst/>
              <a:rect l="l" t="t" r="r" b="b"/>
              <a:pathLst>
                <a:path w="148" h="127">
                  <a:moveTo>
                    <a:pt x="21" y="42"/>
                  </a:moveTo>
                  <a:lnTo>
                    <a:pt x="63" y="0"/>
                  </a:lnTo>
                  <a:lnTo>
                    <a:pt x="148" y="127"/>
                  </a:lnTo>
                  <a:lnTo>
                    <a:pt x="0" y="63"/>
                  </a:lnTo>
                  <a:lnTo>
                    <a:pt x="21" y="42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11120" y="3689280"/>
              <a:ext cx="1353960" cy="117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78120" y="3587760"/>
              <a:ext cx="220320" cy="201600"/>
            </a:xfrm>
            <a:custGeom>
              <a:avLst/>
              <a:gdLst/>
              <a:ahLst/>
              <a:rect l="l" t="t" r="r" b="b"/>
              <a:pathLst>
                <a:path w="148" h="127">
                  <a:moveTo>
                    <a:pt x="106" y="85"/>
                  </a:moveTo>
                  <a:lnTo>
                    <a:pt x="85" y="127"/>
                  </a:lnTo>
                  <a:lnTo>
                    <a:pt x="0" y="0"/>
                  </a:lnTo>
                  <a:lnTo>
                    <a:pt x="148" y="64"/>
                  </a:lnTo>
                  <a:lnTo>
                    <a:pt x="106" y="8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74080" y="2916360"/>
              <a:ext cx="188640" cy="234720"/>
            </a:xfrm>
            <a:custGeom>
              <a:avLst/>
              <a:gdLst/>
              <a:ahLst/>
              <a:rect l="l" t="t" r="r" b="b"/>
              <a:pathLst>
                <a:path w="127" h="148">
                  <a:moveTo>
                    <a:pt x="21" y="127"/>
                  </a:moveTo>
                  <a:lnTo>
                    <a:pt x="0" y="85"/>
                  </a:lnTo>
                  <a:lnTo>
                    <a:pt x="127" y="0"/>
                  </a:lnTo>
                  <a:lnTo>
                    <a:pt x="63" y="148"/>
                  </a:lnTo>
                  <a:lnTo>
                    <a:pt x="21" y="12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982040" y="3117960"/>
              <a:ext cx="1322640" cy="151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78040" y="2170080"/>
              <a:ext cx="16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70920" y="2467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66360" y="379728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67120" y="2916360"/>
              <a:ext cx="220320" cy="134640"/>
            </a:xfrm>
            <a:custGeom>
              <a:avLst/>
              <a:gdLst/>
              <a:ahLst/>
              <a:rect l="l" t="t" r="r" b="b"/>
              <a:pathLst>
                <a:path w="148" h="85">
                  <a:moveTo>
                    <a:pt x="148" y="42"/>
                  </a:moveTo>
                  <a:lnTo>
                    <a:pt x="148" y="85"/>
                  </a:lnTo>
                  <a:lnTo>
                    <a:pt x="0" y="85"/>
                  </a:lnTo>
                  <a:lnTo>
                    <a:pt x="127" y="0"/>
                  </a:lnTo>
                  <a:lnTo>
                    <a:pt x="148" y="42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187440" y="2176560"/>
              <a:ext cx="3180240" cy="80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71040" y="4494240"/>
              <a:ext cx="188640" cy="235080"/>
            </a:xfrm>
            <a:custGeom>
              <a:avLst/>
              <a:gdLst/>
              <a:ahLst/>
              <a:rect l="l" t="t" r="r" b="b"/>
              <a:pathLst>
                <a:path w="127" h="148">
                  <a:moveTo>
                    <a:pt x="106" y="22"/>
                  </a:moveTo>
                  <a:lnTo>
                    <a:pt x="127" y="64"/>
                  </a:lnTo>
                  <a:lnTo>
                    <a:pt x="0" y="148"/>
                  </a:lnTo>
                  <a:lnTo>
                    <a:pt x="64" y="0"/>
                  </a:lnTo>
                  <a:lnTo>
                    <a:pt x="106" y="22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5329080" y="2949480"/>
              <a:ext cx="1322640" cy="15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74760" y="4394160"/>
              <a:ext cx="219960" cy="201600"/>
            </a:xfrm>
            <a:custGeom>
              <a:avLst/>
              <a:gdLst/>
              <a:ahLst/>
              <a:rect l="l" t="t" r="r" b="b"/>
              <a:pathLst>
                <a:path w="148" h="127">
                  <a:moveTo>
                    <a:pt x="42" y="21"/>
                  </a:moveTo>
                  <a:lnTo>
                    <a:pt x="63" y="0"/>
                  </a:lnTo>
                  <a:lnTo>
                    <a:pt x="148" y="127"/>
                  </a:lnTo>
                  <a:lnTo>
                    <a:pt x="0" y="63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47160" y="3352680"/>
              <a:ext cx="1258560" cy="107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08520" y="2976480"/>
              <a:ext cx="58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p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86800" y="50497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79120" y="44658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16960" y="195588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66560" y="229248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51440" y="416736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35160" y="2109960"/>
              <a:ext cx="1636920" cy="1712880"/>
            </a:xfrm>
            <a:prstGeom prst="ellipse">
              <a:avLst/>
            </a:prstGeom>
            <a:solidFill>
              <a:srgbClr val="ffdc99"/>
            </a:solidFill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85040" y="2773440"/>
              <a:ext cx="16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81520" y="30718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36360" y="5159520"/>
              <a:ext cx="16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32120" y="54561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94600" y="3849840"/>
              <a:ext cx="58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p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23440" y="4017960"/>
              <a:ext cx="58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p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69360" y="5132520"/>
              <a:ext cx="95040" cy="168120"/>
            </a:xfrm>
            <a:custGeom>
              <a:avLst/>
              <a:gdLst/>
              <a:ahLst/>
              <a:rect l="l" t="t" r="r" b="b"/>
              <a:pathLst>
                <a:path w="64" h="106">
                  <a:moveTo>
                    <a:pt x="42" y="0"/>
                  </a:moveTo>
                  <a:lnTo>
                    <a:pt x="64" y="0"/>
                  </a:lnTo>
                  <a:lnTo>
                    <a:pt x="64" y="106"/>
                  </a:lnTo>
                  <a:lnTo>
                    <a:pt x="0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5800680" y="5032080"/>
              <a:ext cx="30960" cy="6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61080" y="2076480"/>
              <a:ext cx="95040" cy="201600"/>
            </a:xfrm>
            <a:custGeom>
              <a:avLst/>
              <a:gdLst/>
              <a:ahLst/>
              <a:rect l="l" t="t" r="r" b="b"/>
              <a:pathLst>
                <a:path w="64" h="127">
                  <a:moveTo>
                    <a:pt x="43" y="106"/>
                  </a:moveTo>
                  <a:lnTo>
                    <a:pt x="0" y="127"/>
                  </a:lnTo>
                  <a:lnTo>
                    <a:pt x="0" y="0"/>
                  </a:lnTo>
                  <a:lnTo>
                    <a:pt x="64" y="106"/>
                  </a:lnTo>
                  <a:lnTo>
                    <a:pt x="43" y="10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125160" y="2277720"/>
              <a:ext cx="1080" cy="6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2.6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aekawa’s algorithm – part 1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3800" y="1328760"/>
            <a:ext cx="4275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On initializ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:= RELEASED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voted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:= FA_x0008_LSE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For p</a:t>
            </a:r>
            <a:r>
              <a:rPr b="0" i="1" lang="en-GB" sz="1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to enter the critical se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:= WANTED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Multicast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to all processes in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1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Wait until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(number of replies received =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:= HELD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On receipt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of a request from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1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 at p</a:t>
            </a:r>
            <a:r>
              <a:rPr b="0" i="1" lang="en-GB" sz="1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= HELD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voted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= TRU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queue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1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without replying;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send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reply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1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voted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:= TRUE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91040" y="1341360"/>
            <a:ext cx="392760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For p</a:t>
            </a:r>
            <a:r>
              <a:rPr b="0" i="1" lang="en-GB" sz="1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 to exit the critical se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:= RELEASED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Multicast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to all processes in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1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On receipt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of a release from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1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 at p</a:t>
            </a:r>
            <a:r>
              <a:rPr b="0" i="1" lang="en-GB" sz="1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(queue of requests is non-empty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remove head of queue – from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1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, say;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send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reply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1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voted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:= TRUE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voted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:= FALSE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63"/>
              </a:spcBef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26160" y="1303200"/>
            <a:ext cx="0" cy="442296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ring-based election in progres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398680" y="1355760"/>
            <a:ext cx="4529160" cy="38988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779480" y="5508720"/>
            <a:ext cx="595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The election was started by process 17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highest process identifier encountered so far is 24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nt processes are shown darke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bully algorith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43280" y="1373040"/>
            <a:ext cx="4665600" cy="4876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43080" y="1335240"/>
            <a:ext cx="318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election of coordinator 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fter the failure of 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then 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George Coulouris</cp:lastModifiedBy>
  <cp:lastPrinted>2000-11-12T21:05:10Z</cp:lastPrinted>
  <dcterms:modified xsi:type="dcterms:W3CDTF">2005-05-21T10:07:20Z</dcterms:modified>
  <cp:revision>61</cp:revision>
  <dc:subject/>
  <dc:title>Figure 15.1 A distributed multimedia system</dc:title>
</cp:coreProperties>
</file>