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EE1-3826-4FCC-97F8-E7615E1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FC0-207C-4AF1-9D53-44729FA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704-A39D-47DF-9CBE-613EB25D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7EC-FFB9-4E9C-8BB5-E3E55095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887-D19D-49BD-ABFE-1CF1B86F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E572-5600-4E9A-A8AD-D815ABE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E79F-6D42-43FB-A612-73998AE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384D-358D-45C4-B25A-B0CF56B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4C10-68BF-4BB3-9890-89B36D2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4797-DBAA-439C-97F1-C691EF2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E07-354D-408B-A18E-ACC2926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9DC-241F-40FF-9D67-78F7E40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EDAE-9FE2-4EBA-9A64-6BFD8EE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549-E531-4014-958D-3903200F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C6E1-EB5B-41DB-8FF4-EA98EC96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E36-5BAE-4B0B-B2E9-11E4E120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C881-FC48-450F-A9CA-F6D2CAA6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ADB-9B09-43A0-90B4-39D6DCA6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0E7-2BA2-414F-9F8F-376CA3B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572-CEE5-4FCE-89A1-4E044E73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5AE-0979-4EC4-9A66-1C4EC251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248-2773-4FAB-B652-5E6C670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337-295A-45DA-8EC5-2097E1D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8C7-266B-417C-BF20-7C1CDBE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FD5-1F07-49DA-8817-5CADDAA2C7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F15-9DCD-48AB-B459-11ACA2F85B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6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bile and Ubiquitous Comput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9200" y="3024360"/>
            <a:ext cx="186984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ting an active bat within a room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35360" y="2276640"/>
            <a:ext cx="3627360" cy="1801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6880" y="3144960"/>
            <a:ext cx="1098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6880" y="3144960"/>
            <a:ext cx="130320" cy="10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600" y="2589120"/>
            <a:ext cx="225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3. Ultrasound receiv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83400" y="3267000"/>
            <a:ext cx="137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Active b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6120" y="1763640"/>
            <a:ext cx="339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1. Base station sends timing sig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37280" y="2256120"/>
            <a:ext cx="215640" cy="21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0183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0183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72120" y="2278440"/>
            <a:ext cx="260280" cy="2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38843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38843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85000" y="2321280"/>
            <a:ext cx="304200" cy="30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5" y="21599"/>
                </a:moveTo>
                <a:arcTo wR="10800" hR="10800" stAng="5436571" swAng="5399238"/>
                <a:lnTo>
                  <a:pt x="10800" y="10800"/>
                </a:lnTo>
                <a:close/>
              </a:path>
              <a:path fill="none" w="21600" h="21600">
                <a:moveTo>
                  <a:pt x="10685" y="21599"/>
                </a:moveTo>
                <a:arcTo wR="10800" hR="10800" stAng="5436571" swAng="5399238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30520" y="2101680"/>
            <a:ext cx="273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7760" y="1960560"/>
            <a:ext cx="34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o ultrasound receivers and ra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37080" y="2155680"/>
            <a:ext cx="29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ignal to bat simultaneous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8200" y="2101680"/>
            <a:ext cx="1800" cy="21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3440" y="2101680"/>
            <a:ext cx="180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59560" y="2101680"/>
            <a:ext cx="1440" cy="174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43480" y="2276640"/>
            <a:ext cx="23796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3480" y="2276640"/>
            <a:ext cx="26028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00560" y="2276640"/>
            <a:ext cx="23796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00560" y="2276640"/>
            <a:ext cx="26028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29240" y="2276640"/>
            <a:ext cx="26028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29240" y="2276640"/>
            <a:ext cx="28116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45280" y="2101680"/>
            <a:ext cx="195120" cy="152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5280" y="2101680"/>
            <a:ext cx="217440" cy="174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8240" y="3462480"/>
            <a:ext cx="266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emits ultrasound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5320" y="3705120"/>
            <a:ext cx="28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on receipt of radio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840" y="2855880"/>
            <a:ext cx="243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report times of fligh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600" y="3146400"/>
            <a:ext cx="18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ultrasound pu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597040" y="2406600"/>
            <a:ext cx="695520" cy="30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21200" y="3035160"/>
            <a:ext cx="21564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42"/>
                </a:moveTo>
                <a:arcTo wR="10800" hR="10800" stAng="-10749817" swAng="5349817"/>
                <a:lnTo>
                  <a:pt x="10800" y="10800"/>
                </a:lnTo>
                <a:close/>
              </a:path>
              <a:path fill="none" w="21600" h="21600">
                <a:moveTo>
                  <a:pt x="1" y="10642"/>
                </a:moveTo>
                <a:arcTo wR="10800" hR="10800" stAng="-10749817" swAng="534981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34080" y="2949480"/>
            <a:ext cx="25956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8"/>
                </a:moveTo>
                <a:arcTo wR="10800" hR="10800" stAng="-10761157" swAng="5361157"/>
                <a:lnTo>
                  <a:pt x="10800" y="10800"/>
                </a:lnTo>
                <a:close/>
              </a:path>
              <a:path fill="none" w="21600" h="21600">
                <a:moveTo>
                  <a:pt x="1" y="10678"/>
                </a:moveTo>
                <a:arcTo wR="10800" hR="10800" stAng="-10761157" swAng="536115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46600" y="2884320"/>
            <a:ext cx="304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7"/>
                </a:moveTo>
                <a:arcTo wR="10800" hR="10800" stAng="-10764004" swAng="5364004"/>
                <a:lnTo>
                  <a:pt x="10800" y="10800"/>
                </a:lnTo>
                <a:close/>
              </a:path>
              <a:path fill="none" w="21600" h="21600">
                <a:moveTo>
                  <a:pt x="1" y="10687"/>
                </a:moveTo>
                <a:arcTo wR="10800" hR="10800" stAng="-10764004" swAng="5364004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08680" y="3035160"/>
            <a:ext cx="21528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3" y="1"/>
                </a:moveTo>
                <a:arcTo wR="10800" hR="10800" stAng="-5449819" swAng="5398513"/>
                <a:lnTo>
                  <a:pt x="10800" y="10800"/>
                </a:lnTo>
                <a:close/>
              </a:path>
              <a:path fill="none" w="21600" h="21600">
                <a:moveTo>
                  <a:pt x="10643" y="1"/>
                </a:moveTo>
                <a:arcTo wR="10800" hR="10800" stAng="-5449819" swAng="5398513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51160" y="2949480"/>
            <a:ext cx="26028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115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115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4360" y="2884320"/>
            <a:ext cx="304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03240" y="2806560"/>
            <a:ext cx="344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4. Base station computes distanc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9520" y="3002040"/>
            <a:ext cx="299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o ultrasound receiver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07560" y="3197160"/>
            <a:ext cx="33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imes of flight, and thus 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04120" y="3392640"/>
            <a:ext cx="82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of b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85040" y="2254320"/>
            <a:ext cx="237960" cy="542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device association using physical contac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22640" y="2409840"/>
            <a:ext cx="257040" cy="25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65480" y="2495520"/>
            <a:ext cx="428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71680" y="2495520"/>
            <a:ext cx="428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08320" y="2581200"/>
            <a:ext cx="63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22640" y="2859120"/>
            <a:ext cx="257040" cy="25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2944800"/>
            <a:ext cx="2232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71680" y="2944800"/>
            <a:ext cx="42840" cy="428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8320" y="3051000"/>
            <a:ext cx="63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00440" y="2687760"/>
            <a:ext cx="6336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00440" y="2687760"/>
            <a:ext cx="85680" cy="648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00440" y="2838600"/>
            <a:ext cx="633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2838600"/>
            <a:ext cx="85680" cy="856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83240" y="2581200"/>
            <a:ext cx="385920" cy="36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34200" y="2238480"/>
            <a:ext cx="406440" cy="106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1160" y="3382920"/>
            <a:ext cx="181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1. Fresh secret 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50000" y="3382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25080" y="3382920"/>
            <a:ext cx="295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exchanged by physical 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99600" y="3382920"/>
            <a:ext cx="44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Devices communicate using secure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91240" y="2195640"/>
            <a:ext cx="1220760" cy="53496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14760" y="2430360"/>
            <a:ext cx="234720" cy="236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14760" y="2430360"/>
            <a:ext cx="257040" cy="257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4760" y="2901960"/>
            <a:ext cx="234720" cy="257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14760" y="2901960"/>
            <a:ext cx="257040" cy="27792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83360" y="2281320"/>
            <a:ext cx="4284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83360" y="2281320"/>
            <a:ext cx="65160" cy="856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40400" y="2795760"/>
            <a:ext cx="42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40400" y="2795760"/>
            <a:ext cx="65160" cy="6336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7680" y="2044800"/>
            <a:ext cx="236520" cy="236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7680" y="2044800"/>
            <a:ext cx="257040" cy="257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34200" y="2859120"/>
            <a:ext cx="234720" cy="23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34200" y="2859120"/>
            <a:ext cx="257040" cy="257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29080" y="235440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99040" y="3575160"/>
            <a:ext cx="187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onstructed o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1520" y="3575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14600" y="3575160"/>
            <a:ext cx="63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96720" y="35751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70720" y="1981080"/>
            <a:ext cx="255240" cy="257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34080" y="2066760"/>
            <a:ext cx="22320" cy="208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40280" y="2066760"/>
            <a:ext cx="22320" cy="208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6920" y="2152800"/>
            <a:ext cx="63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91120" y="2924280"/>
            <a:ext cx="257400" cy="2556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33960" y="2987640"/>
            <a:ext cx="42840" cy="428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40520" y="3008160"/>
            <a:ext cx="42840" cy="223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76800" y="3094200"/>
            <a:ext cx="63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01920" y="2654280"/>
            <a:ext cx="12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43280" y="2687760"/>
            <a:ext cx="1440" cy="193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906640" y="2752560"/>
            <a:ext cx="34308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9080" y="2602080"/>
            <a:ext cx="1440" cy="107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65360" y="2602080"/>
            <a:ext cx="106560" cy="107640"/>
          </a:xfrm>
          <a:custGeom>
            <a:avLst/>
            <a:gdLst/>
            <a:ahLst/>
            <a:rect l="l" t="t" r="r" b="b"/>
            <a:pathLst>
              <a:path w="67" h="68">
                <a:moveTo>
                  <a:pt x="67" y="0"/>
                </a:moveTo>
                <a:lnTo>
                  <a:pt x="40" y="68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29080" y="2538360"/>
            <a:ext cx="144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629080" y="2881080"/>
            <a:ext cx="1440" cy="106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65360" y="2881440"/>
            <a:ext cx="10656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0" y="53"/>
                </a:moveTo>
                <a:lnTo>
                  <a:pt x="40" y="0"/>
                </a:lnTo>
                <a:lnTo>
                  <a:pt x="67" y="53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629080" y="2987640"/>
            <a:ext cx="144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a man-in-the-middl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25560" y="2692440"/>
            <a:ext cx="435240" cy="33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9280" y="2443320"/>
            <a:ext cx="22716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9280" y="2443320"/>
            <a:ext cx="247680" cy="2696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725560" y="2152440"/>
            <a:ext cx="457200" cy="29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000" y="293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 Helvetica Condensed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90000" y="21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 Helvetica Condensed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12240" y="2473200"/>
            <a:ext cx="165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Man-in-the-mid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2760" y="1800360"/>
            <a:ext cx="1513080" cy="434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82760" y="1800360"/>
            <a:ext cx="1533600" cy="455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86080" y="1862280"/>
            <a:ext cx="12859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86080" y="1862280"/>
            <a:ext cx="1306440" cy="311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7720" y="1935000"/>
            <a:ext cx="1206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sh=0x6F9E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2760" y="2940120"/>
            <a:ext cx="1513080" cy="436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82760" y="2940120"/>
            <a:ext cx="1533600" cy="4572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86080" y="3003480"/>
            <a:ext cx="12859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003480"/>
            <a:ext cx="1306440" cy="311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37200" y="3075120"/>
            <a:ext cx="124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sh=0xD57C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2520" y="1903320"/>
            <a:ext cx="227160" cy="2494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03920" y="1987560"/>
            <a:ext cx="410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06880" y="1987560"/>
            <a:ext cx="2088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44960" y="2070000"/>
            <a:ext cx="61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40200" y="3044880"/>
            <a:ext cx="249480" cy="2491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03920" y="3127320"/>
            <a:ext cx="2052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06880" y="3127320"/>
            <a:ext cx="2088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440" y="3209760"/>
            <a:ext cx="82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27680" y="2162160"/>
            <a:ext cx="423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2. User(s) compare hashes of keys displayed 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9520" y="2347920"/>
            <a:ext cx="455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s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by sight or with an integrated imag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26960" y="2535120"/>
            <a:ext cx="413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. Since they differ, they conclude tha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96720" y="2720880"/>
            <a:ext cx="440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there is a man-in-the-middle or that accident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600" y="2409840"/>
            <a:ext cx="19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1. Keys exchanged b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3000" y="2597040"/>
            <a:ext cx="1488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iffie-Hellm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8440" y="278460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979640" y="2214360"/>
            <a:ext cx="745920" cy="207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38240" y="2774880"/>
            <a:ext cx="787320" cy="165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46120" y="2908440"/>
            <a:ext cx="285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mis-association has occurr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07920" y="3405240"/>
            <a:ext cx="262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 displaying hash of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ltown layer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2320" y="1519200"/>
            <a:ext cx="8389800" cy="3396960"/>
            <a:chOff x="652320" y="1519200"/>
            <a:chExt cx="8389800" cy="3396960"/>
          </a:xfrm>
        </p:grpSpPr>
        <p:sp>
          <p:nvSpPr>
            <p:cNvPr id="553" name=""/>
            <p:cNvSpPr/>
            <p:nvPr/>
          </p:nvSpPr>
          <p:spPr>
            <a:xfrm>
              <a:off x="803880" y="1673640"/>
              <a:ext cx="8115840" cy="296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3880" y="1673640"/>
              <a:ext cx="8145360" cy="2986920"/>
            </a:xfrm>
            <a:prstGeom prst="rect">
              <a:avLst/>
            </a:prstGeom>
            <a:noFill/>
            <a:ln w="22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31560" y="1519200"/>
              <a:ext cx="2160" cy="919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680" y="3564000"/>
              <a:ext cx="566280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64960" y="2578680"/>
              <a:ext cx="154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Web presenc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2438280"/>
              <a:ext cx="832896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66920" y="3564000"/>
              <a:ext cx="1800" cy="1352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5840" y="3104280"/>
              <a:ext cx="1800" cy="1735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79480" y="3957840"/>
              <a:ext cx="19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Direct URL sens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66920" y="4124880"/>
              <a:ext cx="323856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01760" y="3702240"/>
              <a:ext cx="1325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ID resolu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52960" y="4213440"/>
              <a:ext cx="107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ID sens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77640" y="3601440"/>
              <a:ext cx="169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Network servi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69320" y="3857040"/>
              <a:ext cx="104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Discover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88560" y="1914840"/>
              <a:ext cx="379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Context (aggregated web presenc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81840" y="1914840"/>
              <a:ext cx="2349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eSquirt: URL exchan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3160" y="3077640"/>
              <a:ext cx="832896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55400" y="319104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Physical hyperlink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pturing and printing the web presence of a painting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96920" y="2236680"/>
            <a:ext cx="206280" cy="206640"/>
          </a:xfrm>
          <a:prstGeom prst="ellipse">
            <a:avLst/>
          </a:prstGeom>
          <a:solidFill>
            <a:srgbClr val="ffdc99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47680" y="2289240"/>
            <a:ext cx="2700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25440" y="2289240"/>
            <a:ext cx="255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74680" y="2365200"/>
            <a:ext cx="50760" cy="1800"/>
          </a:xfrm>
          <a:prstGeom prst="line">
            <a:avLst/>
          </a:prstGeom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44720" y="1901880"/>
            <a:ext cx="618840" cy="876240"/>
          </a:xfrm>
          <a:prstGeom prst="rect">
            <a:avLst/>
          </a:prstGeom>
          <a:noFill/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96920" y="2443320"/>
            <a:ext cx="360360" cy="231480"/>
          </a:xfrm>
          <a:custGeom>
            <a:avLst/>
            <a:gdLst/>
            <a:ahLst/>
            <a:rect l="l" t="t" r="r" b="b"/>
            <a:pathLst>
              <a:path w="227" h="146">
                <a:moveTo>
                  <a:pt x="0" y="81"/>
                </a:moveTo>
                <a:lnTo>
                  <a:pt x="114" y="0"/>
                </a:lnTo>
                <a:lnTo>
                  <a:pt x="227" y="49"/>
                </a:lnTo>
                <a:lnTo>
                  <a:pt x="81" y="146"/>
                </a:lnTo>
                <a:lnTo>
                  <a:pt x="0" y="81"/>
                </a:lnTo>
                <a:close/>
              </a:path>
            </a:pathLst>
          </a:custGeom>
          <a:solidFill>
            <a:srgbClr val="ffdc99"/>
          </a:solidFill>
          <a:ln w="255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32080" y="1952640"/>
            <a:ext cx="102960" cy="52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32080" y="2211480"/>
            <a:ext cx="102960" cy="50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32080" y="2004840"/>
            <a:ext cx="102960" cy="206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96920" y="2004840"/>
            <a:ext cx="5076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28760" y="2004840"/>
            <a:ext cx="5220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7680" y="2004840"/>
            <a:ext cx="18108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20880" y="2185920"/>
            <a:ext cx="30960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98640" y="228924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1960" y="2289240"/>
            <a:ext cx="507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24200" y="2392200"/>
            <a:ext cx="7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63840" y="2906640"/>
            <a:ext cx="1033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3840" y="2906640"/>
            <a:ext cx="128520" cy="23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66880" y="2571840"/>
            <a:ext cx="12852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66880" y="2571840"/>
            <a:ext cx="155520" cy="15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2040" y="3875040"/>
            <a:ext cx="272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. User captures URL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73160" y="2700360"/>
            <a:ext cx="10332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65" y="0"/>
                </a:moveTo>
                <a:lnTo>
                  <a:pt x="49" y="65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76480" y="2752560"/>
            <a:ext cx="103320" cy="181080"/>
          </a:xfrm>
          <a:custGeom>
            <a:avLst/>
            <a:gdLst/>
            <a:ahLst/>
            <a:rect l="l" t="t" r="r" b="b"/>
            <a:pathLst>
              <a:path w="65" h="114">
                <a:moveTo>
                  <a:pt x="65" y="0"/>
                </a:moveTo>
                <a:lnTo>
                  <a:pt x="65" y="65"/>
                </a:lnTo>
                <a:lnTo>
                  <a:pt x="0" y="114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79800" y="2803680"/>
            <a:ext cx="128520" cy="206280"/>
          </a:xfrm>
          <a:custGeom>
            <a:avLst/>
            <a:gdLst/>
            <a:ahLst/>
            <a:rect l="l" t="t" r="r" b="b"/>
            <a:pathLst>
              <a:path w="81" h="130">
                <a:moveTo>
                  <a:pt x="81" y="0"/>
                </a:moveTo>
                <a:lnTo>
                  <a:pt x="65" y="82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640" y="3281400"/>
            <a:ext cx="3770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lt;link title=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p Suey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ref=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tp..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23840" y="4106880"/>
            <a:ext cx="2622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web pres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7000" y="224964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beac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4560" y="2495520"/>
            <a:ext cx="362160" cy="4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30960" y="2778120"/>
            <a:ext cx="10332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30960" y="2778120"/>
            <a:ext cx="130320" cy="20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19840" y="2185920"/>
            <a:ext cx="282600" cy="309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70600" y="2289240"/>
            <a:ext cx="507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9120" y="2289240"/>
            <a:ext cx="255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1360" y="2392200"/>
            <a:ext cx="7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18320" y="2752560"/>
            <a:ext cx="52200" cy="206640"/>
          </a:xfrm>
          <a:custGeom>
            <a:avLst/>
            <a:gdLst/>
            <a:ahLst/>
            <a:rect l="l" t="t" r="r" b="b"/>
            <a:pathLst>
              <a:path w="33" h="130">
                <a:moveTo>
                  <a:pt x="0" y="0"/>
                </a:moveTo>
                <a:lnTo>
                  <a:pt x="33" y="65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46840" y="2752560"/>
            <a:ext cx="52560" cy="206640"/>
          </a:xfrm>
          <a:custGeom>
            <a:avLst/>
            <a:gdLst/>
            <a:ahLst/>
            <a:rect l="l" t="t" r="r" b="b"/>
            <a:pathLst>
              <a:path w="33" h="130">
                <a:moveTo>
                  <a:pt x="0" y="0"/>
                </a:moveTo>
                <a:lnTo>
                  <a:pt x="33" y="65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50160" y="2727360"/>
            <a:ext cx="52200" cy="257040"/>
          </a:xfrm>
          <a:custGeom>
            <a:avLst/>
            <a:gdLst/>
            <a:ahLst/>
            <a:rect l="l" t="t" r="r" b="b"/>
            <a:pathLst>
              <a:path w="33" h="162">
                <a:moveTo>
                  <a:pt x="0" y="0"/>
                </a:moveTo>
                <a:lnTo>
                  <a:pt x="33" y="81"/>
                </a:lnTo>
                <a:lnTo>
                  <a:pt x="0" y="162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59080" y="3875040"/>
            <a:ext cx="318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B. User sends URL to prin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984280" y="4106880"/>
            <a:ext cx="2844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using eSquirt, to print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511960" y="3281400"/>
            <a:ext cx="376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lt;link title=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p Suey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ref=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tp..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93800" y="2843280"/>
            <a:ext cx="157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DA or ph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766520" y="2984400"/>
            <a:ext cx="284040" cy="20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46840" y="3062160"/>
            <a:ext cx="27000" cy="2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0880" y="433872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web pres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360" y="1579680"/>
            <a:ext cx="94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91240" y="2803680"/>
            <a:ext cx="594000" cy="155520"/>
          </a:xfrm>
          <a:prstGeom prst="roundRect">
            <a:avLst>
              <a:gd name="adj" fmla="val 33162"/>
            </a:avLst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66040" y="2778120"/>
            <a:ext cx="644400" cy="206280"/>
          </a:xfrm>
          <a:prstGeom prst="roundRect">
            <a:avLst>
              <a:gd name="adj" fmla="val 25000"/>
            </a:avLst>
          </a:prstGeom>
          <a:noFill/>
          <a:ln w="50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80960" y="2314440"/>
            <a:ext cx="179640" cy="181080"/>
          </a:xfrm>
          <a:prstGeom prst="ellipse">
            <a:avLst/>
          </a:prstGeom>
          <a:solidFill>
            <a:srgbClr val="ffdc99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32080" y="2365200"/>
            <a:ext cx="1440" cy="2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09840" y="2365200"/>
            <a:ext cx="1440" cy="2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7280" y="2443320"/>
            <a:ext cx="52560" cy="1440"/>
          </a:xfrm>
          <a:prstGeom prst="line">
            <a:avLst/>
          </a:prstGeom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44720" y="2185920"/>
            <a:ext cx="30924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22480" y="2262240"/>
            <a:ext cx="25200" cy="52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51000" y="2289240"/>
            <a:ext cx="2700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74680" y="2392200"/>
            <a:ext cx="7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28760" y="2236680"/>
            <a:ext cx="30960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6520" y="234000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35040" y="234000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57280" y="2443320"/>
            <a:ext cx="77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oom responding to a user wearing an active bad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6240" y="1911240"/>
            <a:ext cx="3824280" cy="21384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14800" y="2719440"/>
            <a:ext cx="285840" cy="28404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86440" y="2814480"/>
            <a:ext cx="23760" cy="241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05240" y="2814480"/>
            <a:ext cx="24120" cy="241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33960" y="2908440"/>
            <a:ext cx="712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9760" y="3075120"/>
            <a:ext cx="71280" cy="166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19760" y="3075120"/>
            <a:ext cx="95040" cy="190440"/>
          </a:xfrm>
          <a:prstGeom prst="rect">
            <a:avLst/>
          </a:prstGeom>
          <a:noFill/>
          <a:ln w="23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46760" y="2505240"/>
            <a:ext cx="760320" cy="1520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6640" y="3241800"/>
            <a:ext cx="95400" cy="9504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935000"/>
            <a:ext cx="262080" cy="117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1935000"/>
            <a:ext cx="285840" cy="141480"/>
          </a:xfrm>
          <a:prstGeom prst="rect">
            <a:avLst/>
          </a:prstGeom>
          <a:noFill/>
          <a:ln w="23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589040"/>
            <a:ext cx="374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2. Infrared sensor detects user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ﾕ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7480" y="2800440"/>
            <a:ext cx="89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 Helvetica Condensed"/>
              </a:rPr>
              <a:t>Hello Ro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43560" y="2790720"/>
            <a:ext cx="71280" cy="9360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30"/>
                </a:moveTo>
                <a:lnTo>
                  <a:pt x="45" y="59"/>
                </a:lnTo>
                <a:lnTo>
                  <a:pt x="0" y="30"/>
                </a:lnTo>
                <a:lnTo>
                  <a:pt x="45" y="0"/>
                </a:lnTo>
                <a:lnTo>
                  <a:pt x="45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38960" y="2838600"/>
            <a:ext cx="1449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6960" y="2728800"/>
            <a:ext cx="291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1. User enters room we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0080" y="294336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active ba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680" y="2195640"/>
            <a:ext cx="95040" cy="118800"/>
          </a:xfrm>
          <a:custGeom>
            <a:avLst/>
            <a:gdLst/>
            <a:ahLst/>
            <a:rect l="l" t="t" r="r" b="b"/>
            <a:pathLst>
              <a:path w="60" h="75">
                <a:moveTo>
                  <a:pt x="45" y="45"/>
                </a:moveTo>
                <a:lnTo>
                  <a:pt x="15" y="75"/>
                </a:lnTo>
                <a:lnTo>
                  <a:pt x="0" y="0"/>
                </a:lnTo>
                <a:lnTo>
                  <a:pt x="60" y="30"/>
                </a:lnTo>
                <a:lnTo>
                  <a:pt x="45" y="4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017600" y="2266560"/>
            <a:ext cx="855720" cy="903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84640" y="381168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44" y="15"/>
                </a:moveTo>
                <a:lnTo>
                  <a:pt x="59" y="45"/>
                </a:lnTo>
                <a:lnTo>
                  <a:pt x="0" y="60"/>
                </a:lnTo>
                <a:lnTo>
                  <a:pt x="14" y="0"/>
                </a:lnTo>
                <a:lnTo>
                  <a:pt x="44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54480" y="3170160"/>
            <a:ext cx="642960" cy="665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3360" y="3122640"/>
            <a:ext cx="93600" cy="9540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30"/>
                </a:moveTo>
                <a:lnTo>
                  <a:pt x="59" y="60"/>
                </a:lnTo>
                <a:lnTo>
                  <a:pt x="0" y="30"/>
                </a:lnTo>
                <a:lnTo>
                  <a:pt x="59" y="0"/>
                </a:lnTo>
                <a:lnTo>
                  <a:pt x="59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06960" y="3170160"/>
            <a:ext cx="6904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2040" y="2397240"/>
            <a:ext cx="109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User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ﾕ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1680" y="2752560"/>
            <a:ext cx="2039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3. Display respond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840" y="2967120"/>
            <a:ext cx="94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to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7840" y="2838600"/>
            <a:ext cx="237960" cy="23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5"/>
                </a:moveTo>
                <a:arcTo wR="10800" hR="10800" stAng="-10753858" swAng="5353858"/>
                <a:lnTo>
                  <a:pt x="10800" y="10800"/>
                </a:lnTo>
                <a:close/>
              </a:path>
              <a:path fill="none" w="21600" h="21600">
                <a:moveTo>
                  <a:pt x="1" y="10655"/>
                </a:moveTo>
                <a:arcTo wR="10800" hR="10800" stAng="-10753858" swAng="5353858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0" y="2743200"/>
            <a:ext cx="2847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61591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61591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1160" y="2671920"/>
            <a:ext cx="33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697"/>
                </a:moveTo>
                <a:arcTo wR="10800" hR="10800" stAng="-10767104" swAng="5367104"/>
                <a:lnTo>
                  <a:pt x="10800" y="10800"/>
                </a:lnTo>
                <a:close/>
              </a:path>
              <a:path fill="none" w="21600" h="21600">
                <a:moveTo>
                  <a:pt x="0" y="10697"/>
                </a:moveTo>
                <a:arcTo wR="10800" hR="10800" stAng="-10767104" swAng="5367104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87840" y="3241440"/>
            <a:ext cx="237960" cy="2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3289320"/>
            <a:ext cx="2847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336840"/>
            <a:ext cx="33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16560" y="3075120"/>
            <a:ext cx="47520" cy="166680"/>
          </a:xfrm>
          <a:custGeom>
            <a:avLst/>
            <a:gdLst/>
            <a:ahLst/>
            <a:rect l="l" t="t" r="r" b="b"/>
            <a:pathLst>
              <a:path w="30" h="105">
                <a:moveTo>
                  <a:pt x="30" y="105"/>
                </a:moveTo>
                <a:lnTo>
                  <a:pt x="0" y="60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97400" y="3051000"/>
            <a:ext cx="47520" cy="214560"/>
          </a:xfrm>
          <a:custGeom>
            <a:avLst/>
            <a:gdLst/>
            <a:ahLst/>
            <a:rect l="l" t="t" r="r" b="b"/>
            <a:pathLst>
              <a:path w="30" h="135">
                <a:moveTo>
                  <a:pt x="30" y="135"/>
                </a:moveTo>
                <a:lnTo>
                  <a:pt x="0" y="75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8240" y="3051000"/>
            <a:ext cx="47520" cy="238320"/>
          </a:xfrm>
          <a:custGeom>
            <a:avLst/>
            <a:gdLst/>
            <a:ahLst/>
            <a:rect l="l" t="t" r="r" b="b"/>
            <a:pathLst>
              <a:path w="30" h="150">
                <a:moveTo>
                  <a:pt x="30" y="150"/>
                </a:moveTo>
                <a:lnTo>
                  <a:pt x="0" y="75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26720" y="34894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Infr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0" y="3051000"/>
            <a:ext cx="546120" cy="71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0280" y="2671920"/>
            <a:ext cx="1449720" cy="831600"/>
          </a:xfrm>
          <a:prstGeom prst="roundRect">
            <a:avLst>
              <a:gd name="adj" fmla="val 17176"/>
            </a:avLst>
          </a:prstGeom>
          <a:solidFill>
            <a:srgbClr val="d9aa73"/>
          </a:solidFill>
          <a:ln w="47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s of pre-configured versus spontaneous associa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43040" y="1677960"/>
          <a:ext cx="8699400" cy="4168800"/>
        </p:xfrm>
        <a:graphic>
          <a:graphicData uri="http://schemas.openxmlformats.org/drawingml/2006/table">
            <a:tbl>
              <a:tblPr/>
              <a:tblGrid>
                <a:gridCol w="4433760"/>
                <a:gridCol w="4265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config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nta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aa73"/>
                    </a:solidFill>
                  </a:tcPr>
                </a:tc>
              </a:tr>
              <a:tr h="36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-driven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 client and serv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browser and web 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P file-sharing ap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ly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 and ubiquitous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terface to a discovery servic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0800" y="1428840"/>
          <a:ext cx="8794800" cy="4724280"/>
        </p:xfrm>
        <a:graphic>
          <a:graphicData uri="http://schemas.openxmlformats.org/drawingml/2006/table">
            <a:tbl>
              <a:tblPr/>
              <a:tblGrid>
                <a:gridCol w="4434120"/>
                <a:gridCol w="436068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s for service de/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se := register(address, attrib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 the service at the given address with the given attributes; a lease is ret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esh(le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esh the lease returned at 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egister(le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 the service record registered under the given 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 invoked to look up a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Set := query(attribute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 a set of registered services whose attributes match the given 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ice discovery in Jini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9200" y="2658960"/>
            <a:ext cx="1292400" cy="1041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9200" y="2658960"/>
            <a:ext cx="1314360" cy="10638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5640" y="2840040"/>
            <a:ext cx="104148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67320" y="1434960"/>
            <a:ext cx="1541520" cy="88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7320" y="1434960"/>
            <a:ext cx="1563840" cy="9064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6800" y="152568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65120" y="16257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31720" y="1852560"/>
            <a:ext cx="66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1320" y="3166920"/>
            <a:ext cx="71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940120"/>
            <a:ext cx="70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42200" y="4086360"/>
            <a:ext cx="1268280" cy="1041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42200" y="4086360"/>
            <a:ext cx="1290600" cy="10634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54880" y="426708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3800" y="4594320"/>
            <a:ext cx="71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7760" y="4367160"/>
            <a:ext cx="70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2560" y="4448160"/>
            <a:ext cx="1541520" cy="88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560" y="4448160"/>
            <a:ext cx="1563840" cy="9064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41680" y="4538520"/>
            <a:ext cx="104328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080" y="461628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7240" y="4865760"/>
            <a:ext cx="66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160" y="2646360"/>
            <a:ext cx="65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05600" y="1468440"/>
            <a:ext cx="65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25360" y="3800520"/>
            <a:ext cx="134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admin,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31920" y="51166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51840" y="2862360"/>
            <a:ext cx="430200" cy="361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51840" y="2862360"/>
            <a:ext cx="452160" cy="3855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9880" y="2884320"/>
            <a:ext cx="316080" cy="317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17320" y="287352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4840" y="1887480"/>
            <a:ext cx="453960" cy="3636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4840" y="1887480"/>
            <a:ext cx="476280" cy="38592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5200" y="1911240"/>
            <a:ext cx="295560" cy="316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5200" y="187632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8680" y="3995640"/>
            <a:ext cx="112680" cy="520920"/>
          </a:xfrm>
          <a:custGeom>
            <a:avLst/>
            <a:gdLst/>
            <a:ahLst/>
            <a:rect l="l" t="t" r="r" b="b"/>
            <a:pathLst>
              <a:path w="71" h="328">
                <a:moveTo>
                  <a:pt x="71" y="0"/>
                </a:moveTo>
                <a:lnTo>
                  <a:pt x="57" y="128"/>
                </a:lnTo>
                <a:lnTo>
                  <a:pt x="28" y="228"/>
                </a:lnTo>
                <a:lnTo>
                  <a:pt x="14" y="299"/>
                </a:lnTo>
                <a:lnTo>
                  <a:pt x="0" y="328"/>
                </a:lnTo>
                <a:lnTo>
                  <a:pt x="0" y="31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17800" y="4425840"/>
            <a:ext cx="1539720" cy="88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17800" y="4425840"/>
            <a:ext cx="1563480" cy="9050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66920" y="451656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11200" y="461628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94280" y="484344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208200" y="2114640"/>
            <a:ext cx="567000" cy="860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4800" y="3224160"/>
            <a:ext cx="747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95720" y="4130280"/>
            <a:ext cx="476280" cy="49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2680" y="3089160"/>
            <a:ext cx="996840" cy="112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30760" y="2070000"/>
            <a:ext cx="1471320" cy="633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3760" y="2590920"/>
            <a:ext cx="3533760" cy="1744560"/>
          </a:xfrm>
          <a:custGeom>
            <a:avLst/>
            <a:gdLst/>
            <a:ahLst/>
            <a:rect l="l" t="t" r="r" b="b"/>
            <a:pathLst>
              <a:path w="2226" h="1099">
                <a:moveTo>
                  <a:pt x="71" y="257"/>
                </a:moveTo>
                <a:lnTo>
                  <a:pt x="100" y="200"/>
                </a:lnTo>
                <a:lnTo>
                  <a:pt x="228" y="114"/>
                </a:lnTo>
                <a:lnTo>
                  <a:pt x="357" y="85"/>
                </a:lnTo>
                <a:lnTo>
                  <a:pt x="442" y="85"/>
                </a:lnTo>
                <a:lnTo>
                  <a:pt x="528" y="71"/>
                </a:lnTo>
                <a:lnTo>
                  <a:pt x="656" y="85"/>
                </a:lnTo>
                <a:lnTo>
                  <a:pt x="828" y="85"/>
                </a:lnTo>
                <a:lnTo>
                  <a:pt x="999" y="100"/>
                </a:lnTo>
                <a:lnTo>
                  <a:pt x="1170" y="114"/>
                </a:lnTo>
                <a:lnTo>
                  <a:pt x="1256" y="71"/>
                </a:lnTo>
                <a:lnTo>
                  <a:pt x="1341" y="28"/>
                </a:lnTo>
                <a:lnTo>
                  <a:pt x="1470" y="14"/>
                </a:lnTo>
                <a:lnTo>
                  <a:pt x="1598" y="0"/>
                </a:lnTo>
                <a:lnTo>
                  <a:pt x="1698" y="14"/>
                </a:lnTo>
                <a:lnTo>
                  <a:pt x="1784" y="43"/>
                </a:lnTo>
                <a:lnTo>
                  <a:pt x="1841" y="71"/>
                </a:lnTo>
                <a:lnTo>
                  <a:pt x="1941" y="100"/>
                </a:lnTo>
                <a:lnTo>
                  <a:pt x="2055" y="200"/>
                </a:lnTo>
                <a:lnTo>
                  <a:pt x="2141" y="271"/>
                </a:lnTo>
                <a:lnTo>
                  <a:pt x="2183" y="357"/>
                </a:lnTo>
                <a:lnTo>
                  <a:pt x="2212" y="542"/>
                </a:lnTo>
                <a:lnTo>
                  <a:pt x="2226" y="670"/>
                </a:lnTo>
                <a:lnTo>
                  <a:pt x="2198" y="785"/>
                </a:lnTo>
                <a:lnTo>
                  <a:pt x="2141" y="956"/>
                </a:lnTo>
                <a:lnTo>
                  <a:pt x="2012" y="1056"/>
                </a:lnTo>
                <a:lnTo>
                  <a:pt x="1870" y="1099"/>
                </a:lnTo>
                <a:lnTo>
                  <a:pt x="1713" y="1070"/>
                </a:lnTo>
                <a:lnTo>
                  <a:pt x="1541" y="1056"/>
                </a:lnTo>
                <a:lnTo>
                  <a:pt x="1399" y="1027"/>
                </a:lnTo>
                <a:lnTo>
                  <a:pt x="1256" y="1013"/>
                </a:lnTo>
                <a:lnTo>
                  <a:pt x="1113" y="1013"/>
                </a:lnTo>
                <a:lnTo>
                  <a:pt x="970" y="1013"/>
                </a:lnTo>
                <a:lnTo>
                  <a:pt x="856" y="1027"/>
                </a:lnTo>
                <a:lnTo>
                  <a:pt x="742" y="1041"/>
                </a:lnTo>
                <a:lnTo>
                  <a:pt x="642" y="1056"/>
                </a:lnTo>
                <a:lnTo>
                  <a:pt x="542" y="1070"/>
                </a:lnTo>
                <a:lnTo>
                  <a:pt x="428" y="1070"/>
                </a:lnTo>
                <a:lnTo>
                  <a:pt x="342" y="1056"/>
                </a:lnTo>
                <a:lnTo>
                  <a:pt x="257" y="1041"/>
                </a:lnTo>
                <a:lnTo>
                  <a:pt x="185" y="999"/>
                </a:lnTo>
                <a:lnTo>
                  <a:pt x="171" y="984"/>
                </a:lnTo>
                <a:lnTo>
                  <a:pt x="143" y="956"/>
                </a:lnTo>
                <a:lnTo>
                  <a:pt x="86" y="856"/>
                </a:lnTo>
                <a:lnTo>
                  <a:pt x="29" y="742"/>
                </a:lnTo>
                <a:lnTo>
                  <a:pt x="14" y="628"/>
                </a:lnTo>
                <a:lnTo>
                  <a:pt x="0" y="542"/>
                </a:lnTo>
                <a:lnTo>
                  <a:pt x="14" y="428"/>
                </a:lnTo>
                <a:lnTo>
                  <a:pt x="43" y="328"/>
                </a:lnTo>
                <a:lnTo>
                  <a:pt x="71" y="257"/>
                </a:lnTo>
                <a:lnTo>
                  <a:pt x="71" y="257"/>
                </a:lnTo>
                <a:close/>
              </a:path>
            </a:pathLst>
          </a:custGeom>
          <a:solidFill>
            <a:srgbClr val="ffdc99"/>
          </a:solidFill>
          <a:ln w="2232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9080" y="274968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28"/>
                </a:moveTo>
                <a:lnTo>
                  <a:pt x="14" y="0"/>
                </a:lnTo>
                <a:lnTo>
                  <a:pt x="57" y="42"/>
                </a:lnTo>
                <a:lnTo>
                  <a:pt x="0" y="57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26200" y="2681280"/>
            <a:ext cx="542880" cy="112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3800" y="3484440"/>
            <a:ext cx="154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Here I am: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35480" y="286236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0"/>
                </a:lnTo>
                <a:lnTo>
                  <a:pt x="28" y="57"/>
                </a:lnTo>
                <a:lnTo>
                  <a:pt x="0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79760" y="2681280"/>
            <a:ext cx="21960" cy="15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80040" y="3529080"/>
            <a:ext cx="139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4. Use 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4040" y="3733920"/>
            <a:ext cx="87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6400" y="3089160"/>
            <a:ext cx="112680" cy="90720"/>
          </a:xfrm>
          <a:custGeom>
            <a:avLst/>
            <a:gdLst/>
            <a:ahLst/>
            <a:rect l="l" t="t" r="r" b="b"/>
            <a:pathLst>
              <a:path w="71" h="57">
                <a:moveTo>
                  <a:pt x="28" y="28"/>
                </a:moveTo>
                <a:lnTo>
                  <a:pt x="43" y="0"/>
                </a:lnTo>
                <a:lnTo>
                  <a:pt x="71" y="57"/>
                </a:lnTo>
                <a:lnTo>
                  <a:pt x="0" y="57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2080" y="2703600"/>
            <a:ext cx="476280" cy="43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7000" y="2160720"/>
            <a:ext cx="9180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43" y="28"/>
                </a:moveTo>
                <a:lnTo>
                  <a:pt x="29" y="42"/>
                </a:lnTo>
                <a:lnTo>
                  <a:pt x="0" y="0"/>
                </a:lnTo>
                <a:lnTo>
                  <a:pt x="58" y="0"/>
                </a:lnTo>
                <a:lnTo>
                  <a:pt x="43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74680" y="2205000"/>
            <a:ext cx="3670200" cy="2152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42200" y="4448160"/>
            <a:ext cx="112680" cy="90360"/>
          </a:xfrm>
          <a:custGeom>
            <a:avLst/>
            <a:gdLst/>
            <a:ahLst/>
            <a:rect l="l" t="t" r="r" b="b"/>
            <a:pathLst>
              <a:path w="71" h="57">
                <a:moveTo>
                  <a:pt x="14" y="28"/>
                </a:moveTo>
                <a:lnTo>
                  <a:pt x="43" y="0"/>
                </a:lnTo>
                <a:lnTo>
                  <a:pt x="71" y="57"/>
                </a:lnTo>
                <a:lnTo>
                  <a:pt x="0" y="57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62360" y="2205000"/>
            <a:ext cx="3602160" cy="228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08680" y="406224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15"/>
                </a:moveTo>
                <a:lnTo>
                  <a:pt x="57" y="0"/>
                </a:lnTo>
                <a:lnTo>
                  <a:pt x="57" y="57"/>
                </a:lnTo>
                <a:lnTo>
                  <a:pt x="0" y="43"/>
                </a:lnTo>
                <a:lnTo>
                  <a:pt x="28" y="15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2000" y="2205000"/>
            <a:ext cx="1380960" cy="188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95480" y="339408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11800" y="4451400"/>
            <a:ext cx="13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Request ‘printin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32400" y="1442880"/>
            <a:ext cx="215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‘finance’ lookup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IdentityPresenc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dget class of the Context Toolki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800" y="1598760"/>
            <a:ext cx="4094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3360" y="1681200"/>
            <a:ext cx="339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tributes (accessible by pol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0080" y="1598760"/>
            <a:ext cx="436716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44400" y="1681200"/>
            <a:ext cx="123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2036880"/>
            <a:ext cx="4094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3840" y="209088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10080" y="2036880"/>
            <a:ext cx="43671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8120" y="2090880"/>
            <a:ext cx="346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 the widget is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5800" y="2422440"/>
            <a:ext cx="409428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4920" y="2475000"/>
            <a:ext cx="77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0080" y="2422440"/>
            <a:ext cx="436716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9200" y="247500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 of the last user sen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5800" y="2808360"/>
            <a:ext cx="40942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3480" y="286704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10080" y="2808360"/>
            <a:ext cx="4367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1360" y="2867040"/>
            <a:ext cx="233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 of the last ar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5800" y="3198960"/>
            <a:ext cx="409428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21680" y="3274920"/>
            <a:ext cx="100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ll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19896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5800" y="3630600"/>
            <a:ext cx="409428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1320" y="3691080"/>
            <a:ext cx="334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rsonArrives(location, ident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3840" y="398304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10080" y="3630600"/>
            <a:ext cx="43671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7400" y="3836880"/>
            <a:ext cx="304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when a user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800" y="4314960"/>
            <a:ext cx="4094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600" y="4367160"/>
            <a:ext cx="330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rsonLeaves(location, ident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3840" y="465948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10080" y="4314960"/>
            <a:ext cx="43671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8480" y="4513320"/>
            <a:ext cx="298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when a user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800" y="1598760"/>
            <a:ext cx="8461440" cy="1440"/>
          </a:xfrm>
          <a:custGeom>
            <a:avLst/>
            <a:gdLst/>
            <a:ahLst/>
            <a:rect l="l" t="t" r="r" b="b"/>
            <a:pathLst>
              <a:path w="5330" h="0">
                <a:moveTo>
                  <a:pt x="0" y="0"/>
                </a:moveTo>
                <a:lnTo>
                  <a:pt x="533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800" y="4992840"/>
            <a:ext cx="8461440" cy="1440"/>
          </a:xfrm>
          <a:custGeom>
            <a:avLst/>
            <a:gdLst/>
            <a:ahLst/>
            <a:rect l="l" t="t" r="r" b="b"/>
            <a:pathLst>
              <a:path w="5330" h="0">
                <a:moveTo>
                  <a:pt x="0" y="0"/>
                </a:moveTo>
                <a:lnTo>
                  <a:pt x="533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9680" y="1593720"/>
            <a:ext cx="846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9680" y="4986360"/>
            <a:ext cx="846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ersonFind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dget constructed using IdentityPresence widg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73120" y="1609560"/>
            <a:ext cx="8739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ed diffus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4840" y="2486160"/>
            <a:ext cx="92160" cy="115920"/>
          </a:xfrm>
          <a:custGeom>
            <a:avLst/>
            <a:gdLst/>
            <a:ahLst/>
            <a:rect l="l" t="t" r="r" b="b"/>
            <a:pathLst>
              <a:path w="58" h="73">
                <a:moveTo>
                  <a:pt x="29" y="29"/>
                </a:moveTo>
                <a:lnTo>
                  <a:pt x="58" y="0"/>
                </a:lnTo>
                <a:lnTo>
                  <a:pt x="58" y="73"/>
                </a:lnTo>
                <a:lnTo>
                  <a:pt x="0" y="43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184480"/>
            <a:ext cx="223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35160" y="2300400"/>
            <a:ext cx="69840" cy="9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840" y="2486160"/>
            <a:ext cx="46080" cy="21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2240" y="4073400"/>
            <a:ext cx="237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A. Interest propag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6960" y="270504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4240" y="3343320"/>
            <a:ext cx="1638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57240" y="1998720"/>
            <a:ext cx="139680" cy="13788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9494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90760" y="262404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23920" y="2763720"/>
            <a:ext cx="115920" cy="92160"/>
          </a:xfrm>
          <a:custGeom>
            <a:avLst/>
            <a:gdLst/>
            <a:ahLst/>
            <a:rect l="l" t="t" r="r" b="b"/>
            <a:pathLst>
              <a:path w="73" h="58">
                <a:moveTo>
                  <a:pt x="15" y="29"/>
                </a:moveTo>
                <a:lnTo>
                  <a:pt x="15" y="0"/>
                </a:lnTo>
                <a:lnTo>
                  <a:pt x="73" y="44"/>
                </a:lnTo>
                <a:lnTo>
                  <a:pt x="0" y="58"/>
                </a:lnTo>
                <a:lnTo>
                  <a:pt x="15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739960"/>
            <a:ext cx="460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16200" y="2763720"/>
            <a:ext cx="6804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01960" y="2787480"/>
            <a:ext cx="2196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8160" y="3227400"/>
            <a:ext cx="69840" cy="93600"/>
          </a:xfrm>
          <a:custGeom>
            <a:avLst/>
            <a:gdLst/>
            <a:ahLst/>
            <a:rect l="l" t="t" r="r" b="b"/>
            <a:pathLst>
              <a:path w="44" h="59">
                <a:moveTo>
                  <a:pt x="29" y="15"/>
                </a:moveTo>
                <a:lnTo>
                  <a:pt x="44" y="0"/>
                </a:lnTo>
                <a:lnTo>
                  <a:pt x="44" y="59"/>
                </a:lnTo>
                <a:lnTo>
                  <a:pt x="0" y="29"/>
                </a:lnTo>
                <a:lnTo>
                  <a:pt x="29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560" y="2763720"/>
            <a:ext cx="2412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52760" y="2879640"/>
            <a:ext cx="4752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46360" y="3041640"/>
            <a:ext cx="4608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38160" y="3205080"/>
            <a:ext cx="241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80980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29" y="15"/>
                </a:moveTo>
                <a:lnTo>
                  <a:pt x="58" y="0"/>
                </a:lnTo>
                <a:lnTo>
                  <a:pt x="29" y="59"/>
                </a:lnTo>
                <a:lnTo>
                  <a:pt x="0" y="15"/>
                </a:lnTo>
                <a:lnTo>
                  <a:pt x="29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73160" y="2184480"/>
            <a:ext cx="144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96920" y="2346480"/>
            <a:ext cx="22320" cy="9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554200"/>
            <a:ext cx="14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65320" y="276372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360" y="3321000"/>
            <a:ext cx="91800" cy="68400"/>
          </a:xfrm>
          <a:custGeom>
            <a:avLst/>
            <a:gdLst/>
            <a:ahLst/>
            <a:rect l="l" t="t" r="r" b="b"/>
            <a:pathLst>
              <a:path w="58" h="43">
                <a:moveTo>
                  <a:pt x="14" y="14"/>
                </a:moveTo>
                <a:lnTo>
                  <a:pt x="29" y="0"/>
                </a:lnTo>
                <a:lnTo>
                  <a:pt x="58" y="43"/>
                </a:lnTo>
                <a:lnTo>
                  <a:pt x="0" y="43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28760" y="3089160"/>
            <a:ext cx="4608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4680" y="3157560"/>
            <a:ext cx="69840" cy="47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2560" y="3227400"/>
            <a:ext cx="7020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2600" y="3321000"/>
            <a:ext cx="457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63600" y="2763720"/>
            <a:ext cx="162000" cy="16200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20920" y="27399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15" y="30"/>
                </a:moveTo>
                <a:lnTo>
                  <a:pt x="0" y="15"/>
                </a:lnTo>
                <a:lnTo>
                  <a:pt x="59" y="0"/>
                </a:lnTo>
                <a:lnTo>
                  <a:pt x="44" y="59"/>
                </a:lnTo>
                <a:lnTo>
                  <a:pt x="15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305000" y="292572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20920" y="2809800"/>
            <a:ext cx="2376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81520" y="337824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9840" y="2971800"/>
            <a:ext cx="69840" cy="117360"/>
          </a:xfrm>
          <a:custGeom>
            <a:avLst/>
            <a:gdLst/>
            <a:ahLst/>
            <a:rect l="l" t="t" r="r" b="b"/>
            <a:pathLst>
              <a:path w="44" h="74">
                <a:moveTo>
                  <a:pt x="15" y="59"/>
                </a:moveTo>
                <a:lnTo>
                  <a:pt x="0" y="44"/>
                </a:lnTo>
                <a:lnTo>
                  <a:pt x="44" y="0"/>
                </a:lnTo>
                <a:lnTo>
                  <a:pt x="44" y="74"/>
                </a:lnTo>
                <a:lnTo>
                  <a:pt x="15" y="5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23920" y="3297240"/>
            <a:ext cx="2412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70000" y="3181320"/>
            <a:ext cx="4788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39840" y="306540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6760" y="168444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40514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B. Gradients set u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10680" y="4027320"/>
            <a:ext cx="158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C. Data delive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65480" y="23004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44"/>
                </a:moveTo>
                <a:lnTo>
                  <a:pt x="0" y="58"/>
                </a:lnTo>
                <a:lnTo>
                  <a:pt x="0" y="0"/>
                </a:lnTo>
                <a:lnTo>
                  <a:pt x="58" y="29"/>
                </a:lnTo>
                <a:lnTo>
                  <a:pt x="29" y="4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1560" y="2370240"/>
            <a:ext cx="301680" cy="393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2040" y="28209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84760" y="345924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5960" y="2136600"/>
            <a:ext cx="139680" cy="14004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1720" y="306540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3240" y="273996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9000" y="2787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59" y="29"/>
                </a:moveTo>
                <a:lnTo>
                  <a:pt x="59" y="73"/>
                </a:lnTo>
                <a:lnTo>
                  <a:pt x="0" y="29"/>
                </a:lnTo>
                <a:lnTo>
                  <a:pt x="73" y="0"/>
                </a:lnTo>
                <a:lnTo>
                  <a:pt x="59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14920" y="2855880"/>
            <a:ext cx="39528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6840" y="29034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43"/>
                </a:moveTo>
                <a:lnTo>
                  <a:pt x="0" y="58"/>
                </a:lnTo>
                <a:lnTo>
                  <a:pt x="0" y="0"/>
                </a:lnTo>
                <a:lnTo>
                  <a:pt x="58" y="29"/>
                </a:lnTo>
                <a:lnTo>
                  <a:pt x="29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2920" y="2995560"/>
            <a:ext cx="301680" cy="463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25800" y="2370240"/>
            <a:ext cx="93600" cy="91800"/>
          </a:xfrm>
          <a:custGeom>
            <a:avLst/>
            <a:gdLst/>
            <a:ahLst/>
            <a:rect l="l" t="t" r="r" b="b"/>
            <a:pathLst>
              <a:path w="59" h="58">
                <a:moveTo>
                  <a:pt x="30" y="43"/>
                </a:moveTo>
                <a:lnTo>
                  <a:pt x="0" y="58"/>
                </a:lnTo>
                <a:lnTo>
                  <a:pt x="15" y="0"/>
                </a:lnTo>
                <a:lnTo>
                  <a:pt x="59" y="43"/>
                </a:lnTo>
                <a:lnTo>
                  <a:pt x="30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3680" y="2462040"/>
            <a:ext cx="137880" cy="603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05160" y="3227400"/>
            <a:ext cx="9216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44" y="29"/>
                </a:moveTo>
                <a:lnTo>
                  <a:pt x="29" y="44"/>
                </a:lnTo>
                <a:lnTo>
                  <a:pt x="0" y="0"/>
                </a:lnTo>
                <a:lnTo>
                  <a:pt x="58" y="0"/>
                </a:lnTo>
                <a:lnTo>
                  <a:pt x="44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97320" y="3273480"/>
            <a:ext cx="463680" cy="255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2995560"/>
            <a:ext cx="92160" cy="115920"/>
          </a:xfrm>
          <a:custGeom>
            <a:avLst/>
            <a:gdLst/>
            <a:ahLst/>
            <a:rect l="l" t="t" r="r" b="b"/>
            <a:pathLst>
              <a:path w="58" h="73">
                <a:moveTo>
                  <a:pt x="44" y="29"/>
                </a:moveTo>
                <a:lnTo>
                  <a:pt x="58" y="44"/>
                </a:lnTo>
                <a:lnTo>
                  <a:pt x="0" y="73"/>
                </a:lnTo>
                <a:lnTo>
                  <a:pt x="14" y="0"/>
                </a:lnTo>
                <a:lnTo>
                  <a:pt x="44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275000" y="2879640"/>
            <a:ext cx="138240" cy="139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88520" y="351648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3400" y="1800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5560" y="2254320"/>
            <a:ext cx="93960" cy="92160"/>
          </a:xfrm>
          <a:custGeom>
            <a:avLst/>
            <a:gdLst/>
            <a:ahLst/>
            <a:rect l="l" t="t" r="r" b="b"/>
            <a:pathLst>
              <a:path w="59" h="58">
                <a:moveTo>
                  <a:pt x="29" y="43"/>
                </a:moveTo>
                <a:lnTo>
                  <a:pt x="0" y="58"/>
                </a:lnTo>
                <a:lnTo>
                  <a:pt x="0" y="0"/>
                </a:lnTo>
                <a:lnTo>
                  <a:pt x="59" y="29"/>
                </a:lnTo>
                <a:lnTo>
                  <a:pt x="29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51640" y="2322360"/>
            <a:ext cx="349200" cy="417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23800" y="28209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48600" y="345924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43920" y="2114640"/>
            <a:ext cx="139680" cy="13968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29680" y="3065400"/>
            <a:ext cx="1378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7080" y="273996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62840" y="280980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58" y="29"/>
                </a:moveTo>
                <a:lnTo>
                  <a:pt x="58" y="59"/>
                </a:lnTo>
                <a:lnTo>
                  <a:pt x="0" y="15"/>
                </a:lnTo>
                <a:lnTo>
                  <a:pt x="58" y="0"/>
                </a:lnTo>
                <a:lnTo>
                  <a:pt x="58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55000" y="2855880"/>
            <a:ext cx="41760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69240" y="2879640"/>
            <a:ext cx="93600" cy="115920"/>
          </a:xfrm>
          <a:custGeom>
            <a:avLst/>
            <a:gdLst/>
            <a:ahLst/>
            <a:rect l="l" t="t" r="r" b="b"/>
            <a:pathLst>
              <a:path w="59" h="73">
                <a:moveTo>
                  <a:pt x="30" y="58"/>
                </a:moveTo>
                <a:lnTo>
                  <a:pt x="0" y="73"/>
                </a:lnTo>
                <a:lnTo>
                  <a:pt x="0" y="0"/>
                </a:lnTo>
                <a:lnTo>
                  <a:pt x="59" y="44"/>
                </a:lnTo>
                <a:lnTo>
                  <a:pt x="30" y="58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16760" y="2971800"/>
            <a:ext cx="277920" cy="511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0280" y="2879640"/>
            <a:ext cx="162000" cy="16200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60280" y="34941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5520" y="1800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24440" y="3321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14"/>
                </a:moveTo>
                <a:lnTo>
                  <a:pt x="58" y="29"/>
                </a:lnTo>
                <a:lnTo>
                  <a:pt x="0" y="58"/>
                </a:lnTo>
                <a:lnTo>
                  <a:pt x="0" y="0"/>
                </a:lnTo>
                <a:lnTo>
                  <a:pt x="29" y="1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089160"/>
            <a:ext cx="139680" cy="254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29280" y="291636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me location-sensing technolog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880" y="1327320"/>
            <a:ext cx="121932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7360" y="14191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54200" y="1327320"/>
            <a:ext cx="165744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94400" y="14191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chanis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11640" y="1327320"/>
            <a:ext cx="131292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7680" y="1419120"/>
            <a:ext cx="98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24560" y="1327320"/>
            <a:ext cx="112680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91240" y="1419120"/>
            <a:ext cx="81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ur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1360" y="1327320"/>
            <a:ext cx="206244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9320" y="1419120"/>
            <a:ext cx="184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ype of location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13800" y="1327320"/>
            <a:ext cx="111276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40240" y="1419120"/>
            <a:ext cx="67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v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120" y="180648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3000" y="180648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73360" y="197316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satel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2640" y="2139840"/>
            <a:ext cx="101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 sour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9440" y="180648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tdo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9440" y="1973160"/>
            <a:ext cx="104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(satel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8720" y="2139840"/>
            <a:ext cx="74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ibilit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48040" y="180648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77360" y="180648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bsolute geograph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77720" y="1973160"/>
            <a:ext cx="161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 (latitud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77000" y="213984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ngitude, altitu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0880" y="1806480"/>
            <a:ext cx="29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4840" y="24256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760" y="2597040"/>
            <a:ext cx="78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aco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73720" y="2425680"/>
            <a:ext cx="125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adcasts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4080" y="259704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reless b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3360" y="2763720"/>
            <a:ext cx="11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tions (GSM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200" y="2930400"/>
            <a:ext cx="144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2.11, Bluetoo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1240" y="242568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as wi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40880" y="2597040"/>
            <a:ext cx="62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rel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1600" y="2763720"/>
            <a:ext cx="68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48400" y="2425680"/>
            <a:ext cx="7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75920" y="242568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7360" y="259704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0880" y="2425680"/>
            <a:ext cx="29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5920" y="320040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tive B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3000" y="320040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2640" y="3367080"/>
            <a:ext cx="113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radio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72280" y="3540240"/>
            <a:ext cx="81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ltrasou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40520" y="3200400"/>
            <a:ext cx="56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i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39800" y="3540240"/>
            <a:ext cx="56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s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49480" y="3200400"/>
            <a:ext cx="4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78800" y="320040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78440" y="33670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39080" y="320040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39440" y="33670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480" y="3838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ltra W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4480" y="4005360"/>
            <a:ext cx="40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3000" y="383868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000" y="4005360"/>
            <a:ext cx="133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reception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73000" y="4172040"/>
            <a:ext cx="91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 pul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41960" y="3838680"/>
            <a:ext cx="87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eiver 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40160" y="4005360"/>
            <a:ext cx="7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49480" y="3838680"/>
            <a:ext cx="4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78800" y="38386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8440" y="4005360"/>
            <a:ext cx="8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39080" y="38386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39440" y="400536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200" y="444816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4840" y="461484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71920" y="4448160"/>
            <a:ext cx="123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rared sens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38720" y="444816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light 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35120" y="4614840"/>
            <a:ext cx="84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luores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39800" y="4781520"/>
            <a:ext cx="35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49840" y="4448160"/>
            <a:ext cx="81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oom si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75920" y="444816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77360" y="461484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0880" y="4448160"/>
            <a:ext cx="48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39080" y="4614840"/>
            <a:ext cx="58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39440" y="478152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200" y="5070600"/>
            <a:ext cx="8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oma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640" y="5237280"/>
            <a:ext cx="102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4840" y="540396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74440" y="5070600"/>
            <a:ext cx="133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ID, Near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73360" y="523728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munication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73360" y="5403960"/>
            <a:ext cx="112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ual tag (e.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74080" y="5527800"/>
            <a:ext cx="66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co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42320" y="507060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39080" y="523728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49120" y="5070600"/>
            <a:ext cx="76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c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920" y="507060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77360" y="523728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39080" y="50706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9440" y="52372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760" y="58420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sy Liv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73360" y="5842080"/>
            <a:ext cx="55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ion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60134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ang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2320" y="58420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e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9080" y="60134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5842080"/>
            <a:ext cx="65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78800" y="58420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78440" y="6013440"/>
            <a:ext cx="8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40520" y="584208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880" y="1327320"/>
            <a:ext cx="8491680" cy="1440"/>
          </a:xfrm>
          <a:custGeom>
            <a:avLst/>
            <a:gdLst/>
            <a:ahLst/>
            <a:rect l="l" t="t" r="r" b="b"/>
            <a:pathLst>
              <a:path w="5349" h="0">
                <a:moveTo>
                  <a:pt x="0" y="0"/>
                </a:moveTo>
                <a:lnTo>
                  <a:pt x="53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880" y="6253200"/>
            <a:ext cx="8491680" cy="1440"/>
          </a:xfrm>
          <a:custGeom>
            <a:avLst/>
            <a:gdLst/>
            <a:ahLst/>
            <a:rect l="l" t="t" r="r" b="b"/>
            <a:pathLst>
              <a:path w="5349" h="0">
                <a:moveTo>
                  <a:pt x="0" y="0"/>
                </a:moveTo>
                <a:lnTo>
                  <a:pt x="53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200" y="1322280"/>
            <a:ext cx="848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0200" y="6248520"/>
            <a:ext cx="848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41960" y="3384720"/>
            <a:ext cx="66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un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0T16:37:18Z</dcterms:modified>
  <cp:revision>56</cp:revision>
  <dc:subject/>
  <dc:title>Figure 15.1 A distributed multimedia system</dc:title>
</cp:coreProperties>
</file>