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F09-CFF5-434B-BA40-FEE434E3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E09-512D-401F-BCE8-7DE197F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F8E-ACB2-4FDC-BF48-0210D88E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543-6823-426F-9B59-646CDF01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D7C4-3403-441C-BD1F-3377B527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6690-03C0-4E99-8E63-43B899A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8F70-76EB-403D-BABD-C640297F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75E2-74F4-45BE-A2DA-4525C3DE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9DB-71A2-4585-8541-3668428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0551-4FA4-4422-82E3-73D61758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1EDB-367C-4DA6-ADB5-61FF6C4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1DB-A1BC-405F-92F3-A26C822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D19F-6775-4607-B3B8-95595B7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7F4B-0688-4263-8B11-73B1D2F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D830-A9D0-4609-B8B2-B99A8131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39AE-FC22-42CB-8555-5797D186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0BB8-5B5B-4429-A666-DF4F74F1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D2F-5C2F-471F-9AF5-BEEB3FB9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741-C7C9-43ED-8EC4-2A037BAF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18D-8701-47E7-9229-16A960EF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F46-FF10-4C2B-9DC7-55624CAF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4C8-15A4-4951-83C4-2246F67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BF1-CF23-477B-B315-E7C601E0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9AF-844E-4DE1-9633-30F17DB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DA1-44AE-48D8-B55D-A73E95061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7A0A-3E1B-4D9A-BED3-11D828121D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6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Operating System suppor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thread synchronization cal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360" y="1432080"/>
            <a:ext cx="81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4200" y="1655640"/>
            <a:ext cx="815832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.join(int milli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ocks the calling thread for up to the specified time until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as termin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.interrup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causes it to return from a blocking method call such a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leep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.wait(long millisecs, int nano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ocks the calling thread until a call made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akes the thread, or the thread is interrupted, or the specified time has elap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.notify(), object.notifyAll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kes, respectively, one or all of any threads that have call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ait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heduler activ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92120" y="1903320"/>
            <a:ext cx="81280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ocations between address spac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967040" y="1314360"/>
            <a:ext cx="4728960" cy="3440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058840" y="4808520"/>
            <a:ext cx="5496120" cy="1501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60640" y="4782960"/>
            <a:ext cx="683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1760" y="2994120"/>
            <a:ext cx="683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C delay against parameter siz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43200" y="1498680"/>
            <a:ext cx="53877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lightweight remote procedure cal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0800" y="1692360"/>
            <a:ext cx="748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 for serialized and concurrent invo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22400" y="1292400"/>
            <a:ext cx="54072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nolithic kernel and microkern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00120" y="1903320"/>
            <a:ext cx="80056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ole of the microkern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31800" y="1962000"/>
            <a:ext cx="79297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625760"/>
            <a:ext cx="79182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e OS functionalit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43080" y="1592280"/>
            <a:ext cx="66196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ddress sp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4680" y="1563840"/>
            <a:ext cx="2208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py-on-wri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52640" y="1535040"/>
            <a:ext cx="5326200" cy="4576680"/>
            <a:chOff x="1952640" y="1535040"/>
            <a:chExt cx="5326200" cy="4576680"/>
          </a:xfrm>
        </p:grpSpPr>
        <p:sp>
          <p:nvSpPr>
            <p:cNvPr id="95" name=""/>
            <p:cNvSpPr/>
            <p:nvPr/>
          </p:nvSpPr>
          <p:spPr>
            <a:xfrm>
              <a:off x="1952640" y="4411800"/>
              <a:ext cx="5326200" cy="1699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200" y="5060880"/>
              <a:ext cx="245880" cy="247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60200" y="58150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) Before 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12600" y="581508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) After 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2040" y="46879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2360" y="4897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46240" y="5032440"/>
              <a:ext cx="59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's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16520" y="524196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9880" y="5051520"/>
              <a:ext cx="59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's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44760" y="526104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88000" y="1535040"/>
              <a:ext cx="184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A’s address 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74200" y="1535040"/>
              <a:ext cx="184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B’s address 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02440" y="4248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6800" y="1889280"/>
              <a:ext cx="810000" cy="133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800" y="2443320"/>
              <a:ext cx="810000" cy="38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6880" y="2443320"/>
              <a:ext cx="810360" cy="38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6800" y="2978280"/>
              <a:ext cx="810000" cy="152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6800" y="3627360"/>
              <a:ext cx="810000" cy="230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26880" y="3627360"/>
              <a:ext cx="810360" cy="344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6880" y="3627360"/>
              <a:ext cx="828000" cy="36360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6880" y="1774800"/>
              <a:ext cx="810360" cy="247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24000" y="25858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45840" y="25858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68720" y="5118120"/>
              <a:ext cx="12456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57760" y="5137200"/>
              <a:ext cx="193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96840" y="5099040"/>
              <a:ext cx="12456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85880" y="513720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7360" y="5118120"/>
              <a:ext cx="12456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85" y="24"/>
                  </a:moveTo>
                  <a:lnTo>
                    <a:pt x="85" y="48"/>
                  </a:lnTo>
                  <a:lnTo>
                    <a:pt x="0" y="24"/>
                  </a:lnTo>
                  <a:lnTo>
                    <a:pt x="85" y="0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769560" y="5156280"/>
              <a:ext cx="14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6280" y="5099040"/>
              <a:ext cx="14040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96" y="24"/>
                  </a:moveTo>
                  <a:lnTo>
                    <a:pt x="96" y="48"/>
                  </a:lnTo>
                  <a:lnTo>
                    <a:pt x="0" y="24"/>
                  </a:lnTo>
                  <a:lnTo>
                    <a:pt x="96" y="0"/>
                  </a:lnTo>
                  <a:lnTo>
                    <a:pt x="96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67040" y="5137200"/>
              <a:ext cx="177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7400" y="2614680"/>
              <a:ext cx="124200" cy="7596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56800" y="2652840"/>
              <a:ext cx="1992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440" y="227952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B copi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89400" y="24717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51920" y="4735440"/>
              <a:ext cx="105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51920" y="4735440"/>
              <a:ext cx="12312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51920" y="5079960"/>
              <a:ext cx="1054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51920" y="5079960"/>
              <a:ext cx="12312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09960" y="4735440"/>
              <a:ext cx="105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09960" y="4735440"/>
              <a:ext cx="12312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9960" y="5099040"/>
              <a:ext cx="1054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5099040"/>
              <a:ext cx="123120" cy="13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80400" y="4754520"/>
              <a:ext cx="105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0400" y="4754520"/>
              <a:ext cx="12312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0400" y="5099040"/>
              <a:ext cx="1054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0400" y="5099040"/>
              <a:ext cx="12312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44520" y="4754520"/>
              <a:ext cx="10512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44520" y="4754520"/>
              <a:ext cx="12276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44520" y="5099040"/>
              <a:ext cx="1051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44520" y="5099040"/>
              <a:ext cx="12276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6800" y="1774800"/>
              <a:ext cx="804240" cy="223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6880" y="1774800"/>
              <a:ext cx="828000" cy="2216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3960" y="5060880"/>
              <a:ext cx="245880" cy="247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3680" y="5060880"/>
              <a:ext cx="247320" cy="2476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 and server with threa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3880" y="1998720"/>
            <a:ext cx="8033040" cy="2949480"/>
            <a:chOff x="623880" y="1998720"/>
            <a:chExt cx="8033040" cy="2949480"/>
          </a:xfrm>
        </p:grpSpPr>
        <p:sp>
          <p:nvSpPr>
            <p:cNvPr id="152" name=""/>
            <p:cNvSpPr/>
            <p:nvPr/>
          </p:nvSpPr>
          <p:spPr>
            <a:xfrm>
              <a:off x="6522480" y="471960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78000" y="2314440"/>
              <a:ext cx="2042640" cy="2214720"/>
            </a:xfrm>
            <a:prstGeom prst="ellipse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14480" y="411012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 threa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25000" y="2066760"/>
              <a:ext cx="812880" cy="2476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5000" y="1998720"/>
              <a:ext cx="812880" cy="249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2000" y="2529000"/>
              <a:ext cx="102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put-outp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3680" y="2879640"/>
              <a:ext cx="146520" cy="13644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14" y="57"/>
                  </a:moveTo>
                  <a:lnTo>
                    <a:pt x="0" y="29"/>
                  </a:lnTo>
                  <a:lnTo>
                    <a:pt x="100" y="0"/>
                  </a:lnTo>
                  <a:lnTo>
                    <a:pt x="43" y="86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945040" y="2970000"/>
              <a:ext cx="479160" cy="36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62640" y="3286080"/>
              <a:ext cx="16524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4" y="29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4" y="57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965560" y="3331800"/>
              <a:ext cx="397080" cy="90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62640" y="3760920"/>
              <a:ext cx="165240" cy="112680"/>
            </a:xfrm>
            <a:custGeom>
              <a:avLst/>
              <a:gdLst/>
              <a:ahLst/>
              <a:rect l="l" t="t" r="r" b="b"/>
              <a:pathLst>
                <a:path w="113" h="71">
                  <a:moveTo>
                    <a:pt x="28" y="29"/>
                  </a:moveTo>
                  <a:lnTo>
                    <a:pt x="42" y="0"/>
                  </a:lnTo>
                  <a:lnTo>
                    <a:pt x="113" y="71"/>
                  </a:lnTo>
                  <a:lnTo>
                    <a:pt x="0" y="57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5040" y="3513240"/>
              <a:ext cx="438120" cy="293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17280" y="2292480"/>
              <a:ext cx="167040" cy="1364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14" y="57"/>
                  </a:moveTo>
                  <a:lnTo>
                    <a:pt x="0" y="29"/>
                  </a:lnTo>
                  <a:lnTo>
                    <a:pt x="114" y="0"/>
                  </a:lnTo>
                  <a:lnTo>
                    <a:pt x="28" y="86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24960" y="2382840"/>
              <a:ext cx="312120" cy="203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84320" y="2338560"/>
              <a:ext cx="1447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28" y="85"/>
                  </a:moveTo>
                  <a:lnTo>
                    <a:pt x="0" y="57"/>
                  </a:lnTo>
                  <a:lnTo>
                    <a:pt x="99" y="0"/>
                  </a:lnTo>
                  <a:lnTo>
                    <a:pt x="56" y="99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25320" y="2473200"/>
              <a:ext cx="499680" cy="655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08520" y="2451240"/>
              <a:ext cx="10404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8" y="85"/>
                  </a:moveTo>
                  <a:lnTo>
                    <a:pt x="0" y="71"/>
                  </a:lnTo>
                  <a:lnTo>
                    <a:pt x="71" y="0"/>
                  </a:lnTo>
                  <a:lnTo>
                    <a:pt x="57" y="99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882480" y="2608200"/>
              <a:ext cx="646200" cy="1198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19840" y="3219480"/>
              <a:ext cx="6264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32280" y="3105000"/>
              <a:ext cx="209520" cy="293760"/>
            </a:xfrm>
            <a:custGeom>
              <a:avLst/>
              <a:gdLst/>
              <a:ahLst/>
              <a:rect l="l" t="t" r="r" b="b"/>
              <a:pathLst>
                <a:path w="143" h="185">
                  <a:moveTo>
                    <a:pt x="143" y="157"/>
                  </a:moveTo>
                  <a:lnTo>
                    <a:pt x="143" y="157"/>
                  </a:lnTo>
                  <a:lnTo>
                    <a:pt x="143" y="157"/>
                  </a:lnTo>
                  <a:lnTo>
                    <a:pt x="100" y="185"/>
                  </a:lnTo>
                  <a:lnTo>
                    <a:pt x="29" y="171"/>
                  </a:lnTo>
                  <a:lnTo>
                    <a:pt x="0" y="129"/>
                  </a:lnTo>
                  <a:lnTo>
                    <a:pt x="0" y="72"/>
                  </a:lnTo>
                  <a:lnTo>
                    <a:pt x="29" y="29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99320" y="3895560"/>
              <a:ext cx="630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29" y="57"/>
                  </a:moveTo>
                  <a:lnTo>
                    <a:pt x="0" y="57"/>
                  </a:lnTo>
                  <a:lnTo>
                    <a:pt x="29" y="0"/>
                  </a:lnTo>
                  <a:lnTo>
                    <a:pt x="43" y="72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2280" y="3782880"/>
              <a:ext cx="187560" cy="271440"/>
            </a:xfrm>
            <a:custGeom>
              <a:avLst/>
              <a:gdLst/>
              <a:ahLst/>
              <a:rect l="l" t="t" r="r" b="b"/>
              <a:pathLst>
                <a:path w="128" h="171">
                  <a:moveTo>
                    <a:pt x="128" y="143"/>
                  </a:moveTo>
                  <a:lnTo>
                    <a:pt x="128" y="143"/>
                  </a:lnTo>
                  <a:lnTo>
                    <a:pt x="128" y="143"/>
                  </a:lnTo>
                  <a:lnTo>
                    <a:pt x="86" y="171"/>
                  </a:lnTo>
                  <a:lnTo>
                    <a:pt x="29" y="157"/>
                  </a:lnTo>
                  <a:lnTo>
                    <a:pt x="0" y="114"/>
                  </a:lnTo>
                  <a:lnTo>
                    <a:pt x="0" y="57"/>
                  </a:lnTo>
                  <a:lnTo>
                    <a:pt x="29" y="15"/>
                  </a:lnTo>
                  <a:lnTo>
                    <a:pt x="72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19840" y="2676600"/>
              <a:ext cx="6264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32280" y="2563920"/>
              <a:ext cx="209520" cy="271440"/>
            </a:xfrm>
            <a:custGeom>
              <a:avLst/>
              <a:gdLst/>
              <a:ahLst/>
              <a:rect l="l" t="t" r="r" b="b"/>
              <a:pathLst>
                <a:path w="143" h="171">
                  <a:moveTo>
                    <a:pt x="143" y="142"/>
                  </a:moveTo>
                  <a:lnTo>
                    <a:pt x="143" y="142"/>
                  </a:lnTo>
                  <a:lnTo>
                    <a:pt x="143" y="142"/>
                  </a:lnTo>
                  <a:lnTo>
                    <a:pt x="100" y="171"/>
                  </a:lnTo>
                  <a:lnTo>
                    <a:pt x="29" y="171"/>
                  </a:lnTo>
                  <a:lnTo>
                    <a:pt x="0" y="128"/>
                  </a:lnTo>
                  <a:lnTo>
                    <a:pt x="0" y="71"/>
                  </a:lnTo>
                  <a:lnTo>
                    <a:pt x="29" y="14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49400" y="3105000"/>
              <a:ext cx="124200" cy="181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7120" y="3241800"/>
              <a:ext cx="79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1880" y="442584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30160" y="2189160"/>
              <a:ext cx="138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hread 2 mak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24920" y="3522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47280" y="1998720"/>
              <a:ext cx="2042640" cy="2214360"/>
            </a:xfrm>
            <a:prstGeom prst="ellipse">
              <a:avLst/>
            </a:prstGeom>
            <a:solidFill>
              <a:srgbClr val="ffdc99"/>
            </a:solidFill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0360" y="2979720"/>
              <a:ext cx="7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hread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02360" y="3151080"/>
              <a:ext cx="41040" cy="1126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14" y="71"/>
                  </a:moveTo>
                  <a:lnTo>
                    <a:pt x="0" y="71"/>
                  </a:lnTo>
                  <a:lnTo>
                    <a:pt x="28" y="0"/>
                  </a:lnTo>
                  <a:lnTo>
                    <a:pt x="28" y="71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14800" y="3038400"/>
              <a:ext cx="207720" cy="271440"/>
            </a:xfrm>
            <a:custGeom>
              <a:avLst/>
              <a:gdLst/>
              <a:ahLst/>
              <a:rect l="l" t="t" r="r" b="b"/>
              <a:pathLst>
                <a:path w="142" h="171">
                  <a:moveTo>
                    <a:pt x="142" y="142"/>
                  </a:moveTo>
                  <a:lnTo>
                    <a:pt x="142" y="142"/>
                  </a:lnTo>
                  <a:lnTo>
                    <a:pt x="142" y="142"/>
                  </a:lnTo>
                  <a:lnTo>
                    <a:pt x="85" y="171"/>
                  </a:lnTo>
                  <a:lnTo>
                    <a:pt x="42" y="156"/>
                  </a:lnTo>
                  <a:lnTo>
                    <a:pt x="0" y="114"/>
                  </a:lnTo>
                  <a:lnTo>
                    <a:pt x="0" y="71"/>
                  </a:lnTo>
                  <a:lnTo>
                    <a:pt x="28" y="28"/>
                  </a:lnTo>
                  <a:lnTo>
                    <a:pt x="85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88000" y="3105000"/>
              <a:ext cx="18900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88000" y="3105000"/>
              <a:ext cx="20916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0080" y="3151080"/>
              <a:ext cx="6300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2520" y="3038400"/>
              <a:ext cx="209520" cy="271440"/>
            </a:xfrm>
            <a:custGeom>
              <a:avLst/>
              <a:gdLst/>
              <a:ahLst/>
              <a:rect l="l" t="t" r="r" b="b"/>
              <a:pathLst>
                <a:path w="143" h="171">
                  <a:moveTo>
                    <a:pt x="143" y="142"/>
                  </a:moveTo>
                  <a:lnTo>
                    <a:pt x="143" y="142"/>
                  </a:lnTo>
                  <a:lnTo>
                    <a:pt x="143" y="142"/>
                  </a:lnTo>
                  <a:lnTo>
                    <a:pt x="100" y="171"/>
                  </a:lnTo>
                  <a:lnTo>
                    <a:pt x="43" y="156"/>
                  </a:lnTo>
                  <a:lnTo>
                    <a:pt x="15" y="114"/>
                  </a:lnTo>
                  <a:lnTo>
                    <a:pt x="0" y="71"/>
                  </a:lnTo>
                  <a:lnTo>
                    <a:pt x="43" y="28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5600" y="3105000"/>
              <a:ext cx="18720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05600" y="3105000"/>
              <a:ext cx="20772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1240" y="3105000"/>
              <a:ext cx="18756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01240" y="3105000"/>
              <a:ext cx="20772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5880" y="3354480"/>
              <a:ext cx="167040" cy="9036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28"/>
                  </a:moveTo>
                  <a:lnTo>
                    <a:pt x="14" y="0"/>
                  </a:lnTo>
                  <a:lnTo>
                    <a:pt x="114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9920" y="3173400"/>
              <a:ext cx="1875600" cy="225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01560" y="3129120"/>
              <a:ext cx="6264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14"/>
                  </a:moveTo>
                  <a:lnTo>
                    <a:pt x="0" y="0"/>
                  </a:lnTo>
                  <a:lnTo>
                    <a:pt x="43" y="14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97160" y="3151080"/>
              <a:ext cx="104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7720" y="3129120"/>
              <a:ext cx="4248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14"/>
                  </a:moveTo>
                  <a:lnTo>
                    <a:pt x="0" y="0"/>
                  </a:lnTo>
                  <a:lnTo>
                    <a:pt x="29" y="14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3160" y="3151080"/>
              <a:ext cx="103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21880" y="2392200"/>
              <a:ext cx="153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s to 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880" y="3182760"/>
              <a:ext cx="90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nerate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560" y="3409920"/>
              <a:ext cx="566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9360" y="3038400"/>
              <a:ext cx="311760" cy="90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443400" y="2585520"/>
              <a:ext cx="311760" cy="430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65880" y="3513240"/>
              <a:ext cx="145080" cy="88920"/>
            </a:xfrm>
            <a:custGeom>
              <a:avLst/>
              <a:gdLst/>
              <a:ahLst/>
              <a:rect l="l" t="t" r="r" b="b"/>
              <a:pathLst>
                <a:path w="99" h="56">
                  <a:moveTo>
                    <a:pt x="0" y="28"/>
                  </a:moveTo>
                  <a:lnTo>
                    <a:pt x="0" y="0"/>
                  </a:lnTo>
                  <a:lnTo>
                    <a:pt x="99" y="14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903200" y="3557160"/>
              <a:ext cx="542160" cy="1350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65880" y="3692520"/>
              <a:ext cx="145080" cy="13644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14" y="72"/>
                  </a:moveTo>
                  <a:lnTo>
                    <a:pt x="0" y="43"/>
                  </a:lnTo>
                  <a:lnTo>
                    <a:pt x="99" y="0"/>
                  </a:lnTo>
                  <a:lnTo>
                    <a:pt x="43" y="86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298840" y="3807000"/>
              <a:ext cx="187200" cy="179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8320" y="36021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153400" y="3625920"/>
              <a:ext cx="406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47560" y="3648240"/>
              <a:ext cx="21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23360" y="3670200"/>
              <a:ext cx="40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819680" y="3692520"/>
              <a:ext cx="201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714920" y="3716280"/>
              <a:ext cx="205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11240" y="373860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65880" y="3828960"/>
              <a:ext cx="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361480" y="3895560"/>
              <a:ext cx="20520" cy="24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277960" y="3986280"/>
              <a:ext cx="205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94080" y="4054320"/>
              <a:ext cx="205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10920" y="4145040"/>
              <a:ext cx="205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027760" y="4213080"/>
              <a:ext cx="2016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943520" y="4303800"/>
              <a:ext cx="2052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860720" y="4370400"/>
              <a:ext cx="21600" cy="23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8440" y="3840120"/>
              <a:ext cx="81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94480" y="3241800"/>
              <a:ext cx="209520" cy="4507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1840" y="2619360"/>
              <a:ext cx="82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eipt &amp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96880" y="2822400"/>
              <a:ext cx="68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ueu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ternative server threading architectures (see also Figure 6.5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61960" y="2222640"/>
            <a:ext cx="80596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 associated with execution environments and threa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03280" y="2359080"/>
            <a:ext cx="7934400" cy="2428920"/>
            <a:chOff x="503280" y="2359080"/>
            <a:chExt cx="7934400" cy="2428920"/>
          </a:xfrm>
        </p:grpSpPr>
        <p:sp>
          <p:nvSpPr>
            <p:cNvPr id="231" name=""/>
            <p:cNvSpPr/>
            <p:nvPr/>
          </p:nvSpPr>
          <p:spPr>
            <a:xfrm>
              <a:off x="567360" y="2419200"/>
              <a:ext cx="23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xecution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24040" y="2419200"/>
              <a:ext cx="73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7080" y="2749680"/>
              <a:ext cx="21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ress space t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9520" y="2749680"/>
              <a:ext cx="25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ved processor regi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3280" y="3016080"/>
              <a:ext cx="382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interfaces, open 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6320" y="3016080"/>
              <a:ext cx="368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iority and execution state (such 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8200" y="3284640"/>
              <a:ext cx="116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LOC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2080" y="32846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6600" y="3551400"/>
              <a:ext cx="359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maphores, other synchron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3240" y="381780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9040" y="3551400"/>
              <a:ext cx="408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ftware interrupt handl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7280" y="4086360"/>
              <a:ext cx="246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t of thread identif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2080" y="4086360"/>
              <a:ext cx="338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ion environment identif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8840" y="4465800"/>
              <a:ext cx="684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ges of address space resident in memory; hardware cache en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8560" y="4786200"/>
              <a:ext cx="780912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560" y="2359080"/>
              <a:ext cx="7809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8560" y="2711520"/>
              <a:ext cx="7809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thread constructor and management metho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5360" y="1393920"/>
            <a:ext cx="815976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(ThreadGroup group, Runnable target, String na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s a new thread in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, which will belong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be identified a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the thread will execute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tPriority(int newPriority), getPriori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and return the thread’s pri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hread executes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of its target object, if it has one, and otherwise its ow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mplement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nge the state of the thread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leep(int milli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use the thread to enter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 for the specified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iel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ter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 and invoke the schedu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troy the th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3:13:48Z</dcterms:modified>
  <cp:revision>40</cp:revision>
  <dc:subject/>
  <dc:title>Figure 15.1 A distributed multimedia system</dc:title>
</cp:coreProperties>
</file>