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20.png" ContentType="image/png"/>
  <Override PartName="/ppt/media/image19.png" ContentType="image/png"/>
  <Override PartName="/ppt/media/image16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76B-B2EC-463E-A684-D97CB305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A52-9605-41DD-91A0-4A1CBBBD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65E-8587-4E12-8B74-A8B6FE5D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B05-2E69-4891-A17B-3DFE8CA9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2016-8074-44C6-96D5-CC1D659E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C79B-C22C-45CA-94F7-FE246976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2D26-AEC8-4984-B40E-605584FB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9379-A967-42D0-9424-F798419F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A282-7E4A-4423-BA73-96FA907C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EDD1-CC62-4A94-B0D5-BA1ED71C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D9BE-5095-4B2B-88DF-E6DABD4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2F2-D669-4613-A9BC-52424AF0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CD1-C866-423C-BB96-EE9C15D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E2C2-A5E9-48EA-9373-7369586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7DC5-0265-4FA6-A9E6-6CB626DD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ACDD-12A9-487C-AEAA-B63F31FE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2B6E-1F8F-48B8-85C4-3098DC85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6F0-F419-45F4-8D4A-9F5BD16E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BB5-7779-4DD5-A0E4-A4B11760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1F0-35FC-4042-BF7D-CF88C1C0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647-96B1-4882-B41C-F48CD163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822-2CEF-4255-BED2-78F4ADC0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9D7-D5E7-4A6C-B353-3AB1AEE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723-37F0-45DF-A3FB-3978D0A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F7B4-0985-4A77-B4D2-BE04E859D9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7B8D-1E6E-4B90-8558-F0FD9AB1A1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image" Target="../media/image5.pct"/><Relationship Id="rId10" Type="http://schemas.openxmlformats.org/officeDocument/2006/relationships/image" Target="../media/image6.pct"/><Relationship Id="rId11" Type="http://schemas.openxmlformats.org/officeDocument/2006/relationships/image" Target="../media/image7.pct"/><Relationship Id="rId12" Type="http://schemas.openxmlformats.org/officeDocument/2006/relationships/image" Target="../media/image8.pct"/><Relationship Id="rId13" Type="http://schemas.openxmlformats.org/officeDocument/2006/relationships/image" Target="../media/image9.pct"/><Relationship Id="rId14" Type="http://schemas.openxmlformats.org/officeDocument/2006/relationships/image" Target="../media/image10.pct"/><Relationship Id="rId15" Type="http://schemas.openxmlformats.org/officeDocument/2006/relationships/image" Target="../media/image10.pct"/><Relationship Id="rId16" Type="http://schemas.openxmlformats.org/officeDocument/2006/relationships/image" Target="../media/image11.pct"/><Relationship Id="rId17" Type="http://schemas.openxmlformats.org/officeDocument/2006/relationships/image" Target="../media/image12.pct"/><Relationship Id="rId18" Type="http://schemas.openxmlformats.org/officeDocument/2006/relationships/image" Target="../media/image13.pct"/><Relationship Id="rId19" Type="http://schemas.openxmlformats.org/officeDocument/2006/relationships/image" Target="../media/image5.pct"/><Relationship Id="rId2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3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etworking and Internetworking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seudo-code for RIP routing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1371600"/>
            <a:ext cx="8153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nd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ac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econds or wh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nges, se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n each non-faulty outgoing l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ceiv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henever a routing tab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received on link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ll row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destin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ad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add new destination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 for all row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destin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Rl.destinat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Rr.cos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Rl.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.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R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r.cost &lt; Rl.cost : remote node has better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.link = 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remote node is more authori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implified view of the QMW Computer Science network (in mid-2000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523880" y="1371600"/>
            <a:ext cx="6135840" cy="4959360"/>
            <a:chOff x="1523880" y="1371600"/>
            <a:chExt cx="6135840" cy="4959360"/>
          </a:xfrm>
        </p:grpSpPr>
        <p:sp>
          <p:nvSpPr>
            <p:cNvPr id="454" name=""/>
            <p:cNvSpPr/>
            <p:nvPr/>
          </p:nvSpPr>
          <p:spPr>
            <a:xfrm>
              <a:off x="2114640" y="5703840"/>
              <a:ext cx="2523960" cy="142920"/>
            </a:xfrm>
            <a:custGeom>
              <a:avLst/>
              <a:gdLst/>
              <a:ahLst/>
              <a:rect l="l" t="t" r="r" b="b"/>
              <a:pathLst>
                <a:path w="1590" h="90">
                  <a:moveTo>
                    <a:pt x="0" y="90"/>
                  </a:moveTo>
                  <a:lnTo>
                    <a:pt x="1590" y="90"/>
                  </a:lnTo>
                  <a:lnTo>
                    <a:pt x="159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31920" y="1639800"/>
              <a:ext cx="2506680" cy="142920"/>
            </a:xfrm>
            <a:custGeom>
              <a:avLst/>
              <a:gdLst/>
              <a:ahLst/>
              <a:rect l="l" t="t" r="r" b="b"/>
              <a:pathLst>
                <a:path w="1579" h="90">
                  <a:moveTo>
                    <a:pt x="0" y="0"/>
                  </a:moveTo>
                  <a:lnTo>
                    <a:pt x="1579" y="0"/>
                  </a:lnTo>
                  <a:lnTo>
                    <a:pt x="1579" y="9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16640" y="5686560"/>
              <a:ext cx="2143080" cy="64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18240" y="2427120"/>
              <a:ext cx="501480" cy="3079800"/>
            </a:xfrm>
            <a:custGeom>
              <a:avLst/>
              <a:gdLst/>
              <a:ahLst/>
              <a:rect l="l" t="t" r="r" b="b"/>
              <a:pathLst>
                <a:path w="316" h="1940">
                  <a:moveTo>
                    <a:pt x="316" y="0"/>
                  </a:moveTo>
                  <a:lnTo>
                    <a:pt x="0" y="0"/>
                  </a:lnTo>
                  <a:lnTo>
                    <a:pt x="0" y="194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3280" y="2427120"/>
              <a:ext cx="608040" cy="3062520"/>
            </a:xfrm>
            <a:custGeom>
              <a:avLst/>
              <a:gdLst/>
              <a:ahLst/>
              <a:rect l="l" t="t" r="r" b="b"/>
              <a:pathLst>
                <a:path w="383" h="1929">
                  <a:moveTo>
                    <a:pt x="0" y="0"/>
                  </a:moveTo>
                  <a:lnTo>
                    <a:pt x="383" y="0"/>
                  </a:lnTo>
                  <a:lnTo>
                    <a:pt x="383" y="192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81520" y="1855800"/>
              <a:ext cx="789120" cy="482760"/>
            </a:xfrm>
            <a:custGeom>
              <a:avLst/>
              <a:gdLst/>
              <a:ahLst/>
              <a:rect l="l" t="t" r="r" b="b"/>
              <a:pathLst>
                <a:path w="497" h="304">
                  <a:moveTo>
                    <a:pt x="0" y="0"/>
                  </a:moveTo>
                  <a:lnTo>
                    <a:pt x="0" y="191"/>
                  </a:lnTo>
                  <a:lnTo>
                    <a:pt x="497" y="191"/>
                  </a:lnTo>
                  <a:lnTo>
                    <a:pt x="497" y="30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80000" y="1836720"/>
              <a:ext cx="876240" cy="501840"/>
            </a:xfrm>
            <a:custGeom>
              <a:avLst/>
              <a:gdLst/>
              <a:ahLst/>
              <a:rect l="l" t="t" r="r" b="b"/>
              <a:pathLst>
                <a:path w="552" h="316">
                  <a:moveTo>
                    <a:pt x="552" y="0"/>
                  </a:moveTo>
                  <a:lnTo>
                    <a:pt x="552" y="203"/>
                  </a:lnTo>
                  <a:lnTo>
                    <a:pt x="0" y="203"/>
                  </a:lnTo>
                  <a:lnTo>
                    <a:pt x="0" y="31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930720" y="3054240"/>
              <a:ext cx="106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56360" y="2946240"/>
              <a:ext cx="106560" cy="12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23080" y="2749680"/>
              <a:ext cx="108000" cy="1217520"/>
            </a:xfrm>
            <a:custGeom>
              <a:avLst/>
              <a:gdLst/>
              <a:ahLst/>
              <a:rect l="l" t="t" r="r" b="b"/>
              <a:pathLst>
                <a:path w="68" h="767">
                  <a:moveTo>
                    <a:pt x="0" y="0"/>
                  </a:moveTo>
                  <a:lnTo>
                    <a:pt x="68" y="0"/>
                  </a:lnTo>
                  <a:lnTo>
                    <a:pt x="68" y="76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05280" y="2535120"/>
              <a:ext cx="142920" cy="2238480"/>
            </a:xfrm>
            <a:custGeom>
              <a:avLst/>
              <a:gdLst/>
              <a:ahLst/>
              <a:rect l="l" t="t" r="r" b="b"/>
              <a:pathLst>
                <a:path w="90" h="1410">
                  <a:moveTo>
                    <a:pt x="90" y="0"/>
                  </a:moveTo>
                  <a:lnTo>
                    <a:pt x="90" y="1353"/>
                  </a:lnTo>
                  <a:lnTo>
                    <a:pt x="0" y="1353"/>
                  </a:lnTo>
                  <a:lnTo>
                    <a:pt x="0" y="141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5960" y="2535120"/>
              <a:ext cx="1003320" cy="2184480"/>
            </a:xfrm>
            <a:custGeom>
              <a:avLst/>
              <a:gdLst/>
              <a:ahLst/>
              <a:rect l="l" t="t" r="r" b="b"/>
              <a:pathLst>
                <a:path w="632" h="1376">
                  <a:moveTo>
                    <a:pt x="632" y="0"/>
                  </a:moveTo>
                  <a:lnTo>
                    <a:pt x="632" y="1263"/>
                  </a:lnTo>
                  <a:lnTo>
                    <a:pt x="0" y="1263"/>
                  </a:lnTo>
                  <a:lnTo>
                    <a:pt x="0" y="13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70120" y="2535120"/>
              <a:ext cx="1181160" cy="1808280"/>
            </a:xfrm>
            <a:custGeom>
              <a:avLst/>
              <a:gdLst/>
              <a:ahLst/>
              <a:rect l="l" t="t" r="r" b="b"/>
              <a:pathLst>
                <a:path w="744" h="1139">
                  <a:moveTo>
                    <a:pt x="744" y="0"/>
                  </a:moveTo>
                  <a:lnTo>
                    <a:pt x="744" y="1139"/>
                  </a:lnTo>
                  <a:lnTo>
                    <a:pt x="0" y="113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5040" y="2535120"/>
              <a:ext cx="1057320" cy="1217880"/>
            </a:xfrm>
            <a:custGeom>
              <a:avLst/>
              <a:gdLst/>
              <a:ahLst/>
              <a:rect l="l" t="t" r="r" b="b"/>
              <a:pathLst>
                <a:path w="666" h="767">
                  <a:moveTo>
                    <a:pt x="666" y="0"/>
                  </a:moveTo>
                  <a:lnTo>
                    <a:pt x="666" y="767"/>
                  </a:lnTo>
                  <a:lnTo>
                    <a:pt x="0" y="76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87760" y="2463840"/>
              <a:ext cx="912600" cy="88920"/>
            </a:xfrm>
            <a:custGeom>
              <a:avLst/>
              <a:gdLst/>
              <a:ahLst/>
              <a:rect l="l" t="t" r="r" b="b"/>
              <a:pathLst>
                <a:path w="575" h="56">
                  <a:moveTo>
                    <a:pt x="0" y="56"/>
                  </a:moveTo>
                  <a:lnTo>
                    <a:pt x="361" y="56"/>
                  </a:lnTo>
                  <a:lnTo>
                    <a:pt x="361" y="0"/>
                  </a:lnTo>
                  <a:lnTo>
                    <a:pt x="57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87760" y="2535120"/>
              <a:ext cx="984240" cy="609840"/>
            </a:xfrm>
            <a:custGeom>
              <a:avLst/>
              <a:gdLst/>
              <a:ahLst/>
              <a:rect l="l" t="t" r="r" b="b"/>
              <a:pathLst>
                <a:path w="620" h="384">
                  <a:moveTo>
                    <a:pt x="620" y="0"/>
                  </a:moveTo>
                  <a:lnTo>
                    <a:pt x="620" y="384"/>
                  </a:lnTo>
                  <a:lnTo>
                    <a:pt x="0" y="38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988640" y="3162240"/>
              <a:ext cx="590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07160" y="35100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14360" y="225756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14720" y="290196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ial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63600" y="165888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ha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84480" y="317988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henr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43800" y="378936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hot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71520" y="328788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31560" y="389556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1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76920" y="2571840"/>
              <a:ext cx="34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bru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58560" y="267804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02760" y="57834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66840" y="563256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sick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47680" y="149688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44880" y="1496880"/>
              <a:ext cx="102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0/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47680" y="586584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62880" y="4379760"/>
              <a:ext cx="38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co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49200" y="448632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80440" y="587376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84600" y="1693800"/>
              <a:ext cx="270000" cy="358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84600" y="1693800"/>
              <a:ext cx="287280" cy="376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00360" y="2338560"/>
              <a:ext cx="519120" cy="19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00360" y="2338560"/>
              <a:ext cx="536760" cy="214200"/>
            </a:xfrm>
            <a:prstGeom prst="roundRect">
              <a:avLst>
                <a:gd name="adj" fmla="val 47778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41004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57920" y="5703840"/>
              <a:ext cx="102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8/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07160" y="42260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24120" y="3841920"/>
              <a:ext cx="142920" cy="3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24120" y="3824280"/>
              <a:ext cx="142920" cy="3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24120" y="3807000"/>
              <a:ext cx="142920" cy="3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24120" y="3789360"/>
              <a:ext cx="142920" cy="3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704680" y="382428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79760" y="3645000"/>
              <a:ext cx="125280" cy="25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79760" y="3645000"/>
              <a:ext cx="14436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72040" y="5283360"/>
              <a:ext cx="133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sktop computer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94960" y="530388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97440" y="1622520"/>
              <a:ext cx="44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sub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80040" y="5829480"/>
              <a:ext cx="44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sub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72360" y="236376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79760" y="3036960"/>
              <a:ext cx="125280" cy="250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79760" y="3036960"/>
              <a:ext cx="14436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79760" y="2409840"/>
              <a:ext cx="125280" cy="268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79760" y="2409840"/>
              <a:ext cx="144360" cy="2872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04840" y="203364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07160" y="24004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07160" y="30272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07160" y="3635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79760" y="4218120"/>
              <a:ext cx="125280" cy="25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79760" y="4218120"/>
              <a:ext cx="14436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41560" y="201600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5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598840" y="4773600"/>
              <a:ext cx="30312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43240" y="5059440"/>
              <a:ext cx="5256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33" y="0"/>
                  </a:lnTo>
                  <a:lnTo>
                    <a:pt x="33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52880" y="4970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35240" y="4952880"/>
              <a:ext cx="1429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52880" y="4987800"/>
              <a:ext cx="90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2880" y="4987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78160" y="5113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6" name="" descr=""/>
            <p:cNvPicPr/>
            <p:nvPr/>
          </p:nvPicPr>
          <p:blipFill>
            <a:blip r:embed="rId1"/>
            <a:stretch/>
          </p:blipFill>
          <p:spPr>
            <a:xfrm>
              <a:off x="3170160" y="4987800"/>
              <a:ext cx="7308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278160" y="51134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95800" y="51134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52880" y="5041800"/>
              <a:ext cx="903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35240" y="5059440"/>
              <a:ext cx="142920" cy="1908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11" y="0"/>
                  </a:moveTo>
                  <a:lnTo>
                    <a:pt x="0" y="12"/>
                  </a:lnTo>
                  <a:lnTo>
                    <a:pt x="90" y="12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52880" y="5078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52880" y="5059440"/>
              <a:ext cx="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52880" y="5078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89240" y="507852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43240" y="507852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06880" y="4987800"/>
              <a:ext cx="1728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06880" y="4987800"/>
              <a:ext cx="3636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95760" y="511344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0"/>
                  </a:lnTo>
                  <a:lnTo>
                    <a:pt x="22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87760" y="5024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70120" y="5005440"/>
              <a:ext cx="14292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5040" y="5041800"/>
              <a:ext cx="907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05040" y="5041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30680" y="5167440"/>
              <a:ext cx="1872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2"/>
            <a:stretch/>
          </p:blipFill>
          <p:spPr>
            <a:xfrm>
              <a:off x="2705040" y="504180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830680" y="516744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87760" y="5095800"/>
              <a:ext cx="10800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70120" y="5113440"/>
              <a:ext cx="142920" cy="1728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11" y="0"/>
                  </a:moveTo>
                  <a:lnTo>
                    <a:pt x="0" y="11"/>
                  </a:lnTo>
                  <a:lnTo>
                    <a:pt x="90" y="11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87760" y="5130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05040" y="5113440"/>
              <a:ext cx="90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87760" y="5130720"/>
              <a:ext cx="7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24120" y="5130720"/>
              <a:ext cx="7164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33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76680" y="5130720"/>
              <a:ext cx="19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41760" y="5041800"/>
              <a:ext cx="3492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41760" y="5041800"/>
              <a:ext cx="5400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14880" y="48448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0"/>
                  </a:lnTo>
                  <a:lnTo>
                    <a:pt x="22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06880" y="4756320"/>
              <a:ext cx="12528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89240" y="4737240"/>
              <a:ext cx="16056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24160" y="4773600"/>
              <a:ext cx="907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4160" y="47736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49800" y="4898880"/>
              <a:ext cx="1872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3"/>
            <a:stretch/>
          </p:blipFill>
          <p:spPr>
            <a:xfrm>
              <a:off x="3243240" y="4791240"/>
              <a:ext cx="71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3349800" y="4898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49800" y="4898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6852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24160" y="4827600"/>
              <a:ext cx="90720" cy="172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06880" y="484488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11" y="0"/>
                  </a:moveTo>
                  <a:lnTo>
                    <a:pt x="0" y="11"/>
                  </a:lnTo>
                  <a:lnTo>
                    <a:pt x="79" y="11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24160" y="4862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24160" y="4862520"/>
              <a:ext cx="90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24160" y="4862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43240" y="4862520"/>
              <a:ext cx="8892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33" y="0"/>
                  </a:lnTo>
                  <a:lnTo>
                    <a:pt x="5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14880" y="4862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60880" y="4773600"/>
              <a:ext cx="34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60880" y="47736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758680" y="4808520"/>
              <a:ext cx="14292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55960" y="4844880"/>
              <a:ext cx="1440" cy="2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73240" y="4791240"/>
              <a:ext cx="16200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09960" y="4791240"/>
              <a:ext cx="23328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01960" y="4719600"/>
              <a:ext cx="10800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27240" y="51847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34" y="11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38320" y="5095800"/>
              <a:ext cx="10800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21040" y="5078520"/>
              <a:ext cx="142920" cy="123840"/>
            </a:xfrm>
            <a:prstGeom prst="roundRect">
              <a:avLst>
                <a:gd name="adj" fmla="val 32051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38320" y="513072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38320" y="513072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63960" y="523872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" descr=""/>
            <p:cNvPicPr/>
            <p:nvPr/>
          </p:nvPicPr>
          <p:blipFill>
            <a:blip r:embed="rId4"/>
            <a:stretch/>
          </p:blipFill>
          <p:spPr>
            <a:xfrm>
              <a:off x="2955960" y="5130720"/>
              <a:ext cx="7128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06396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81240" y="523872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81240" y="523872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38320" y="518472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21040" y="5202360"/>
              <a:ext cx="142920" cy="1908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11" y="0"/>
                  </a:moveTo>
                  <a:lnTo>
                    <a:pt x="0" y="12"/>
                  </a:lnTo>
                  <a:lnTo>
                    <a:pt x="90" y="12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38320" y="520236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38320" y="5202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38320" y="520236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3240" y="5202360"/>
              <a:ext cx="7308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23" y="0"/>
                  </a:lnTo>
                  <a:lnTo>
                    <a:pt x="4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27240" y="520236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92320" y="511344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92320" y="5113440"/>
              <a:ext cx="34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528720" y="4827600"/>
              <a:ext cx="322200" cy="8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91120" y="51134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0"/>
                  </a:moveTo>
                  <a:lnTo>
                    <a:pt x="23" y="0"/>
                  </a:lnTo>
                  <a:lnTo>
                    <a:pt x="23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84560" y="5024520"/>
              <a:ext cx="10656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65480" y="5005440"/>
              <a:ext cx="14472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02200" y="504180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02200" y="5041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10200" y="51674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" descr=""/>
            <p:cNvPicPr/>
            <p:nvPr/>
          </p:nvPicPr>
          <p:blipFill>
            <a:blip r:embed="rId5"/>
            <a:stretch/>
          </p:blipFill>
          <p:spPr>
            <a:xfrm>
              <a:off x="4102200" y="5059440"/>
              <a:ext cx="7128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422748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2748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2748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84560" y="5095800"/>
              <a:ext cx="1065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65480" y="5113440"/>
              <a:ext cx="144720" cy="36360"/>
            </a:xfrm>
            <a:custGeom>
              <a:avLst/>
              <a:gdLst/>
              <a:ahLst/>
              <a:rect l="l" t="t" r="r" b="b"/>
              <a:pathLst>
                <a:path w="91" h="23">
                  <a:moveTo>
                    <a:pt x="12" y="0"/>
                  </a:moveTo>
                  <a:lnTo>
                    <a:pt x="0" y="23"/>
                  </a:lnTo>
                  <a:lnTo>
                    <a:pt x="91" y="23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84560" y="513072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11" y="0"/>
                  </a:ln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84560" y="5130720"/>
              <a:ext cx="71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9480" y="5130720"/>
              <a:ext cx="7164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34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73480" y="5130720"/>
              <a:ext cx="17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37120" y="5041800"/>
              <a:ext cx="36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37120" y="50418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6000" y="51674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23" y="0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18000" y="5078520"/>
              <a:ext cx="12528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00360" y="5059440"/>
              <a:ext cx="16200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37080" y="5095800"/>
              <a:ext cx="88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37080" y="5095800"/>
              <a:ext cx="1062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2360" y="5221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6"/>
            <a:stretch/>
          </p:blipFill>
          <p:spPr>
            <a:xfrm>
              <a:off x="3654360" y="5113440"/>
              <a:ext cx="71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762360" y="5221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62360" y="5221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80000" y="5221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37080" y="514980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18000" y="5167440"/>
              <a:ext cx="125280" cy="3492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12" y="0"/>
                  </a:moveTo>
                  <a:lnTo>
                    <a:pt x="0" y="22"/>
                  </a:lnTo>
                  <a:lnTo>
                    <a:pt x="79" y="22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37080" y="5184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37080" y="51847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37080" y="5184720"/>
              <a:ext cx="54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54360" y="5184720"/>
              <a:ext cx="88920" cy="180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34" y="0"/>
                  </a:lnTo>
                  <a:lnTo>
                    <a:pt x="5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26000" y="5184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72000" y="5095800"/>
              <a:ext cx="363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72000" y="50958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45120" y="4898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34" y="11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56200" y="4808520"/>
              <a:ext cx="106200" cy="90360"/>
            </a:xfrm>
            <a:prstGeom prst="roundRect">
              <a:avLst>
                <a:gd name="adj" fmla="val 438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37120" y="4791240"/>
              <a:ext cx="144360" cy="125280"/>
            </a:xfrm>
            <a:prstGeom prst="roundRect">
              <a:avLst>
                <a:gd name="adj" fmla="val 3164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73480" y="4844880"/>
              <a:ext cx="7164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73480" y="4844880"/>
              <a:ext cx="88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81480" y="49528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2" name="" descr=""/>
            <p:cNvPicPr/>
            <p:nvPr/>
          </p:nvPicPr>
          <p:blipFill>
            <a:blip r:embed="rId7"/>
            <a:stretch/>
          </p:blipFill>
          <p:spPr>
            <a:xfrm>
              <a:off x="4173480" y="4844880"/>
              <a:ext cx="716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281480" y="4952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99120" y="4952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99120" y="4952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56200" y="4898880"/>
              <a:ext cx="10620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37120" y="4916520"/>
              <a:ext cx="144360" cy="172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12" y="0"/>
                  </a:moveTo>
                  <a:lnTo>
                    <a:pt x="0" y="11"/>
                  </a:lnTo>
                  <a:lnTo>
                    <a:pt x="91" y="11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56200" y="4916520"/>
              <a:ext cx="8892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11" y="0"/>
                  </a:lnTo>
                  <a:lnTo>
                    <a:pt x="5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56200" y="4916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91120" y="4916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27480" y="491652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45120" y="4916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10200" y="4827600"/>
              <a:ext cx="17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10200" y="4827600"/>
              <a:ext cx="34920" cy="5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690720" y="4879800"/>
              <a:ext cx="1602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05280" y="4898880"/>
              <a:ext cx="144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05280" y="4844880"/>
              <a:ext cx="1602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40200" y="4844880"/>
              <a:ext cx="233280" cy="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33640" y="4773600"/>
              <a:ext cx="12564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76560" y="52387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0"/>
                  </a:moveTo>
                  <a:lnTo>
                    <a:pt x="23" y="11"/>
                  </a:lnTo>
                  <a:lnTo>
                    <a:pt x="23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68560" y="516744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51280" y="5149800"/>
              <a:ext cx="1429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87640" y="518472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87640" y="5184720"/>
              <a:ext cx="106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94200" y="52927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12" y="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6" name="" descr=""/>
            <p:cNvPicPr/>
            <p:nvPr/>
          </p:nvPicPr>
          <p:blipFill>
            <a:blip r:embed="rId8"/>
            <a:stretch/>
          </p:blipFill>
          <p:spPr>
            <a:xfrm>
              <a:off x="3887640" y="518472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4013280" y="5292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13280" y="5292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13280" y="5292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68560" y="5238720"/>
              <a:ext cx="10800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51280" y="5256360"/>
              <a:ext cx="142920" cy="1908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11" y="0"/>
                  </a:moveTo>
                  <a:lnTo>
                    <a:pt x="0" y="12"/>
                  </a:lnTo>
                  <a:lnTo>
                    <a:pt x="90" y="12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68560" y="527544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87640" y="5256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68560" y="525636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05280" y="527544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59280" y="525636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59280" y="527544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22560" y="5167440"/>
              <a:ext cx="367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22560" y="516744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46360" y="493380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0"/>
                  </a:moveTo>
                  <a:lnTo>
                    <a:pt x="23" y="12"/>
                  </a:lnTo>
                  <a:lnTo>
                    <a:pt x="23" y="4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40160" y="4862520"/>
              <a:ext cx="1062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21080" y="4844880"/>
              <a:ext cx="14436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57440" y="487980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57440" y="4879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3080" y="498780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0"/>
                  </a:moveTo>
                  <a:lnTo>
                    <a:pt x="0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9"/>
            <a:stretch/>
          </p:blipFill>
          <p:spPr>
            <a:xfrm>
              <a:off x="3457440" y="487980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3583080" y="500544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40160" y="4933800"/>
              <a:ext cx="106200" cy="190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21080" y="4952880"/>
              <a:ext cx="144360" cy="1764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12" y="0"/>
                  </a:moveTo>
                  <a:lnTo>
                    <a:pt x="0" y="11"/>
                  </a:lnTo>
                  <a:lnTo>
                    <a:pt x="91" y="11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40160" y="4970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57440" y="495288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40160" y="4952880"/>
              <a:ext cx="7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75080" y="4970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529080" y="495288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29080" y="4970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92360" y="4862520"/>
              <a:ext cx="367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92360" y="486252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54640" y="2535120"/>
              <a:ext cx="162000" cy="2184480"/>
            </a:xfrm>
            <a:custGeom>
              <a:avLst/>
              <a:gdLst/>
              <a:ahLst/>
              <a:rect l="l" t="t" r="r" b="b"/>
              <a:pathLst>
                <a:path w="102" h="1376">
                  <a:moveTo>
                    <a:pt x="0" y="0"/>
                  </a:moveTo>
                  <a:lnTo>
                    <a:pt x="0" y="1320"/>
                  </a:lnTo>
                  <a:lnTo>
                    <a:pt x="102" y="1320"/>
                  </a:lnTo>
                  <a:lnTo>
                    <a:pt x="102" y="13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62640" y="2535120"/>
              <a:ext cx="984240" cy="2184480"/>
            </a:xfrm>
            <a:custGeom>
              <a:avLst/>
              <a:gdLst/>
              <a:ahLst/>
              <a:rect l="l" t="t" r="r" b="b"/>
              <a:pathLst>
                <a:path w="620" h="1376">
                  <a:moveTo>
                    <a:pt x="0" y="0"/>
                  </a:moveTo>
                  <a:lnTo>
                    <a:pt x="0" y="1263"/>
                  </a:lnTo>
                  <a:lnTo>
                    <a:pt x="620" y="1263"/>
                  </a:lnTo>
                  <a:lnTo>
                    <a:pt x="620" y="13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67560" y="2500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67560" y="2517840"/>
              <a:ext cx="106200" cy="17928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22" y="0"/>
                  </a:moveTo>
                  <a:lnTo>
                    <a:pt x="0" y="11"/>
                  </a:lnTo>
                  <a:lnTo>
                    <a:pt x="45" y="113"/>
                  </a:lnTo>
                  <a:lnTo>
                    <a:pt x="56" y="113"/>
                  </a:lnTo>
                  <a:lnTo>
                    <a:pt x="56" y="113"/>
                  </a:lnTo>
                  <a:lnTo>
                    <a:pt x="67" y="10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697800" y="2660760"/>
              <a:ext cx="1728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56120" y="2660760"/>
              <a:ext cx="84168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24680" y="50594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41960" y="4970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24680" y="4952880"/>
              <a:ext cx="1429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61040" y="498780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61040" y="4987800"/>
              <a:ext cx="106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07040" y="5113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10"/>
            <a:stretch/>
          </p:blipFill>
          <p:spPr>
            <a:xfrm>
              <a:off x="6161040" y="498780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6124680" y="51134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07040" y="51134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1040" y="504180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41960" y="5059440"/>
              <a:ext cx="125640" cy="19080"/>
            </a:xfrm>
            <a:custGeom>
              <a:avLst/>
              <a:gdLst/>
              <a:ahLst/>
              <a:rect l="l" t="t" r="r" b="b"/>
              <a:pathLst>
                <a:path w="79" h="12">
                  <a:moveTo>
                    <a:pt x="68" y="0"/>
                  </a:moveTo>
                  <a:lnTo>
                    <a:pt x="79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232680" y="5078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160680" y="505944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195960" y="5078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41960" y="5078520"/>
              <a:ext cx="7308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141600" y="5078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78680" y="4987800"/>
              <a:ext cx="3636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8680" y="4987800"/>
              <a:ext cx="5400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54880" y="511344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2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89800" y="5024520"/>
              <a:ext cx="9036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72160" y="5005440"/>
              <a:ext cx="12564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800" y="5041800"/>
              <a:ext cx="90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89800" y="5041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37240" y="5167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8" name="" descr=""/>
            <p:cNvPicPr/>
            <p:nvPr/>
          </p:nvPicPr>
          <p:blipFill>
            <a:blip r:embed="rId11"/>
            <a:stretch/>
          </p:blipFill>
          <p:spPr>
            <a:xfrm>
              <a:off x="6589800" y="5041800"/>
              <a:ext cx="7308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6554880" y="516744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89800" y="5095800"/>
              <a:ext cx="903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72160" y="5113440"/>
              <a:ext cx="125640" cy="1728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68" y="0"/>
                  </a:moveTo>
                  <a:lnTo>
                    <a:pt x="79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662880" y="5130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6589440" y="5113440"/>
              <a:ext cx="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626160" y="5130720"/>
              <a:ext cx="54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72160" y="5130720"/>
              <a:ext cx="90720" cy="180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57" y="0"/>
                  </a:moveTo>
                  <a:lnTo>
                    <a:pt x="23" y="0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08880" y="5041800"/>
              <a:ext cx="3492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08880" y="5041800"/>
              <a:ext cx="5400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53040" y="484488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089760" y="4756320"/>
              <a:ext cx="1062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70680" y="4737240"/>
              <a:ext cx="14436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07040" y="4773600"/>
              <a:ext cx="7164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07040" y="4773600"/>
              <a:ext cx="88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35760" y="489888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12"/>
            <a:stretch/>
          </p:blipFill>
          <p:spPr>
            <a:xfrm>
              <a:off x="6107040" y="4791240"/>
              <a:ext cx="71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605304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5304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304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9760" y="4827600"/>
              <a:ext cx="88920" cy="172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70680" y="484488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0"/>
                  </a:moveTo>
                  <a:lnTo>
                    <a:pt x="79" y="11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160680" y="486252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089400" y="486252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124680" y="4862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89760" y="4862520"/>
              <a:ext cx="7128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6089760" y="4862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07040" y="4773600"/>
              <a:ext cx="34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07040" y="47736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131520" y="2697120"/>
              <a:ext cx="42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cust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95640" y="282240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.2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00640" y="2338560"/>
              <a:ext cx="520560" cy="19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00640" y="2338560"/>
              <a:ext cx="538200" cy="214200"/>
            </a:xfrm>
            <a:prstGeom prst="roundRect">
              <a:avLst>
                <a:gd name="adj" fmla="val 47778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554880" y="2786040"/>
              <a:ext cx="125280" cy="1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54880" y="2749680"/>
              <a:ext cx="125280" cy="5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4880" y="2749680"/>
              <a:ext cx="125280" cy="3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54880" y="2732040"/>
              <a:ext cx="125280" cy="3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80160" y="276876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715080" y="2571840"/>
              <a:ext cx="125280" cy="268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15080" y="2571840"/>
              <a:ext cx="144360" cy="28584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83240" y="4808520"/>
              <a:ext cx="14292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29240" y="4844880"/>
              <a:ext cx="1800" cy="2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267240" y="4791240"/>
              <a:ext cx="14436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160680" y="4791240"/>
              <a:ext cx="21420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75240" y="4719600"/>
              <a:ext cx="10800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21600" y="518472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11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357960" y="5095800"/>
              <a:ext cx="10620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40320" y="5078520"/>
              <a:ext cx="142920" cy="123840"/>
            </a:xfrm>
            <a:prstGeom prst="roundRect">
              <a:avLst>
                <a:gd name="adj" fmla="val 32051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57960" y="513072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357960" y="5130720"/>
              <a:ext cx="1062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03960" y="5238720"/>
              <a:ext cx="3636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9" name="" descr=""/>
            <p:cNvPicPr/>
            <p:nvPr/>
          </p:nvPicPr>
          <p:blipFill>
            <a:blip r:embed="rId13"/>
            <a:stretch/>
          </p:blipFill>
          <p:spPr>
            <a:xfrm>
              <a:off x="6375240" y="5130720"/>
              <a:ext cx="5400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32160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2160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2160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57960" y="518472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40320" y="5202360"/>
              <a:ext cx="123840" cy="19080"/>
            </a:xfrm>
            <a:custGeom>
              <a:avLst/>
              <a:gdLst/>
              <a:ahLst/>
              <a:rect l="l" t="t" r="r" b="b"/>
              <a:pathLst>
                <a:path w="78" h="12">
                  <a:moveTo>
                    <a:pt x="67" y="0"/>
                  </a:moveTo>
                  <a:lnTo>
                    <a:pt x="78" y="12"/>
                  </a:lnTo>
                  <a:lnTo>
                    <a:pt x="0" y="12"/>
                  </a:lnTo>
                  <a:lnTo>
                    <a:pt x="11" y="0"/>
                  </a:lnTo>
                  <a:lnTo>
                    <a:pt x="67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428880" y="520236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357600" y="5202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392880" y="520236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57960" y="5202360"/>
              <a:ext cx="7128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357960" y="520236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75240" y="5113440"/>
              <a:ext cx="367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375240" y="511344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05880" y="5283360"/>
              <a:ext cx="133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sktop computer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74080" y="236376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0320" y="203364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70640" y="4791240"/>
              <a:ext cx="32220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94440" y="50594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0" y="12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29360" y="4970520"/>
              <a:ext cx="10764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211720" y="4952880"/>
              <a:ext cx="142920" cy="125640"/>
            </a:xfrm>
            <a:prstGeom prst="roundRect">
              <a:avLst>
                <a:gd name="adj" fmla="val 3164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48440" y="5005440"/>
              <a:ext cx="712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248440" y="5005440"/>
              <a:ext cx="88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76800" y="51134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" descr=""/>
            <p:cNvPicPr/>
            <p:nvPr/>
          </p:nvPicPr>
          <p:blipFill>
            <a:blip r:embed="rId14"/>
            <a:stretch/>
          </p:blipFill>
          <p:spPr>
            <a:xfrm>
              <a:off x="5248440" y="5005440"/>
              <a:ext cx="7128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5194440" y="5113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94440" y="5113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94440" y="5113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29360" y="5041800"/>
              <a:ext cx="10764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11720" y="5078520"/>
              <a:ext cx="142920" cy="1728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79" y="0"/>
                  </a:moveTo>
                  <a:lnTo>
                    <a:pt x="90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248440" y="5078520"/>
              <a:ext cx="8856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56" y="0"/>
                  </a:move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5265720" y="5078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5248080" y="507852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229000" y="507852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229000" y="5078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65720" y="4987800"/>
              <a:ext cx="1764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65720" y="4987800"/>
              <a:ext cx="34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59560" y="51134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11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76840" y="5024520"/>
              <a:ext cx="12564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59560" y="5005440"/>
              <a:ext cx="161640" cy="125280"/>
            </a:xfrm>
            <a:prstGeom prst="roundRect">
              <a:avLst>
                <a:gd name="adj" fmla="val 3164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95920" y="5059440"/>
              <a:ext cx="889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95920" y="5059440"/>
              <a:ext cx="106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641920" y="5167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1" name="" descr=""/>
            <p:cNvPicPr/>
            <p:nvPr/>
          </p:nvPicPr>
          <p:blipFill>
            <a:blip r:embed="rId15"/>
            <a:stretch/>
          </p:blipFill>
          <p:spPr>
            <a:xfrm>
              <a:off x="5695920" y="5059440"/>
              <a:ext cx="716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5659560" y="5167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59560" y="5167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4192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95920" y="509580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76840" y="5130720"/>
              <a:ext cx="125640" cy="190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5767200" y="5130720"/>
              <a:ext cx="34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5695560" y="51307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5730840" y="5130720"/>
              <a:ext cx="54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76840" y="5130720"/>
              <a:ext cx="90720" cy="180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57" y="0"/>
                  </a:move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13560" y="5041800"/>
              <a:ext cx="34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13560" y="50418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22800" y="4844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0" y="11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57720" y="477360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40440" y="4756320"/>
              <a:ext cx="142920" cy="10620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76800" y="4791240"/>
              <a:ext cx="889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76800" y="4791240"/>
              <a:ext cx="106560" cy="53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22800" y="48988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9" name="" descr=""/>
            <p:cNvPicPr/>
            <p:nvPr/>
          </p:nvPicPr>
          <p:blipFill>
            <a:blip r:embed="rId16"/>
            <a:stretch/>
          </p:blipFill>
          <p:spPr>
            <a:xfrm>
              <a:off x="5176800" y="4791240"/>
              <a:ext cx="71640" cy="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0440" y="4898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2280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2280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76800" y="484488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40440" y="4862520"/>
              <a:ext cx="142920" cy="1728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79" y="0"/>
                  </a:moveTo>
                  <a:lnTo>
                    <a:pt x="90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248440" y="487980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176440" y="486252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5194440" y="4862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57720" y="486252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157360" y="4862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94440" y="4773600"/>
              <a:ext cx="17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94440" y="4773600"/>
              <a:ext cx="34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570640" y="4827600"/>
              <a:ext cx="16020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16640" y="4844880"/>
              <a:ext cx="144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354640" y="4808520"/>
              <a:ext cx="162000" cy="16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248080" y="4791240"/>
              <a:ext cx="23148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62640" y="4737240"/>
              <a:ext cx="125280" cy="10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08640" y="518472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4" y="0"/>
                  </a:moveTo>
                  <a:lnTo>
                    <a:pt x="0" y="11"/>
                  </a:lnTo>
                  <a:lnTo>
                    <a:pt x="0" y="4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45000" y="5113440"/>
              <a:ext cx="10656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25920" y="5095800"/>
              <a:ext cx="1447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62640" y="5130720"/>
              <a:ext cx="712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62640" y="5130720"/>
              <a:ext cx="88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91000" y="52387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3" name="" descr=""/>
            <p:cNvPicPr/>
            <p:nvPr/>
          </p:nvPicPr>
          <p:blipFill>
            <a:blip r:embed="rId17"/>
            <a:stretch/>
          </p:blipFill>
          <p:spPr>
            <a:xfrm>
              <a:off x="5462640" y="5130720"/>
              <a:ext cx="7128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408640" y="525636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45000" y="5184720"/>
              <a:ext cx="1065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25920" y="5202360"/>
              <a:ext cx="144720" cy="1908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79" y="0"/>
                  </a:moveTo>
                  <a:lnTo>
                    <a:pt x="91" y="12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533560" y="522144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5462640" y="520236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5479560" y="520236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462640" y="522144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5444640" y="520236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444640" y="522144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79920" y="511344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479920" y="5113440"/>
              <a:ext cx="367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38840" y="4898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73760" y="4808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56120" y="4791240"/>
              <a:ext cx="14292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892840" y="4827600"/>
              <a:ext cx="71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92840" y="4827600"/>
              <a:ext cx="88920" cy="5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21200" y="495288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" descr=""/>
            <p:cNvPicPr/>
            <p:nvPr/>
          </p:nvPicPr>
          <p:blipFill>
            <a:blip r:embed="rId18"/>
            <a:stretch/>
          </p:blipFill>
          <p:spPr>
            <a:xfrm>
              <a:off x="5892840" y="4827600"/>
              <a:ext cx="7128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838840" y="495288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873760" y="4879800"/>
              <a:ext cx="108000" cy="190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56120" y="4898880"/>
              <a:ext cx="142920" cy="1764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79" y="0"/>
                  </a:moveTo>
                  <a:lnTo>
                    <a:pt x="90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963760" y="491652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892840" y="4898880"/>
              <a:ext cx="7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5909760" y="491652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892480" y="491652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5873400" y="491652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873400" y="4916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10120" y="4827600"/>
              <a:ext cx="1764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10120" y="4827600"/>
              <a:ext cx="34920" cy="3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86320" y="46450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09960" y="4594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83960" y="1876320"/>
              <a:ext cx="107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C Helvetica Condensed"/>
                </a:rPr>
                <a:t>Student sub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25640" y="1876320"/>
              <a:ext cx="85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C Helvetica Condensed"/>
                </a:rPr>
                <a:t>Staff sub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020000" y="3036960"/>
              <a:ext cx="179280" cy="34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20000" y="3036960"/>
              <a:ext cx="196920" cy="540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79760" y="4898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34" y="0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90840" y="4808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73200" y="4791240"/>
              <a:ext cx="14292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490840" y="4827600"/>
              <a:ext cx="88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90840" y="4827600"/>
              <a:ext cx="108000" cy="5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16120" y="49528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5" name="" descr=""/>
            <p:cNvPicPr/>
            <p:nvPr/>
          </p:nvPicPr>
          <p:blipFill>
            <a:blip r:embed="rId19"/>
            <a:stretch/>
          </p:blipFill>
          <p:spPr>
            <a:xfrm>
              <a:off x="2508120" y="4827600"/>
              <a:ext cx="7164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2616120" y="49528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33760" y="49528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90840" y="4879800"/>
              <a:ext cx="88920" cy="190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73200" y="4898880"/>
              <a:ext cx="142920" cy="1764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11" y="0"/>
                  </a:moveTo>
                  <a:lnTo>
                    <a:pt x="0" y="11"/>
                  </a:lnTo>
                  <a:lnTo>
                    <a:pt x="90" y="11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90840" y="4916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90840" y="489888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90840" y="4916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27200" y="491652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79760" y="4916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44840" y="4827600"/>
              <a:ext cx="1728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44840" y="4827600"/>
              <a:ext cx="34920" cy="3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930720" y="3322800"/>
              <a:ext cx="106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056360" y="3216240"/>
              <a:ext cx="106560" cy="12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20000" y="3287880"/>
              <a:ext cx="179280" cy="53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020000" y="3287880"/>
              <a:ext cx="196920" cy="712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930720" y="3627360"/>
              <a:ext cx="106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056360" y="3502080"/>
              <a:ext cx="106560" cy="12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020000" y="3591000"/>
              <a:ext cx="179280" cy="540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20000" y="3591000"/>
              <a:ext cx="196920" cy="730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930720" y="3878280"/>
              <a:ext cx="106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56360" y="3770280"/>
              <a:ext cx="1065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020000" y="3841920"/>
              <a:ext cx="179280" cy="53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20000" y="3841920"/>
              <a:ext cx="196920" cy="712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551560" y="2552760"/>
              <a:ext cx="1003320" cy="1808280"/>
            </a:xfrm>
            <a:custGeom>
              <a:avLst/>
              <a:gdLst/>
              <a:ahLst/>
              <a:rect l="l" t="t" r="r" b="b"/>
              <a:pathLst>
                <a:path w="632" h="1139">
                  <a:moveTo>
                    <a:pt x="0" y="0"/>
                  </a:moveTo>
                  <a:lnTo>
                    <a:pt x="0" y="1139"/>
                  </a:lnTo>
                  <a:lnTo>
                    <a:pt x="632" y="113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641920" y="2535120"/>
              <a:ext cx="876240" cy="1235160"/>
            </a:xfrm>
            <a:custGeom>
              <a:avLst/>
              <a:gdLst/>
              <a:ahLst/>
              <a:rect l="l" t="t" r="r" b="b"/>
              <a:pathLst>
                <a:path w="552" h="778">
                  <a:moveTo>
                    <a:pt x="0" y="0"/>
                  </a:moveTo>
                  <a:lnTo>
                    <a:pt x="0" y="778"/>
                  </a:lnTo>
                  <a:lnTo>
                    <a:pt x="552" y="77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713560" y="2552760"/>
              <a:ext cx="823680" cy="609480"/>
            </a:xfrm>
            <a:custGeom>
              <a:avLst/>
              <a:gdLst/>
              <a:ahLst/>
              <a:rect l="l" t="t" r="r" b="b"/>
              <a:pathLst>
                <a:path w="519" h="384">
                  <a:moveTo>
                    <a:pt x="0" y="0"/>
                  </a:moveTo>
                  <a:lnTo>
                    <a:pt x="0" y="384"/>
                  </a:lnTo>
                  <a:lnTo>
                    <a:pt x="519" y="38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518160" y="3036960"/>
              <a:ext cx="108000" cy="268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518160" y="3036960"/>
              <a:ext cx="125640" cy="28584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18160" y="4235400"/>
              <a:ext cx="108000" cy="250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18160" y="4235400"/>
              <a:ext cx="125640" cy="2700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18160" y="3645000"/>
              <a:ext cx="108000" cy="25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518160" y="3645000"/>
              <a:ext cx="12564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41760" y="33307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348600" y="345600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06000" y="1413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83680" y="152100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33720" y="201600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.25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854720" y="3098880"/>
              <a:ext cx="16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05560" y="5829480"/>
              <a:ext cx="268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587920" y="5972040"/>
              <a:ext cx="176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873760" y="5972040"/>
              <a:ext cx="1908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605560" y="5972040"/>
              <a:ext cx="2682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158520" y="5945040"/>
              <a:ext cx="137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00 Mbps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606280" y="6105600"/>
              <a:ext cx="169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switch:  Ethernet 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144120" y="5748480"/>
              <a:ext cx="129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0 Mbps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84600" y="5400720"/>
              <a:ext cx="270000" cy="357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584600" y="5400720"/>
              <a:ext cx="287280" cy="37476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60640" y="1855800"/>
              <a:ext cx="2631960" cy="3741840"/>
            </a:xfrm>
            <a:custGeom>
              <a:avLst/>
              <a:gdLst>
                <a:gd name="textAreaLeft" fmla="*/ 95400 w 2631960"/>
                <a:gd name="textAreaRight" fmla="*/ 2536560 w 2631960"/>
                <a:gd name="textAreaTop" fmla="*/ 95400 h 3741840"/>
                <a:gd name="textAreaBottom" fmla="*/ 3646440 h 3741840"/>
              </a:gdLst>
              <a:ahLst/>
              <a:rect l="textAreaLeft" t="textAreaTop" r="textAreaRight" b="textAreaBottom"/>
              <a:pathLst>
                <a:path w="21600" h="30707">
                  <a:moveTo>
                    <a:pt x="2677" y="0"/>
                  </a:moveTo>
                  <a:arcTo wR="2677" hR="2677" stAng="16200000" swAng="-5400000"/>
                  <a:lnTo>
                    <a:pt x="0" y="28030"/>
                  </a:lnTo>
                  <a:arcTo wR="2677" hR="2677" stAng="10800000" swAng="-5400000"/>
                  <a:lnTo>
                    <a:pt x="18923" y="30707"/>
                  </a:lnTo>
                  <a:arcTo wR="2677" hR="2677" stAng="5400000" swAng="-5400000"/>
                  <a:lnTo>
                    <a:pt x="21600" y="2677"/>
                  </a:lnTo>
                  <a:arcTo wR="2677" hR="2677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729320" y="1855800"/>
              <a:ext cx="2039760" cy="3741840"/>
            </a:xfrm>
            <a:custGeom>
              <a:avLst/>
              <a:gdLst>
                <a:gd name="textAreaLeft" fmla="*/ 95400 w 2039760"/>
                <a:gd name="textAreaRight" fmla="*/ 1944360 w 2039760"/>
                <a:gd name="textAreaTop" fmla="*/ 95400 h 3741840"/>
                <a:gd name="textAreaBottom" fmla="*/ 3646440 h 3741840"/>
              </a:gdLst>
              <a:ahLst/>
              <a:rect l="textAreaLeft" t="textAreaTop" r="textAreaRight" b="textAreaBottom"/>
              <a:pathLst>
                <a:path w="21600" h="39621">
                  <a:moveTo>
                    <a:pt x="3454" y="0"/>
                  </a:moveTo>
                  <a:arcTo wR="3454" hR="3454" stAng="16200000" swAng="-5400000"/>
                  <a:lnTo>
                    <a:pt x="0" y="36167"/>
                  </a:lnTo>
                  <a:arcTo wR="3454" hR="3454" stAng="10800000" swAng="-5400000"/>
                  <a:lnTo>
                    <a:pt x="18146" y="39621"/>
                  </a:lnTo>
                  <a:arcTo wR="3454" hR="3454" stAng="5400000" swAng="-5400000"/>
                  <a:lnTo>
                    <a:pt x="21600" y="3454"/>
                  </a:lnTo>
                  <a:arcTo wR="3454" hR="3454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21360" y="2281320"/>
              <a:ext cx="70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le serv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18480" y="24066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786720" y="2571840"/>
              <a:ext cx="501480" cy="1646280"/>
            </a:xfrm>
            <a:custGeom>
              <a:avLst/>
              <a:gdLst>
                <a:gd name="textAreaLeft" fmla="*/ 69120 w 501480"/>
                <a:gd name="textAreaRight" fmla="*/ 432360 w 501480"/>
                <a:gd name="textAreaTop" fmla="*/ 69120 h 1646280"/>
                <a:gd name="textAreaBottom" fmla="*/ 1577160 h 1646280"/>
              </a:gdLst>
              <a:ahLst/>
              <a:rect l="textAreaLeft" t="textAreaTop" r="textAreaRight" b="textAreaBottom"/>
              <a:pathLst>
                <a:path w="21600" h="70874">
                  <a:moveTo>
                    <a:pt x="10185" y="0"/>
                  </a:moveTo>
                  <a:arcTo wR="10185" hR="10185" stAng="16200000" swAng="-5400000"/>
                  <a:lnTo>
                    <a:pt x="0" y="60689"/>
                  </a:lnTo>
                  <a:arcTo wR="10185" hR="10185" stAng="10800000" swAng="-5400000"/>
                  <a:lnTo>
                    <a:pt x="11415" y="70874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004520" y="27766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in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2800" y="1425600"/>
              <a:ext cx="3116520" cy="376200"/>
            </a:xfrm>
            <a:prstGeom prst="roundRect">
              <a:avLst>
                <a:gd name="adj" fmla="val 46204"/>
              </a:avLst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541520" y="1389240"/>
              <a:ext cx="287280" cy="48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523880" y="1371600"/>
              <a:ext cx="322560" cy="51912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50600" y="15048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amp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633680" y="164772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12800" y="5632560"/>
              <a:ext cx="3133800" cy="376200"/>
            </a:xfrm>
            <a:prstGeom prst="roundRect">
              <a:avLst>
                <a:gd name="adj" fmla="val 46204"/>
              </a:avLst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41520" y="5597640"/>
              <a:ext cx="3049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41520" y="5597640"/>
              <a:ext cx="322200" cy="5000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58600" y="567684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amp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41680" y="581976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28800" y="530388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.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unnelling for IPv6 mig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642240" y="2212920"/>
            <a:ext cx="8014320" cy="2439360"/>
            <a:chOff x="642240" y="2212920"/>
            <a:chExt cx="8014320" cy="2439360"/>
          </a:xfrm>
        </p:grpSpPr>
        <p:sp>
          <p:nvSpPr>
            <p:cNvPr id="972" name=""/>
            <p:cNvSpPr/>
            <p:nvPr/>
          </p:nvSpPr>
          <p:spPr>
            <a:xfrm>
              <a:off x="3781440" y="2411280"/>
              <a:ext cx="2262240" cy="1762200"/>
            </a:xfrm>
            <a:custGeom>
              <a:avLst/>
              <a:gdLst/>
              <a:ahLst/>
              <a:rect l="l" t="t" r="r" b="b"/>
              <a:pathLst>
                <a:path w="1425" h="1110">
                  <a:moveTo>
                    <a:pt x="37" y="259"/>
                  </a:moveTo>
                  <a:lnTo>
                    <a:pt x="74" y="185"/>
                  </a:lnTo>
                  <a:lnTo>
                    <a:pt x="148" y="111"/>
                  </a:lnTo>
                  <a:lnTo>
                    <a:pt x="222" y="74"/>
                  </a:lnTo>
                  <a:lnTo>
                    <a:pt x="278" y="74"/>
                  </a:lnTo>
                  <a:lnTo>
                    <a:pt x="333" y="74"/>
                  </a:lnTo>
                  <a:lnTo>
                    <a:pt x="426" y="74"/>
                  </a:lnTo>
                  <a:lnTo>
                    <a:pt x="537" y="92"/>
                  </a:lnTo>
                  <a:lnTo>
                    <a:pt x="648" y="92"/>
                  </a:lnTo>
                  <a:lnTo>
                    <a:pt x="740" y="111"/>
                  </a:lnTo>
                  <a:lnTo>
                    <a:pt x="814" y="55"/>
                  </a:lnTo>
                  <a:lnTo>
                    <a:pt x="851" y="18"/>
                  </a:lnTo>
                  <a:lnTo>
                    <a:pt x="944" y="0"/>
                  </a:lnTo>
                  <a:lnTo>
                    <a:pt x="1018" y="0"/>
                  </a:lnTo>
                  <a:lnTo>
                    <a:pt x="1092" y="0"/>
                  </a:lnTo>
                  <a:lnTo>
                    <a:pt x="1147" y="37"/>
                  </a:lnTo>
                  <a:lnTo>
                    <a:pt x="1184" y="74"/>
                  </a:lnTo>
                  <a:lnTo>
                    <a:pt x="1240" y="92"/>
                  </a:lnTo>
                  <a:lnTo>
                    <a:pt x="1314" y="185"/>
                  </a:lnTo>
                  <a:lnTo>
                    <a:pt x="1406" y="351"/>
                  </a:lnTo>
                  <a:lnTo>
                    <a:pt x="1425" y="536"/>
                  </a:lnTo>
                  <a:lnTo>
                    <a:pt x="1425" y="666"/>
                  </a:lnTo>
                  <a:lnTo>
                    <a:pt x="1406" y="777"/>
                  </a:lnTo>
                  <a:lnTo>
                    <a:pt x="1369" y="962"/>
                  </a:lnTo>
                  <a:lnTo>
                    <a:pt x="1295" y="1054"/>
                  </a:lnTo>
                  <a:lnTo>
                    <a:pt x="1203" y="1110"/>
                  </a:lnTo>
                  <a:lnTo>
                    <a:pt x="1092" y="1073"/>
                  </a:lnTo>
                  <a:lnTo>
                    <a:pt x="999" y="1054"/>
                  </a:lnTo>
                  <a:lnTo>
                    <a:pt x="907" y="1036"/>
                  </a:lnTo>
                  <a:lnTo>
                    <a:pt x="814" y="1017"/>
                  </a:lnTo>
                  <a:lnTo>
                    <a:pt x="722" y="1017"/>
                  </a:lnTo>
                  <a:lnTo>
                    <a:pt x="629" y="1017"/>
                  </a:lnTo>
                  <a:lnTo>
                    <a:pt x="555" y="1036"/>
                  </a:lnTo>
                  <a:lnTo>
                    <a:pt x="481" y="1054"/>
                  </a:lnTo>
                  <a:lnTo>
                    <a:pt x="407" y="1054"/>
                  </a:lnTo>
                  <a:lnTo>
                    <a:pt x="352" y="1073"/>
                  </a:lnTo>
                  <a:lnTo>
                    <a:pt x="278" y="1073"/>
                  </a:lnTo>
                  <a:lnTo>
                    <a:pt x="222" y="1073"/>
                  </a:lnTo>
                  <a:lnTo>
                    <a:pt x="167" y="1036"/>
                  </a:lnTo>
                  <a:lnTo>
                    <a:pt x="130" y="1017"/>
                  </a:lnTo>
                  <a:lnTo>
                    <a:pt x="111" y="999"/>
                  </a:lnTo>
                  <a:lnTo>
                    <a:pt x="93" y="962"/>
                  </a:lnTo>
                  <a:lnTo>
                    <a:pt x="56" y="869"/>
                  </a:lnTo>
                  <a:lnTo>
                    <a:pt x="19" y="740"/>
                  </a:lnTo>
                  <a:lnTo>
                    <a:pt x="19" y="629"/>
                  </a:lnTo>
                  <a:lnTo>
                    <a:pt x="0" y="536"/>
                  </a:lnTo>
                  <a:lnTo>
                    <a:pt x="19" y="425"/>
                  </a:lnTo>
                  <a:lnTo>
                    <a:pt x="19" y="314"/>
                  </a:lnTo>
                  <a:lnTo>
                    <a:pt x="37" y="259"/>
                  </a:lnTo>
                  <a:lnTo>
                    <a:pt x="37" y="259"/>
                  </a:lnTo>
                  <a:close/>
                </a:path>
              </a:pathLst>
            </a:custGeom>
            <a:solidFill>
              <a:srgbClr val="ffdc99"/>
            </a:solidFill>
            <a:ln w="428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24160" y="3116160"/>
              <a:ext cx="34066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24160" y="3468600"/>
              <a:ext cx="34066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55720" y="3262320"/>
              <a:ext cx="637236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138320" y="2881440"/>
              <a:ext cx="822240" cy="82224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92200" y="3152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34320" y="2881440"/>
              <a:ext cx="822240" cy="82224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75240" y="3152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89440" y="3086280"/>
              <a:ext cx="411120" cy="41112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396120" y="3086280"/>
              <a:ext cx="411120" cy="41112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35080" y="3006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261200" y="3006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2240" y="2212920"/>
              <a:ext cx="368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6 encapsulated in IPv4 packe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429000" y="2587680"/>
              <a:ext cx="264960" cy="6746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75360" y="4362480"/>
              <a:ext cx="1527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Encapsulato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11640" y="3614760"/>
              <a:ext cx="176040" cy="14760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93" y="74"/>
                  </a:moveTo>
                  <a:lnTo>
                    <a:pt x="74" y="93"/>
                  </a:lnTo>
                  <a:lnTo>
                    <a:pt x="0" y="0"/>
                  </a:lnTo>
                  <a:lnTo>
                    <a:pt x="111" y="56"/>
                  </a:lnTo>
                  <a:lnTo>
                    <a:pt x="93" y="74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487680" y="3732120"/>
              <a:ext cx="676440" cy="58752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278400" y="3614760"/>
              <a:ext cx="17640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8" y="74"/>
                  </a:moveTo>
                  <a:lnTo>
                    <a:pt x="0" y="56"/>
                  </a:lnTo>
                  <a:lnTo>
                    <a:pt x="111" y="0"/>
                  </a:lnTo>
                  <a:lnTo>
                    <a:pt x="55" y="111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778000" y="3762360"/>
              <a:ext cx="528840" cy="5572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20360" y="2746440"/>
              <a:ext cx="1393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4 networ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CP/IP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609480" y="1712880"/>
            <a:ext cx="7823160" cy="4184640"/>
            <a:chOff x="609480" y="1712880"/>
            <a:chExt cx="7823160" cy="4184640"/>
          </a:xfrm>
        </p:grpSpPr>
        <p:sp>
          <p:nvSpPr>
            <p:cNvPr id="994" name=""/>
            <p:cNvSpPr/>
            <p:nvPr/>
          </p:nvSpPr>
          <p:spPr>
            <a:xfrm>
              <a:off x="609480" y="4556160"/>
              <a:ext cx="7799400" cy="47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9480" y="4556160"/>
              <a:ext cx="7823160" cy="49680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09480" y="5351400"/>
              <a:ext cx="7799400" cy="4716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9480" y="5351400"/>
              <a:ext cx="7823160" cy="49680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9480" y="3787920"/>
              <a:ext cx="7799400" cy="471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9480" y="3787920"/>
              <a:ext cx="7823160" cy="4950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9480" y="2992320"/>
              <a:ext cx="7799400" cy="4716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9480" y="2992320"/>
              <a:ext cx="7823160" cy="4971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9480" y="2222640"/>
              <a:ext cx="7799400" cy="471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9480" y="2222640"/>
              <a:ext cx="7823160" cy="4968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73000" y="2755800"/>
              <a:ext cx="319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ssages (UDP) or Streams (TC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44800" y="2147760"/>
              <a:ext cx="793800" cy="3749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92560" y="2471760"/>
              <a:ext cx="48960" cy="305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0000" y="240840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1800" y="32036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1080" y="394812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471200" y="3525840"/>
              <a:ext cx="188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DP or TCP pack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70480" y="4270320"/>
              <a:ext cx="120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P datagr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70480" y="5089680"/>
              <a:ext cx="216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twork-specific fr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66400" y="171288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87320" y="191304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1440" y="5513400"/>
              <a:ext cx="173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nderlying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21800" y="4767120"/>
              <a:ext cx="163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twork 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90480" y="2843280"/>
              <a:ext cx="993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267000" y="2817720"/>
              <a:ext cx="123840" cy="7488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3390480" y="3613320"/>
              <a:ext cx="993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3390480" y="4408560"/>
              <a:ext cx="993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67000" y="4383000"/>
              <a:ext cx="123840" cy="7488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3390480" y="5176800"/>
              <a:ext cx="993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67000" y="5153040"/>
              <a:ext cx="123840" cy="7452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67000" y="4756320"/>
              <a:ext cx="123840" cy="1234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7000" y="3960720"/>
              <a:ext cx="123840" cy="123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67000" y="3165480"/>
              <a:ext cx="123840" cy="12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67000" y="2371680"/>
              <a:ext cx="123840" cy="123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67000" y="3564000"/>
              <a:ext cx="123840" cy="7452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6320" y="1974960"/>
              <a:ext cx="50760" cy="48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241800" y="2023920"/>
              <a:ext cx="174600" cy="247680"/>
            </a:xfrm>
            <a:custGeom>
              <a:avLst/>
              <a:gdLst/>
              <a:ahLst/>
              <a:rect l="l" t="t" r="r" b="b"/>
              <a:pathLst>
                <a:path w="110" h="156">
                  <a:moveTo>
                    <a:pt x="63" y="0"/>
                  </a:moveTo>
                  <a:lnTo>
                    <a:pt x="110" y="0"/>
                  </a:lnTo>
                  <a:lnTo>
                    <a:pt x="63" y="156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1360" y="5575320"/>
              <a:ext cx="49320" cy="4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00680" y="5524560"/>
              <a:ext cx="247680" cy="149040"/>
            </a:xfrm>
            <a:custGeom>
              <a:avLst/>
              <a:gdLst/>
              <a:ahLst/>
              <a:rect l="l" t="t" r="r" b="b"/>
              <a:pathLst>
                <a:path w="156" h="94">
                  <a:moveTo>
                    <a:pt x="0" y="47"/>
                  </a:moveTo>
                  <a:lnTo>
                    <a:pt x="0" y="0"/>
                  </a:lnTo>
                  <a:lnTo>
                    <a:pt x="156" y="47"/>
                  </a:lnTo>
                  <a:lnTo>
                    <a:pt x="0" y="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16320" y="5575320"/>
              <a:ext cx="245916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67000" y="5549760"/>
              <a:ext cx="123840" cy="123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Encapsulation in a message transmitted via TCP over an Eth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711360" y="2114640"/>
            <a:ext cx="7848360" cy="2833560"/>
            <a:chOff x="711360" y="2114640"/>
            <a:chExt cx="7848360" cy="2833560"/>
          </a:xfrm>
        </p:grpSpPr>
        <p:sp>
          <p:nvSpPr>
            <p:cNvPr id="1037" name=""/>
            <p:cNvSpPr/>
            <p:nvPr/>
          </p:nvSpPr>
          <p:spPr>
            <a:xfrm>
              <a:off x="6027840" y="2114640"/>
              <a:ext cx="2481120" cy="27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27840" y="2114640"/>
              <a:ext cx="2506680" cy="30312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41400" y="2201760"/>
              <a:ext cx="187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027840" y="2746440"/>
              <a:ext cx="2506680" cy="304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52880" y="2746440"/>
              <a:ext cx="1974960" cy="279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52880" y="2746440"/>
              <a:ext cx="2000160" cy="3045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171320" y="2808360"/>
              <a:ext cx="109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C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7080" y="262080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27840" y="241776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27840" y="249408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27840" y="25956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458200" y="262080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508960" y="241776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508960" y="249408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508960" y="25956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52880" y="3354480"/>
              <a:ext cx="4481640" cy="303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02120" y="32274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52880" y="302580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52880" y="310032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052880" y="320184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458200" y="325296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508960" y="305100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508960" y="312588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08960" y="32274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08120" y="3354480"/>
              <a:ext cx="1544760" cy="27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08120" y="3354480"/>
              <a:ext cx="1570320" cy="30312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97400" y="34416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33680" y="4011480"/>
              <a:ext cx="6000840" cy="3049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58200" y="386064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508960" y="365760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508960" y="373392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08960" y="383544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62120" y="4011480"/>
              <a:ext cx="1771560" cy="279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62120" y="4011480"/>
              <a:ext cx="1796760" cy="30492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12160" y="4073400"/>
              <a:ext cx="145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thernet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82920" y="386064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33680" y="365760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533680" y="373392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533680" y="383544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458200" y="44928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508960" y="429084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508960" y="439092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508960" y="446724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2120" y="4619520"/>
              <a:ext cx="7772400" cy="328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11360" y="44928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2120" y="429084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439092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62120" y="446724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67040" y="4681440"/>
              <a:ext cx="134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thernet 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69560" y="278280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521320" y="2771640"/>
              <a:ext cx="404640" cy="254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92440" y="34164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46360" y="3405240"/>
              <a:ext cx="430200" cy="226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32956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255760" y="4037040"/>
              <a:ext cx="252360" cy="253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programmer's conceptual view of a TCP/IP Int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ternet address structure, showing field sizes in bi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762120" y="1670040"/>
            <a:ext cx="78483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Decimal representation of Internet addr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470400" y="2013120"/>
            <a:ext cx="1081080" cy="29984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470400" y="2013120"/>
            <a:ext cx="1101600" cy="301932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735440" y="2033640"/>
            <a:ext cx="1081080" cy="2977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35440" y="2033640"/>
            <a:ext cx="1101960" cy="299880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99040" y="2033640"/>
            <a:ext cx="1081080" cy="2998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99040" y="2033640"/>
            <a:ext cx="1101960" cy="301932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06800" y="2013120"/>
            <a:ext cx="1081080" cy="2958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06800" y="2013120"/>
            <a:ext cx="1099800" cy="297792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70320" y="18604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ctet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07280" y="18604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ctet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972320" y="18604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ctet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403640" y="245124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A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41848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1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55080" y="42051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918680" y="42051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242760" y="42051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403640" y="302256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B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327040" y="30430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28 to 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404000" y="361476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302560" y="36338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92 to 22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302560" y="42051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24 to 239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63400" y="4184640"/>
            <a:ext cx="142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D (multicast)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50320" y="336852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61360" y="277812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13720" y="216540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14200" y="2778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47480" y="21654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269760" y="33685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03560" y="394020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44880" y="2360520"/>
            <a:ext cx="610920" cy="81000"/>
          </a:xfrm>
          <a:custGeom>
            <a:avLst/>
            <a:gdLst/>
            <a:ahLst/>
            <a:rect l="l" t="t" r="r" b="b"/>
            <a:pathLst>
              <a:path w="385" h="51">
                <a:moveTo>
                  <a:pt x="0" y="51"/>
                </a:moveTo>
                <a:lnTo>
                  <a:pt x="0" y="0"/>
                </a:lnTo>
                <a:lnTo>
                  <a:pt x="385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736720" y="2360520"/>
            <a:ext cx="569880" cy="81000"/>
          </a:xfrm>
          <a:custGeom>
            <a:avLst/>
            <a:gdLst/>
            <a:ahLst/>
            <a:rect l="l" t="t" r="r" b="b"/>
            <a:pathLst>
              <a:path w="359" h="51">
                <a:moveTo>
                  <a:pt x="359" y="51"/>
                </a:moveTo>
                <a:lnTo>
                  <a:pt x="359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44880" y="2952720"/>
            <a:ext cx="1265040" cy="81000"/>
          </a:xfrm>
          <a:custGeom>
            <a:avLst/>
            <a:gdLst/>
            <a:ahLst/>
            <a:rect l="l" t="t" r="r" b="b"/>
            <a:pathLst>
              <a:path w="797" h="51">
                <a:moveTo>
                  <a:pt x="0" y="51"/>
                </a:moveTo>
                <a:lnTo>
                  <a:pt x="0" y="0"/>
                </a:lnTo>
                <a:lnTo>
                  <a:pt x="797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368520" y="2952720"/>
            <a:ext cx="1182960" cy="81000"/>
          </a:xfrm>
          <a:custGeom>
            <a:avLst/>
            <a:gdLst/>
            <a:ahLst/>
            <a:rect l="l" t="t" r="r" b="b"/>
            <a:pathLst>
              <a:path w="745" h="51">
                <a:moveTo>
                  <a:pt x="745" y="51"/>
                </a:moveTo>
                <a:lnTo>
                  <a:pt x="745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44880" y="3522600"/>
            <a:ext cx="1917360" cy="82440"/>
          </a:xfrm>
          <a:custGeom>
            <a:avLst/>
            <a:gdLst/>
            <a:ahLst/>
            <a:rect l="l" t="t" r="r" b="b"/>
            <a:pathLst>
              <a:path w="1208" h="52">
                <a:moveTo>
                  <a:pt x="0" y="52"/>
                </a:moveTo>
                <a:lnTo>
                  <a:pt x="0" y="0"/>
                </a:lnTo>
                <a:lnTo>
                  <a:pt x="1208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021200" y="3522600"/>
            <a:ext cx="1816200" cy="82440"/>
          </a:xfrm>
          <a:custGeom>
            <a:avLst/>
            <a:gdLst/>
            <a:ahLst/>
            <a:rect l="l" t="t" r="r" b="b"/>
            <a:pathLst>
              <a:path w="1144" h="52">
                <a:moveTo>
                  <a:pt x="1144" y="52"/>
                </a:moveTo>
                <a:lnTo>
                  <a:pt x="1144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144880" y="4114800"/>
            <a:ext cx="2590560" cy="81000"/>
          </a:xfrm>
          <a:custGeom>
            <a:avLst/>
            <a:gdLst/>
            <a:ahLst/>
            <a:rect l="l" t="t" r="r" b="b"/>
            <a:pathLst>
              <a:path w="1632" h="51">
                <a:moveTo>
                  <a:pt x="0" y="51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53000" y="4114800"/>
            <a:ext cx="2448000" cy="81000"/>
          </a:xfrm>
          <a:custGeom>
            <a:avLst/>
            <a:gdLst/>
            <a:ahLst/>
            <a:rect l="l" t="t" r="r" b="b"/>
            <a:pathLst>
              <a:path w="1542" h="51">
                <a:moveTo>
                  <a:pt x="1542" y="51"/>
                </a:moveTo>
                <a:lnTo>
                  <a:pt x="1542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429000" y="2360520"/>
            <a:ext cx="1754280" cy="81000"/>
          </a:xfrm>
          <a:custGeom>
            <a:avLst/>
            <a:gdLst/>
            <a:ahLst/>
            <a:rect l="l" t="t" r="r" b="b"/>
            <a:pathLst>
              <a:path w="1105" h="51">
                <a:moveTo>
                  <a:pt x="0" y="51"/>
                </a:moveTo>
                <a:lnTo>
                  <a:pt x="0" y="0"/>
                </a:lnTo>
                <a:lnTo>
                  <a:pt x="1105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64200" y="2360520"/>
            <a:ext cx="1957320" cy="81000"/>
          </a:xfrm>
          <a:custGeom>
            <a:avLst/>
            <a:gdLst/>
            <a:ahLst/>
            <a:rect l="l" t="t" r="r" b="b"/>
            <a:pathLst>
              <a:path w="1233" h="51">
                <a:moveTo>
                  <a:pt x="1233" y="51"/>
                </a:moveTo>
                <a:lnTo>
                  <a:pt x="1233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94400" y="2952720"/>
            <a:ext cx="1285560" cy="81000"/>
          </a:xfrm>
          <a:custGeom>
            <a:avLst/>
            <a:gdLst/>
            <a:ahLst/>
            <a:rect l="l" t="t" r="r" b="b"/>
            <a:pathLst>
              <a:path w="810" h="51">
                <a:moveTo>
                  <a:pt x="0" y="51"/>
                </a:moveTo>
                <a:lnTo>
                  <a:pt x="0" y="0"/>
                </a:lnTo>
                <a:lnTo>
                  <a:pt x="81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938920" y="2952720"/>
            <a:ext cx="1182600" cy="81000"/>
          </a:xfrm>
          <a:custGeom>
            <a:avLst/>
            <a:gdLst/>
            <a:ahLst/>
            <a:rect l="l" t="t" r="r" b="b"/>
            <a:pathLst>
              <a:path w="745" h="51">
                <a:moveTo>
                  <a:pt x="745" y="51"/>
                </a:moveTo>
                <a:lnTo>
                  <a:pt x="745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959440" y="3522600"/>
            <a:ext cx="631800" cy="82440"/>
          </a:xfrm>
          <a:custGeom>
            <a:avLst/>
            <a:gdLst/>
            <a:ahLst/>
            <a:rect l="l" t="t" r="r" b="b"/>
            <a:pathLst>
              <a:path w="398" h="52">
                <a:moveTo>
                  <a:pt x="0" y="52"/>
                </a:moveTo>
                <a:lnTo>
                  <a:pt x="0" y="0"/>
                </a:lnTo>
                <a:lnTo>
                  <a:pt x="398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550200" y="3522600"/>
            <a:ext cx="571320" cy="82440"/>
          </a:xfrm>
          <a:custGeom>
            <a:avLst/>
            <a:gdLst/>
            <a:ahLst/>
            <a:rect l="l" t="t" r="r" b="b"/>
            <a:pathLst>
              <a:path w="360" h="52">
                <a:moveTo>
                  <a:pt x="360" y="52"/>
                </a:moveTo>
                <a:lnTo>
                  <a:pt x="360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655080" y="3614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918680" y="3614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242760" y="3614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655080" y="3043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918680" y="3043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242760" y="3043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65508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1868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24276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03560" y="394020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55080" y="4714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18680" y="4714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242760" y="4714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02560" y="471492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40 to 255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25680" y="4695840"/>
            <a:ext cx="1409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E (reserved)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144880" y="4624560"/>
            <a:ext cx="2590560" cy="82440"/>
          </a:xfrm>
          <a:custGeom>
            <a:avLst/>
            <a:gdLst/>
            <a:ahLst/>
            <a:rect l="l" t="t" r="r" b="b"/>
            <a:pathLst>
              <a:path w="1632" h="52">
                <a:moveTo>
                  <a:pt x="0" y="52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653000" y="4624560"/>
            <a:ext cx="2448000" cy="82440"/>
          </a:xfrm>
          <a:custGeom>
            <a:avLst/>
            <a:gdLst/>
            <a:ahLst/>
            <a:rect l="l" t="t" r="r" b="b"/>
            <a:pathLst>
              <a:path w="1542" h="52">
                <a:moveTo>
                  <a:pt x="1542" y="52"/>
                </a:moveTo>
                <a:lnTo>
                  <a:pt x="1542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05400" y="2349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15840" y="253368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27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10080" y="298116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28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15840" y="316548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91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10080" y="353232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92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15840" y="371628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23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10080" y="412416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24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15840" y="430704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39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10080" y="463392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40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15840" y="481824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55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43120" y="1860480"/>
            <a:ext cx="1472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ange of addre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P packet layou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609480" y="2932200"/>
            <a:ext cx="80773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3.18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NAT-based home network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806400" y="1411200"/>
            <a:ext cx="70009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Network performan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440" y="1406520"/>
            <a:ext cx="6575760" cy="4657320"/>
            <a:chOff x="1522440" y="1406520"/>
            <a:chExt cx="6575760" cy="4657320"/>
          </a:xfrm>
        </p:grpSpPr>
        <p:sp>
          <p:nvSpPr>
            <p:cNvPr id="89" name=""/>
            <p:cNvSpPr/>
            <p:nvPr/>
          </p:nvSpPr>
          <p:spPr>
            <a:xfrm>
              <a:off x="2951640" y="1531800"/>
              <a:ext cx="80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79240" y="153180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72640" y="1531800"/>
              <a:ext cx="99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andwid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3720" y="173340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Mb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99720" y="1531800"/>
              <a:ext cx="72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at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00800" y="1733400"/>
              <a:ext cx="40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m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6600" y="2036880"/>
              <a:ext cx="63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ire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6960" y="244152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51280" y="244152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79240" y="244152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-2 k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73360" y="244152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-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0440" y="244152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96960" y="284328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52000" y="2843280"/>
              <a:ext cx="92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79600" y="2843280"/>
              <a:ext cx="97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ldw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3000" y="284328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010-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00440" y="284328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-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97320" y="324648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52720" y="324648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79240" y="3246480"/>
              <a:ext cx="78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0 k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73360" y="324648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-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00440" y="3246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95880" y="365112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51640" y="3651120"/>
              <a:ext cx="71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79600" y="3651120"/>
              <a:ext cx="97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ldw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3000" y="3651120"/>
              <a:ext cx="70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5-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00440" y="365112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-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96600" y="4054320"/>
              <a:ext cx="86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ireles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96960" y="445608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50200" y="4456080"/>
              <a:ext cx="1916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tooth (802.15.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8520" y="4456080"/>
              <a:ext cx="82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 - 30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3000" y="445608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5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00440" y="44560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96600" y="48610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49480" y="4861080"/>
              <a:ext cx="1924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Fi (IEEE 802.1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78160" y="486108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15-1.5 k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3360" y="48610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-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0440" y="48610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96960" y="5264280"/>
              <a:ext cx="74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M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51640" y="5264280"/>
              <a:ext cx="171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MAX (802.1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9240" y="52642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0 k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73000" y="5264280"/>
              <a:ext cx="59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5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0440" y="52642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6600" y="566568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1600" y="566568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51280" y="5665680"/>
              <a:ext cx="193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SM, 3G phone n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9600" y="5665680"/>
              <a:ext cx="97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ldw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3000" y="5665680"/>
              <a:ext cx="70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01-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0440" y="566568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-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522440" y="1406520"/>
              <a:ext cx="6575760" cy="4657320"/>
              <a:chOff x="1522440" y="1406520"/>
              <a:chExt cx="6575760" cy="4657320"/>
            </a:xfrm>
          </p:grpSpPr>
          <p:sp>
            <p:nvSpPr>
              <p:cNvPr id="139" name=""/>
              <p:cNvSpPr/>
              <p:nvPr/>
            </p:nvSpPr>
            <p:spPr>
              <a:xfrm>
                <a:off x="1522440" y="1406520"/>
                <a:ext cx="657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22440" y="6062040"/>
                <a:ext cx="657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Pv6 header layou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06520" y="1758960"/>
            <a:ext cx="8099280" cy="3049560"/>
            <a:chOff x="506520" y="1758960"/>
            <a:chExt cx="8099280" cy="3049560"/>
          </a:xfrm>
        </p:grpSpPr>
        <p:sp>
          <p:nvSpPr>
            <p:cNvPr id="1174" name=""/>
            <p:cNvSpPr/>
            <p:nvPr/>
          </p:nvSpPr>
          <p:spPr>
            <a:xfrm>
              <a:off x="506520" y="2441520"/>
              <a:ext cx="8074080" cy="11718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20" y="2441520"/>
              <a:ext cx="8099280" cy="119556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79840" y="1758960"/>
              <a:ext cx="500076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79840" y="1758960"/>
              <a:ext cx="502596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6520" y="1758960"/>
              <a:ext cx="153648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6520" y="1758960"/>
              <a:ext cx="156204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043000" y="1758960"/>
              <a:ext cx="200052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043000" y="1758960"/>
              <a:ext cx="202572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06520" y="2100240"/>
              <a:ext cx="400032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06520" y="2100240"/>
              <a:ext cx="402588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506840" y="2100240"/>
              <a:ext cx="212256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06840" y="2100240"/>
              <a:ext cx="214632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6520" y="3613320"/>
              <a:ext cx="8074080" cy="1171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6520" y="3613320"/>
              <a:ext cx="8099280" cy="119520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629400" y="2100240"/>
              <a:ext cx="195120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629400" y="2100240"/>
              <a:ext cx="197640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57680" y="2770200"/>
              <a:ext cx="165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Source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20560" y="298944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(12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09280" y="3965400"/>
              <a:ext cx="215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Destination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76280" y="418464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(12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32080" y="1819440"/>
              <a:ext cx="159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Version (4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89080" y="1819440"/>
              <a:ext cx="203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Traffic class (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102640" y="1819440"/>
              <a:ext cx="198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Flow label (20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1600" y="2135160"/>
              <a:ext cx="251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Payload length (16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744240" y="2135160"/>
              <a:ext cx="176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Hop limit (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625280" y="2135160"/>
              <a:ext cx="210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Next header (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MobileIP routing mechanis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041880" y="3189240"/>
            <a:ext cx="2151360" cy="180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487600" y="2728800"/>
            <a:ext cx="1440" cy="30816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333520" y="2664000"/>
            <a:ext cx="109800" cy="131760"/>
          </a:xfrm>
          <a:custGeom>
            <a:avLst/>
            <a:gdLst/>
            <a:ahLst/>
            <a:rect l="l" t="t" r="r" b="b"/>
            <a:pathLst>
              <a:path w="69" h="83">
                <a:moveTo>
                  <a:pt x="69" y="0"/>
                </a:moveTo>
                <a:lnTo>
                  <a:pt x="0" y="13"/>
                </a:lnTo>
                <a:lnTo>
                  <a:pt x="0" y="8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421000" y="2465280"/>
            <a:ext cx="263520" cy="176400"/>
          </a:xfrm>
          <a:prstGeom prst="roundRect">
            <a:avLst>
              <a:gd name="adj" fmla="val 4008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398680" y="2443320"/>
            <a:ext cx="308160" cy="220680"/>
          </a:xfrm>
          <a:prstGeom prst="roundRect">
            <a:avLst>
              <a:gd name="adj" fmla="val 32014"/>
            </a:avLst>
          </a:prstGeom>
          <a:noFill/>
          <a:ln w="12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443320" y="2509920"/>
            <a:ext cx="218880" cy="8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443320" y="2509920"/>
            <a:ext cx="241200" cy="1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311560" y="2795760"/>
            <a:ext cx="44280" cy="64800"/>
          </a:xfrm>
          <a:custGeom>
            <a:avLst/>
            <a:gdLst/>
            <a:ahLst/>
            <a:rect l="l" t="t" r="r" b="b"/>
            <a:pathLst>
              <a:path w="28" h="41">
                <a:moveTo>
                  <a:pt x="14" y="0"/>
                </a:moveTo>
                <a:lnTo>
                  <a:pt x="0" y="0"/>
                </a:lnTo>
                <a:lnTo>
                  <a:pt x="0" y="13"/>
                </a:lnTo>
                <a:lnTo>
                  <a:pt x="0" y="27"/>
                </a:lnTo>
                <a:lnTo>
                  <a:pt x="0" y="41"/>
                </a:lnTo>
                <a:lnTo>
                  <a:pt x="14" y="41"/>
                </a:lnTo>
                <a:lnTo>
                  <a:pt x="28" y="27"/>
                </a:lnTo>
                <a:lnTo>
                  <a:pt x="28" y="13"/>
                </a:lnTo>
                <a:lnTo>
                  <a:pt x="28" y="0"/>
                </a:lnTo>
                <a:lnTo>
                  <a:pt x="14" y="0"/>
                </a:lnTo>
                <a:close/>
              </a:path>
            </a:pathLst>
          </a:custGeom>
          <a:solidFill>
            <a:srgbClr val="cf924c"/>
          </a:solidFill>
          <a:ln w="3168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2443320" y="2509920"/>
            <a:ext cx="196560" cy="8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10" name=""/>
          <p:cNvSpPr/>
          <p:nvPr/>
        </p:nvSpPr>
        <p:spPr>
          <a:xfrm>
            <a:off x="2355840" y="2795760"/>
            <a:ext cx="144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33520" y="2795760"/>
            <a:ext cx="180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11560" y="2795760"/>
            <a:ext cx="144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421000" y="2641680"/>
            <a:ext cx="241200" cy="42840"/>
          </a:xfrm>
          <a:prstGeom prst="rect">
            <a:avLst/>
          </a:prstGeom>
          <a:solidFill>
            <a:srgbClr val="d9aa73"/>
          </a:solidFill>
          <a:ln w="12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376360" y="2684520"/>
            <a:ext cx="330480" cy="44280"/>
          </a:xfrm>
          <a:custGeom>
            <a:avLst/>
            <a:gdLst/>
            <a:ahLst/>
            <a:rect l="l" t="t" r="r" b="b"/>
            <a:pathLst>
              <a:path w="208" h="28">
                <a:moveTo>
                  <a:pt x="194" y="0"/>
                </a:moveTo>
                <a:lnTo>
                  <a:pt x="208" y="28"/>
                </a:lnTo>
                <a:lnTo>
                  <a:pt x="0" y="28"/>
                </a:lnTo>
                <a:lnTo>
                  <a:pt x="28" y="0"/>
                </a:lnTo>
                <a:lnTo>
                  <a:pt x="194" y="0"/>
                </a:lnTo>
                <a:close/>
              </a:path>
            </a:pathLst>
          </a:custGeom>
          <a:noFill/>
          <a:ln w="12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617560" y="2716200"/>
            <a:ext cx="66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443320" y="2684520"/>
            <a:ext cx="218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2508120" y="2700360"/>
            <a:ext cx="154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2465280" y="2716200"/>
            <a:ext cx="13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2420640" y="2700360"/>
            <a:ext cx="66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398680" y="271620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487600" y="2487600"/>
            <a:ext cx="65160" cy="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487600" y="2487600"/>
            <a:ext cx="87480" cy="8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33520" y="3036960"/>
            <a:ext cx="1536840" cy="144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262600" y="22050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2355840" y="4462560"/>
            <a:ext cx="1557360" cy="144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022480" y="396720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13200" y="4242960"/>
            <a:ext cx="1440" cy="219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591240" y="2158920"/>
            <a:ext cx="1997280" cy="2019240"/>
          </a:xfrm>
          <a:custGeom>
            <a:avLst/>
            <a:gdLst>
              <a:gd name="textAreaLeft" fmla="*/ 117000 w 1997280"/>
              <a:gd name="textAreaRight" fmla="*/ 1880280 w 1997280"/>
              <a:gd name="textAreaTop" fmla="*/ 117000 h 2019240"/>
              <a:gd name="textAreaBottom" fmla="*/ 1902240 h 2019240"/>
            </a:gdLst>
            <a:ahLst/>
            <a:rect l="textAreaLeft" t="textAreaTop" r="textAreaRight" b="textAreaBottom"/>
            <a:pathLst>
              <a:path w="21600" h="21837">
                <a:moveTo>
                  <a:pt x="4327" y="0"/>
                </a:moveTo>
                <a:arcTo wR="4327" hR="4327" stAng="16200000" swAng="-5400000"/>
                <a:lnTo>
                  <a:pt x="0" y="17510"/>
                </a:lnTo>
                <a:arcTo wR="4327" hR="4327" stAng="10800000" swAng="-5400000"/>
                <a:lnTo>
                  <a:pt x="17273" y="21837"/>
                </a:lnTo>
                <a:arcTo wR="4327" hR="4327" stAng="5400000" swAng="-5400000"/>
                <a:lnTo>
                  <a:pt x="21600" y="4327"/>
                </a:lnTo>
                <a:arcTo wR="4327" hR="4327" stAng="0" swAng="-5400000"/>
                <a:close/>
              </a:path>
            </a:pathLst>
          </a:custGeom>
          <a:noFill/>
          <a:ln w="76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243200" y="2387520"/>
            <a:ext cx="123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bile host 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951680" y="2992320"/>
            <a:ext cx="1800" cy="19692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710480" y="2860560"/>
            <a:ext cx="439920" cy="87480"/>
          </a:xfrm>
          <a:custGeom>
            <a:avLst/>
            <a:gdLst/>
            <a:ahLst/>
            <a:rect l="l" t="t" r="r" b="b"/>
            <a:pathLst>
              <a:path w="277" h="55">
                <a:moveTo>
                  <a:pt x="69" y="55"/>
                </a:moveTo>
                <a:lnTo>
                  <a:pt x="0" y="0"/>
                </a:lnTo>
                <a:lnTo>
                  <a:pt x="208" y="0"/>
                </a:lnTo>
                <a:lnTo>
                  <a:pt x="277" y="55"/>
                </a:lnTo>
                <a:lnTo>
                  <a:pt x="69" y="55"/>
                </a:lnTo>
                <a:close/>
              </a:path>
            </a:pathLst>
          </a:custGeom>
          <a:solidFill>
            <a:srgbClr val="d9aa73"/>
          </a:solidFill>
          <a:ln w="3168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666200" y="2664000"/>
            <a:ext cx="352440" cy="174600"/>
          </a:xfrm>
          <a:custGeom>
            <a:avLst/>
            <a:gdLst/>
            <a:ahLst/>
            <a:rect l="l" t="t" r="r" b="b"/>
            <a:pathLst>
              <a:path w="222" h="110">
                <a:moveTo>
                  <a:pt x="194" y="0"/>
                </a:moveTo>
                <a:lnTo>
                  <a:pt x="222" y="110"/>
                </a:lnTo>
                <a:lnTo>
                  <a:pt x="28" y="110"/>
                </a:lnTo>
                <a:lnTo>
                  <a:pt x="0" y="0"/>
                </a:lnTo>
                <a:lnTo>
                  <a:pt x="194" y="0"/>
                </a:lnTo>
                <a:close/>
              </a:path>
            </a:pathLst>
          </a:custGeom>
          <a:noFill/>
          <a:ln w="3168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19920" y="2948040"/>
            <a:ext cx="351000" cy="44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819920" y="2948040"/>
            <a:ext cx="373320" cy="66600"/>
          </a:xfrm>
          <a:prstGeom prst="rect">
            <a:avLst/>
          </a:prstGeom>
          <a:noFill/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710480" y="2838600"/>
            <a:ext cx="87480" cy="153720"/>
          </a:xfrm>
          <a:custGeom>
            <a:avLst/>
            <a:gdLst/>
            <a:ahLst/>
            <a:rect l="l" t="t" r="r" b="b"/>
            <a:pathLst>
              <a:path w="55" h="97">
                <a:moveTo>
                  <a:pt x="0" y="0"/>
                </a:moveTo>
                <a:lnTo>
                  <a:pt x="0" y="28"/>
                </a:lnTo>
                <a:lnTo>
                  <a:pt x="55" y="97"/>
                </a:lnTo>
                <a:lnTo>
                  <a:pt x="55" y="69"/>
                </a:lnTo>
                <a:lnTo>
                  <a:pt x="0" y="0"/>
                </a:lnTo>
                <a:close/>
              </a:path>
            </a:pathLst>
          </a:custGeom>
          <a:solidFill>
            <a:srgbClr val="d9aa73"/>
          </a:solidFill>
          <a:ln w="3168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777080" y="2860560"/>
            <a:ext cx="284400" cy="44640"/>
          </a:xfrm>
          <a:custGeom>
            <a:avLst/>
            <a:gdLst/>
            <a:ahLst/>
            <a:rect l="l" t="t" r="r" b="b"/>
            <a:pathLst>
              <a:path w="179" h="28">
                <a:moveTo>
                  <a:pt x="13" y="28"/>
                </a:moveTo>
                <a:lnTo>
                  <a:pt x="0" y="0"/>
                </a:lnTo>
                <a:lnTo>
                  <a:pt x="138" y="0"/>
                </a:lnTo>
                <a:lnTo>
                  <a:pt x="179" y="28"/>
                </a:lnTo>
                <a:lnTo>
                  <a:pt x="13" y="28"/>
                </a:lnTo>
                <a:close/>
              </a:path>
            </a:pathLst>
          </a:custGeom>
          <a:solidFill>
            <a:srgbClr val="999999"/>
          </a:solidFill>
          <a:ln w="3168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710480" y="2684520"/>
            <a:ext cx="154080" cy="111240"/>
          </a:xfrm>
          <a:custGeom>
            <a:avLst/>
            <a:gdLst/>
            <a:ahLst/>
            <a:rect l="l" t="t" r="r" b="b"/>
            <a:pathLst>
              <a:path w="97" h="70">
                <a:moveTo>
                  <a:pt x="83" y="0"/>
                </a:moveTo>
                <a:lnTo>
                  <a:pt x="97" y="70"/>
                </a:lnTo>
                <a:lnTo>
                  <a:pt x="14" y="70"/>
                </a:lnTo>
                <a:lnTo>
                  <a:pt x="0" y="0"/>
                </a:lnTo>
                <a:lnTo>
                  <a:pt x="83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886880" y="2684520"/>
            <a:ext cx="6480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27" y="0"/>
                </a:moveTo>
                <a:lnTo>
                  <a:pt x="41" y="56"/>
                </a:lnTo>
                <a:lnTo>
                  <a:pt x="0" y="56"/>
                </a:lnTo>
                <a:lnTo>
                  <a:pt x="0" y="0"/>
                </a:lnTo>
                <a:lnTo>
                  <a:pt x="27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7337520" y="3188880"/>
            <a:ext cx="1440" cy="22068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272360" y="3387600"/>
            <a:ext cx="131760" cy="285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272360" y="3387600"/>
            <a:ext cx="152280" cy="306360"/>
          </a:xfrm>
          <a:prstGeom prst="rect">
            <a:avLst/>
          </a:prstGeom>
          <a:noFill/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950880" y="379260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ign agent 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693960" y="2684520"/>
            <a:ext cx="2502000" cy="1954080"/>
          </a:xfrm>
          <a:custGeom>
            <a:avLst/>
            <a:gdLst/>
            <a:ahLst/>
            <a:rect l="l" t="t" r="r" b="b"/>
            <a:pathLst>
              <a:path w="1576" h="1231">
                <a:moveTo>
                  <a:pt x="41" y="291"/>
                </a:moveTo>
                <a:lnTo>
                  <a:pt x="69" y="208"/>
                </a:lnTo>
                <a:lnTo>
                  <a:pt x="152" y="125"/>
                </a:lnTo>
                <a:lnTo>
                  <a:pt x="249" y="83"/>
                </a:lnTo>
                <a:lnTo>
                  <a:pt x="304" y="97"/>
                </a:lnTo>
                <a:lnTo>
                  <a:pt x="373" y="83"/>
                </a:lnTo>
                <a:lnTo>
                  <a:pt x="456" y="83"/>
                </a:lnTo>
                <a:lnTo>
                  <a:pt x="581" y="97"/>
                </a:lnTo>
                <a:lnTo>
                  <a:pt x="705" y="111"/>
                </a:lnTo>
                <a:lnTo>
                  <a:pt x="830" y="111"/>
                </a:lnTo>
                <a:lnTo>
                  <a:pt x="885" y="70"/>
                </a:lnTo>
                <a:lnTo>
                  <a:pt x="954" y="28"/>
                </a:lnTo>
                <a:lnTo>
                  <a:pt x="1037" y="0"/>
                </a:lnTo>
                <a:lnTo>
                  <a:pt x="1134" y="0"/>
                </a:lnTo>
                <a:lnTo>
                  <a:pt x="1203" y="14"/>
                </a:lnTo>
                <a:lnTo>
                  <a:pt x="1272" y="42"/>
                </a:lnTo>
                <a:lnTo>
                  <a:pt x="1313" y="70"/>
                </a:lnTo>
                <a:lnTo>
                  <a:pt x="1383" y="111"/>
                </a:lnTo>
                <a:lnTo>
                  <a:pt x="1466" y="208"/>
                </a:lnTo>
                <a:lnTo>
                  <a:pt x="1548" y="388"/>
                </a:lnTo>
                <a:lnTo>
                  <a:pt x="1576" y="609"/>
                </a:lnTo>
                <a:lnTo>
                  <a:pt x="1576" y="747"/>
                </a:lnTo>
                <a:lnTo>
                  <a:pt x="1562" y="871"/>
                </a:lnTo>
                <a:lnTo>
                  <a:pt x="1521" y="1079"/>
                </a:lnTo>
                <a:lnTo>
                  <a:pt x="1438" y="1176"/>
                </a:lnTo>
                <a:lnTo>
                  <a:pt x="1327" y="1231"/>
                </a:lnTo>
                <a:lnTo>
                  <a:pt x="1217" y="1203"/>
                </a:lnTo>
                <a:lnTo>
                  <a:pt x="1092" y="1176"/>
                </a:lnTo>
                <a:lnTo>
                  <a:pt x="995" y="1162"/>
                </a:lnTo>
                <a:lnTo>
                  <a:pt x="885" y="1134"/>
                </a:lnTo>
                <a:lnTo>
                  <a:pt x="788" y="1134"/>
                </a:lnTo>
                <a:lnTo>
                  <a:pt x="691" y="1134"/>
                </a:lnTo>
                <a:lnTo>
                  <a:pt x="608" y="1148"/>
                </a:lnTo>
                <a:lnTo>
                  <a:pt x="525" y="1162"/>
                </a:lnTo>
                <a:lnTo>
                  <a:pt x="456" y="1176"/>
                </a:lnTo>
                <a:lnTo>
                  <a:pt x="373" y="1189"/>
                </a:lnTo>
                <a:lnTo>
                  <a:pt x="304" y="1189"/>
                </a:lnTo>
                <a:lnTo>
                  <a:pt x="235" y="1189"/>
                </a:lnTo>
                <a:lnTo>
                  <a:pt x="180" y="1162"/>
                </a:lnTo>
                <a:lnTo>
                  <a:pt x="124" y="1120"/>
                </a:lnTo>
                <a:lnTo>
                  <a:pt x="111" y="1106"/>
                </a:lnTo>
                <a:lnTo>
                  <a:pt x="97" y="1065"/>
                </a:lnTo>
                <a:lnTo>
                  <a:pt x="55" y="954"/>
                </a:lnTo>
                <a:lnTo>
                  <a:pt x="14" y="816"/>
                </a:lnTo>
                <a:lnTo>
                  <a:pt x="0" y="706"/>
                </a:lnTo>
                <a:lnTo>
                  <a:pt x="0" y="609"/>
                </a:lnTo>
                <a:lnTo>
                  <a:pt x="0" y="484"/>
                </a:lnTo>
                <a:lnTo>
                  <a:pt x="14" y="360"/>
                </a:lnTo>
                <a:lnTo>
                  <a:pt x="41" y="291"/>
                </a:lnTo>
                <a:lnTo>
                  <a:pt x="41" y="291"/>
                </a:lnTo>
                <a:close/>
              </a:path>
            </a:pathLst>
          </a:custGeom>
          <a:solidFill>
            <a:srgbClr val="ffdc99"/>
          </a:solidFill>
          <a:ln w="3168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36720" y="357336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053080" y="41655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81040" y="3095640"/>
            <a:ext cx="119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IP pac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87520" y="3314880"/>
            <a:ext cx="136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ed to 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982880" y="3300480"/>
            <a:ext cx="52524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41520" y="2590920"/>
            <a:ext cx="1132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of 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7600" y="2789280"/>
            <a:ext cx="146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turned to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 flipV="1">
            <a:off x="1916280" y="2992320"/>
            <a:ext cx="745920" cy="1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19360" y="3497400"/>
            <a:ext cx="1666800" cy="1228680"/>
          </a:xfrm>
          <a:prstGeom prst="roundRect">
            <a:avLst>
              <a:gd name="adj" fmla="val 32560"/>
            </a:avLst>
          </a:prstGeom>
          <a:noFill/>
          <a:ln w="76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487600" y="3782880"/>
            <a:ext cx="109440" cy="174600"/>
          </a:xfrm>
          <a:custGeom>
            <a:avLst/>
            <a:gdLst/>
            <a:ahLst/>
            <a:rect l="l" t="t" r="r" b="b"/>
            <a:pathLst>
              <a:path w="69" h="110">
                <a:moveTo>
                  <a:pt x="27" y="0"/>
                </a:moveTo>
                <a:lnTo>
                  <a:pt x="69" y="0"/>
                </a:lnTo>
                <a:lnTo>
                  <a:pt x="41" y="110"/>
                </a:lnTo>
                <a:lnTo>
                  <a:pt x="0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30440" y="2751120"/>
            <a:ext cx="44640" cy="1009800"/>
          </a:xfrm>
          <a:custGeom>
            <a:avLst/>
            <a:gdLst/>
            <a:ahLst/>
            <a:rect l="l" t="t" r="r" b="b"/>
            <a:pathLst>
              <a:path w="28" h="636">
                <a:moveTo>
                  <a:pt x="28" y="0"/>
                </a:moveTo>
                <a:lnTo>
                  <a:pt x="0" y="304"/>
                </a:lnTo>
                <a:lnTo>
                  <a:pt x="0" y="63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17920" y="2728800"/>
            <a:ext cx="110880" cy="198720"/>
          </a:xfrm>
          <a:custGeom>
            <a:avLst/>
            <a:gdLst/>
            <a:ahLst/>
            <a:rect l="l" t="t" r="r" b="b"/>
            <a:pathLst>
              <a:path w="70" h="125">
                <a:moveTo>
                  <a:pt x="42" y="111"/>
                </a:moveTo>
                <a:lnTo>
                  <a:pt x="0" y="125"/>
                </a:lnTo>
                <a:lnTo>
                  <a:pt x="14" y="0"/>
                </a:lnTo>
                <a:lnTo>
                  <a:pt x="70" y="111"/>
                </a:lnTo>
                <a:lnTo>
                  <a:pt x="42" y="111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17920" y="2927520"/>
            <a:ext cx="66600" cy="1074600"/>
          </a:xfrm>
          <a:custGeom>
            <a:avLst/>
            <a:gdLst/>
            <a:ahLst/>
            <a:rect l="l" t="t" r="r" b="b"/>
            <a:pathLst>
              <a:path w="42" h="677">
                <a:moveTo>
                  <a:pt x="0" y="677"/>
                </a:moveTo>
                <a:lnTo>
                  <a:pt x="42" y="345"/>
                </a:lnTo>
                <a:lnTo>
                  <a:pt x="4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17920" y="4243320"/>
            <a:ext cx="1440" cy="21924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52760" y="3979800"/>
            <a:ext cx="154080" cy="285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52760" y="3979800"/>
            <a:ext cx="176040" cy="308160"/>
          </a:xfrm>
          <a:prstGeom prst="rect">
            <a:avLst/>
          </a:prstGeom>
          <a:noFill/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031160" y="3562200"/>
            <a:ext cx="196560" cy="111240"/>
          </a:xfrm>
          <a:custGeom>
            <a:avLst/>
            <a:gdLst/>
            <a:ahLst/>
            <a:rect l="l" t="t" r="r" b="b"/>
            <a:pathLst>
              <a:path w="124" h="70">
                <a:moveTo>
                  <a:pt x="0" y="28"/>
                </a:moveTo>
                <a:lnTo>
                  <a:pt x="0" y="0"/>
                </a:lnTo>
                <a:lnTo>
                  <a:pt x="124" y="14"/>
                </a:lnTo>
                <a:lnTo>
                  <a:pt x="13" y="7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706840" y="3629160"/>
            <a:ext cx="4324320" cy="460080"/>
          </a:xfrm>
          <a:custGeom>
            <a:avLst/>
            <a:gdLst/>
            <a:ahLst/>
            <a:rect l="l" t="t" r="r" b="b"/>
            <a:pathLst>
              <a:path w="2724" h="290">
                <a:moveTo>
                  <a:pt x="0" y="290"/>
                </a:moveTo>
                <a:lnTo>
                  <a:pt x="663" y="276"/>
                </a:lnTo>
                <a:lnTo>
                  <a:pt x="1355" y="221"/>
                </a:lnTo>
                <a:lnTo>
                  <a:pt x="2060" y="124"/>
                </a:lnTo>
                <a:lnTo>
                  <a:pt x="272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13960" y="4083120"/>
            <a:ext cx="114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IP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365360" y="428148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nnelled to F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051680" y="3343320"/>
            <a:ext cx="198360" cy="109440"/>
          </a:xfrm>
          <a:custGeom>
            <a:avLst/>
            <a:gdLst/>
            <a:ahLst/>
            <a:rect l="l" t="t" r="r" b="b"/>
            <a:pathLst>
              <a:path w="125" h="69">
                <a:moveTo>
                  <a:pt x="0" y="42"/>
                </a:moveTo>
                <a:lnTo>
                  <a:pt x="14" y="0"/>
                </a:lnTo>
                <a:lnTo>
                  <a:pt x="125" y="56"/>
                </a:lnTo>
                <a:lnTo>
                  <a:pt x="0" y="6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06840" y="2575080"/>
            <a:ext cx="4344840" cy="834840"/>
          </a:xfrm>
          <a:custGeom>
            <a:avLst/>
            <a:gdLst/>
            <a:ahLst/>
            <a:rect l="l" t="t" r="r" b="b"/>
            <a:pathLst>
              <a:path w="2737" h="526">
                <a:moveTo>
                  <a:pt x="0" y="0"/>
                </a:moveTo>
                <a:lnTo>
                  <a:pt x="663" y="56"/>
                </a:lnTo>
                <a:lnTo>
                  <a:pt x="1369" y="194"/>
                </a:lnTo>
                <a:lnTo>
                  <a:pt x="2737" y="52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951720" y="2205000"/>
            <a:ext cx="18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P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25440" y="240336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nnelled to F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706840" y="2509920"/>
            <a:ext cx="4586040" cy="877680"/>
          </a:xfrm>
          <a:custGeom>
            <a:avLst/>
            <a:gdLst/>
            <a:ahLst/>
            <a:rect l="l" t="t" r="r" b="b"/>
            <a:pathLst>
              <a:path w="2889" h="553">
                <a:moveTo>
                  <a:pt x="0" y="0"/>
                </a:moveTo>
                <a:lnTo>
                  <a:pt x="705" y="69"/>
                </a:lnTo>
                <a:lnTo>
                  <a:pt x="1465" y="221"/>
                </a:lnTo>
                <a:lnTo>
                  <a:pt x="2889" y="5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662200" y="2619360"/>
            <a:ext cx="4587840" cy="878040"/>
          </a:xfrm>
          <a:custGeom>
            <a:avLst/>
            <a:gdLst/>
            <a:ahLst/>
            <a:rect l="l" t="t" r="r" b="b"/>
            <a:pathLst>
              <a:path w="2890" h="553">
                <a:moveTo>
                  <a:pt x="0" y="0"/>
                </a:moveTo>
                <a:lnTo>
                  <a:pt x="705" y="69"/>
                </a:lnTo>
                <a:lnTo>
                  <a:pt x="1466" y="221"/>
                </a:lnTo>
                <a:lnTo>
                  <a:pt x="2890" y="5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06840" y="3629160"/>
            <a:ext cx="4565520" cy="527040"/>
          </a:xfrm>
          <a:custGeom>
            <a:avLst/>
            <a:gdLst/>
            <a:ahLst/>
            <a:rect l="l" t="t" r="r" b="b"/>
            <a:pathLst>
              <a:path w="2876" h="332">
                <a:moveTo>
                  <a:pt x="0" y="332"/>
                </a:moveTo>
                <a:lnTo>
                  <a:pt x="705" y="304"/>
                </a:lnTo>
                <a:lnTo>
                  <a:pt x="1438" y="235"/>
                </a:lnTo>
                <a:lnTo>
                  <a:pt x="2184" y="138"/>
                </a:lnTo>
                <a:lnTo>
                  <a:pt x="287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706840" y="3497400"/>
            <a:ext cx="4565520" cy="527040"/>
          </a:xfrm>
          <a:custGeom>
            <a:avLst/>
            <a:gdLst/>
            <a:ahLst/>
            <a:rect l="l" t="t" r="r" b="b"/>
            <a:pathLst>
              <a:path w="2876" h="332">
                <a:moveTo>
                  <a:pt x="0" y="332"/>
                </a:moveTo>
                <a:lnTo>
                  <a:pt x="705" y="318"/>
                </a:lnTo>
                <a:lnTo>
                  <a:pt x="1438" y="249"/>
                </a:lnTo>
                <a:lnTo>
                  <a:pt x="2184" y="138"/>
                </a:lnTo>
                <a:lnTo>
                  <a:pt x="287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rewall configu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2057400" y="1436760"/>
            <a:ext cx="54864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EEE 802 network standar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582480" y="1387440"/>
            <a:ext cx="8088120" cy="5000400"/>
            <a:chOff x="582480" y="1387440"/>
            <a:chExt cx="8088120" cy="5000400"/>
          </a:xfrm>
        </p:grpSpPr>
        <p:sp>
          <p:nvSpPr>
            <p:cNvPr id="1276" name=""/>
            <p:cNvSpPr/>
            <p:nvPr/>
          </p:nvSpPr>
          <p:spPr>
            <a:xfrm>
              <a:off x="739800" y="150732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EEE N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4320" y="1507320"/>
              <a:ext cx="59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051000" y="150732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60600" y="150732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39080" y="2048760"/>
              <a:ext cx="5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893600" y="2048760"/>
              <a:ext cx="86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045960" y="2048760"/>
              <a:ext cx="329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SMA/CD Networks (Etherne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57000" y="2048760"/>
              <a:ext cx="141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85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39080" y="2588040"/>
              <a:ext cx="5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45960" y="2588040"/>
              <a:ext cx="21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ken Bus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956640" y="2588040"/>
              <a:ext cx="142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85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39080" y="3129480"/>
              <a:ext cx="5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45960" y="3129480"/>
              <a:ext cx="22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ken Ring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957000" y="3129480"/>
              <a:ext cx="141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85c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39080" y="3670560"/>
              <a:ext cx="5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045960" y="3670560"/>
              <a:ext cx="294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tropolitan Area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56640" y="3670560"/>
              <a:ext cx="129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94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9080" y="4212000"/>
              <a:ext cx="70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95400" y="4212000"/>
              <a:ext cx="52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F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046320" y="4212000"/>
              <a:ext cx="314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reless Local Area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56640" y="4212000"/>
              <a:ext cx="129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99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38000" y="4750920"/>
              <a:ext cx="89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5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894320" y="475092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45240" y="4750920"/>
              <a:ext cx="344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reless Personal Area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956640" y="4750920"/>
              <a:ext cx="129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200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8000" y="5292360"/>
              <a:ext cx="89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5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894320" y="5292360"/>
              <a:ext cx="749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igB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45240" y="5292360"/>
              <a:ext cx="270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reless Sensor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956640" y="5292360"/>
              <a:ext cx="129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2003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9080" y="5833440"/>
              <a:ext cx="70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893960" y="583344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045600" y="5833440"/>
              <a:ext cx="3899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reless Metropolitan Area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57000" y="5833440"/>
              <a:ext cx="141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2004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582480" y="1387440"/>
              <a:ext cx="7815600" cy="4893120"/>
              <a:chOff x="582480" y="1387440"/>
              <a:chExt cx="7815600" cy="4893120"/>
            </a:xfrm>
          </p:grpSpPr>
          <p:sp>
            <p:nvSpPr>
              <p:cNvPr id="1310" name=""/>
              <p:cNvSpPr/>
              <p:nvPr/>
            </p:nvSpPr>
            <p:spPr>
              <a:xfrm>
                <a:off x="582480" y="1387440"/>
                <a:ext cx="78156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2480" y="6279120"/>
                <a:ext cx="78156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8424720" y="6363720"/>
              <a:ext cx="245880" cy="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thernet ranges and spee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241880" y="237492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041800" y="237492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842080" y="237492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642000" y="237492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42000" y="2374920"/>
            <a:ext cx="129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642000" y="2806560"/>
            <a:ext cx="129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642000" y="308628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642000" y="336564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42000" y="364500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642000" y="392436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241880" y="449568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041800" y="449568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842080" y="449568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642000" y="420372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642000" y="449568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79320" y="1527120"/>
            <a:ext cx="7743600" cy="3694680"/>
            <a:chOff x="679320" y="1527120"/>
            <a:chExt cx="7743600" cy="3694680"/>
          </a:xfrm>
        </p:grpSpPr>
        <p:sp>
          <p:nvSpPr>
            <p:cNvPr id="1330" name=""/>
            <p:cNvSpPr/>
            <p:nvPr/>
          </p:nvSpPr>
          <p:spPr>
            <a:xfrm>
              <a:off x="2905920" y="1659960"/>
              <a:ext cx="88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Base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299120" y="1659960"/>
              <a:ext cx="89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B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693040" y="1659960"/>
              <a:ext cx="102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83720" y="1659960"/>
              <a:ext cx="114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00B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85520" y="2411280"/>
              <a:ext cx="92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907720" y="2411280"/>
              <a:ext cx="90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299480" y="2411280"/>
              <a:ext cx="90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93400" y="2411280"/>
              <a:ext cx="102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084440" y="2411280"/>
              <a:ext cx="115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1560" y="2897640"/>
              <a:ext cx="230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x. segment length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82640" y="3384000"/>
              <a:ext cx="205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wisted wire (UT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06640" y="338400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99480" y="338400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92680" y="338400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085520" y="3384000"/>
              <a:ext cx="51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83360" y="3870360"/>
              <a:ext cx="2065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axial cable (ST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06640" y="387036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99480" y="387036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692680" y="387036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085520" y="3870360"/>
              <a:ext cx="51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77600" y="4356720"/>
              <a:ext cx="176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ti-mode f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06280" y="435672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99120" y="435672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987080" y="43567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692680" y="435672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085160" y="435672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75440" y="4843800"/>
              <a:ext cx="1808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no-mode f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05560" y="4843800"/>
              <a:ext cx="90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98760" y="4843800"/>
              <a:ext cx="90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097600" y="484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691600" y="4843800"/>
              <a:ext cx="90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84800" y="484380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679320" y="1527120"/>
              <a:ext cx="7743600" cy="3694680"/>
              <a:chOff x="679320" y="1527120"/>
              <a:chExt cx="7743600" cy="3694680"/>
            </a:xfrm>
          </p:grpSpPr>
          <p:sp>
            <p:nvSpPr>
              <p:cNvPr id="1363" name=""/>
              <p:cNvSpPr/>
              <p:nvPr/>
            </p:nvSpPr>
            <p:spPr>
              <a:xfrm>
                <a:off x="679320" y="1527120"/>
                <a:ext cx="77436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79320" y="5219640"/>
                <a:ext cx="77436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Wireless LAN configu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1"/>
          <a:stretch/>
        </p:blipFill>
        <p:spPr>
          <a:xfrm>
            <a:off x="609480" y="1512720"/>
            <a:ext cx="77724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3.2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uetooth frame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17680" y="53085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 packets (e.g. for voice data) have a 240-bit payload containing 80 bits of data triplicated, filling exactly one time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584280" y="1335240"/>
            <a:ext cx="7936560" cy="3841560"/>
            <a:chOff x="584280" y="1335240"/>
            <a:chExt cx="7936560" cy="3841560"/>
          </a:xfrm>
        </p:grpSpPr>
        <p:grpSp>
          <p:nvGrpSpPr>
            <p:cNvPr id="1370" name=""/>
            <p:cNvGrpSpPr/>
            <p:nvPr/>
          </p:nvGrpSpPr>
          <p:grpSpPr>
            <a:xfrm>
              <a:off x="584280" y="1335240"/>
              <a:ext cx="7936560" cy="1193400"/>
              <a:chOff x="584280" y="1335240"/>
              <a:chExt cx="7936560" cy="1193400"/>
            </a:xfrm>
          </p:grpSpPr>
          <p:sp>
            <p:nvSpPr>
              <p:cNvPr id="1371" name=""/>
              <p:cNvSpPr/>
              <p:nvPr/>
            </p:nvSpPr>
            <p:spPr>
              <a:xfrm>
                <a:off x="666360" y="1335240"/>
                <a:ext cx="90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its:   7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660760" y="13352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792240" y="13352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948560" y="13352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077520" y="1335240"/>
                <a:ext cx="85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- 274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793200" y="13352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67800" y="1901160"/>
                <a:ext cx="1267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ess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659680" y="1901160"/>
                <a:ext cx="736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659680" y="2146320"/>
                <a:ext cx="689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py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792240" y="1901160"/>
                <a:ext cx="73692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eader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py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47120" y="1901160"/>
                <a:ext cx="736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47120" y="2146320"/>
                <a:ext cx="689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py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077160" y="1901160"/>
                <a:ext cx="2195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 for transmiss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422800" y="174492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553200" y="174492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710240" y="174492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40280" y="174492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8" name=""/>
              <p:cNvGrpSpPr/>
              <p:nvPr/>
            </p:nvGrpSpPr>
            <p:grpSpPr>
              <a:xfrm>
                <a:off x="584280" y="1757160"/>
                <a:ext cx="7928280" cy="766800"/>
                <a:chOff x="584280" y="1757160"/>
                <a:chExt cx="7928280" cy="76680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584280" y="1757160"/>
                  <a:ext cx="7924680" cy="6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87880" y="2518200"/>
                  <a:ext cx="7924680" cy="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1" name=""/>
              <p:cNvSpPr/>
              <p:nvPr/>
            </p:nvSpPr>
            <p:spPr>
              <a:xfrm>
                <a:off x="600480" y="1755000"/>
                <a:ext cx="216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519040" y="175500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613080" y="3437280"/>
              <a:ext cx="7663680" cy="1739520"/>
              <a:chOff x="613080" y="3437280"/>
              <a:chExt cx="7663680" cy="1739520"/>
            </a:xfrm>
          </p:grpSpPr>
          <p:sp>
            <p:nvSpPr>
              <p:cNvPr id="1394" name=""/>
              <p:cNvSpPr/>
              <p:nvPr/>
            </p:nvSpPr>
            <p:spPr>
              <a:xfrm>
                <a:off x="665640" y="3445200"/>
                <a:ext cx="837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its:   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31156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09924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95964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77108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41844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27844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06504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92544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73652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38172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67080" y="4013640"/>
                <a:ext cx="1174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tin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311560" y="4013640"/>
                <a:ext cx="524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lo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098880" y="4013640"/>
                <a:ext cx="425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959280" y="4013640"/>
                <a:ext cx="38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770360" y="4013640"/>
                <a:ext cx="524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15560" y="4013640"/>
                <a:ext cx="1820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eader checks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074680" y="3879720"/>
                <a:ext cx="180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860920" y="3879720"/>
                <a:ext cx="216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721320" y="3879720"/>
                <a:ext cx="216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533120" y="3879720"/>
                <a:ext cx="180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177960" y="3879720"/>
                <a:ext cx="216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6360" y="4626720"/>
                <a:ext cx="1521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ddress with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67440" y="4871520"/>
                <a:ext cx="777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ico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768560" y="4624560"/>
                <a:ext cx="1377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 ACL, SCO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770000" y="487152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oll, 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0" name=""/>
              <p:cNvGrpSpPr/>
              <p:nvPr/>
            </p:nvGrpSpPr>
            <p:grpSpPr>
              <a:xfrm>
                <a:off x="613080" y="3873600"/>
                <a:ext cx="7663680" cy="614520"/>
                <a:chOff x="613080" y="3873600"/>
                <a:chExt cx="7663680" cy="6145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613080" y="3873600"/>
                  <a:ext cx="766368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613080" y="4486320"/>
                  <a:ext cx="766368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"/>
              <p:cNvSpPr/>
              <p:nvPr/>
            </p:nvSpPr>
            <p:spPr>
              <a:xfrm>
                <a:off x="624960" y="3879720"/>
                <a:ext cx="216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265600" y="3871080"/>
                <a:ext cx="180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5" name=""/>
          <p:cNvSpPr/>
          <p:nvPr/>
        </p:nvSpPr>
        <p:spPr>
          <a:xfrm>
            <a:off x="603360" y="2540160"/>
            <a:ext cx="6468840" cy="911160"/>
          </a:xfrm>
          <a:custGeom>
            <a:avLst/>
            <a:gdLst/>
            <a:ahLst/>
            <a:rect l="l" t="t" r="r" b="b"/>
            <a:pathLst>
              <a:path w="3915" h="574">
                <a:moveTo>
                  <a:pt x="1073" y="0"/>
                </a:moveTo>
                <a:lnTo>
                  <a:pt x="0" y="574"/>
                </a:lnTo>
                <a:lnTo>
                  <a:pt x="3915" y="574"/>
                </a:lnTo>
                <a:lnTo>
                  <a:pt x="1788" y="4"/>
                </a:lnTo>
                <a:lnTo>
                  <a:pt x="1073" y="0"/>
                </a:lnTo>
                <a:close/>
              </a:path>
            </a:pathLst>
          </a:custGeom>
          <a:solidFill>
            <a:srgbClr val="ffcc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608560" y="2916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TM protocol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TM cell layou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>
            <a:off x="762120" y="2949480"/>
            <a:ext cx="784836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witching virtual paths in an ATM networ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"/>
          <a:stretch/>
        </p:blipFill>
        <p:spPr>
          <a:xfrm>
            <a:off x="685800" y="1781280"/>
            <a:ext cx="77724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onceptual layering of protocol softwa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543040"/>
            <a:ext cx="7873920" cy="301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543040"/>
            <a:ext cx="7899480" cy="3272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894040"/>
            <a:ext cx="7873920" cy="32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894040"/>
            <a:ext cx="7899480" cy="3524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297240"/>
            <a:ext cx="7873920" cy="32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297240"/>
            <a:ext cx="7899480" cy="3524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675240"/>
            <a:ext cx="7873920" cy="301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675240"/>
            <a:ext cx="7899480" cy="32688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076640"/>
            <a:ext cx="7873920" cy="301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076640"/>
            <a:ext cx="7899480" cy="3272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0240" y="4076640"/>
            <a:ext cx="4503960" cy="301680"/>
          </a:xfrm>
          <a:prstGeom prst="ellipse">
            <a:avLst/>
          </a:prstGeom>
          <a:solidFill>
            <a:srgbClr val="d9aa73"/>
          </a:solidFill>
          <a:ln w="255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9680" y="4152960"/>
            <a:ext cx="518148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9400" y="4051440"/>
            <a:ext cx="376200" cy="252360"/>
          </a:xfrm>
          <a:custGeom>
            <a:avLst/>
            <a:gdLst/>
            <a:ahLst/>
            <a:rect l="l" t="t" r="r" b="b"/>
            <a:pathLst>
              <a:path w="237" h="159">
                <a:moveTo>
                  <a:pt x="237" y="80"/>
                </a:moveTo>
                <a:lnTo>
                  <a:pt x="0" y="159"/>
                </a:lnTo>
                <a:lnTo>
                  <a:pt x="127" y="80"/>
                </a:lnTo>
                <a:lnTo>
                  <a:pt x="0" y="0"/>
                </a:lnTo>
                <a:lnTo>
                  <a:pt x="222" y="80"/>
                </a:lnTo>
                <a:lnTo>
                  <a:pt x="237" y="8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9680" y="4203720"/>
            <a:ext cx="2616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3280" y="262908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yer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3280" y="37861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3280" y="41641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70160" y="2517840"/>
            <a:ext cx="806400" cy="1936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54160" y="2025720"/>
            <a:ext cx="126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ssage 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39000" y="2000160"/>
            <a:ext cx="164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ssage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97200" y="4491000"/>
            <a:ext cx="141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4840" y="474336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08680" y="454176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40480" y="45417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29400" y="2517840"/>
            <a:ext cx="804960" cy="1936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05600" y="2668680"/>
            <a:ext cx="511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05600" y="4178160"/>
            <a:ext cx="5112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05600" y="2693880"/>
            <a:ext cx="5112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56640" y="3373560"/>
            <a:ext cx="1508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56640" y="4127400"/>
            <a:ext cx="15084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56640" y="3749760"/>
            <a:ext cx="1508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6640" y="2970360"/>
            <a:ext cx="1508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56640" y="2592360"/>
            <a:ext cx="1508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51840" y="2239920"/>
            <a:ext cx="125280" cy="101520"/>
          </a:xfrm>
          <a:custGeom>
            <a:avLst/>
            <a:gdLst/>
            <a:ahLst/>
            <a:rect l="l" t="t" r="r" b="b"/>
            <a:pathLst>
              <a:path w="79" h="64">
                <a:moveTo>
                  <a:pt x="79" y="32"/>
                </a:moveTo>
                <a:lnTo>
                  <a:pt x="64" y="64"/>
                </a:lnTo>
                <a:lnTo>
                  <a:pt x="0" y="0"/>
                </a:lnTo>
                <a:lnTo>
                  <a:pt x="79" y="16"/>
                </a:lnTo>
                <a:lnTo>
                  <a:pt x="79" y="3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377120" y="2290680"/>
            <a:ext cx="479520" cy="27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7800" y="2668680"/>
            <a:ext cx="511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47800" y="4178160"/>
            <a:ext cx="5112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2693880"/>
            <a:ext cx="5112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7040" y="3397320"/>
            <a:ext cx="1526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7040" y="4152960"/>
            <a:ext cx="1526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7040" y="3774960"/>
            <a:ext cx="15264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7040" y="2995560"/>
            <a:ext cx="15264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7040" y="2617920"/>
            <a:ext cx="1526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9680" y="2467080"/>
            <a:ext cx="125280" cy="100080"/>
          </a:xfrm>
          <a:custGeom>
            <a:avLst/>
            <a:gdLst/>
            <a:ahLst/>
            <a:rect l="l" t="t" r="r" b="b"/>
            <a:pathLst>
              <a:path w="79" h="63">
                <a:moveTo>
                  <a:pt x="63" y="16"/>
                </a:moveTo>
                <a:lnTo>
                  <a:pt x="79" y="32"/>
                </a:lnTo>
                <a:lnTo>
                  <a:pt x="0" y="63"/>
                </a:lnTo>
                <a:lnTo>
                  <a:pt x="47" y="0"/>
                </a:lnTo>
                <a:lnTo>
                  <a:pt x="63" y="1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874600" y="2265480"/>
            <a:ext cx="352440" cy="22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3048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Encapsulation as it is applied in layered protoco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2208240"/>
            <a:ext cx="815328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rotocol layers in the ISO Open Systems Interconnection (OSI) mod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773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OSI protocol summa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68600" y="190008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97840" y="190008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80960" y="1579680"/>
            <a:ext cx="8306640" cy="4397400"/>
            <a:chOff x="480960" y="1579680"/>
            <a:chExt cx="8306640" cy="4397400"/>
          </a:xfrm>
        </p:grpSpPr>
        <p:sp>
          <p:nvSpPr>
            <p:cNvPr id="197" name=""/>
            <p:cNvSpPr/>
            <p:nvPr/>
          </p:nvSpPr>
          <p:spPr>
            <a:xfrm>
              <a:off x="1668600" y="1617840"/>
              <a:ext cx="172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99360" y="1617840"/>
              <a:ext cx="190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8600" y="5975280"/>
              <a:ext cx="1728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99360" y="5975280"/>
              <a:ext cx="1908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520" y="167328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2360" y="1673280"/>
              <a:ext cx="84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24920" y="167328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68600" y="1579680"/>
              <a:ext cx="1728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99360" y="1579680"/>
              <a:ext cx="1908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1280" y="1909800"/>
              <a:ext cx="84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77240" y="1909800"/>
              <a:ext cx="511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tocols that are designed to meet the communication requirement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0120" y="2097000"/>
              <a:ext cx="440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pecific applications, often defining the interface to a servi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8080" y="2097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86240" y="2097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26000" y="192888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HTT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6320" y="1909800"/>
              <a:ext cx="329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56520" y="19288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49400" y="1928880"/>
              <a:ext cx="50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MTP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26360" y="211608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RBA II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68600" y="1900080"/>
              <a:ext cx="172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99360" y="1900080"/>
              <a:ext cx="190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1640" y="234324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2343240"/>
              <a:ext cx="500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tocols at this level transmit data in a network representation tha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5080" y="2532240"/>
              <a:ext cx="546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ndependent of the representations used in individual computers, which 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8680" y="2720880"/>
              <a:ext cx="434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iffer. Encryption is also performed in this layer, if 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23120" y="234324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cure Sock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25640" y="2532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83240" y="2532240"/>
              <a:ext cx="140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SL),CORBA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26000" y="27208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68600" y="2333520"/>
              <a:ext cx="172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99360" y="2333520"/>
              <a:ext cx="190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080" y="2946240"/>
              <a:ext cx="54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2946240"/>
              <a:ext cx="527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t this level reliability and adaptation are performed, such as detection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87680" y="3135240"/>
              <a:ext cx="230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ilures and automatic recover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68600" y="2938320"/>
              <a:ext cx="172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99360" y="2938320"/>
              <a:ext cx="190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2360" y="336240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80480" y="3362400"/>
              <a:ext cx="546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his is the lowest level at which messages (rather than packets) are handl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81560" y="3551400"/>
              <a:ext cx="506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ssages are addressed to communication ports attached to processe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6160" y="3738600"/>
              <a:ext cx="495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tocols in this layer may be connection-oriented or connectionles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26000" y="336240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C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23080" y="33624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8600" y="3352680"/>
              <a:ext cx="172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99360" y="3352680"/>
              <a:ext cx="190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800" y="396540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84080" y="3965400"/>
              <a:ext cx="540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ransfers data packets between computers in a specific network. In a W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74000" y="4154400"/>
              <a:ext cx="526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r an internetwork this involves the generation of a route passing thr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83720" y="4343400"/>
              <a:ext cx="338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outers. In a single LAN no routing is 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25640" y="39654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9720" y="3965400"/>
              <a:ext cx="90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TM virt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3480" y="4154400"/>
              <a:ext cx="52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ircu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68600" y="3956040"/>
              <a:ext cx="172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956040"/>
              <a:ext cx="190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3080" y="456876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8320" y="4568760"/>
              <a:ext cx="513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ponsible for transmission of packets between nodes that are direct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80840" y="4757760"/>
              <a:ext cx="521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nnected by a physical link. In a WAN transmission is between pair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79760" y="4946760"/>
              <a:ext cx="559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outers or between routers and hosts. In a LAN it is between any pair of hos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24560" y="4568760"/>
              <a:ext cx="110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thernet MAC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23840" y="4757760"/>
              <a:ext cx="133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TM cell transfe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24920" y="4946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8600" y="4560840"/>
              <a:ext cx="172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99360" y="4560840"/>
              <a:ext cx="190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2720" y="5173560"/>
              <a:ext cx="60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9040" y="5173560"/>
              <a:ext cx="534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he circuits and hardware that drive the network. It transmits sequence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2200" y="5361120"/>
              <a:ext cx="552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inary data by analogue signalling, using amplitude or frequency mod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73640" y="5549760"/>
              <a:ext cx="53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f electrical signals (on cable circuits), light signals (on fibre optic circuit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8680" y="5738760"/>
              <a:ext cx="481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r other electromagnetic signals (on radio and microwave circuits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21680" y="5173560"/>
              <a:ext cx="142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thernet base-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22040" y="5361120"/>
              <a:ext cx="79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gnalling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75240" y="536112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68600" y="5164200"/>
              <a:ext cx="17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99360" y="5164200"/>
              <a:ext cx="190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640" y="5977080"/>
              <a:ext cx="81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8880" y="1596960"/>
              <a:ext cx="81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960" y="1898640"/>
              <a:ext cx="81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ternetwork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9246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outing in a wide area networ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73400" y="1708200"/>
            <a:ext cx="6640200" cy="4143240"/>
            <a:chOff x="1373400" y="1708200"/>
            <a:chExt cx="6640200" cy="4143240"/>
          </a:xfrm>
        </p:grpSpPr>
        <p:sp>
          <p:nvSpPr>
            <p:cNvPr id="276" name=""/>
            <p:cNvSpPr/>
            <p:nvPr/>
          </p:nvSpPr>
          <p:spPr>
            <a:xfrm flipH="1" flipV="1">
              <a:off x="2990880" y="2868480"/>
              <a:ext cx="218880" cy="16020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59200" y="2868480"/>
              <a:ext cx="3547800" cy="879480"/>
            </a:xfrm>
            <a:custGeom>
              <a:avLst/>
              <a:gdLst/>
              <a:ahLst/>
              <a:rect l="l" t="t" r="r" b="b"/>
              <a:pathLst>
                <a:path w="2235" h="554">
                  <a:moveTo>
                    <a:pt x="0" y="0"/>
                  </a:moveTo>
                  <a:lnTo>
                    <a:pt x="1721" y="0"/>
                  </a:lnTo>
                  <a:lnTo>
                    <a:pt x="2235" y="554"/>
                  </a:lnTo>
                </a:path>
              </a:pathLst>
            </a:custGeom>
            <a:noFill/>
            <a:ln w="46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79880" y="4406760"/>
              <a:ext cx="207144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219640" y="2838600"/>
              <a:ext cx="471600" cy="16318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19640" y="3747600"/>
              <a:ext cx="1319400" cy="6908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79880" y="4438800"/>
              <a:ext cx="61920" cy="9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87960" y="4406760"/>
              <a:ext cx="63360" cy="9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59200" y="2209680"/>
              <a:ext cx="63360" cy="56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59560" y="2084400"/>
              <a:ext cx="633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07000" y="3654360"/>
              <a:ext cx="69084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671480" y="2084400"/>
              <a:ext cx="911520" cy="11620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41600" y="4187880"/>
              <a:ext cx="1066680" cy="12240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5597640" y="4563720"/>
              <a:ext cx="627120" cy="1573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445080" y="3998880"/>
              <a:ext cx="1800" cy="6285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02240" y="2681280"/>
              <a:ext cx="407880" cy="4399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22560" y="4219560"/>
              <a:ext cx="439920" cy="4381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62680" y="4219560"/>
              <a:ext cx="407880" cy="4381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3497400"/>
              <a:ext cx="439560" cy="43956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76600" y="1708200"/>
              <a:ext cx="56520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6600" y="1708200"/>
              <a:ext cx="596880" cy="59544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1640" y="2681280"/>
              <a:ext cx="438120" cy="4399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74480" y="3279600"/>
              <a:ext cx="65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o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45080" y="3405240"/>
              <a:ext cx="59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74840" y="3562200"/>
              <a:ext cx="89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lo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3400" y="3844800"/>
              <a:ext cx="102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30400" y="27464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39560" y="4282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0320" y="42829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01880" y="5097600"/>
              <a:ext cx="879480" cy="753840"/>
            </a:xfrm>
            <a:custGeom>
              <a:avLst/>
              <a:gdLst/>
              <a:ahLst/>
              <a:rect l="l" t="t" r="r" b="b"/>
              <a:pathLst>
                <a:path w="554" h="475">
                  <a:moveTo>
                    <a:pt x="20" y="119"/>
                  </a:moveTo>
                  <a:lnTo>
                    <a:pt x="40" y="79"/>
                  </a:lnTo>
                  <a:lnTo>
                    <a:pt x="60" y="59"/>
                  </a:lnTo>
                  <a:lnTo>
                    <a:pt x="99" y="40"/>
                  </a:lnTo>
                  <a:lnTo>
                    <a:pt x="119" y="40"/>
                  </a:lnTo>
                  <a:lnTo>
                    <a:pt x="139" y="40"/>
                  </a:lnTo>
                  <a:lnTo>
                    <a:pt x="178" y="40"/>
                  </a:lnTo>
                  <a:lnTo>
                    <a:pt x="218" y="40"/>
                  </a:lnTo>
                  <a:lnTo>
                    <a:pt x="257" y="40"/>
                  </a:lnTo>
                  <a:lnTo>
                    <a:pt x="297" y="40"/>
                  </a:lnTo>
                  <a:lnTo>
                    <a:pt x="317" y="20"/>
                  </a:lnTo>
                  <a:lnTo>
                    <a:pt x="337" y="20"/>
                  </a:lnTo>
                  <a:lnTo>
                    <a:pt x="376" y="0"/>
                  </a:lnTo>
                  <a:lnTo>
                    <a:pt x="396" y="0"/>
                  </a:lnTo>
                  <a:lnTo>
                    <a:pt x="435" y="0"/>
                  </a:lnTo>
                  <a:lnTo>
                    <a:pt x="455" y="20"/>
                  </a:lnTo>
                  <a:lnTo>
                    <a:pt x="475" y="40"/>
                  </a:lnTo>
                  <a:lnTo>
                    <a:pt x="495" y="40"/>
                  </a:lnTo>
                  <a:lnTo>
                    <a:pt x="515" y="79"/>
                  </a:lnTo>
                  <a:lnTo>
                    <a:pt x="554" y="158"/>
                  </a:lnTo>
                  <a:lnTo>
                    <a:pt x="554" y="237"/>
                  </a:lnTo>
                  <a:lnTo>
                    <a:pt x="554" y="297"/>
                  </a:lnTo>
                  <a:lnTo>
                    <a:pt x="554" y="336"/>
                  </a:lnTo>
                  <a:lnTo>
                    <a:pt x="534" y="415"/>
                  </a:lnTo>
                  <a:lnTo>
                    <a:pt x="515" y="455"/>
                  </a:lnTo>
                  <a:lnTo>
                    <a:pt x="475" y="475"/>
                  </a:lnTo>
                  <a:lnTo>
                    <a:pt x="435" y="475"/>
                  </a:lnTo>
                  <a:lnTo>
                    <a:pt x="396" y="455"/>
                  </a:lnTo>
                  <a:lnTo>
                    <a:pt x="356" y="455"/>
                  </a:lnTo>
                  <a:lnTo>
                    <a:pt x="317" y="435"/>
                  </a:lnTo>
                  <a:lnTo>
                    <a:pt x="277" y="435"/>
                  </a:lnTo>
                  <a:lnTo>
                    <a:pt x="238" y="435"/>
                  </a:lnTo>
                  <a:lnTo>
                    <a:pt x="218" y="455"/>
                  </a:lnTo>
                  <a:lnTo>
                    <a:pt x="198" y="455"/>
                  </a:lnTo>
                  <a:lnTo>
                    <a:pt x="159" y="455"/>
                  </a:lnTo>
                  <a:lnTo>
                    <a:pt x="139" y="475"/>
                  </a:lnTo>
                  <a:lnTo>
                    <a:pt x="119" y="475"/>
                  </a:lnTo>
                  <a:lnTo>
                    <a:pt x="79" y="475"/>
                  </a:lnTo>
                  <a:lnTo>
                    <a:pt x="79" y="455"/>
                  </a:lnTo>
                  <a:lnTo>
                    <a:pt x="60" y="435"/>
                  </a:lnTo>
                  <a:lnTo>
                    <a:pt x="40" y="435"/>
                  </a:lnTo>
                  <a:lnTo>
                    <a:pt x="40" y="415"/>
                  </a:lnTo>
                  <a:lnTo>
                    <a:pt x="20" y="376"/>
                  </a:lnTo>
                  <a:lnTo>
                    <a:pt x="20" y="317"/>
                  </a:lnTo>
                  <a:lnTo>
                    <a:pt x="0" y="277"/>
                  </a:lnTo>
                  <a:lnTo>
                    <a:pt x="0" y="237"/>
                  </a:lnTo>
                  <a:lnTo>
                    <a:pt x="0" y="198"/>
                  </a:lnTo>
                  <a:lnTo>
                    <a:pt x="20" y="139"/>
                  </a:lnTo>
                  <a:lnTo>
                    <a:pt x="20" y="119"/>
                  </a:lnTo>
                  <a:lnTo>
                    <a:pt x="20" y="119"/>
                  </a:lnTo>
                  <a:close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5920" y="3308400"/>
              <a:ext cx="877680" cy="753840"/>
            </a:xfrm>
            <a:custGeom>
              <a:avLst/>
              <a:gdLst/>
              <a:ahLst/>
              <a:rect l="l" t="t" r="r" b="b"/>
              <a:pathLst>
                <a:path w="553" h="475">
                  <a:moveTo>
                    <a:pt x="0" y="99"/>
                  </a:moveTo>
                  <a:lnTo>
                    <a:pt x="19" y="79"/>
                  </a:lnTo>
                  <a:lnTo>
                    <a:pt x="39" y="40"/>
                  </a:lnTo>
                  <a:lnTo>
                    <a:pt x="79" y="20"/>
                  </a:lnTo>
                  <a:lnTo>
                    <a:pt x="99" y="40"/>
                  </a:lnTo>
                  <a:lnTo>
                    <a:pt x="118" y="20"/>
                  </a:lnTo>
                  <a:lnTo>
                    <a:pt x="158" y="20"/>
                  </a:lnTo>
                  <a:lnTo>
                    <a:pt x="197" y="40"/>
                  </a:lnTo>
                  <a:lnTo>
                    <a:pt x="237" y="40"/>
                  </a:lnTo>
                  <a:lnTo>
                    <a:pt x="277" y="40"/>
                  </a:lnTo>
                  <a:lnTo>
                    <a:pt x="296" y="20"/>
                  </a:lnTo>
                  <a:lnTo>
                    <a:pt x="316" y="0"/>
                  </a:lnTo>
                  <a:lnTo>
                    <a:pt x="356" y="0"/>
                  </a:lnTo>
                  <a:lnTo>
                    <a:pt x="395" y="0"/>
                  </a:lnTo>
                  <a:lnTo>
                    <a:pt x="415" y="0"/>
                  </a:lnTo>
                  <a:lnTo>
                    <a:pt x="435" y="20"/>
                  </a:lnTo>
                  <a:lnTo>
                    <a:pt x="455" y="20"/>
                  </a:lnTo>
                  <a:lnTo>
                    <a:pt x="474" y="40"/>
                  </a:lnTo>
                  <a:lnTo>
                    <a:pt x="514" y="79"/>
                  </a:lnTo>
                  <a:lnTo>
                    <a:pt x="534" y="139"/>
                  </a:lnTo>
                  <a:lnTo>
                    <a:pt x="534" y="237"/>
                  </a:lnTo>
                  <a:lnTo>
                    <a:pt x="553" y="277"/>
                  </a:lnTo>
                  <a:lnTo>
                    <a:pt x="534" y="336"/>
                  </a:lnTo>
                  <a:lnTo>
                    <a:pt x="534" y="415"/>
                  </a:lnTo>
                  <a:lnTo>
                    <a:pt x="494" y="455"/>
                  </a:lnTo>
                  <a:lnTo>
                    <a:pt x="455" y="475"/>
                  </a:lnTo>
                  <a:lnTo>
                    <a:pt x="415" y="455"/>
                  </a:lnTo>
                  <a:lnTo>
                    <a:pt x="375" y="455"/>
                  </a:lnTo>
                  <a:lnTo>
                    <a:pt x="336" y="455"/>
                  </a:lnTo>
                  <a:lnTo>
                    <a:pt x="296" y="435"/>
                  </a:lnTo>
                  <a:lnTo>
                    <a:pt x="277" y="435"/>
                  </a:lnTo>
                  <a:lnTo>
                    <a:pt x="237" y="435"/>
                  </a:lnTo>
                  <a:lnTo>
                    <a:pt x="197" y="435"/>
                  </a:lnTo>
                  <a:lnTo>
                    <a:pt x="178" y="455"/>
                  </a:lnTo>
                  <a:lnTo>
                    <a:pt x="158" y="455"/>
                  </a:lnTo>
                  <a:lnTo>
                    <a:pt x="118" y="455"/>
                  </a:lnTo>
                  <a:lnTo>
                    <a:pt x="99" y="455"/>
                  </a:lnTo>
                  <a:lnTo>
                    <a:pt x="79" y="455"/>
                  </a:lnTo>
                  <a:lnTo>
                    <a:pt x="59" y="455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19" y="415"/>
                  </a:lnTo>
                  <a:lnTo>
                    <a:pt x="19" y="376"/>
                  </a:lnTo>
                  <a:lnTo>
                    <a:pt x="0" y="317"/>
                  </a:lnTo>
                  <a:lnTo>
                    <a:pt x="0" y="277"/>
                  </a:lnTo>
                  <a:lnTo>
                    <a:pt x="0" y="237"/>
                  </a:lnTo>
                  <a:lnTo>
                    <a:pt x="0" y="178"/>
                  </a:lnTo>
                  <a:lnTo>
                    <a:pt x="0" y="13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11760" y="5065560"/>
              <a:ext cx="879480" cy="785880"/>
            </a:xfrm>
            <a:custGeom>
              <a:avLst/>
              <a:gdLst/>
              <a:ahLst/>
              <a:rect l="l" t="t" r="r" b="b"/>
              <a:pathLst>
                <a:path w="554" h="495">
                  <a:moveTo>
                    <a:pt x="20" y="119"/>
                  </a:moveTo>
                  <a:lnTo>
                    <a:pt x="40" y="99"/>
                  </a:lnTo>
                  <a:lnTo>
                    <a:pt x="59" y="60"/>
                  </a:lnTo>
                  <a:lnTo>
                    <a:pt x="99" y="40"/>
                  </a:lnTo>
                  <a:lnTo>
                    <a:pt x="119" y="40"/>
                  </a:lnTo>
                  <a:lnTo>
                    <a:pt x="139" y="40"/>
                  </a:lnTo>
                  <a:lnTo>
                    <a:pt x="178" y="40"/>
                  </a:lnTo>
                  <a:lnTo>
                    <a:pt x="218" y="40"/>
                  </a:lnTo>
                  <a:lnTo>
                    <a:pt x="257" y="60"/>
                  </a:lnTo>
                  <a:lnTo>
                    <a:pt x="297" y="60"/>
                  </a:lnTo>
                  <a:lnTo>
                    <a:pt x="317" y="40"/>
                  </a:lnTo>
                  <a:lnTo>
                    <a:pt x="336" y="20"/>
                  </a:lnTo>
                  <a:lnTo>
                    <a:pt x="376" y="0"/>
                  </a:lnTo>
                  <a:lnTo>
                    <a:pt x="396" y="0"/>
                  </a:lnTo>
                  <a:lnTo>
                    <a:pt x="435" y="20"/>
                  </a:lnTo>
                  <a:lnTo>
                    <a:pt x="455" y="20"/>
                  </a:lnTo>
                  <a:lnTo>
                    <a:pt x="475" y="40"/>
                  </a:lnTo>
                  <a:lnTo>
                    <a:pt x="495" y="60"/>
                  </a:lnTo>
                  <a:lnTo>
                    <a:pt x="514" y="99"/>
                  </a:lnTo>
                  <a:lnTo>
                    <a:pt x="554" y="159"/>
                  </a:lnTo>
                  <a:lnTo>
                    <a:pt x="554" y="238"/>
                  </a:lnTo>
                  <a:lnTo>
                    <a:pt x="554" y="297"/>
                  </a:lnTo>
                  <a:lnTo>
                    <a:pt x="554" y="356"/>
                  </a:lnTo>
                  <a:lnTo>
                    <a:pt x="534" y="435"/>
                  </a:lnTo>
                  <a:lnTo>
                    <a:pt x="514" y="475"/>
                  </a:lnTo>
                  <a:lnTo>
                    <a:pt x="475" y="495"/>
                  </a:lnTo>
                  <a:lnTo>
                    <a:pt x="435" y="475"/>
                  </a:lnTo>
                  <a:lnTo>
                    <a:pt x="396" y="475"/>
                  </a:lnTo>
                  <a:lnTo>
                    <a:pt x="356" y="455"/>
                  </a:lnTo>
                  <a:lnTo>
                    <a:pt x="317" y="455"/>
                  </a:lnTo>
                  <a:lnTo>
                    <a:pt x="277" y="455"/>
                  </a:lnTo>
                  <a:lnTo>
                    <a:pt x="237" y="455"/>
                  </a:lnTo>
                  <a:lnTo>
                    <a:pt x="218" y="455"/>
                  </a:lnTo>
                  <a:lnTo>
                    <a:pt x="198" y="455"/>
                  </a:lnTo>
                  <a:lnTo>
                    <a:pt x="158" y="475"/>
                  </a:lnTo>
                  <a:lnTo>
                    <a:pt x="139" y="475"/>
                  </a:lnTo>
                  <a:lnTo>
                    <a:pt x="119" y="475"/>
                  </a:lnTo>
                  <a:lnTo>
                    <a:pt x="79" y="475"/>
                  </a:lnTo>
                  <a:lnTo>
                    <a:pt x="79" y="455"/>
                  </a:lnTo>
                  <a:lnTo>
                    <a:pt x="59" y="455"/>
                  </a:lnTo>
                  <a:lnTo>
                    <a:pt x="40" y="435"/>
                  </a:lnTo>
                  <a:lnTo>
                    <a:pt x="40" y="416"/>
                  </a:lnTo>
                  <a:lnTo>
                    <a:pt x="20" y="376"/>
                  </a:lnTo>
                  <a:lnTo>
                    <a:pt x="20" y="337"/>
                  </a:lnTo>
                  <a:lnTo>
                    <a:pt x="0" y="277"/>
                  </a:lnTo>
                  <a:lnTo>
                    <a:pt x="0" y="238"/>
                  </a:lnTo>
                  <a:lnTo>
                    <a:pt x="0" y="198"/>
                  </a:lnTo>
                  <a:lnTo>
                    <a:pt x="20" y="139"/>
                  </a:lnTo>
                  <a:lnTo>
                    <a:pt x="20" y="119"/>
                  </a:lnTo>
                  <a:lnTo>
                    <a:pt x="20" y="119"/>
                  </a:lnTo>
                  <a:close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76960" y="1708200"/>
              <a:ext cx="56520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6960" y="1708200"/>
              <a:ext cx="596880" cy="59544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0760" y="27464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5120" y="35924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21280" y="2711520"/>
              <a:ext cx="345960" cy="34596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19200" y="2746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10120" y="3121200"/>
              <a:ext cx="346320" cy="37620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19200" y="3154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22920" y="3936960"/>
              <a:ext cx="344520" cy="34452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32000" y="3970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51320" y="3465360"/>
              <a:ext cx="376200" cy="34632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70120" y="3498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27520" y="3497400"/>
              <a:ext cx="345960" cy="37620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6880" y="3530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57560" y="4249800"/>
              <a:ext cx="378000" cy="34596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77800" y="4282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3080" y="4729320"/>
              <a:ext cx="89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3179520" y="3402000"/>
              <a:ext cx="439560" cy="633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838680" y="2963520"/>
              <a:ext cx="1440" cy="4078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outing tables for the network in Figure 3.7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485928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14840" y="485928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485928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13480" y="485928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6360" y="61038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4840" y="61038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1038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13480" y="61038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085840" y="4249800"/>
            <a:ext cx="5226120" cy="1873080"/>
            <a:chOff x="2085840" y="4249800"/>
            <a:chExt cx="5226120" cy="1873080"/>
          </a:xfrm>
        </p:grpSpPr>
        <p:sp>
          <p:nvSpPr>
            <p:cNvPr id="336" name=""/>
            <p:cNvSpPr/>
            <p:nvPr/>
          </p:nvSpPr>
          <p:spPr>
            <a:xfrm>
              <a:off x="2568960" y="4280040"/>
              <a:ext cx="152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outings from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67240" y="4280040"/>
              <a:ext cx="15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outings from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14520" y="460368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25520" y="46036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25440" y="46036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13520" y="460368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24160" y="46036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24440" y="46036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09560" y="487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04880" y="5114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15680" y="5359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09560" y="5603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11000" y="5848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3468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3468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468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68720" y="5603760"/>
              <a:ext cx="44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34680" y="584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3496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3496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3496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34960" y="560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34960" y="584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08560" y="487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03520" y="5114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14680" y="5359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08560" y="5603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09640" y="5848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3368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3368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3368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33680" y="560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67720" y="5848200"/>
              <a:ext cx="44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60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360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3360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3600" y="560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33600" y="584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04920" y="424980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10040" y="425304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95560" y="485928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00680" y="486252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85840" y="610704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90960" y="611028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2120" y="1719360"/>
            <a:ext cx="8259840" cy="1951560"/>
            <a:chOff x="492120" y="1719360"/>
            <a:chExt cx="8259840" cy="1951560"/>
          </a:xfrm>
        </p:grpSpPr>
        <p:sp>
          <p:nvSpPr>
            <p:cNvPr id="381" name=""/>
            <p:cNvSpPr/>
            <p:nvPr/>
          </p:nvSpPr>
          <p:spPr>
            <a:xfrm>
              <a:off x="808200" y="1730160"/>
              <a:ext cx="1581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outings from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36800" y="1730160"/>
              <a:ext cx="1581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outings from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64320" y="173016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outings from 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6200" y="207792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88880" y="207792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25520" y="2077920"/>
              <a:ext cx="44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73360" y="207792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17840" y="207792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54480" y="2077920"/>
              <a:ext cx="44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02320" y="207792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45360" y="207792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82000" y="2077920"/>
              <a:ext cx="44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2280" y="23587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1920" y="26143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1920" y="2869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2280" y="31255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1920" y="3381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88160" y="235872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5268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5268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268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5268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932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8932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8932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8932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8932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19440" y="23587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19440" y="26143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19440" y="2869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19440" y="31255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19080" y="3381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7984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17120" y="261432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7984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984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7984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31648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1648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1648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1648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1648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48400" y="23587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48040" y="26143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48040" y="2869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48400" y="31255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48040" y="3381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0736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0736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44280" y="286992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0736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0736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4400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4400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24400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24400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4400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92120" y="1738080"/>
              <a:ext cx="2401920" cy="1918800"/>
              <a:chOff x="492120" y="1738080"/>
              <a:chExt cx="2401920" cy="1918800"/>
            </a:xfrm>
          </p:grpSpPr>
          <p:sp>
            <p:nvSpPr>
              <p:cNvPr id="439" name=""/>
              <p:cNvSpPr/>
              <p:nvPr/>
            </p:nvSpPr>
            <p:spPr>
              <a:xfrm>
                <a:off x="492120" y="173808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92120" y="234720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2120" y="365688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421080" y="1728720"/>
              <a:ext cx="2401920" cy="1918800"/>
              <a:chOff x="3421080" y="1728720"/>
              <a:chExt cx="2401920" cy="1918800"/>
            </a:xfrm>
          </p:grpSpPr>
          <p:sp>
            <p:nvSpPr>
              <p:cNvPr id="443" name=""/>
              <p:cNvSpPr/>
              <p:nvPr/>
            </p:nvSpPr>
            <p:spPr>
              <a:xfrm>
                <a:off x="3421080" y="172872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21080" y="233784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21080" y="364752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350040" y="1719360"/>
              <a:ext cx="2401920" cy="1918800"/>
              <a:chOff x="6350040" y="1719360"/>
              <a:chExt cx="2401920" cy="1918800"/>
            </a:xfrm>
          </p:grpSpPr>
          <p:sp>
            <p:nvSpPr>
              <p:cNvPr id="447" name=""/>
              <p:cNvSpPr/>
              <p:nvPr/>
            </p:nvSpPr>
            <p:spPr>
              <a:xfrm>
                <a:off x="6350040" y="171936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50040" y="232848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50040" y="363816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2T23:34:53Z</dcterms:created>
  <dc:creator>George Coulouris</dc:creator>
  <dc:description/>
  <dc:language>en-US</dc:language>
  <cp:lastModifiedBy>George Coulouris</cp:lastModifiedBy>
  <dcterms:modified xsi:type="dcterms:W3CDTF">2005-05-07T16:40:29Z</dcterms:modified>
  <cp:revision>51</cp:revision>
  <dc:subject/>
  <dc:title> Slides for Chapter 3:  Networking and Internetworking</dc:title>
</cp:coreProperties>
</file>