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8A5-5F04-4C66-9763-BDAE7532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C60-555D-4FB4-A074-DF2A3AF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9EF-756F-4855-B2DA-DCC06CBC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FCF-474B-42BF-A237-B518A580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C59-C255-416F-9D90-DB12511A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DBD3-3CD3-438B-B967-E3A8855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D1C9-A2B0-495D-9BA7-D9CD1108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166-B39F-40FF-A5DB-BBA8BEA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4C8-5896-4990-BF54-AD7195D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9DDA-18F5-4A5B-BC2D-02862E13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A9C-1704-4C67-8A92-16AF9AF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B35-3E58-40D0-96AB-874D0B7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1417-31F9-48C3-AC7B-853E77C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0C2-431E-4129-A817-7DE43F5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FB1D-79B0-42FF-9D39-363EC51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7055-8B55-4095-8CD2-200A11B6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859A-EC2D-4855-A23F-AB014FDF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410-A694-49F1-8EF8-C7DFF3C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6E9-13B6-4AE4-8C12-9DB85C6A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505-5398-4F47-B7DE-FD354EA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98D-51AF-4499-85E3-ADEEDEC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ECA-49FE-4C4E-AD43-28E51BC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CA0-0CAD-44C9-8692-AC0BE5E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CFA-984E-4626-8BA0-60B4EC3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4D1-E657-4E46-957A-852BBF1526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BF6-3DE8-4429-9676-F38BF1A5AE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5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istributed objects and remote invo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7720" y="2801880"/>
            <a:ext cx="2035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s interface in Sun XD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4600" y="1386000"/>
            <a:ext cx="275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 MAX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Identifi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Dat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buffer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write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44800" y="2178000"/>
            <a:ext cx="3966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read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ength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ogram FILEREADWRI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 VERS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WRITE(writeargs)=1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READ(readargs)=2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= 99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41800" y="1459080"/>
            <a:ext cx="0" cy="45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ling room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497600" y="1373040"/>
            <a:ext cx="6795360" cy="4610160"/>
            <a:chOff x="1497600" y="1373040"/>
            <a:chExt cx="6795360" cy="4610160"/>
          </a:xfrm>
        </p:grpSpPr>
        <p:sp>
          <p:nvSpPr>
            <p:cNvPr id="364" name=""/>
            <p:cNvSpPr/>
            <p:nvPr/>
          </p:nvSpPr>
          <p:spPr>
            <a:xfrm>
              <a:off x="4113360" y="176832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3360" y="391644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916440"/>
              <a:ext cx="1706400" cy="161136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46560" y="3992400"/>
              <a:ext cx="1400040" cy="140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62880" y="4184640"/>
              <a:ext cx="163008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9280" y="4184640"/>
              <a:ext cx="163044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9280" y="1633680"/>
              <a:ext cx="161136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6560" y="1863720"/>
              <a:ext cx="1400040" cy="1400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45240" y="1633680"/>
              <a:ext cx="163044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8804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71120" y="45054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0720" y="46782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7068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83600" y="19368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42000" y="5067360"/>
              <a:ext cx="75960" cy="1540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24" y="97"/>
                  </a:moveTo>
                  <a:lnTo>
                    <a:pt x="0" y="97"/>
                  </a:lnTo>
                  <a:lnTo>
                    <a:pt x="24" y="0"/>
                  </a:lnTo>
                  <a:lnTo>
                    <a:pt x="48" y="97"/>
                  </a:lnTo>
                  <a:lnTo>
                    <a:pt x="24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9800" y="5221440"/>
              <a:ext cx="1800" cy="67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9800" y="1960560"/>
              <a:ext cx="7632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48" y="0"/>
                  </a:lnTo>
                  <a:lnTo>
                    <a:pt x="24" y="60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917960" y="14065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28760" y="559260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8040" y="578484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23800" y="13730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3080" y="156528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79000" y="24732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77440" y="26463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840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98880" y="19494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92440" y="4414680"/>
              <a:ext cx="1322280" cy="1229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1880" y="5070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18400" y="4338720"/>
              <a:ext cx="1322280" cy="122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72360" y="53182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8824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97960" y="25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984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33080" y="26226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07320" y="48499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9560" y="50022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58280" y="42037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78680" y="34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6016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53760" y="3951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7600" y="3897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55680" y="2093760"/>
              <a:ext cx="268560" cy="38448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0911">
                  <a:moveTo>
                    <a:pt x="6518" y="0"/>
                  </a:moveTo>
                  <a:arcTo wR="6518" hR="6518" stAng="16200000" swAng="-5400000"/>
                  <a:lnTo>
                    <a:pt x="0" y="24393"/>
                  </a:lnTo>
                  <a:arcTo wR="6518" hR="6518" stAng="10800000" swAng="-5400000"/>
                  <a:lnTo>
                    <a:pt x="15082" y="30911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74760" y="20937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74760" y="2093760"/>
              <a:ext cx="2700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5680" y="2286000"/>
              <a:ext cx="268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000" y="2401920"/>
              <a:ext cx="249120" cy="3826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3164">
                  <a:moveTo>
                    <a:pt x="7017" y="0"/>
                  </a:moveTo>
                  <a:arcTo wR="7017" hR="7017" stAng="16200000" swAng="-5400000"/>
                  <a:lnTo>
                    <a:pt x="0" y="26147"/>
                  </a:lnTo>
                  <a:arcTo wR="7017" hR="7017" stAng="10800000" swAng="-5400000"/>
                  <a:lnTo>
                    <a:pt x="14583" y="33164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2000" y="2401920"/>
              <a:ext cx="24912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02000" y="24019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02000" y="259236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6600" y="27655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5680" y="27655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65680" y="27655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6600" y="29574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236232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62480" y="23623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62480" y="23623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62480" y="2554200"/>
              <a:ext cx="249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880" y="19987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2960" y="19987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52960" y="19987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33880" y="21906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92960" y="4452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12" y="12"/>
                  </a:moveTo>
                  <a:lnTo>
                    <a:pt x="24" y="0"/>
                  </a:lnTo>
                  <a:lnTo>
                    <a:pt x="73" y="61"/>
                  </a:lnTo>
                  <a:lnTo>
                    <a:pt x="0" y="37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7040" y="2919240"/>
              <a:ext cx="2475000" cy="15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27440" y="4492800"/>
              <a:ext cx="115920" cy="9504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61" y="12"/>
                  </a:moveTo>
                  <a:lnTo>
                    <a:pt x="73" y="36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924280" y="2919240"/>
              <a:ext cx="189864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0200" y="249696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904840" y="2459160"/>
              <a:ext cx="1571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12040" y="261288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0" y="24"/>
                  </a:moveTo>
                  <a:lnTo>
                    <a:pt x="0" y="0"/>
                  </a:lnTo>
                  <a:lnTo>
                    <a:pt x="73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60840" y="2428920"/>
              <a:ext cx="283212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09760" y="454968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60" y="12"/>
                  </a:moveTo>
                  <a:lnTo>
                    <a:pt x="72" y="24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405160" y="2516040"/>
              <a:ext cx="2071440" cy="20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4760" y="2152800"/>
              <a:ext cx="11412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577960" y="2093760"/>
              <a:ext cx="253224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24760" y="2171880"/>
              <a:ext cx="133200" cy="5688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3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26120" y="2093760"/>
              <a:ext cx="18986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57960" y="2131920"/>
              <a:ext cx="270000" cy="384120"/>
            </a:xfrm>
            <a:custGeom>
              <a:avLst/>
              <a:gdLst>
                <a:gd name="textAreaLeft" fmla="*/ 23400 w 270000"/>
                <a:gd name="textAreaRight" fmla="*/ 246600 w 2700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717">
                  <a:moveTo>
                    <a:pt x="6480" y="0"/>
                  </a:moveTo>
                  <a:arcTo wR="6480" hR="6480" stAng="16200000" swAng="-5400000"/>
                  <a:lnTo>
                    <a:pt x="0" y="24237"/>
                  </a:lnTo>
                  <a:arcTo wR="6480" hR="6480" stAng="10800000" swAng="-5400000"/>
                  <a:lnTo>
                    <a:pt x="15120" y="30717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57960" y="2131920"/>
              <a:ext cx="27000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7960" y="2131920"/>
              <a:ext cx="28908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7960" y="2324160"/>
              <a:ext cx="27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7960" y="245916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7040" y="245916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7040" y="245916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7960" y="265104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08880" y="4433760"/>
              <a:ext cx="249120" cy="3844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480"/>
                <a:gd name="textAreaBottom" fmla="*/ 361080 h 384480"/>
              </a:gdLst>
              <a:ahLst/>
              <a:rect l="textAreaLeft" t="textAreaTop" r="textAreaRight" b="textAreaBottom"/>
              <a:pathLst>
                <a:path w="21600" h="33319">
                  <a:moveTo>
                    <a:pt x="7017" y="0"/>
                  </a:moveTo>
                  <a:arcTo wR="7017" hR="7017" stAng="16200000" swAng="-5400000"/>
                  <a:lnTo>
                    <a:pt x="0" y="26302"/>
                  </a:lnTo>
                  <a:arcTo wR="7017" hR="7017" stAng="10800000" swAng="-5400000"/>
                  <a:lnTo>
                    <a:pt x="14583" y="33319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08880" y="443376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08880" y="443376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8880" y="462600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4530600"/>
              <a:ext cx="249120" cy="40176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4816">
                  <a:moveTo>
                    <a:pt x="7017" y="0"/>
                  </a:moveTo>
                  <a:arcTo wR="7017" hR="7017" stAng="16200000" swAng="-5400000"/>
                  <a:lnTo>
                    <a:pt x="0" y="27799"/>
                  </a:lnTo>
                  <a:arcTo wR="7017" hR="7017" stAng="10800000" swAng="-5400000"/>
                  <a:lnTo>
                    <a:pt x="14583" y="34816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454968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86600" y="454968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6600" y="474192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1120" y="491328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0200" y="493236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0200" y="493236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31120" y="512460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6080" y="4070520"/>
              <a:ext cx="250560" cy="382320"/>
            </a:xfrm>
            <a:custGeom>
              <a:avLst/>
              <a:gdLst>
                <a:gd name="textAreaLeft" fmla="*/ 23400 w 250560"/>
                <a:gd name="textAreaRight" fmla="*/ 227160 w 250560"/>
                <a:gd name="textAreaTop" fmla="*/ 23400 h 382320"/>
                <a:gd name="textAreaBottom" fmla="*/ 358920 h 382320"/>
              </a:gdLst>
              <a:ahLst/>
              <a:rect l="textAreaLeft" t="textAreaTop" r="textAreaRight" b="textAreaBottom"/>
              <a:pathLst>
                <a:path w="21600" h="32942">
                  <a:moveTo>
                    <a:pt x="6972" y="0"/>
                  </a:moveTo>
                  <a:arcTo wR="6972" hR="6972" stAng="16200000" swAng="-5400000"/>
                  <a:lnTo>
                    <a:pt x="0" y="25970"/>
                  </a:lnTo>
                  <a:arcTo wR="6972" hR="6972" stAng="10800000" swAng="-5400000"/>
                  <a:lnTo>
                    <a:pt x="14628" y="32942"/>
                  </a:lnTo>
                  <a:arcTo wR="6972" hR="6972" stAng="5400000" swAng="-5400000"/>
                  <a:lnTo>
                    <a:pt x="21600" y="6972"/>
                  </a:lnTo>
                  <a:arcTo wR="6972" hR="697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26080" y="4070520"/>
              <a:ext cx="25056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26080" y="4070520"/>
              <a:ext cx="26964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6080" y="4262400"/>
              <a:ext cx="250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95720" y="4836960"/>
              <a:ext cx="249480" cy="384480"/>
            </a:xfrm>
            <a:custGeom>
              <a:avLst/>
              <a:gdLst>
                <a:gd name="textAreaLeft" fmla="*/ 23760 w 249480"/>
                <a:gd name="textAreaRight" fmla="*/ 225720 w 24948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3271">
                  <a:moveTo>
                    <a:pt x="7017" y="0"/>
                  </a:moveTo>
                  <a:arcTo wR="7017" hR="7017" stAng="16200000" swAng="-5400000"/>
                  <a:lnTo>
                    <a:pt x="0" y="26254"/>
                  </a:lnTo>
                  <a:arcTo wR="7017" hR="7017" stAng="10800000" swAng="-5400000"/>
                  <a:lnTo>
                    <a:pt x="14583" y="33271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95720" y="48369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95720" y="483696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95720" y="5029200"/>
              <a:ext cx="24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97560" y="5010120"/>
              <a:ext cx="133560" cy="7632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48360" y="4952880"/>
              <a:ext cx="2149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51120" y="5086440"/>
              <a:ext cx="11448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883960" y="4991040"/>
              <a:ext cx="21495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2520" y="4606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12" y="24"/>
                  </a:moveTo>
                  <a:lnTo>
                    <a:pt x="12" y="0"/>
                  </a:lnTo>
                  <a:lnTo>
                    <a:pt x="85" y="36"/>
                  </a:lnTo>
                  <a:lnTo>
                    <a:pt x="0" y="4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17960" y="4222800"/>
              <a:ext cx="201456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82920" y="5010120"/>
              <a:ext cx="249120" cy="40320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4940">
                  <a:moveTo>
                    <a:pt x="7017" y="0"/>
                  </a:moveTo>
                  <a:arcTo wR="7017" hR="7017" stAng="16200000" swAng="-5400000"/>
                  <a:lnTo>
                    <a:pt x="0" y="27923"/>
                  </a:lnTo>
                  <a:arcTo wR="7017" hR="7017" stAng="10800000" swAng="-5400000"/>
                  <a:lnTo>
                    <a:pt x="14583" y="34940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82920" y="502920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920" y="502920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82920" y="522144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40160" y="4530600"/>
              <a:ext cx="268200" cy="3826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0808">
                  <a:moveTo>
                    <a:pt x="6518" y="0"/>
                  </a:moveTo>
                  <a:arcTo wR="6518" hR="6518" stAng="16200000" swAng="-5400000"/>
                  <a:lnTo>
                    <a:pt x="0" y="24290"/>
                  </a:lnTo>
                  <a:arcTo wR="6518" hR="6518" stAng="10800000" swAng="-5400000"/>
                  <a:lnTo>
                    <a:pt x="15082" y="3080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58880" y="453060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58880" y="453060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40160" y="472284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60640" y="458784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60640" y="458784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0640" y="458784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60640" y="478008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97800" y="36561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21880" y="35416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rchitecture for distributed event notif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23240" y="1488960"/>
            <a:ext cx="8081280" cy="3834000"/>
            <a:chOff x="723240" y="1488960"/>
            <a:chExt cx="8081280" cy="3834000"/>
          </a:xfrm>
        </p:grpSpPr>
        <p:sp>
          <p:nvSpPr>
            <p:cNvPr id="519" name=""/>
            <p:cNvSpPr/>
            <p:nvPr/>
          </p:nvSpPr>
          <p:spPr>
            <a:xfrm>
              <a:off x="795492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4959360" y="3484440"/>
              <a:ext cx="303048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05520" y="416880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1920" y="416880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3240" y="416880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9236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5420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65" y="65"/>
                  </a:lnTo>
                  <a:lnTo>
                    <a:pt x="0" y="32"/>
                  </a:lnTo>
                  <a:lnTo>
                    <a:pt x="65" y="0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782360" y="4622760"/>
              <a:ext cx="170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9096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3103200" y="3484440"/>
              <a:ext cx="178740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6540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540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65400" y="4467240"/>
              <a:ext cx="36180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540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02520" y="3354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2808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28080" y="3354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02520" y="3613320"/>
              <a:ext cx="362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2124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2124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21240" y="4467240"/>
              <a:ext cx="36324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2124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19840" y="3354480"/>
              <a:ext cx="336240" cy="5173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220">
                  <a:moveTo>
                    <a:pt x="7030" y="0"/>
                  </a:moveTo>
                  <a:arcTo wR="7030" hR="7030" stAng="16200000" swAng="-5400000"/>
                  <a:lnTo>
                    <a:pt x="0" y="26190"/>
                  </a:lnTo>
                  <a:arcTo wR="7030" hR="7030" stAng="10800000" swAng="-5400000"/>
                  <a:lnTo>
                    <a:pt x="14570" y="33220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9840" y="335448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19840" y="3354480"/>
              <a:ext cx="36324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19840" y="361332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48040" y="3354480"/>
              <a:ext cx="336600" cy="517320"/>
            </a:xfrm>
            <a:custGeom>
              <a:avLst/>
              <a:gdLst>
                <a:gd name="textAreaLeft" fmla="*/ 32040 w 336600"/>
                <a:gd name="textAreaRight" fmla="*/ 304560 w 33660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185">
                  <a:moveTo>
                    <a:pt x="7030" y="0"/>
                  </a:moveTo>
                  <a:arcTo wR="7030" hR="7030" stAng="16200000" swAng="-5400000"/>
                  <a:lnTo>
                    <a:pt x="0" y="26155"/>
                  </a:lnTo>
                  <a:arcTo wR="7030" hR="7030" stAng="10800000" swAng="-5400000"/>
                  <a:lnTo>
                    <a:pt x="14570" y="33185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4804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48040" y="3354480"/>
              <a:ext cx="3636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8040" y="3613320"/>
              <a:ext cx="336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52600" y="1488960"/>
              <a:ext cx="3703680" cy="3834000"/>
            </a:xfrm>
            <a:custGeom>
              <a:avLst/>
              <a:gdLst>
                <a:gd name="textAreaLeft" fmla="*/ 138240 w 3703680"/>
                <a:gd name="textAreaRight" fmla="*/ 3565440 w 3703680"/>
                <a:gd name="textAreaTop" fmla="*/ 138240 h 3834000"/>
                <a:gd name="textAreaBottom" fmla="*/ 3695760 h 3834000"/>
              </a:gdLst>
              <a:ahLst/>
              <a:rect l="textAreaLeft" t="textAreaTop" r="textAreaRight" b="textAreaBottom"/>
              <a:pathLst>
                <a:path w="21600" h="22360">
                  <a:moveTo>
                    <a:pt x="2754" y="0"/>
                  </a:moveTo>
                  <a:arcTo wR="2754" hR="2754" stAng="16200000" swAng="-5400000"/>
                  <a:lnTo>
                    <a:pt x="0" y="19606"/>
                  </a:lnTo>
                  <a:arcTo wR="2754" hR="2754" stAng="10800000" swAng="-5400000"/>
                  <a:lnTo>
                    <a:pt x="18846" y="22360"/>
                  </a:lnTo>
                  <a:arcTo wR="2754" hR="2754" stAng="5400000" swAng="-5400000"/>
                  <a:lnTo>
                    <a:pt x="21600" y="2754"/>
                  </a:lnTo>
                  <a:arcTo wR="2754" hR="275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16320" y="163044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vent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21240" y="2292480"/>
              <a:ext cx="363240" cy="517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753">
                  <a:moveTo>
                    <a:pt x="6508" y="0"/>
                  </a:moveTo>
                  <a:arcTo wR="6508" hR="6508" stAng="16200000" swAng="-5400000"/>
                  <a:lnTo>
                    <a:pt x="0" y="24245"/>
                  </a:lnTo>
                  <a:arcTo wR="6508" hR="6508" stAng="10800000" swAng="-5400000"/>
                  <a:lnTo>
                    <a:pt x="15092" y="307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48240" y="2292480"/>
              <a:ext cx="3362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4824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21240" y="2550960"/>
              <a:ext cx="363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98080" y="2019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2600" y="3081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58120" y="3081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77160" y="242100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017600" y="2473200"/>
              <a:ext cx="389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24760" y="2292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50320" y="2292480"/>
              <a:ext cx="3366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5032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24760" y="2550960"/>
              <a:ext cx="362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45560" y="457200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2"/>
                  </a:moveTo>
                  <a:lnTo>
                    <a:pt x="0" y="0"/>
                  </a:lnTo>
                  <a:lnTo>
                    <a:pt x="49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984480" y="4622760"/>
              <a:ext cx="3988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5032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50320" y="4494240"/>
              <a:ext cx="3618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50320" y="4494240"/>
              <a:ext cx="388800" cy="258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50320" y="4726080"/>
              <a:ext cx="36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31000" y="194148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05520" y="308124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320" y="468792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17160" y="2486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80760" y="3521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65520" y="3598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48240" y="4687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48240" y="357336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48240" y="2563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95600" y="1638360"/>
            <a:ext cx="8562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raphicalObject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List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GraphicalObject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Naming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 of Java RMIregi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6200" y="1368360"/>
            <a:ext cx="858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re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a server to register the identifier of a remote object by name, as shown in  Figure 15.13, line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can alternatively be used by a server to register a remote object by name, but if the name is already bound to a remote object reference an exception is th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un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moves a bi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mote lookup(String name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clients to look up a remote object by name, as shown in Figure 15.15  line 1. A remote object reference is retu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ing [] list(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turns an array of Strings containing the names bound in the regi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42320" y="1827360"/>
            <a:ext cx="85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4320" y="1500120"/>
            <a:ext cx="94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63000" y="1415880"/>
            <a:ext cx="8538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asses supporting Java RM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969920" y="1830240"/>
            <a:ext cx="6727320" cy="3862800"/>
            <a:chOff x="1969920" y="1830240"/>
            <a:chExt cx="6727320" cy="3862800"/>
          </a:xfrm>
        </p:grpSpPr>
        <p:sp>
          <p:nvSpPr>
            <p:cNvPr id="607" name=""/>
            <p:cNvSpPr/>
            <p:nvPr/>
          </p:nvSpPr>
          <p:spPr>
            <a:xfrm>
              <a:off x="3896640" y="2920680"/>
              <a:ext cx="2210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Serv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82880" y="4095360"/>
              <a:ext cx="3336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UnicastRemoteObjec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41520" y="3380760"/>
              <a:ext cx="72360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91720" y="5281200"/>
              <a:ext cx="2405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&lt;servant class&gt;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69920" y="4113000"/>
              <a:ext cx="168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Activatabl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76840" y="1830240"/>
              <a:ext cx="228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Object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4406760" y="227124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259240" y="3337920"/>
              <a:ext cx="46944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324480" y="457308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996920"/>
            <a:ext cx="8148600" cy="3005280"/>
            <a:chOff x="685800" y="1996920"/>
            <a:chExt cx="8148600" cy="3005280"/>
          </a:xfrm>
        </p:grpSpPr>
        <p:sp>
          <p:nvSpPr>
            <p:cNvPr id="89" name=""/>
            <p:cNvSpPr/>
            <p:nvPr/>
          </p:nvSpPr>
          <p:spPr>
            <a:xfrm>
              <a:off x="7010640" y="2655720"/>
              <a:ext cx="372960" cy="177336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4600" y="2025720"/>
              <a:ext cx="6581520" cy="2948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1996920"/>
              <a:ext cx="6639120" cy="300528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600" y="3313080"/>
              <a:ext cx="6581520" cy="10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284640"/>
              <a:ext cx="6639120" cy="111600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5520" y="22114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9440" y="3298680"/>
              <a:ext cx="116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53840" y="355608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36080" y="3527280"/>
              <a:ext cx="234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 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03160" y="4014720"/>
              <a:ext cx="28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 data 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11840" y="455760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4600" y="2655720"/>
              <a:ext cx="6581520" cy="657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627280"/>
              <a:ext cx="6639120" cy="71424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7960" y="2870280"/>
              <a:ext cx="220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I, RPC and 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9240" y="1720800"/>
            <a:ext cx="531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In file Person.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addPerson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getPerson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mote and local method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0520" y="2487600"/>
            <a:ext cx="8769240" cy="1884240"/>
            <a:chOff x="560520" y="2487600"/>
            <a:chExt cx="8769240" cy="1884240"/>
          </a:xfrm>
        </p:grpSpPr>
        <p:sp>
          <p:nvSpPr>
            <p:cNvPr id="107" name=""/>
            <p:cNvSpPr/>
            <p:nvPr/>
          </p:nvSpPr>
          <p:spPr>
            <a:xfrm>
              <a:off x="5811840" y="27385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7400" y="27385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7400" y="27385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1840" y="29145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4480" y="24876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05320" y="25876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0520" y="24876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080" y="28144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264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892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1480" y="2825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6280" y="28144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8280" y="33782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4160" y="32018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1120" y="27399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10720" y="301608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0920" y="36036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52160" y="33037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63120" y="3881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4400" y="36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63360" y="35035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000" y="2749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5280" y="3930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6800" y="2951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3320" y="3403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0760" y="31654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0760" y="3165480"/>
              <a:ext cx="2253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0760" y="31654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9076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560" y="32670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6040" y="33163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6160" y="31417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6160" y="31417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6160" y="31417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6160" y="32925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6560" y="28638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2200" y="2914560"/>
              <a:ext cx="954360" cy="42696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2600" y="27637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8160" y="27637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8160" y="27637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2600" y="29145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7640" y="3292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11920" y="2965320"/>
              <a:ext cx="855720" cy="3510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8480" y="31910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8480" y="3191040"/>
              <a:ext cx="225360" cy="15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18480" y="31910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848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75760" y="36687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18280" y="34178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38800" y="37195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4360" y="37195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4360" y="37195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38800" y="3894120"/>
              <a:ext cx="227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32200" y="341784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1520" y="3492360"/>
              <a:ext cx="1508040" cy="42732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75560" y="35434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75560" y="35434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75560" y="35434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75560" y="37195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emote object and its remot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1920960"/>
            <a:ext cx="8478720" cy="2700360"/>
            <a:chOff x="609480" y="1920960"/>
            <a:chExt cx="8478720" cy="2700360"/>
          </a:xfrm>
        </p:grpSpPr>
        <p:sp>
          <p:nvSpPr>
            <p:cNvPr id="182" name=""/>
            <p:cNvSpPr/>
            <p:nvPr/>
          </p:nvSpPr>
          <p:spPr>
            <a:xfrm>
              <a:off x="8162640" y="2695680"/>
              <a:ext cx="451080" cy="676080"/>
            </a:xfrm>
            <a:custGeom>
              <a:avLst/>
              <a:gdLst>
                <a:gd name="textAreaLeft" fmla="*/ 30960 w 451080"/>
                <a:gd name="textAreaRight" fmla="*/ 420120 w 451080"/>
                <a:gd name="textAreaTop" fmla="*/ 30960 h 676080"/>
                <a:gd name="textAreaBottom" fmla="*/ 645120 h 676080"/>
              </a:gdLst>
              <a:ahLst/>
              <a:rect l="textAreaLeft" t="textAreaTop" r="textAreaRight" b="textAreaBottom"/>
              <a:pathLst>
                <a:path w="21600" h="32366">
                  <a:moveTo>
                    <a:pt x="5058" y="0"/>
                  </a:moveTo>
                  <a:arcTo wR="5058" hR="5058" stAng="16200000" swAng="-5400000"/>
                  <a:lnTo>
                    <a:pt x="0" y="27308"/>
                  </a:lnTo>
                  <a:arcTo wR="5058" hR="5058" stAng="10800000" swAng="-5400000"/>
                  <a:lnTo>
                    <a:pt x="16542" y="32366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2640" y="2695680"/>
              <a:ext cx="451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62640" y="2695680"/>
              <a:ext cx="47628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2640" y="3021120"/>
              <a:ext cx="451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9520" y="2870280"/>
              <a:ext cx="425520" cy="676080"/>
            </a:xfrm>
            <a:custGeom>
              <a:avLst/>
              <a:gdLst>
                <a:gd name="textAreaLeft" fmla="*/ 30600 w 425520"/>
                <a:gd name="textAreaRight" fmla="*/ 394920 w 425520"/>
                <a:gd name="textAreaTop" fmla="*/ 30600 h 676080"/>
                <a:gd name="textAreaBottom" fmla="*/ 645480 h 676080"/>
              </a:gdLst>
              <a:ahLst/>
              <a:rect l="textAreaLeft" t="textAreaTop" r="textAreaRight" b="textAreaBottom"/>
              <a:pathLst>
                <a:path w="21600" h="34308">
                  <a:moveTo>
                    <a:pt x="5360" y="0"/>
                  </a:moveTo>
                  <a:arcTo wR="5360" hR="5360" stAng="16200000" swAng="-5400000"/>
                  <a:lnTo>
                    <a:pt x="0" y="28948"/>
                  </a:lnTo>
                  <a:arcTo wR="5360" hR="5360" stAng="10800000" swAng="-5400000"/>
                  <a:lnTo>
                    <a:pt x="16240" y="34308"/>
                  </a:lnTo>
                  <a:arcTo wR="5360" hR="5360" stAng="5400000" swAng="-5400000"/>
                  <a:lnTo>
                    <a:pt x="21600" y="5360"/>
                  </a:lnTo>
                  <a:arcTo wR="5360" hR="536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09520" y="2870280"/>
              <a:ext cx="42552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09520" y="2870280"/>
              <a:ext cx="45072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0200" y="342108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0200" y="362124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4320" y="3821040"/>
              <a:ext cx="401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6920" y="2370240"/>
              <a:ext cx="1408320" cy="1776240"/>
            </a:xfrm>
            <a:custGeom>
              <a:avLst/>
              <a:gdLst>
                <a:gd name="textAreaLeft" fmla="*/ 31680 w 1408320"/>
                <a:gd name="textAreaRight" fmla="*/ 1376640 w 1408320"/>
                <a:gd name="textAreaTop" fmla="*/ 31680 h 1776240"/>
                <a:gd name="textAreaBottom" fmla="*/ 1744560 h 1776240"/>
              </a:gdLst>
              <a:ahLst/>
              <a:rect l="textAreaLeft" t="textAreaTop" r="textAreaRight" b="textAreaBottom"/>
              <a:pathLst>
                <a:path w="21600" h="27242">
                  <a:moveTo>
                    <a:pt x="1659" y="0"/>
                  </a:moveTo>
                  <a:arcTo wR="1659" hR="1659" stAng="16200000" swAng="-5400000"/>
                  <a:lnTo>
                    <a:pt x="0" y="25583"/>
                  </a:lnTo>
                  <a:arcTo wR="1659" hR="1659" stAng="10800000" swAng="-5400000"/>
                  <a:lnTo>
                    <a:pt x="19941" y="27242"/>
                  </a:lnTo>
                  <a:arcTo wR="1659" hR="1659" stAng="5400000" swAng="-5400000"/>
                  <a:lnTo>
                    <a:pt x="21600" y="1659"/>
                  </a:lnTo>
                  <a:arcTo wR="1659" hR="165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6920" y="2370240"/>
              <a:ext cx="1400400" cy="1801800"/>
            </a:xfrm>
            <a:custGeom>
              <a:avLst/>
              <a:gdLst>
                <a:gd name="textAreaLeft" fmla="*/ 30600 w 1400400"/>
                <a:gd name="textAreaRight" fmla="*/ 1369800 w 1400400"/>
                <a:gd name="textAreaTop" fmla="*/ 30600 h 1801800"/>
                <a:gd name="textAreaBottom" fmla="*/ 1771200 h 1801800"/>
              </a:gdLst>
              <a:ahLst/>
              <a:rect l="textAreaLeft" t="textAreaTop" r="textAreaRight" b="textAreaBottom"/>
              <a:pathLst>
                <a:path w="21600" h="27790">
                  <a:moveTo>
                    <a:pt x="1629" y="0"/>
                  </a:moveTo>
                  <a:arcTo wR="1629" hR="1629" stAng="16200000" swAng="-5400000"/>
                  <a:lnTo>
                    <a:pt x="0" y="26161"/>
                  </a:lnTo>
                  <a:arcTo wR="1629" hR="1629" stAng="10800000" swAng="-5400000"/>
                  <a:lnTo>
                    <a:pt x="19971" y="27790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6920" y="3271680"/>
              <a:ext cx="1374840" cy="1800"/>
            </a:xfrm>
            <a:prstGeom prst="line">
              <a:avLst/>
            </a:prstGeom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1720" y="2346480"/>
              <a:ext cx="1400040" cy="9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11720" y="2346480"/>
              <a:ext cx="1425600" cy="9252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2370240"/>
              <a:ext cx="1433520" cy="1801800"/>
            </a:xfrm>
            <a:custGeom>
              <a:avLst/>
              <a:gdLst>
                <a:gd name="textAreaLeft" fmla="*/ 31320 w 1433520"/>
                <a:gd name="textAreaRight" fmla="*/ 1402200 w 1433520"/>
                <a:gd name="textAreaTop" fmla="*/ 31320 h 1801800"/>
                <a:gd name="textAreaBottom" fmla="*/ 1770480 h 1801800"/>
              </a:gdLst>
              <a:ahLst/>
              <a:rect l="textAreaLeft" t="textAreaTop" r="textAreaRight" b="textAreaBottom"/>
              <a:pathLst>
                <a:path w="21600" h="27148">
                  <a:moveTo>
                    <a:pt x="1629" y="0"/>
                  </a:moveTo>
                  <a:arcTo wR="1629" hR="1629" stAng="16200000" swAng="-5400000"/>
                  <a:lnTo>
                    <a:pt x="0" y="25519"/>
                  </a:lnTo>
                  <a:arcTo wR="1629" hR="1629" stAng="10800000" swAng="-5400000"/>
                  <a:lnTo>
                    <a:pt x="19971" y="27148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236920" y="3255840"/>
              <a:ext cx="1409760" cy="15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7160" y="31831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290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6840" y="1920960"/>
              <a:ext cx="4851360" cy="2700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60520" y="3395520"/>
              <a:ext cx="1076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0520" y="3672000"/>
              <a:ext cx="1076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1320" y="33577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1320" y="3608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1320" y="3859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37360" y="3308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37360" y="3508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37360" y="3733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6880" y="27828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7160" y="340848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09520" y="319572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621160"/>
              <a:ext cx="1476360" cy="1125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1480" y="3621240"/>
              <a:ext cx="149040" cy="9972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32"/>
                  </a:lnTo>
                  <a:lnTo>
                    <a:pt x="15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4200" y="3295800"/>
              <a:ext cx="1727280" cy="376200"/>
            </a:xfrm>
            <a:custGeom>
              <a:avLst/>
              <a:gdLst/>
              <a:ahLst/>
              <a:rect l="l" t="t" r="r" b="b"/>
              <a:pathLst>
                <a:path w="1088" h="237">
                  <a:moveTo>
                    <a:pt x="1088" y="237"/>
                  </a:moveTo>
                  <a:lnTo>
                    <a:pt x="662" y="221"/>
                  </a:lnTo>
                  <a:lnTo>
                    <a:pt x="316" y="158"/>
                  </a:lnTo>
                  <a:lnTo>
                    <a:pt x="95" y="95"/>
                  </a:lnTo>
                  <a:lnTo>
                    <a:pt x="32" y="48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13480" y="3546360"/>
              <a:ext cx="174600" cy="748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110" y="16"/>
                  </a:moveTo>
                  <a:lnTo>
                    <a:pt x="94" y="47"/>
                  </a:lnTo>
                  <a:lnTo>
                    <a:pt x="0" y="31"/>
                  </a:lnTo>
                  <a:lnTo>
                    <a:pt x="94" y="0"/>
                  </a:lnTo>
                  <a:lnTo>
                    <a:pt x="11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2520" y="3146400"/>
              <a:ext cx="825480" cy="425520"/>
            </a:xfrm>
            <a:custGeom>
              <a:avLst/>
              <a:gdLst/>
              <a:ahLst/>
              <a:rect l="l" t="t" r="r" b="b"/>
              <a:pathLst>
                <a:path w="520" h="268">
                  <a:moveTo>
                    <a:pt x="520" y="0"/>
                  </a:moveTo>
                  <a:lnTo>
                    <a:pt x="489" y="94"/>
                  </a:lnTo>
                  <a:lnTo>
                    <a:pt x="378" y="189"/>
                  </a:lnTo>
                  <a:lnTo>
                    <a:pt x="205" y="252"/>
                  </a:lnTo>
                  <a:lnTo>
                    <a:pt x="0" y="268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51120" y="2114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1200" y="211464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6760" y="3946680"/>
              <a:ext cx="11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1160" y="3357720"/>
              <a:ext cx="204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2160" y="378288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5 Instantiation of remote objects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00040" y="1646280"/>
            <a:ext cx="86090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95440" y="1741320"/>
            <a:ext cx="8597880" cy="3210120"/>
            <a:chOff x="595440" y="1741320"/>
            <a:chExt cx="8597880" cy="3210120"/>
          </a:xfrm>
        </p:grpSpPr>
        <p:sp>
          <p:nvSpPr>
            <p:cNvPr id="231" name=""/>
            <p:cNvSpPr/>
            <p:nvPr/>
          </p:nvSpPr>
          <p:spPr>
            <a:xfrm>
              <a:off x="595440" y="2543040"/>
              <a:ext cx="681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440" y="33955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2800" y="1954080"/>
              <a:ext cx="260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ault tolerance meas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4400" y="1854360"/>
              <a:ext cx="115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vo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5840" y="21034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6160" y="2806560"/>
              <a:ext cx="199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transmit requ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53760" y="30574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04880" y="280656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uplica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7320" y="305748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l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7680" y="2806560"/>
              <a:ext cx="229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1160" y="3057480"/>
              <a:ext cx="193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r 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2480" y="350820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32840" y="40100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284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5332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55120" y="40100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5512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2496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3160" y="4010040"/>
              <a:ext cx="223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25320" y="4535640"/>
              <a:ext cx="170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82040" y="4535640"/>
              <a:ext cx="136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mo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65480" y="4010040"/>
              <a:ext cx="135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lea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34040" y="350820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y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5440" y="17413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440" y="4950000"/>
              <a:ext cx="859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role of proxy and skeleton in remote method invo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4840" y="1587600"/>
            <a:ext cx="3227040" cy="34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4840" y="1587600"/>
            <a:ext cx="3254040" cy="3446280"/>
          </a:xfrm>
          <a:prstGeom prst="rect">
            <a:avLst/>
          </a:pr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05480" y="1587600"/>
            <a:ext cx="4811400" cy="34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05480" y="1587600"/>
            <a:ext cx="4840200" cy="3446280"/>
          </a:xfrm>
          <a:prstGeom prst="rect">
            <a:avLst/>
          </a:pr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806480"/>
            <a:ext cx="4321080" cy="240660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0280" y="1806480"/>
            <a:ext cx="3117960" cy="240660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00" y="2367000"/>
            <a:ext cx="96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objec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17680" y="2281320"/>
            <a:ext cx="96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obje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42120" y="2257560"/>
            <a:ext cx="101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6680" y="24494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2367000"/>
            <a:ext cx="132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proxy fo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7440" y="2544840"/>
            <a:ext cx="465120" cy="1066680"/>
          </a:xfrm>
          <a:custGeom>
            <a:avLst/>
            <a:gdLst>
              <a:gd name="textAreaLeft" fmla="*/ 64080 w 465120"/>
              <a:gd name="textAreaRight" fmla="*/ 401040 w 4651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49515">
                <a:moveTo>
                  <a:pt x="10173" y="0"/>
                </a:moveTo>
                <a:arcTo wR="10173" hR="10173" stAng="16200000" swAng="-5400000"/>
                <a:lnTo>
                  <a:pt x="0" y="39342"/>
                </a:lnTo>
                <a:arcTo wR="10173" hR="10173" stAng="10800000" swAng="-5400000"/>
                <a:lnTo>
                  <a:pt x="11427" y="49515"/>
                </a:lnTo>
                <a:arcTo wR="10173" hR="10173" stAng="5400000" swAng="-5400000"/>
                <a:lnTo>
                  <a:pt x="21600" y="10173"/>
                </a:lnTo>
                <a:arcTo wR="10173" hR="10173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43480" y="2544840"/>
            <a:ext cx="465120" cy="1066680"/>
          </a:xfrm>
          <a:custGeom>
            <a:avLst/>
            <a:gdLst>
              <a:gd name="textAreaLeft" fmla="*/ 64080 w 465120"/>
              <a:gd name="textAreaRight" fmla="*/ 401040 w 4651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49515">
                <a:moveTo>
                  <a:pt x="10173" y="0"/>
                </a:moveTo>
                <a:arcTo wR="10173" hR="10173" stAng="16200000" swAng="-5400000"/>
                <a:lnTo>
                  <a:pt x="0" y="39342"/>
                </a:lnTo>
                <a:arcTo wR="10173" hR="10173" stAng="10800000" swAng="-5400000"/>
                <a:lnTo>
                  <a:pt x="11427" y="49515"/>
                </a:lnTo>
                <a:arcTo wR="10173" hR="10173" stAng="5400000" swAng="-5400000"/>
                <a:lnTo>
                  <a:pt x="21600" y="10173"/>
                </a:lnTo>
                <a:arcTo wR="10173" hR="10173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32080" y="3557520"/>
            <a:ext cx="1066680" cy="463680"/>
          </a:xfrm>
          <a:prstGeom prst="roundRect">
            <a:avLst>
              <a:gd name="adj" fmla="val 47259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4760" y="335124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55000" y="4253040"/>
            <a:ext cx="190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9440" y="4335480"/>
            <a:ext cx="99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24600" y="2763720"/>
            <a:ext cx="190440" cy="109800"/>
          </a:xfrm>
          <a:custGeom>
            <a:avLst/>
            <a:gdLst/>
            <a:ahLst/>
            <a:rect l="l" t="t" r="r" b="b"/>
            <a:pathLst>
              <a:path w="120" h="69">
                <a:moveTo>
                  <a:pt x="0" y="34"/>
                </a:moveTo>
                <a:lnTo>
                  <a:pt x="0" y="0"/>
                </a:lnTo>
                <a:lnTo>
                  <a:pt x="120" y="34"/>
                </a:lnTo>
                <a:lnTo>
                  <a:pt x="0" y="6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126960" y="2817720"/>
            <a:ext cx="1970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3760" y="3228840"/>
            <a:ext cx="192240" cy="109800"/>
          </a:xfrm>
          <a:custGeom>
            <a:avLst/>
            <a:gdLst/>
            <a:ahLst/>
            <a:rect l="l" t="t" r="r" b="b"/>
            <a:pathLst>
              <a:path w="121" h="69">
                <a:moveTo>
                  <a:pt x="121" y="34"/>
                </a:moveTo>
                <a:lnTo>
                  <a:pt x="121" y="69"/>
                </a:lnTo>
                <a:lnTo>
                  <a:pt x="0" y="34"/>
                </a:lnTo>
                <a:lnTo>
                  <a:pt x="121" y="0"/>
                </a:lnTo>
                <a:lnTo>
                  <a:pt x="121" y="3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83000" y="3282840"/>
            <a:ext cx="196992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82360" y="4253040"/>
            <a:ext cx="214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3440" y="4253040"/>
            <a:ext cx="190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61920" y="458136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99720" y="458136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" y="4581360"/>
            <a:ext cx="212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ference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52920" y="3584520"/>
            <a:ext cx="136800" cy="628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27320" y="3584520"/>
            <a:ext cx="1800" cy="628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268280" y="3967200"/>
            <a:ext cx="273240" cy="409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381720" y="3803400"/>
            <a:ext cx="574560" cy="4921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32080" y="447192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39800" y="28051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r B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81840" y="2271600"/>
            <a:ext cx="1449360" cy="930240"/>
          </a:xfrm>
          <a:prstGeom prst="roundRect">
            <a:avLst>
              <a:gd name="adj" fmla="val 48463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4520" y="2530440"/>
            <a:ext cx="151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&amp; 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71320" y="2066760"/>
            <a:ext cx="87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1760" y="1901880"/>
            <a:ext cx="64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01120" y="18478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43160" y="1820880"/>
            <a:ext cx="74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2600" y="3365640"/>
            <a:ext cx="1066680" cy="465120"/>
          </a:xfrm>
          <a:prstGeom prst="roundRect">
            <a:avLst>
              <a:gd name="adj" fmla="val 47097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5400" y="2709720"/>
            <a:ext cx="382680" cy="546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0817">
                <a:moveTo>
                  <a:pt x="6184" y="0"/>
                </a:moveTo>
                <a:arcTo wR="6184" hR="6184" stAng="16200000" swAng="-5400000"/>
                <a:lnTo>
                  <a:pt x="0" y="24633"/>
                </a:lnTo>
                <a:arcTo wR="6184" hR="6184" stAng="10800000" swAng="-5400000"/>
                <a:lnTo>
                  <a:pt x="15416" y="30817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5400" y="2709720"/>
            <a:ext cx="409680" cy="573120"/>
          </a:xfrm>
          <a:custGeom>
            <a:avLst/>
            <a:gdLst>
              <a:gd name="textAreaLeft" fmla="*/ 32040 w 409680"/>
              <a:gd name="textAreaRight" fmla="*/ 377640 w 409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210">
                <a:moveTo>
                  <a:pt x="5777" y="0"/>
                </a:moveTo>
                <a:arcTo wR="5777" hR="5777" stAng="16200000" swAng="-5400000"/>
                <a:lnTo>
                  <a:pt x="0" y="24433"/>
                </a:lnTo>
                <a:arcTo wR="5777" hR="5777" stAng="10800000" swAng="-5400000"/>
                <a:lnTo>
                  <a:pt x="15823" y="30210"/>
                </a:lnTo>
                <a:arcTo wR="5777" hR="5777" stAng="5400000" swAng="-5400000"/>
                <a:lnTo>
                  <a:pt x="21600" y="5777"/>
                </a:lnTo>
                <a:arcTo wR="5777" hR="5777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2240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2240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5400" y="2709720"/>
            <a:ext cx="409680" cy="573120"/>
          </a:xfrm>
          <a:custGeom>
            <a:avLst/>
            <a:gdLst>
              <a:gd name="textAreaLeft" fmla="*/ 32040 w 409680"/>
              <a:gd name="textAreaRight" fmla="*/ 377640 w 409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210">
                <a:moveTo>
                  <a:pt x="5777" y="0"/>
                </a:moveTo>
                <a:arcTo wR="5777" hR="5777" stAng="16200000" swAng="-5400000"/>
                <a:lnTo>
                  <a:pt x="0" y="24433"/>
                </a:lnTo>
                <a:arcTo wR="5777" hR="5777" stAng="10800000" swAng="-5400000"/>
                <a:lnTo>
                  <a:pt x="15823" y="30210"/>
                </a:lnTo>
                <a:arcTo wR="5777" hR="5777" stAng="5400000" swAng="-5400000"/>
                <a:lnTo>
                  <a:pt x="21600" y="5777"/>
                </a:lnTo>
                <a:arcTo wR="5777" hR="5777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5400" y="2982960"/>
            <a:ext cx="382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06640" y="2709720"/>
            <a:ext cx="355680" cy="546120"/>
          </a:xfrm>
          <a:custGeom>
            <a:avLst/>
            <a:gdLst>
              <a:gd name="textAreaLeft" fmla="*/ 32040 w 355680"/>
              <a:gd name="textAreaRight" fmla="*/ 323640 w 3556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3153">
                <a:moveTo>
                  <a:pt x="6654" y="0"/>
                </a:moveTo>
                <a:arcTo wR="6654" hR="6654" stAng="16200000" swAng="-5400000"/>
                <a:lnTo>
                  <a:pt x="0" y="26499"/>
                </a:lnTo>
                <a:arcTo wR="6654" hR="6654" stAng="10800000" swAng="-5400000"/>
                <a:lnTo>
                  <a:pt x="14946" y="33153"/>
                </a:lnTo>
                <a:arcTo wR="6654" hR="6654" stAng="5400000" swAng="-5400000"/>
                <a:lnTo>
                  <a:pt x="21600" y="6654"/>
                </a:lnTo>
                <a:arcTo wR="6654" hR="6654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06640" y="2709720"/>
            <a:ext cx="382680" cy="573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2339">
                <a:moveTo>
                  <a:pt x="6184" y="0"/>
                </a:moveTo>
                <a:arcTo wR="6184" hR="6184" stAng="16200000" swAng="-5400000"/>
                <a:lnTo>
                  <a:pt x="0" y="26155"/>
                </a:lnTo>
                <a:arcTo wR="6184" hR="6184" stAng="10800000" swAng="-5400000"/>
                <a:lnTo>
                  <a:pt x="15416" y="32339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664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0664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06640" y="2709720"/>
            <a:ext cx="382680" cy="573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2339">
                <a:moveTo>
                  <a:pt x="6184" y="0"/>
                </a:moveTo>
                <a:arcTo wR="6184" hR="6184" stAng="16200000" swAng="-5400000"/>
                <a:lnTo>
                  <a:pt x="0" y="26155"/>
                </a:lnTo>
                <a:arcTo wR="6184" hR="6184" stAng="10800000" swAng="-5400000"/>
                <a:lnTo>
                  <a:pt x="15416" y="32339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06640" y="2982960"/>
            <a:ext cx="355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67520" y="2709720"/>
            <a:ext cx="384480" cy="546120"/>
          </a:xfrm>
          <a:custGeom>
            <a:avLst/>
            <a:gdLst>
              <a:gd name="textAreaLeft" fmla="*/ 32040 w 384480"/>
              <a:gd name="textAreaRight" fmla="*/ 352440 w 3844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0672">
                <a:moveTo>
                  <a:pt x="6159" y="0"/>
                </a:moveTo>
                <a:arcTo wR="6159" hR="6159" stAng="16200000" swAng="-5400000"/>
                <a:lnTo>
                  <a:pt x="0" y="24513"/>
                </a:lnTo>
                <a:arcTo wR="6159" hR="6159" stAng="10800000" swAng="-5400000"/>
                <a:lnTo>
                  <a:pt x="15441" y="30672"/>
                </a:lnTo>
                <a:arcTo wR="6159" hR="6159" stAng="5400000" swAng="-5400000"/>
                <a:lnTo>
                  <a:pt x="21600" y="6159"/>
                </a:lnTo>
                <a:arcTo wR="6159" hR="6159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67520" y="2709720"/>
            <a:ext cx="411480" cy="573120"/>
          </a:xfrm>
          <a:custGeom>
            <a:avLst/>
            <a:gdLst>
              <a:gd name="textAreaLeft" fmla="*/ 32040 w 411480"/>
              <a:gd name="textAreaRight" fmla="*/ 379440 w 4114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078">
                <a:moveTo>
                  <a:pt x="5754" y="0"/>
                </a:moveTo>
                <a:arcTo wR="5754" hR="5754" stAng="16200000" swAng="-5400000"/>
                <a:lnTo>
                  <a:pt x="0" y="24324"/>
                </a:lnTo>
                <a:arcTo wR="5754" hR="5754" stAng="10800000" swAng="-5400000"/>
                <a:lnTo>
                  <a:pt x="15846" y="30078"/>
                </a:lnTo>
                <a:arcTo wR="5754" hR="5754" stAng="5400000" swAng="-5400000"/>
                <a:lnTo>
                  <a:pt x="21600" y="5754"/>
                </a:lnTo>
                <a:arcTo wR="5754" hR="5754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9632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9632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67520" y="2709720"/>
            <a:ext cx="411480" cy="573120"/>
          </a:xfrm>
          <a:custGeom>
            <a:avLst/>
            <a:gdLst>
              <a:gd name="textAreaLeft" fmla="*/ 32040 w 411480"/>
              <a:gd name="textAreaRight" fmla="*/ 379440 w 4114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078">
                <a:moveTo>
                  <a:pt x="5754" y="0"/>
                </a:moveTo>
                <a:arcTo wR="5754" hR="5754" stAng="16200000" swAng="-5400000"/>
                <a:lnTo>
                  <a:pt x="0" y="24324"/>
                </a:lnTo>
                <a:arcTo wR="5754" hR="5754" stAng="10800000" swAng="-5400000"/>
                <a:lnTo>
                  <a:pt x="15846" y="30078"/>
                </a:lnTo>
                <a:arcTo wR="5754" hR="5754" stAng="5400000" swAng="-5400000"/>
                <a:lnTo>
                  <a:pt x="21600" y="5754"/>
                </a:lnTo>
                <a:arcTo wR="5754" hR="5754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67520" y="2982960"/>
            <a:ext cx="3844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53440" y="4062240"/>
            <a:ext cx="89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8242200" y="3255480"/>
            <a:ext cx="519120" cy="793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8 Role of client and server stub procedures in RPC in the context of a procedural langu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19000" y="2259000"/>
            <a:ext cx="8159760" cy="3044880"/>
            <a:chOff x="819000" y="2259000"/>
            <a:chExt cx="8159760" cy="3044880"/>
          </a:xfrm>
        </p:grpSpPr>
        <p:sp>
          <p:nvSpPr>
            <p:cNvPr id="318" name=""/>
            <p:cNvSpPr/>
            <p:nvPr/>
          </p:nvSpPr>
          <p:spPr>
            <a:xfrm>
              <a:off x="819000" y="2259000"/>
              <a:ext cx="287496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000" y="2259000"/>
              <a:ext cx="28990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7480" y="2259000"/>
              <a:ext cx="445608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7480" y="2259000"/>
              <a:ext cx="44812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65680" y="2428920"/>
              <a:ext cx="3921120" cy="21686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20" y="2454480"/>
              <a:ext cx="2752920" cy="2143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1640" y="4511880"/>
              <a:ext cx="53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2480" y="3098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145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4480" y="3087720"/>
              <a:ext cx="414360" cy="925560"/>
            </a:xfrm>
            <a:custGeom>
              <a:avLst/>
              <a:gdLst>
                <a:gd name="textAreaLeft" fmla="*/ 58680 w 414360"/>
                <a:gd name="textAreaRight" fmla="*/ 355680 w 414360"/>
                <a:gd name="textAreaTop" fmla="*/ 58680 h 925560"/>
                <a:gd name="textAreaBottom" fmla="*/ 866880 h 925560"/>
              </a:gdLst>
              <a:ahLst/>
              <a:rect l="textAreaLeft" t="textAreaTop" r="textAreaRight" b="textAreaBottom"/>
              <a:pathLst>
                <a:path w="21600" h="48225">
                  <a:moveTo>
                    <a:pt x="10469" y="0"/>
                  </a:moveTo>
                  <a:arcTo wR="10469" hR="10469" stAng="16200000" swAng="-5400000"/>
                  <a:lnTo>
                    <a:pt x="0" y="37756"/>
                  </a:lnTo>
                  <a:arcTo wR="10469" hR="10469" stAng="10800000" swAng="-5400000"/>
                  <a:lnTo>
                    <a:pt x="11131" y="48225"/>
                  </a:lnTo>
                  <a:arcTo wR="10469" hR="10469" stAng="5400000" swAng="-5400000"/>
                  <a:lnTo>
                    <a:pt x="21600" y="10469"/>
                  </a:lnTo>
                  <a:arcTo wR="10469" hR="1046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7720" y="3902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0036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35600" y="3306960"/>
              <a:ext cx="195120" cy="968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30"/>
                  </a:moveTo>
                  <a:lnTo>
                    <a:pt x="0" y="0"/>
                  </a:lnTo>
                  <a:lnTo>
                    <a:pt x="123" y="30"/>
                  </a:lnTo>
                  <a:lnTo>
                    <a:pt x="0" y="6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157200" y="3354480"/>
              <a:ext cx="177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03720" y="3719520"/>
              <a:ext cx="171360" cy="986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31"/>
                  </a:moveTo>
                  <a:lnTo>
                    <a:pt x="108" y="62"/>
                  </a:lnTo>
                  <a:lnTo>
                    <a:pt x="0" y="31"/>
                  </a:lnTo>
                  <a:lnTo>
                    <a:pt x="108" y="0"/>
                  </a:lnTo>
                  <a:lnTo>
                    <a:pt x="10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8840" y="3768840"/>
              <a:ext cx="1728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720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2736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720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227560" y="4036680"/>
              <a:ext cx="14616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157560" y="4036680"/>
              <a:ext cx="144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83120" y="497376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36640" y="4488120"/>
              <a:ext cx="70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96040" y="40737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0040" y="2563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4480" y="407376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620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97480" y="42926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82240" y="42436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8988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7800" y="2684520"/>
              <a:ext cx="130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03880" y="2684520"/>
              <a:ext cx="138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63200" y="47548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356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69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3336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87560" y="3915000"/>
              <a:ext cx="14580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857720" y="3915000"/>
              <a:ext cx="41436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02440" y="4013280"/>
              <a:ext cx="1440" cy="851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3440" y="473076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1:07Z</dcterms:modified>
  <cp:revision>58</cp:revision>
  <dc:subject/>
  <dc:title>Figure 15.1 A distributed multimedia system</dc:title>
</cp:coreProperties>
</file>