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00717-8AF2-40BA-9309-001D706B1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55F88-0E9C-4F5B-B396-2EC22737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581A9-1F61-4D34-9068-9D5DB98A4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5E99F-7330-4435-A7C5-585AA2960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F1B7E-5178-4CD4-92A7-4E3FA49D6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9FCAD-5E06-467B-8EC7-3B09A0725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AB739-53E8-40D5-9206-3CFCC8E00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66E2D-743C-4C1C-81DB-7D2C35037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8D130-74C1-432F-9D1C-0861FF851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C5E0C-42AB-44F0-A0C3-829011A69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1BC06-7AE8-4AE8-9E34-3F1C6F437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68EFA-D383-4686-A42C-5D53A0DFC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D6E53-B8A4-4B47-B1AE-B17CA8E9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25BCD-93E8-41CB-A154-C1FAA87DE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7BF9E-79FE-43F5-94A9-CFB914254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5706C-5463-4E33-A9F0-C65ABEC6A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18D82-46A7-49F0-94D9-6E175D8C3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85D39-5678-4974-BF35-92724B63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70DE-7B24-46F3-960A-06E8E368B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BA97-71E1-4CCC-9A34-5442EA35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E63FB-6B85-4C7C-9BE2-D30BECE41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3639-A938-4A4E-814A-62ACD886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C1CE-C5F4-467A-B8A7-189A21BD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6FAE-436B-47C3-80C6-0FBFB46C8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97DD-FE67-489F-AE1B-7EF260F4BCB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1DC5-995A-4798-BF71-21C2DF29B44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Exercises for Chapter 15: </a:t>
            </a:r>
            <a:br>
              <a:rPr sz="4000"/>
            </a:br>
            <a:r>
              <a:rPr b="0" lang="en-GB" sz="3200" spc="-1" strike="noStrike">
                <a:solidFill>
                  <a:srgbClr val="ff6600"/>
                </a:solidFill>
                <a:latin typeface="Arial"/>
              </a:rPr>
              <a:t>Distributed Multimedia Systems</a:t>
            </a:r>
            <a:endParaRPr b="0" lang="en-US" sz="32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Outline a system to support a distributed music rehearsal facility. Suggest suitable QoS requirements and a hardware and software configuration that might be used.</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10, 616</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Internet does not currently offer any resource reservation or quality of service management facilities. How do the existing Internet-based audio and video streaming applications achieve acceptable quality? What limitations do the solutions they adopt place on multimedia applications?</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10, 619, 625</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the distinctions between the three forms of synchronization (synchronous distributed state, media synchronization and external synchronization) that may be required in distributed multimedia applications. Suggest mechanisms by which each of them could be achieved, for example in a videoconferencing application.</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11</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Outline the design of a QoS manager to enable desktop computers connected by an ATM network to support several concurrent multimedia applications. Define an API for your QoS manager, giving the main operations with their parameters and result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15-61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order to specify the resource requirements software components that process multimedia data, we need estimates of their processing loads. How can this information be obtained without undue effort?</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15-61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the Tiger system cope with a large number of clients all requesting the same movie at random times?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27-63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Tiger schedule is potentially a large data structure that changes frequently, but each cub needs an up-to-date representation of the portions it is currently handling. Suggest a mechanism for the distribution of the schedule to the cubs.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27-63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en Tiger is operating with a failed disk or cub, secondary data blocks are used in place of missing primaries. Secondary blocks are n times smaller than primaries (where n is the decluster factor), how does the system accommodate this variability in block siz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63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1-30T16:45:14Z</dcterms:modified>
  <cp:revision>71</cp:revision>
  <dc:subject/>
  <dc:title>Figure 15.1 A distributed multimedia system</dc:title>
</cp:coreProperties>
</file>