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35EC3-06B5-499B-8378-2FF87526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565E-6CA7-40AC-B3E3-F9DB391A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1DB9E-DE66-4434-8318-4BCEC7B32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60204-275E-4A4E-A8F0-0655DE60A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929A3-58A9-49DB-BA2D-AC02DAB24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00457-EC6E-45CF-B0FC-201DA1D5D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A1A14-0ECE-4A92-BC4F-889D21012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3BC5C-9E06-4B71-A35F-CF924E5C3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DE31E-1EA2-4F04-89DC-17ED3DFBD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EC09B-82BB-42C3-87B6-1735EC424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59866-7102-46B7-B7BD-7503E2E4A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F9E6-73CF-4FBA-BE6E-F070748F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E82CA-2752-42F2-9CF9-632A82EF5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72BD1-863E-4100-991C-40750414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DB5AD-97DB-4F0A-BA2F-75F4AB8FB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F2AD9-539D-4216-8152-15BB5DAD5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7C87B-F0D9-40DF-8B01-8BB0DB019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D05CF-C0E5-4F15-9BA6-0E0E3A49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8439-BA23-439C-9A6B-F1F1CD5F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F6047-C013-4FF4-842F-908A8A42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747C-EC88-4A47-849B-22DFDEC0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6133-F28D-4837-B70E-A43DFAF1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E8E4-5B88-49D8-8913-0998092B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241F-4691-4A9F-8448-2A1AD39BE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5CC1-D4F5-45E4-91D6-BF23B644EF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88D9-3B82-4810-AE2B-2DCA5A78D0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800" spc="-1" strike="noStrike">
                <a:solidFill>
                  <a:srgbClr val="ff6600"/>
                </a:solidFill>
                <a:latin typeface="Arial"/>
              </a:rPr>
              <a:t>Exercises for Chapter 2: </a:t>
            </a:r>
            <a:br>
              <a:rPr sz="4800"/>
            </a:br>
            <a:r>
              <a:rPr b="0" lang="en-US" sz="3600" spc="-1" strike="noStrike">
                <a:solidFill>
                  <a:srgbClr val="ff6600"/>
                </a:solidFill>
                <a:latin typeface="Arial"/>
              </a:rPr>
              <a:t>System models</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istinguish between buffering and caching.</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some examples of faults in hardware and software that can/cannot be tolerated by the use of redundancy in a distributed system. To what extent does the use of redundancy in the appropriate cases make a system fault-tolerant?</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a simple server that carries out client requests without accessing other servers. Explain why it is generally not possible to set a limit on the time taken by such a server to respond to a client request. What would need to be done to make the server able to execute requests within a bounded time? Is this a practical option?</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r each of the factors that contribute to the time taken to transmit a message between two processes over a communication channel, state what measures would be needed to set a bound on its contribution to the total time. Why are these measures not provided in current general-purpose distributed system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e Network Time Protocol service can be used to synchronize computer clocks. Explain why, even with this service, no guaranteed bound is given for the difference between two clock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4</a:t>
            </a:r>
            <a:endParaRPr b="0" lang="en-US" sz="3600" spc="-1" strike="noStrike">
              <a:solidFill>
                <a:srgbClr val="ff6600"/>
              </a:solidFill>
              <a:latin typeface="Arial"/>
            </a:endParaRPr>
          </a:p>
        </p:txBody>
      </p:sp>
      <p:sp>
        <p:nvSpPr>
          <p:cNvPr id="11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Consider two communication services for use in asynchronous distributed systems. In service A, messages may be lost, duplicated or delayed and checksums apply only to headers. In service B, messages may be lost, delayed or delivered too fast for the recipient to handle them, but those that are delivered arrive with the correct contents.</a:t>
            </a:r>
            <a:endParaRPr b="0" lang="en-US" sz="2400" spc="-1" strike="noStrike">
              <a:solidFill>
                <a:srgbClr val="996633"/>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Describe the classes of failure exhibited by each service. Classify their failures according to their effect on the properties of validity and integrity. Can service B be described as a reliable communication service? </a:t>
            </a:r>
            <a:r>
              <a:rPr b="0" lang="en-US" sz="2400" spc="-1" strike="noStrike">
                <a:solidFill>
                  <a:srgbClr val="996633"/>
                </a:solidFill>
                <a:latin typeface="Arial"/>
              </a:rPr>
              <a:t>	</a:t>
            </a:r>
            <a:r>
              <a:rPr b="0" lang="en-US" sz="2400" spc="-1" strike="noStrike">
                <a:solidFill>
                  <a:srgbClr val="996633"/>
                </a:solidFill>
                <a:latin typeface="Arial"/>
              </a:rPr>
              <a:t>	</a:t>
            </a:r>
            <a:endParaRPr b="0" lang="en-US" sz="2400" spc="-1" strike="noStrike">
              <a:solidFill>
                <a:srgbClr val="996633"/>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6633"/>
                </a:solidFill>
                <a:latin typeface="Arial"/>
              </a:rPr>
              <a:t>page 53 and page 57</a:t>
            </a:r>
            <a:endParaRPr b="0" lang="en-US" sz="2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5</a:t>
            </a:r>
            <a:endParaRPr b="0" lang="en-US" sz="3600" spc="-1" strike="noStrike">
              <a:solidFill>
                <a:srgbClr val="ff6600"/>
              </a:solidFill>
              <a:latin typeface="Arial"/>
            </a:endParaRPr>
          </a:p>
        </p:txBody>
      </p:sp>
      <p:sp>
        <p:nvSpPr>
          <p:cNvPr id="11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onsider a pair of processes X and Y that use the communication service B from Exercise 2.14 to communicate with one another. Suppose that X is a client and Y a server and that an invocation consists of a request message from X to Y, followed by Y carrying out the request, followed by a reply message from Y to X. Describe the classes of failure that may be exhibited by an invocation. </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3</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6</a:t>
            </a:r>
            <a:endParaRPr b="0" lang="en-US" sz="3600" spc="-1" strike="noStrike">
              <a:solidFill>
                <a:srgbClr val="ff6600"/>
              </a:solidFill>
              <a:latin typeface="Arial"/>
            </a:endParaRPr>
          </a:p>
        </p:txBody>
      </p:sp>
      <p:sp>
        <p:nvSpPr>
          <p:cNvPr id="11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ppose that a basic disk read can sometimes read values that are different from those written. State the type of failure exhibited by a basic disk read. Suggest how this failure may be masked in order to produce a different benign form of failure. Now suggest how to mask the benign failure.</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5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7</a:t>
            </a:r>
            <a:endParaRPr b="0" lang="en-US" sz="3600" spc="-1" strike="noStrike">
              <a:solidFill>
                <a:srgbClr val="ff6600"/>
              </a:solidFill>
              <a:latin typeface="Arial"/>
            </a:endParaRPr>
          </a:p>
        </p:txBody>
      </p:sp>
      <p:sp>
        <p:nvSpPr>
          <p:cNvPr id="12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Define the integrity property of reliable communication and list all the possible threats to integrity from users and from system components. What measures can be taken to ensure the integrity property in the face of each of these sources of threats.</a:t>
            </a:r>
            <a:endParaRPr b="0" lang="en-US" sz="2800" spc="-1" strike="noStrike">
              <a:solidFill>
                <a:srgbClr val="996633"/>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pages 57, 60</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8</a:t>
            </a:r>
            <a:endParaRPr b="0" lang="en-US" sz="3600" spc="-1" strike="noStrike">
              <a:solidFill>
                <a:srgbClr val="ff6600"/>
              </a:solidFill>
              <a:latin typeface="Arial"/>
            </a:endParaRPr>
          </a:p>
        </p:txBody>
      </p:sp>
      <p:sp>
        <p:nvSpPr>
          <p:cNvPr id="12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possible occurrences of each of the main types of security threat (threats to processes, threats to communication channels, denial of service) that might occur in the Internet.</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59                                                         </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Describe and illustrate the client-server architecture of one or more major Internet applications (for example the Web, email or netnews).</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3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r the applications discussed in Exercise 2.1 state how the servers cooperate in providing a service.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How do the applications discussed in Exercise 2.1 involve the partitioning and/or replication (or caching) of data amongst server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5</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A search engine is a web server that responds to client requests to search in its stored indexes and (concurrently) runs several web crawler tasks to build and update the indexes. What are the requirements for synchronization between these concurrent activities?</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uggest some applications for the peer process model, distinguishing between cases when the state of all peers needs to be identical and cases that demand less consistency.</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List the types of local resource that are vulnerable to an attack by an untrusted program that is downloaded from a remote site and run in a local computer.</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3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Give  examples of applications where the use of mobile code is beneficial.</a:t>
            </a:r>
            <a:r>
              <a:rPr b="0" lang="en-US" sz="2800" spc="-1" strike="noStrike">
                <a:solidFill>
                  <a:srgbClr val="996633"/>
                </a:solidFill>
                <a:latin typeface="Arial"/>
              </a:rPr>
              <a:t>	</a:t>
            </a:r>
            <a:r>
              <a:rPr b="0" lang="en-US"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3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Exercise 2.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What factors affect the responsiveness of an application that accesses shared data managed by a server? Describe remedies that are available and discuss their usefulnes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6633"/>
                </a:solidFill>
                <a:latin typeface="Arial"/>
              </a:rPr>
              <a:t>page 44</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Jean Dollimore</cp:lastModifiedBy>
  <cp:lastPrinted>2000-11-12T21:05:10Z</cp:lastPrinted>
  <dcterms:modified xsi:type="dcterms:W3CDTF">2001-12-31T11:50:28Z</dcterms:modified>
  <cp:revision>28</cp:revision>
  <dc:subject/>
  <dc:title>Figure 15.1 A distributed multimedia system</dc:title>
</cp:coreProperties>
</file>