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16C03-17EA-4C3D-99C4-3D7868470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5E97-C2EB-4C86-9FCA-ABFFFB5F8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EBA45-CA5D-4C4F-8CF7-883489919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43020-4BBA-4F9B-BE8A-3D8B2618B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637DA-415C-405B-AF0F-66624A167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A2D15-8186-4D61-8CC8-77DE789B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4704E-656A-43FB-9AE7-D868A34C8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B6423-75C7-42AC-96E6-273B552EB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95ED7-4D38-4637-96AF-B814AC3D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5EC49-5C3C-4878-AD04-35AC7A96E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B0BB0-1A67-45E2-8198-6C06C338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62D61-6923-4F5C-B6A5-CE6742927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63653-9E78-4E4C-9E20-73D4D0E41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B6C8F-8591-4F27-B0CA-227C6FB2D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A1372-097A-4ED6-8FC8-E656B6F09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74606-DFA8-4632-849C-29DE98224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6CEC6-E666-447D-81D8-E27793EF9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B765-A1A9-4F40-B8FB-6A3A8EE3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2ECE-DEB6-46B4-9B15-E7194536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16B1-938C-4186-A2BB-DE4B9C1D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9100-E419-428A-9856-6E424263D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A8BE9-8924-4EBC-8F0F-3E7F3CD84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FC24-FF8F-4507-BC44-2B2D3B95D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855F-84BE-4DD2-B52F-91477F806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8453-B863-404B-B79F-89FC1C107A8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1378-4402-4403-AE5B-D40A1C2341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11: </a:t>
            </a:r>
            <a:br>
              <a:rPr sz="4800"/>
            </a:br>
            <a:r>
              <a:rPr b="0" lang="en-US" sz="3600" spc="-1" strike="noStrike">
                <a:solidFill>
                  <a:srgbClr val="ff6600"/>
                </a:solidFill>
                <a:latin typeface="Arial"/>
              </a:rPr>
              <a:t>COORDINATION AND AGREEMENT</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ggest how to adapt the Bully algorithm to deal with temporary network partitions (slow communication) and slow processes.</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36</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vise a protocol for basic multicast over IP multicas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38</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How, if at all, should the definitions of integrity, agreement and validity for reliable multicast change for the case of open groups?</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39</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reversing the order of the lines </a:t>
            </a:r>
            <a:br>
              <a:rPr sz="2800"/>
            </a:br>
            <a:r>
              <a:rPr b="0" lang="en-GB" sz="2800" spc="-1" strike="noStrike">
                <a:solidFill>
                  <a:srgbClr val="996633"/>
                </a:solidFill>
                <a:latin typeface="Arial"/>
              </a:rPr>
              <a:t>‘</a:t>
            </a:r>
            <a:r>
              <a:rPr b="0" i="1" lang="en-GB" sz="2800" spc="-1" strike="noStrike">
                <a:solidFill>
                  <a:srgbClr val="996633"/>
                </a:solidFill>
                <a:latin typeface="Arial"/>
              </a:rPr>
              <a:t>R-deliver m’</a:t>
            </a:r>
            <a:r>
              <a:rPr b="0" lang="en-GB" sz="2800" spc="-1" strike="noStrike">
                <a:solidFill>
                  <a:srgbClr val="996633"/>
                </a:solidFill>
                <a:latin typeface="Arial"/>
              </a:rPr>
              <a:t> and</a:t>
            </a:r>
            <a:br>
              <a:rPr sz="2800"/>
            </a:br>
            <a:r>
              <a:rPr b="0" lang="en-GB" sz="2800" spc="-1" strike="noStrike">
                <a:solidFill>
                  <a:srgbClr val="996633"/>
                </a:solidFill>
                <a:latin typeface="Arial"/>
              </a:rPr>
              <a:t> ‘</a:t>
            </a:r>
            <a:r>
              <a:rPr b="0" i="1" lang="en-GB" sz="2800" spc="-1" strike="noStrike">
                <a:solidFill>
                  <a:srgbClr val="996633"/>
                </a:solidFill>
                <a:latin typeface="Arial"/>
              </a:rPr>
              <a:t>if</a:t>
            </a:r>
            <a:r>
              <a:rPr b="0" lang="en-GB" sz="2800" spc="-1" strike="noStrike">
                <a:solidFill>
                  <a:srgbClr val="996633"/>
                </a:solidFill>
                <a:latin typeface="Arial"/>
              </a:rPr>
              <a:t> (</a:t>
            </a:r>
            <a:r>
              <a:rPr b="0" i="1" lang="en-GB" sz="2800" spc="-1" strike="noStrike">
                <a:solidFill>
                  <a:srgbClr val="996633"/>
                </a:solidFill>
                <a:latin typeface="Arial"/>
              </a:rPr>
              <a:t>q≠p</a:t>
            </a:r>
            <a:r>
              <a:rPr b="0" lang="en-GB" sz="2800" spc="-1" strike="noStrike">
                <a:solidFill>
                  <a:srgbClr val="996633"/>
                </a:solidFill>
                <a:latin typeface="Arial"/>
              </a:rPr>
              <a:t>) </a:t>
            </a:r>
            <a:r>
              <a:rPr b="0" i="1" lang="en-GB" sz="2800" spc="-1" strike="noStrike">
                <a:solidFill>
                  <a:srgbClr val="996633"/>
                </a:solidFill>
                <a:latin typeface="Arial"/>
              </a:rPr>
              <a:t>then B-multicast(g, m); end if’</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in Figure 11.10 makes the algorithm no longer satisfy uniform agreement.</a:t>
            </a:r>
            <a:r>
              <a:rPr b="0" lang="en-GB" sz="2800" spc="-1" strike="noStrike">
                <a:solidFill>
                  <a:srgbClr val="996633"/>
                </a:solidFill>
                <a:latin typeface="Arial"/>
              </a:rPr>
              <a:t>	</a:t>
            </a:r>
            <a:r>
              <a:rPr b="0" lang="en-GB" sz="2800" spc="-1" strike="noStrike">
                <a:solidFill>
                  <a:srgbClr val="996633"/>
                </a:solidFill>
                <a:latin typeface="Arial"/>
              </a:rPr>
              <a:t> Does the reliable multicast algorithm based on IP multicast satisfy uniform agreemen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4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whether the algorithm for reliable multicast over IP multicast works for open as well as closed groups. Given any algorithm for closed groups, how, simply, can we derive an algorithm for open group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0</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how to address the impractical assumptions we made in order to meet the validity and agreement properties for the reliable multicast protocol based on IP multicast. Hint: add a rule for deleting retained messages when they have been delivered everywhere; and consider adding a dummy ‘heartbeat’ message, which is never delivered to the application, but which the protocol sends if the application has no message to send.</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0</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how that the FIFO-ordered multicast algorithm does not work for overlapping groups, by considering two messages sent from the same source to two overlapping groups, and considering a process in the intersection of those groups. Adapt the protocol to work for this case. Hint: processes should include with their messages the latest sequence numbers of messages sent to all group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5</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how that, if the basic multicast that we use in the algorithm of Figure 11.14 is also FIFO-ordered, then the resultant totally-ordered multicast is also causally ordered. Is it the case that any multicast that is both FIFO-ordered and totally ordered is thereby causally ordered?</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6</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ggest how to adapt the causally ordered multicast protocol to handle overlapping group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9</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discussing Maekawa’s mutual exclusion algorithm, we gave an example of three subsets of a set of three processes that could lead to a deadlock. Use these subsets as multicast groups to show how a pairwise total ordering is not necessarily acyclic.</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5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s it possible to implement either a reliable or an unreliable (process) failure detector using an unreliable communication channel?</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2</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19</a:t>
            </a:r>
            <a:endParaRPr b="0" lang="en-US" sz="3600" spc="-1" strike="noStrike">
              <a:solidFill>
                <a:srgbClr val="ff66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truct a solution to reliable, totally ordered multicast in a synchronous system, using a reliable multicast and a solution to the consensus problem.</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50</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20</a:t>
            </a:r>
            <a:endParaRPr b="0" lang="en-US" sz="3600" spc="-1" strike="noStrike">
              <a:solidFill>
                <a:srgbClr val="ff6600"/>
              </a:solidFill>
              <a:latin typeface="Arial"/>
            </a:endParaRPr>
          </a:p>
        </p:txBody>
      </p:sp>
      <p:sp>
        <p:nvSpPr>
          <p:cNvPr id="12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e gave a solution to consensus from a solution to reliable and totally ordered multicast, which involved selecting the first value to be delivered. Explain from first principles why, in an asynchronous system, we could not instead derive a solution by using a reliable but not totally ordered multicast service and the ‘majority’ function. (Note that, if we could, then this would contradict the impossibility result of Fischer et al.!) Hint: consider slow/failed processe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5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21</a:t>
            </a:r>
            <a:endParaRPr b="0" lang="en-US" sz="3600" spc="-1" strike="noStrike">
              <a:solidFill>
                <a:srgbClr val="ff6600"/>
              </a:solidFill>
              <a:latin typeface="Arial"/>
            </a:endParaRPr>
          </a:p>
        </p:txBody>
      </p:sp>
      <p:sp>
        <p:nvSpPr>
          <p:cNvPr id="1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that byzantine agreement can be reached for three generals, with one of them faulty, if the generals digitally sign their message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57</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22</a:t>
            </a:r>
            <a:endParaRPr b="0" lang="en-US" sz="3600" spc="-1" strike="noStrike">
              <a:solidFill>
                <a:srgbClr val="ff6600"/>
              </a:solidFill>
              <a:latin typeface="Arial"/>
            </a:endParaRPr>
          </a:p>
        </p:txBody>
      </p:sp>
      <p:sp>
        <p:nvSpPr>
          <p:cNvPr id="13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how to adapt the algorithm for reliable multicast over IP multicast to eliminate the hold-back queue – so that a received message that is not a duplicate can be delivered immediately, but without any ordering guarantees.</a:t>
            </a:r>
            <a:r>
              <a:rPr b="0" lang="en-US" sz="2800" spc="-1" strike="noStrike">
                <a:solidFill>
                  <a:srgbClr val="996633"/>
                </a:solidFill>
                <a:latin typeface="Arial"/>
              </a:rPr>
              <a:t>	</a:t>
            </a:r>
            <a:r>
              <a:rPr b="0" lang="en-US" sz="2800" spc="-1" strike="noStrike">
                <a:solidFill>
                  <a:srgbClr val="996633"/>
                </a:solidFill>
                <a:latin typeface="Arial"/>
              </a:rPr>
              <a:t> Hint: use sets instead of sequence numbers to represent the messages that have been delivered so far.</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f all client processes are single-threaded, is mutual exclusion condition ME3, which specifies entry in happened-before order, relevant?</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5</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a formula for the maximum throughput of a mutual exclusion system in terms of the synchronization delay.</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5</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n the central server algorithm for mutual exclusion, describe a situation in which two requests are not processed in happened-before order.</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6</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dapt the central server algorithm for mutual exclusion to handle the crash failure of any client (in any state), assuming that the server is correct and given a reliable failure detector. Comment on whether the resultant system is fault tolerant. What would happen if a client that possesses the token is wrongly suspected to have failed?</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6</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an example execution of the ring-based algorithm to show that processes are not necessarily granted entry to the critical section in happened-before order.</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27</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a certain system, each process typically uses a critical section many times before another process requires it. Explain why Ricart and Agrawala’s multicast-based mutual exclusion algorithm is inefficient for this case, and describe how to improve its performance. Does your adaptation satisfy liveness condition ME2?</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29</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1.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n the Bully algorithm, a recovering process starts an election and will become the new coordinator if it has a higher identifier than the current incumbent. Is this a necessary feature of the algorithm?</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34</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2:36:12Z</dcterms:modified>
  <cp:revision>49</cp:revision>
  <dc:subject/>
  <dc:title>Figure 15.1 A distributed multimedia system</dc:title>
</cp:coreProperties>
</file>