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A8265-85F7-440A-B63B-49846D92C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C4F8-FE3A-4234-A00E-A7D74D7AA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708C6-CBCF-404F-BC5C-B4F35364B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D9E86-12F8-442E-8A6B-65F3FAC02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2A27D-FEEB-461E-8E75-6C7F30895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EEB81-80A2-46AD-A157-94ED6DF67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5EE07-F499-45BC-930B-CD2A400DA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4CA7C-D3B8-40AE-A7DA-603A8B45A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B4371-DA39-4BB7-9BF7-8D380C6E9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3FDA9-4F7E-42DB-8D94-4CF91667C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4EBE4-0D03-4E98-A45C-4F8B1D7E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D07F3-12F3-43DC-9F11-C866C8127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EB003-8F73-451C-A91F-C3F130682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9EECC-5334-4825-A17B-B8422ED89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9BB41-3C7E-4B1F-9C49-788CBF150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C5EAE-2AA9-4859-A603-12BD44249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8C3D7-B67D-472D-A15A-F6640C6F9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AC75-ECEA-46B8-AA93-ECB4A1B3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2C28-C0D1-4E56-91E2-21B3F830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7A0C-B7E1-4312-B1E3-0A24B632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EAB0-E1CD-456D-BC0B-4DF8B2C3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1459-D135-495A-9FEB-28E0BD4C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A084-ECDD-4E30-97A9-44E4C523F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AB6C-804F-4315-AE7E-C86C941CC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C1D6-7414-4EA9-93D8-598326F66D9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8A9E-F8DE-4A6A-9E2B-4DC8A8FEF00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6600"/>
                </a:solidFill>
                <a:latin typeface="Arial"/>
              </a:rPr>
              <a:t>Exercises for Chapter 16: </a:t>
            </a:r>
            <a:br>
              <a:rPr sz="4800"/>
            </a:br>
            <a:r>
              <a:rPr b="0" lang="en-GB" sz="3600" spc="-1" strike="noStrike">
                <a:solidFill>
                  <a:srgbClr val="ff6600"/>
                </a:solidFill>
                <a:latin typeface="Arial"/>
              </a:rPr>
              <a:t>Distributed Shared Memory</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equentially consistent memory can be implemented using a write-update protocol employing a synchronous, totally ordered multicast. Discuss what multicast ordering requirements would be necessary to implement coherent memor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under a write-update protocol, care is needed to propagate only those words within a data item that have been updated locally.</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Devise an algorithm for representing the differences between a page and an updated version of it. Discuss the performance of this algorithm.</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granularity is an important issue in DSM systems. Compare the issue of granularity between object-oriented and byte-oriented DSM systems, bearing in mind their implementations.</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Why is granularity relevant to tuple spaces, which contain immutable data?</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What is false sharing? Can it lead to incorrect execut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are the implications of DSM for page replacement policies (that is, the choice of which page to purge from main memory in order to bring a new page i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Prove that Ivy’s write-invalidate protocol guarantees sequential consistenc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5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Ivy’s dynamic distributed manager algorithm, what steps are taken to minimize the number of lookups necessary to find a page?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5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is thrashing an important issue in DSM systems and what methods are available for dealing with i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5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how condition RC2 for release consistency could be relaxed. Hence distinguish between eager and lazy release consistenc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6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ensor process writes the current temperature into a variable </a:t>
            </a:r>
            <a:r>
              <a:rPr b="0" i="1" lang="en-GB" sz="2800" spc="-1" strike="noStrike">
                <a:solidFill>
                  <a:srgbClr val="996633"/>
                </a:solidFill>
                <a:latin typeface="Arial"/>
              </a:rPr>
              <a:t>t</a:t>
            </a:r>
            <a:r>
              <a:rPr b="0" lang="en-GB" sz="2800" spc="-1" strike="noStrike">
                <a:solidFill>
                  <a:srgbClr val="996633"/>
                </a:solidFill>
                <a:latin typeface="Arial"/>
              </a:rPr>
              <a:t> stored in a release-consistent DSM. Periodically, a monitor process reads </a:t>
            </a:r>
            <a:r>
              <a:rPr b="0" i="1" lang="en-GB" sz="2800" spc="-1" strike="noStrike">
                <a:solidFill>
                  <a:srgbClr val="996633"/>
                </a:solidFill>
                <a:latin typeface="Arial"/>
              </a:rPr>
              <a:t>t</a:t>
            </a:r>
            <a:r>
              <a:rPr b="0" lang="en-GB" sz="2800" spc="-1" strike="noStrike">
                <a:solidFill>
                  <a:srgbClr val="996633"/>
                </a:solidFill>
                <a:latin typeface="Arial"/>
              </a:rPr>
              <a:t>. Explain the need for synchronization to propagate the updates to </a:t>
            </a:r>
            <a:r>
              <a:rPr b="0" i="1" lang="en-GB" sz="2800" spc="-1" strike="noStrike">
                <a:solidFill>
                  <a:srgbClr val="996633"/>
                </a:solidFill>
                <a:latin typeface="Arial"/>
              </a:rPr>
              <a:t>t</a:t>
            </a:r>
            <a:r>
              <a:rPr b="0" lang="en-GB" sz="2800" spc="-1" strike="noStrike">
                <a:solidFill>
                  <a:srgbClr val="996633"/>
                </a:solidFill>
                <a:latin typeface="Arial"/>
              </a:rPr>
              <a:t>, even though none is otherwise needed at the application level. Which of these processes needs to perform synchronization operat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5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that the following history is not causally consistent:</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P</a:t>
            </a:r>
            <a:r>
              <a:rPr b="0" lang="en-GB" sz="2800" spc="-1" strike="noStrike" baseline="-25000">
                <a:solidFill>
                  <a:srgbClr val="996633"/>
                </a:solidFill>
                <a:latin typeface="Arial"/>
              </a:rPr>
              <a:t>1</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r>
              <a:rPr b="0" lang="en-GB" sz="2800" spc="-1" strike="noStrike">
                <a:solidFill>
                  <a:srgbClr val="996633"/>
                </a:solidFill>
                <a:latin typeface="Arial"/>
              </a:rPr>
              <a:t>W(a)0; W(a)1</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P</a:t>
            </a:r>
            <a:r>
              <a:rPr b="0" lang="en-GB" sz="2800" spc="-1" strike="noStrike" baseline="-25000">
                <a:solidFill>
                  <a:srgbClr val="996633"/>
                </a:solidFill>
                <a:latin typeface="Arial"/>
              </a:rPr>
              <a:t>2</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r>
              <a:rPr b="0" lang="en-GB" sz="2800" spc="-1" strike="noStrike">
                <a:solidFill>
                  <a:srgbClr val="996633"/>
                </a:solidFill>
                <a:latin typeface="Arial"/>
              </a:rPr>
              <a:t>R(a)1; W(b)2</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P</a:t>
            </a:r>
            <a:r>
              <a:rPr b="0" lang="en-GB" sz="2800" spc="-1" strike="noStrike" baseline="-25000">
                <a:solidFill>
                  <a:srgbClr val="996633"/>
                </a:solidFill>
                <a:latin typeface="Arial"/>
              </a:rPr>
              <a:t>3</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r>
              <a:rPr b="0" lang="en-GB" sz="2800" spc="-1" strike="noStrike">
                <a:solidFill>
                  <a:srgbClr val="996633"/>
                </a:solidFill>
                <a:latin typeface="Arial"/>
              </a:rPr>
              <a:t>R(b)2; R(a)0</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63</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in which respects DSM is suitable or unsuitable for client-server system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3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19</a:t>
            </a:r>
            <a:endParaRPr b="0" lang="en-US" sz="3600" spc="-1" strike="noStrike">
              <a:solidFill>
                <a:srgbClr val="ff66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advantage can a DSM implementation obtain from knowing the association between data items and synchronization objects? What is the disadvantage of making the association explici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64</a:t>
            </a:r>
            <a:r>
              <a:rPr b="0" i="1"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whether message passing or DSM is preferable for fault-tolerant applications.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3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would you deal with the problem of differing data representations for a middleware-based implementation of DSM on heterogeneous computers? How would you tackle the problem in a page-based implementation? Does your solution extend to pointer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3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should we want to implement page-based DSM largely at user-level, and what is required to achieve thi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would you implement a semaphore using a tuple space?</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s the memory underlying the following execution of two processes sequentially consistent (assuming that, initially, all variables are set to zero)?</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P</a:t>
            </a:r>
            <a:r>
              <a:rPr b="0" lang="en-GB" sz="2800" spc="-1" strike="noStrike" baseline="-25000">
                <a:solidFill>
                  <a:srgbClr val="996633"/>
                </a:solidFill>
                <a:latin typeface="Arial"/>
              </a:rPr>
              <a:t>1</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r>
              <a:rPr b="0" lang="en-GB" sz="2800" spc="-1" strike="noStrike">
                <a:solidFill>
                  <a:srgbClr val="996633"/>
                </a:solidFill>
                <a:latin typeface="Arial"/>
              </a:rPr>
              <a:t>R(x)1; R(x)2; W(y)1</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P</a:t>
            </a:r>
            <a:r>
              <a:rPr b="0" lang="en-GB" sz="2800" spc="-1" strike="noStrike" baseline="-25000">
                <a:solidFill>
                  <a:srgbClr val="996633"/>
                </a:solidFill>
                <a:latin typeface="Arial"/>
              </a:rPr>
              <a:t>2</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r>
              <a:rPr b="0" lang="en-GB" sz="2800" spc="-1" strike="noStrike">
                <a:solidFill>
                  <a:srgbClr val="996633"/>
                </a:solidFill>
                <a:latin typeface="Arial"/>
              </a:rPr>
              <a:t>W(x)1; R(y)1; W(x)2</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ing the R(), W() notation, give an example of an execution on a memory that is coherent but not sequentially consistent. Can a memory be sequentially consistent but not coheren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write-update, show that sequential consistency could be broken if each update were to be made locally before asynchronously multicasting it to other replica managers, even though the multicast is totally ordered. Discuss whether an asynchronous multicast can be used to achieve sequential consistency. (Hint: consider whether to block subsequent operat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1T11:54:48Z</dcterms:modified>
  <cp:revision>44</cp:revision>
  <dc:subject/>
  <dc:title>Figure 15.1 A distributed multimedia system</dc:title>
</cp:coreProperties>
</file>