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1FFFD-4074-4820-86C5-747FBAEDB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C6D31-8F40-4ECE-98D2-A07C47C4E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2D45E-9B30-41F0-B4B4-912AEA031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BA4B3-E0DB-4CB2-9072-2F3A1DCBF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8877E-1F1F-4DF3-BBB4-8624BC677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12004-B4CA-4AFF-AFDB-668639CAD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2B8C2-C5FB-41D1-9486-70CF157AD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186C8-4F01-452F-87BB-050737407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03CF1-B25F-430B-A2C8-96BD7C9F1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BE8CB-DAFD-4579-953F-588896BED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48444-6973-445D-A4C2-D9A22DAF1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019A-1615-4074-8887-345DF6294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1ADCC-CFF1-44C4-ABCB-0764B1587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8A956-13B2-40DC-B222-96F0379A2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A8A5F-788A-4865-ABB9-5CFB3251B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E3A85-16EB-4B9A-8D61-5D252A3DC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EF52D-FA04-4712-B93A-6A5A432E3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66CA8-A4C2-48C0-82B7-461B099B9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0F0AE-8370-4BBB-900A-6A7984B72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C193F-7F53-403C-93D3-B1E0E6AFE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079A2-BB48-49FC-9CAA-C8EAD205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A296D-E5B0-4DF0-B6C1-0DA75A7CE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B7BB-EC53-42D6-9AD1-2171E59C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4025-FCA9-4B80-94E4-736275540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CFD0-DD74-405F-AAA8-53735B86CB9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638E-E165-43A6-BC93-8DD18689C3B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Exercises for Chapter 7: </a:t>
            </a:r>
            <a:br>
              <a:rPr sz="4000"/>
            </a:br>
            <a:r>
              <a:rPr b="0" lang="en-GB" sz="3200" spc="-1" strike="noStrike">
                <a:solidFill>
                  <a:srgbClr val="ff6600"/>
                </a:solidFill>
                <a:latin typeface="Arial"/>
              </a:rPr>
              <a:t>Security</a:t>
            </a:r>
            <a:endParaRPr b="0" lang="en-US" sz="32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stimate the time required to crack a 56-bit DES key by a brute-force attack using a 500 MIPS (million instruction per second) workstation, assuming that the inner loop for a brute-force attack program involves around 10 instructions per key value, plus the time to </a:t>
            </a:r>
            <a:r>
              <a:rPr b="0" lang="en-GB" sz="2400" spc="-1" strike="noStrike">
                <a:solidFill>
                  <a:srgbClr val="996633"/>
                </a:solidFill>
                <a:latin typeface="Arial"/>
              </a:rPr>
              <a:t>encrypt</a:t>
            </a:r>
            <a:r>
              <a:rPr b="0" lang="en-GB" sz="2800" spc="-1" strike="noStrike">
                <a:solidFill>
                  <a:srgbClr val="996633"/>
                </a:solidFill>
                <a:latin typeface="Arial"/>
              </a:rPr>
              <a:t> an 8-byte plaintext (see Figure 7.14). Perform the same calculation for a 128-bit IDEA key.  Extrapolate your calculations to obtain the cracking time for a 50,000 MIPS parallel processor (or an Internet consortium with similar processing power).</a:t>
            </a:r>
            <a:endParaRPr b="0" lang="en-US" sz="2800" spc="-1" strike="noStrike">
              <a:solidFill>
                <a:srgbClr val="996633"/>
              </a:solidFill>
              <a:latin typeface="Arial"/>
            </a:endParaRPr>
          </a:p>
          <a:p>
            <a:pPr marL="3358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77</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2279520"/>
                <a:tab algn="l" pos="2771640"/>
                <a:tab algn="l" pos="3695760"/>
                <a:tab algn="l" pos="4619520"/>
                <a:tab algn="l" pos="5543640"/>
                <a:tab algn="l" pos="6467400"/>
                <a:tab algn="l" pos="7391520"/>
                <a:tab algn="l" pos="8315280"/>
                <a:tab algn="l" pos="9239400"/>
                <a:tab algn="l" pos="10163160"/>
              </a:tabLst>
            </a:pPr>
            <a:r>
              <a:rPr b="0" lang="en-GB" sz="2800" spc="-1" strike="noStrike">
                <a:solidFill>
                  <a:srgbClr val="996633"/>
                </a:solidFill>
                <a:latin typeface="Arial"/>
              </a:rPr>
              <a:t>In the Needham and Shroeder authentication protocol with secret keys, explain why the following version of message 5 is not secure:</a:t>
            </a:r>
            <a:endParaRPr b="0" lang="en-US" sz="2800" spc="-1" strike="noStrike">
              <a:solidFill>
                <a:srgbClr val="996633"/>
              </a:solidFill>
              <a:latin typeface="Arial"/>
            </a:endParaRPr>
          </a:p>
          <a:p>
            <a:pPr marL="343080" indent="0">
              <a:spcBef>
                <a:spcPts val="400"/>
              </a:spcBef>
              <a:buNone/>
              <a:tabLst>
                <a:tab algn="l" pos="0"/>
                <a:tab algn="l" pos="2279520"/>
                <a:tab algn="l" pos="2771640"/>
                <a:tab algn="l" pos="3695760"/>
                <a:tab algn="l" pos="4619520"/>
                <a:tab algn="l" pos="5543640"/>
                <a:tab algn="l" pos="6467400"/>
                <a:tab algn="l" pos="7391520"/>
                <a:tab algn="l" pos="8315280"/>
                <a:tab algn="l" pos="9239400"/>
                <a:tab algn="l" pos="10163160"/>
              </a:tabLst>
            </a:pP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A </a:t>
            </a:r>
            <a:r>
              <a:rPr b="0" lang="en-GB" sz="2000" spc="-1" strike="noStrike">
                <a:solidFill>
                  <a:srgbClr val="996633"/>
                </a:solidFill>
                <a:latin typeface="Symbol"/>
                <a:ea typeface="Symbol"/>
              </a:rPr>
              <a:t></a:t>
            </a:r>
            <a:r>
              <a:rPr b="0" lang="en-GB" sz="2000" spc="-1" strike="noStrike">
                <a:solidFill>
                  <a:srgbClr val="996633"/>
                </a:solidFill>
                <a:latin typeface="Arial"/>
              </a:rPr>
              <a:t> B: </a:t>
            </a:r>
            <a:r>
              <a:rPr b="0" i="1" lang="en-GB" sz="2000" spc="-1" strike="noStrike">
                <a:solidFill>
                  <a:srgbClr val="996633"/>
                </a:solidFill>
                <a:latin typeface="Arial"/>
              </a:rPr>
              <a:t>{N</a:t>
            </a:r>
            <a:r>
              <a:rPr b="0" i="1" lang="en-GB" sz="2000" spc="-1" strike="noStrike" baseline="-25000">
                <a:solidFill>
                  <a:srgbClr val="996633"/>
                </a:solidFill>
                <a:latin typeface="Arial"/>
              </a:rPr>
              <a:t>B</a:t>
            </a:r>
            <a:r>
              <a:rPr b="0" i="1" lang="en-GB" sz="2000" spc="-1" strike="noStrike">
                <a:solidFill>
                  <a:srgbClr val="996633"/>
                </a:solidFill>
                <a:latin typeface="Arial"/>
              </a:rPr>
              <a:t>}</a:t>
            </a:r>
            <a:r>
              <a:rPr b="0" i="1" lang="en-GB" sz="2400" spc="-1" strike="noStrike" baseline="-25000">
                <a:solidFill>
                  <a:srgbClr val="996633"/>
                </a:solidFill>
                <a:latin typeface="Arial"/>
              </a:rPr>
              <a:t>K</a:t>
            </a:r>
            <a:r>
              <a:rPr b="0" i="1" lang="en-GB" sz="1600" spc="-1" strike="noStrike" baseline="-25000">
                <a:solidFill>
                  <a:srgbClr val="996633"/>
                </a:solidFill>
                <a:latin typeface="Arial"/>
              </a:rPr>
              <a:t>AB</a:t>
            </a:r>
            <a:endParaRPr b="0" lang="en-US" sz="1600" spc="-1" strike="noStrike">
              <a:solidFill>
                <a:srgbClr val="996633"/>
              </a:solidFill>
              <a:latin typeface="Arial"/>
            </a:endParaRPr>
          </a:p>
          <a:p>
            <a:pPr marL="343080" indent="0" algn="r">
              <a:spcBef>
                <a:spcPts val="499"/>
              </a:spcBef>
              <a:buNone/>
              <a:tabLst>
                <a:tab algn="l" pos="0"/>
                <a:tab algn="l" pos="2279520"/>
                <a:tab algn="l" pos="2771640"/>
                <a:tab algn="l" pos="3695760"/>
                <a:tab algn="l" pos="4619520"/>
                <a:tab algn="l" pos="5543640"/>
                <a:tab algn="l" pos="6467400"/>
                <a:tab algn="l" pos="7391520"/>
                <a:tab algn="l" pos="8315280"/>
                <a:tab algn="l" pos="9239400"/>
                <a:tab algn="l" pos="10163160"/>
              </a:tabLst>
            </a:pPr>
            <a:r>
              <a:rPr b="0" i="1" lang="en-GB" sz="2000" spc="-1" strike="noStrike">
                <a:solidFill>
                  <a:srgbClr val="996633"/>
                </a:solidFill>
                <a:latin typeface="Arial"/>
              </a:rPr>
              <a:t>page 29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some of the physical security policies in your organization. Express them in terms that could be implemented in a computerized door locking system.</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5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some of the ways in which conventional email is vulnerable to eavesdropping, masquerading, tampering, replay, denial of service. Suggest methods by which email could be protected against each of these forms of attack</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54</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nitial exchanges of public keys are vulnerable to the man-in-the-middle attack. Describe as many defences against it as you can.</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61,298</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PGP is widely used to secure email communication. Describe the steps that a pair of users using PGP must take before they can exchange email messages with privacy and authenticity guarantees. What scope is there to make the preliminary key negotiation invisible to users? (The PGP negotiation is an instance of the hybrid scheme.)</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81,290</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would email be sent to a large list of recipients using PGP or a similar scheme? Suggest a scheme that is simpler and faster when the list is used frequently.</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90 &amp; Section 4.5</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implementation of the TEA symmetric encryption algorithm given in Figures 7.8–7.10 is not portable between all machine architectures. Explain why. How could a message encrypted using the TEA implementation be transmitted to decrypt it correctly on all other architectures?</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76</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Modify the TEA application program in Figure 7.10 to use cipher block chaining (CBC).</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73, 276</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7.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onstruct a stream cipher application based on the program in Figure 7.10.</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74, 276</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1-28T14:22:18Z</dcterms:modified>
  <cp:revision>71</cp:revision>
  <dc:subject/>
  <dc:title>Figure 15.1 A distributed multimedia system</dc:title>
</cp:coreProperties>
</file>