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002-FEAB-4F8A-9597-EC9AA4BF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DB7-BF39-404B-9FDB-D55F07FA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095-D352-4638-BD95-44BFA295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97F-AC3E-48EB-BE66-CEF06448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E5EE-B338-4734-B39A-CC12C515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179B-A756-4EB0-AF9F-1669957B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4715-6627-4AB6-B2C5-EBA0688B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4BAF-54A9-4214-8F16-B5300B84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E584-C799-49C3-9E5E-F7E88E2A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66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7014-908B-449B-8FBD-B747DD06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CF5B-87C5-497F-A67C-3188836E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B2E-6CD2-4C4D-809E-529443CE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A2A4-EBCB-4535-8E70-19B8F2A2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CF5D-481B-499B-B0B3-B5F7E25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B680-50CC-4C74-A65C-27B6AC33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5671-00DE-43EC-BC04-13FDEA11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F8BC-F3D4-4F7D-BCCD-54B469ED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F99-1553-4946-A461-326204FA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3AA-5AF4-4A1C-B7A9-B6797080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56D-1A3F-49E9-B1F9-D4173684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66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A8C-9034-43F6-9C5C-299934E4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BE6-A2F6-45C7-AF40-826D1CB5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B83-EC62-420A-B881-66FF938A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FC8-19BB-4DAC-8E8C-D5E197FE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A9A7-8B48-4384-B20F-E4CFEB14C5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1A65-6CC4-4563-9AB8-894C85F0FA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996633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Exercises for Chapter 14: </a:t>
            </a:r>
            <a:br>
              <a:rPr sz="4800"/>
            </a:b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Replication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996633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996633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996633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996633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996633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996633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996633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9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Explain the difference between linearizability and sequential consistency, and why the latter is more practical to implement, in general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page 566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10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Explain why allowing backups to process read operations leads to sequentially consistent rather than linearizable executions in a passive replication system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page 569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11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Could the gossip architecture be used for a distributed computer game as described in Exercise 14.3?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age 572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12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In the gossip architecture, why does a replica manager need to keep both a ‘replica’ timestamp and a ‘value’ timestamp?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age 576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13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In a gossip system, a front end has vector timestamp (3, 5, 7) representing the data it has received from members of a group of three replica managers. The three replica managers have vector timestamps (5, 2, 8), (4, 5, 6) and (4, 5, 8), respectively. Which replica manager(s) could immediately satisfy a query from the front end and what is the resultant time stamp of the front end? Which could incorporate an update from the front end immediately?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age 577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14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Explain why making some replica managers read-only may improve the performance of a gossip system.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age 581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15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Write pseudocode for dependency checks and merge procedures (as used in Bayou) suitable for a simple room-booking application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page 583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16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In the Coda file system, why is it sometimes necessary for users to intervene manually in the process of updating the copies of a file at multiple servers?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age 590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17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Devise a scheme for integrating two replicas of a file system directory that underwent separate updates during disconnected operation. Use either Bayou’s operational transformation approach, or supply a solution for Coda. 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age 591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18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Available copies replication is applied to data items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 with replicas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A</a:t>
            </a:r>
            <a:r>
              <a:rPr b="0" i="1" lang="en-GB" sz="2800" spc="-1" strike="noStrike" baseline="-25000">
                <a:solidFill>
                  <a:srgbClr val="996633"/>
                </a:solidFill>
                <a:latin typeface="Arial"/>
              </a:rPr>
              <a:t>x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,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A</a:t>
            </a:r>
            <a:r>
              <a:rPr b="0" i="1" lang="en-GB" sz="2800" spc="-1" strike="noStrike" baseline="-25000">
                <a:solidFill>
                  <a:srgbClr val="996633"/>
                </a:solidFill>
                <a:latin typeface="Arial"/>
              </a:rPr>
              <a:t>y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B</a:t>
            </a:r>
            <a:r>
              <a:rPr b="0" i="1" lang="en-GB" sz="2800" spc="-1" strike="noStrike" baseline="-25000">
                <a:solidFill>
                  <a:srgbClr val="996633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,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B</a:t>
            </a:r>
            <a:r>
              <a:rPr b="0" i="1" lang="en-GB" sz="2800" spc="-1" strike="noStrike" baseline="-25000">
                <a:solidFill>
                  <a:srgbClr val="996633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. The transactions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 are defined as: 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Read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);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Write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, 44).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Read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);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Write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, 55)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Show an interleaving of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, assuming that two-phase locks are applied to the replicas. Explain why locks alone cannot ensure one copy serializability if one of the replicas fails during the progress of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. Explain with reference to this example, how local validation ensures one copy serializability. 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page 594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1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Three computers together provide a replicated service. The manufacturers claim that each computer has a mean time between failure of five days; a failure typically takes four hours to fix. What is the availability of the replicated service?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age 554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19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90320" indent="-490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Gifford's quorum consensus replication is in use at servers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Z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which all hold replicas of data items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. The initial values of all replicas of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are 100 and the votes for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are 1 at each of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Z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. Also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= 2 for both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. A client reads the value of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and then writes it to </a:t>
            </a:r>
            <a:r>
              <a:rPr b="0" i="1" lang="en-GB" sz="2400" spc="-1" strike="noStrike">
                <a:solidFill>
                  <a:srgbClr val="996633"/>
                </a:solidFill>
                <a:latin typeface="Arial"/>
              </a:rPr>
              <a:t>B.</a:t>
            </a:r>
            <a:r>
              <a:rPr b="0" lang="en-GB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86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(i)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At the time the client performs these operations, a partition separates servers 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 from server 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Z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. Describe the quora obtained and the operations that take place if the client can access servers 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86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(ii)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Describe the quora obtained and the operations that take place if the client can access only server 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Z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1" marL="861120" indent="-40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The partition is repaired and then another partition occurs so that 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Z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 are separated from 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Y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. Describe the quora obtained and the operations that take place if the client can access servers 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Z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996633"/>
                </a:solidFill>
                <a:latin typeface="Arial"/>
              </a:rPr>
              <a:t>page 599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2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Explain why a multi-threaded server might not qualify as a state machine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age 557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3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n a multi-user game, the players  move figures around a common scene. The state of the game is replicated at the players’ workstations and at a server, which contains services controlling the game overall, such as collision detection. Updates are multicast to all replicas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(i)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e figures may throw projectiles at one another and a hit debilitates the unfortunate recipient for a limited time. What type of update ordering is required here? Hint: consider the ‘throw’, ‘collide’ and ‘revive’ events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(ii)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e game incorporates magic devices which may be picked up by a player to assist them. What type of ordering should be applied to the pick-up-device operation?  </a:t>
            </a:r>
            <a:r>
              <a:rPr b="0" i="1" lang="en-US" sz="2400" spc="-1" strike="noStrike">
                <a:solidFill>
                  <a:srgbClr val="996633"/>
                </a:solidFill>
                <a:latin typeface="Arial"/>
              </a:rPr>
              <a:t>page 558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4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A router separating process </a:t>
            </a: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from two others, </a:t>
            </a: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, fails immediately after </a:t>
            </a: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initiates the multicasting of message m</a:t>
            </a: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If the group communication system is view-synchronous, explain what happens to </a:t>
            </a: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next. 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age 562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5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You are given a group communication system with a totally ordered multicast operation, and a failure detector. Is it possible to construct view-synchronous group communication from these components alone?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age 562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6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A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sync-ordered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 multicast operation is one whose delivery ordering semantics are the same as those for delivering views in a view-synchronous group communication system. In a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thingumajig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 service, operations upon thingumajigs are causally ordered. The service supports lists of users able to perform operations on each particular thingumajig. Explain why removing a user from a list should be a sync-ordered operation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page 562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7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What is the consistency issue raised by state transfer?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33"/>
                </a:solidFill>
                <a:latin typeface="Arial"/>
              </a:rPr>
              <a:t>page 563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xercise 14.8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An operation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 upon an object o causes o to invoke an operation upon another object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’. It is now proposed to replicate o but not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’. Explain the difficulty that this raises concerning invocations upon </a:t>
            </a: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996633"/>
                </a:solidFill>
                <a:latin typeface="Arial"/>
              </a:rPr>
              <a:t>’, and suggest a solution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6633"/>
                </a:solidFill>
                <a:latin typeface="Arial"/>
              </a:rPr>
              <a:t>page 564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12-31T13:27:53Z</dcterms:modified>
  <cp:revision>45</cp:revision>
  <dc:subject/>
  <dc:title>Figure 15.1 A distributed multimedia system</dc:title>
</cp:coreProperties>
</file>